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730080" y="1279080"/>
            <a:ext cx="3967200" cy="29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4117680" y="0"/>
            <a:ext cx="289404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5" descr="stern"/>
          <p:cNvPicPr/>
          <p:nvPr/>
        </p:nvPicPr>
        <p:blipFill>
          <a:blip r:embed="rId2"/>
          <a:stretch/>
        </p:blipFill>
        <p:spPr>
          <a:xfrm>
            <a:off x="5794200" y="8934480"/>
            <a:ext cx="1160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66200" y="3377880"/>
            <a:ext cx="59994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03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304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4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45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76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77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18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4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215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4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25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F08-54FD-4A26-9598-4C14A14A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55F-147F-4E2D-8B92-3B20404B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2F6-0506-402F-8FEE-5D3C765B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6D9-965C-4891-A49B-B356E171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1BA-EC19-4EE4-856D-4BDE5C55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3FE-08E6-45E5-9696-FB31F8A4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824-F385-43BF-AA79-73488297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B75-84EC-444E-90CD-48457E6E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091-9E24-4A30-AB45-52DE83EC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871-90DA-43D9-898E-A4A0B598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483-9D7F-489F-8FF2-CA4DC06A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6CB-D016-4DA8-BC38-481688C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079C-39CC-46E2-A55D-ABE681DB4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9. Gestión de Calidad: Toyota – Ren</a:t>
            </a:r>
            <a:r>
              <a:rPr b="0" lang="es-CL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 Caldent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0948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yota Motor Manufac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Andon Board"/>
          <p:cNvPicPr/>
          <p:nvPr/>
        </p:nvPicPr>
        <p:blipFill>
          <a:blip r:embed="rId1"/>
          <a:stretch/>
        </p:blipFill>
        <p:spPr>
          <a:xfrm>
            <a:off x="3124080" y="2590920"/>
            <a:ext cx="2857680" cy="3246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04720" y="580248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Garamond"/>
              </a:rPr>
              <a:t>Example of an And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omo Determinar el  Numero de Tarjetas Kan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200" y="3560760"/>
                <a:ext cx="84438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manda Esperada durante lead tim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ventario Segurida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maño Contenedo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Rectangle 5"/>
          <p:cNvSpPr/>
          <p:nvPr/>
        </p:nvSpPr>
        <p:spPr>
          <a:xfrm>
            <a:off x="609480" y="2286000"/>
            <a:ext cx="7391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Garamond"/>
              </a:rPr>
              <a:t>k =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mero de tarj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 = Tamaño del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74760" y="77328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1295280"/>
            <a:ext cx="16765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019920" y="1295280"/>
            <a:ext cx="167616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809880" y="1143000"/>
            <a:ext cx="1600200" cy="838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imes New Roman"/>
              </a:rPr>
              <a:t>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699000" y="19810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WIP = k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×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124080" y="1600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1055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7724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335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80880" y="5397480"/>
            <a:ext cx="85345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 = Demanda promedio del proceso B durante una unidad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 = Lead time del proceso A para reponer demanda de B (misma unidad de tiem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 = Inventario de seguridad como fracción de la demanda durante el lea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80440" y="31240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33"/>
                </a:solidFill>
                <a:latin typeface="Palatino Linotype"/>
              </a:rPr>
              <a:t>Número Óptimo de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90440" y="75960"/>
            <a:ext cx="7810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lementos del TPS: Jido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4280" y="1270080"/>
            <a:ext cx="8153280" cy="65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Hacer cualquier problema de producción visible instantáneamente y detener la producción de productos defectu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nstruir calidad en los procesos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alquier variación que no agregue valor es un “desperdici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alor es definido desde el punto de vista del cliente: la próxima estación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Estandarizar procesos y documentar los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iagramas de Trabajo: tiempo de ciclo, secuencia de tare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inta de colores para marcar cada etapa d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Cuerda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orque detectar problemas donde y cuando ocurr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es son los costos y beneficios de tirar la cuer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Paneles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Señalar problemas a niveles mas altos de control, e.g., Code 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2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Emple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9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cientemente seleccionar e invertir en educar a l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namiento person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earn by doing”: </a:t>
            </a:r>
            <a:r>
              <a:rPr b="0" i="1" lang="es-CL" sz="2000" spc="-1" strike="noStrike">
                <a:solidFill>
                  <a:srgbClr val="990033"/>
                </a:solidFill>
                <a:latin typeface="Garamond"/>
              </a:rPr>
              <a:t>mejoramiento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: entrenado para agregar valor y mejorar los procesos; resolver problemas usando análisis causal y empoderamiento (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Employee Empowerment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Area: el mas experimentado de la zona de trabajo y con mejor capacidad pedagógic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Grupo: Experimentado como líder de área y con mayor conocimiento de 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sistente de Gerente: Mayor conocimiento y h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ol de los Gerentes: Pensamiento estratégico y no apagar incen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Ka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1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mbiar por algo mej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r los estándares de trabajo, equipos, y otros procesos de producción realizados di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liminar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desperdici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 siete catego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1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Sobre-producció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5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Bloqueo o Deten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. Manipulación Innecesaria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6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cesos que no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3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Inventario Excesivo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7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Movimientos inefi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4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orrecciones por d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86868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Si la línea parar durante un ciclo (57sec) ento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el costo serí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valor de un auto $18,5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margen por auto 17% de $18,500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3,14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costo variable del trabajo durante un ciclo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0.269 por trabajad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6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 ejemplo, si se para por 1 minuto la sección de Final 1, entonces solo este segmento de la línea se detend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# de personas en Final 1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T / persona-min = ($17/60) * 1.5 = $0.42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tal ST/min = 30 * 0.425 = $12.7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 la detención es mas larga y afecta toda la línea de ensamblaje, entonces el ST involucra a los 769 empleados = 769 * 0.425 = $327 por minuto (incluyendo team y group leaders) = 1019 * 0.425 = $433 /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Impacto  de la Cuerda A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 andon por trabajador con una sola parada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por Turno = 450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roductividad = 85-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dida de Trabajo por Turno = 5 a 15% de 450 minut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22.5 a 67.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idere Final 1 con 30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andon = 30*12 =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paradas por turno (1 in 12) = 360/12 = 30 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iempo promedio parado = Tiempo Parado / # Paradas = [22.5/30, 67.5/30] = [0.75, 2.25] mins por pa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yota: ha sido investigada y documentada inten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ácticas (como kanbans) han sido copiadas por muchas otr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uchas compañías han tratado de desarrollar sus propias versiones de TPS y han fal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azones: No son cul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luso Nissan y Honda no han po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oyota ha introducido exitosamente TPS en USA y Argent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qué es tan difícil de log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5486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coding the DNA of the Toyota Production System” by Steven Spear and Kent Bow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rvard Business Review 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0440" y="228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orqué es tan Difíci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12-month share performance"/>
          <p:cNvPicPr/>
          <p:nvPr/>
        </p:nvPicPr>
        <p:blipFill>
          <a:blip r:embed="rId1"/>
          <a:stretch/>
        </p:blipFill>
        <p:spPr>
          <a:xfrm>
            <a:off x="979560" y="1397160"/>
            <a:ext cx="7326360" cy="4394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841320" y="5764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WSJ: Sept. 03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0080" y="2286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tock de Toyo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314360" y="1320840"/>
            <a:ext cx="6838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68580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1371600"/>
            <a:ext cx="92534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qué trata el ca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uales son los problemas con la instalación de los asi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Qué debería hacer Doug Frie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nclusiones de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5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es bien Capacitados; Invertir en entrenamiento y estandarización d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calidad en el diseño y en los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troalimentación instantánea en caso de problemas. No se deben delegar los problemas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No se debe crear desperd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miento 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348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21440" y="1600200"/>
            <a:ext cx="86443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ducción Justo-a-Tiempo (o Just-In-Time (JI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id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Ka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Producir solo lo que se necesite, solo cuanto se necesite, y solo cuando se necesit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3"/>
          <p:cNvSpPr/>
          <p:nvPr/>
        </p:nvSpPr>
        <p:spPr>
          <a:xfrm>
            <a:off x="1219320" y="19810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28600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124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9625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6019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696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95288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54864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197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447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2860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1240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4956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A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600" y="2514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lan Inicial de Producción (P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37160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Revi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1676520" y="434340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es fijado y pasa a llamarse Orden de Producción de Vehículos (O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3581280" y="5759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PV es dividido en planes sema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5029200" y="41911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rdenes de partes a proveedores y secuencia de producción  diaria para la primera semana de Mayo son fin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562720" y="3657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epara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6095880" y="25146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oducción para la primera semana de  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68580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8"/>
          <p:cNvSpPr/>
          <p:nvPr/>
        </p:nvSpPr>
        <p:spPr>
          <a:xfrm flipV="1">
            <a:off x="1752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66688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3505320" y="2057400"/>
            <a:ext cx="45720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1"/>
          <p:cNvSpPr/>
          <p:nvPr/>
        </p:nvSpPr>
        <p:spPr>
          <a:xfrm flipV="1">
            <a:off x="4724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533412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3"/>
          <p:cNvSpPr/>
          <p:nvPr/>
        </p:nvSpPr>
        <p:spPr>
          <a:xfrm flipV="1">
            <a:off x="5791320" y="1980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4"/>
          <p:cNvSpPr/>
          <p:nvPr/>
        </p:nvSpPr>
        <p:spPr>
          <a:xfrm flipV="1">
            <a:off x="624852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ducción JIT : Heijun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520" y="1143000"/>
            <a:ext cx="831852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lancear la producción total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edad en Mayo 1992: 23 sedan y modelos wagon, 11 colores de exterior, 29 variaciones de interior &amp; 30 opciones adi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ivelar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nor riesgo de inventario obsol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incronización con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afíos y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ducir tiempos de se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orporar programación de la producción en los flujos de material e información en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Producción JIT : Tarjetas Kan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019160"/>
            <a:ext cx="8305560" cy="73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ada contenedor de partes tiene una tarjeta Kanban indic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código, descripción, tamaño del batch, dirección de destino,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3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arjetas viajan físicamente con el contenedor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stema Pull: solo los Kanban inician la producción de 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Flujo de Información inserto dentro del proceso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trol de Inventario: Nivel de WIP esta ligado al número de Kanb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5240" y="58672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257040" y="1143000"/>
            <a:ext cx="8429400" cy="4471560"/>
            <a:chOff x="257040" y="1143000"/>
            <a:chExt cx="8429400" cy="4471560"/>
          </a:xfrm>
        </p:grpSpPr>
        <p:pic>
          <p:nvPicPr>
            <p:cNvPr id="105" name="Picture 20" descr=""/>
            <p:cNvPicPr/>
            <p:nvPr/>
          </p:nvPicPr>
          <p:blipFill>
            <a:blip r:embed="rId1"/>
            <a:stretch/>
          </p:blipFill>
          <p:spPr>
            <a:xfrm>
              <a:off x="461520" y="1173960"/>
              <a:ext cx="8224920" cy="43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>
              <a:off x="1954440" y="114300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57040" y="121608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7041600" y="5063760"/>
              <a:ext cx="123516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4675320" y="40870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1792800" y="2332080"/>
              <a:ext cx="5612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5892840" y="237420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6897960" y="286956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2785320" y="284148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499360" y="209520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3895200" y="236016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7968600" y="238824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ha83930_1207"/>
          <p:cNvPicPr/>
          <p:nvPr/>
        </p:nvPicPr>
        <p:blipFill>
          <a:blip r:embed="rId1"/>
          <a:stretch/>
        </p:blipFill>
        <p:spPr>
          <a:xfrm>
            <a:off x="2971800" y="838080"/>
            <a:ext cx="5943600" cy="351180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165240" y="7160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Kanban"/>
          <p:cNvPicPr/>
          <p:nvPr/>
        </p:nvPicPr>
        <p:blipFill>
          <a:blip r:embed="rId2"/>
          <a:stretch/>
        </p:blipFill>
        <p:spPr>
          <a:xfrm>
            <a:off x="533520" y="3505320"/>
            <a:ext cx="35496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733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8:47:35Z</dcterms:created>
  <dc:creator>Rene Caldentey</dc:creator>
  <dc:description/>
  <dc:language>en-US</dc:language>
  <cp:lastModifiedBy>Rene Caldentey</cp:lastModifiedBy>
  <dcterms:modified xsi:type="dcterms:W3CDTF">2009-05-27T21:48:02Z</dcterms:modified>
  <cp:revision>44</cp:revision>
  <dc:subject/>
  <dc:title>PowerPoint Presentation</dc:title>
</cp:coreProperties>
</file>