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730080" y="1279080"/>
            <a:ext cx="3967200" cy="297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hdr"/>
          </p:nvPr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4117680" y="0"/>
            <a:ext cx="2894040" cy="333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35" descr="stern"/>
          <p:cNvPicPr/>
          <p:nvPr/>
        </p:nvPicPr>
        <p:blipFill>
          <a:blip r:embed="rId2"/>
          <a:stretch/>
        </p:blipFill>
        <p:spPr>
          <a:xfrm>
            <a:off x="5794200" y="8934480"/>
            <a:ext cx="1160640" cy="301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700920" y="4415040"/>
            <a:ext cx="5607000" cy="41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97188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8832960"/>
            <a:ext cx="3038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66200" y="3377880"/>
            <a:ext cx="59994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03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304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44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45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76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377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18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73332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300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14" name="Group 4"/>
          <p:cNvGrpSpPr/>
          <p:nvPr/>
        </p:nvGrpSpPr>
        <p:grpSpPr>
          <a:xfrm>
            <a:off x="4684680" y="1238400"/>
            <a:ext cx="2153880" cy="6895800"/>
            <a:chOff x="4684680" y="1238400"/>
            <a:chExt cx="2153880" cy="6895800"/>
          </a:xfrm>
        </p:grpSpPr>
        <p:sp>
          <p:nvSpPr>
            <p:cNvPr id="215" name="Text Box 5"/>
            <p:cNvSpPr/>
            <p:nvPr/>
          </p:nvSpPr>
          <p:spPr>
            <a:xfrm>
              <a:off x="468720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68468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>
              <a:off x="482256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8"/>
            <p:cNvSpPr/>
            <p:nvPr/>
          </p:nvSpPr>
          <p:spPr>
            <a:xfrm>
              <a:off x="482256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482256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82256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482256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482256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482256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>
              <a:off x="482256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482256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482256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82256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482256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482256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>
              <a:off x="482256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482256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>
              <a:off x="482256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3"/>
            <p:cNvSpPr/>
            <p:nvPr/>
          </p:nvSpPr>
          <p:spPr>
            <a:xfrm>
              <a:off x="482256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4"/>
            <p:cNvSpPr/>
            <p:nvPr/>
          </p:nvSpPr>
          <p:spPr>
            <a:xfrm>
              <a:off x="482256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>
              <a:off x="482256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6"/>
            <p:cNvSpPr/>
            <p:nvPr/>
          </p:nvSpPr>
          <p:spPr>
            <a:xfrm>
              <a:off x="482256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>
              <a:off x="482256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8"/>
            <p:cNvSpPr/>
            <p:nvPr/>
          </p:nvSpPr>
          <p:spPr>
            <a:xfrm>
              <a:off x="482256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9"/>
            <p:cNvSpPr/>
            <p:nvPr/>
          </p:nvSpPr>
          <p:spPr>
            <a:xfrm>
              <a:off x="482256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30"/>
            <p:cNvSpPr/>
            <p:nvPr/>
          </p:nvSpPr>
          <p:spPr>
            <a:xfrm>
              <a:off x="482256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558880" y="1279440"/>
            <a:ext cx="3961080" cy="2970360"/>
          </a:xfrm>
          <a:prstGeom prst="rect">
            <a:avLst/>
          </a:prstGeom>
          <a:ln w="0">
            <a:noFill/>
          </a:ln>
        </p:spPr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558880" y="5300640"/>
            <a:ext cx="39610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49" name="Group 4"/>
          <p:cNvGrpSpPr/>
          <p:nvPr/>
        </p:nvGrpSpPr>
        <p:grpSpPr>
          <a:xfrm>
            <a:off x="227160" y="1238400"/>
            <a:ext cx="2153880" cy="6895800"/>
            <a:chOff x="227160" y="1238400"/>
            <a:chExt cx="2153880" cy="6895800"/>
          </a:xfrm>
        </p:grpSpPr>
        <p:sp>
          <p:nvSpPr>
            <p:cNvPr id="250" name="Text Box 5"/>
            <p:cNvSpPr/>
            <p:nvPr/>
          </p:nvSpPr>
          <p:spPr>
            <a:xfrm>
              <a:off x="229680" y="123840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"/>
            <p:cNvSpPr/>
            <p:nvPr/>
          </p:nvSpPr>
          <p:spPr>
            <a:xfrm>
              <a:off x="227160" y="5254560"/>
              <a:ext cx="59796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280" rIns="98280" tIns="49320" bIns="49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2800"/>
                  <a:tab algn="l" pos="1965240"/>
                  <a:tab algn="l" pos="2948040"/>
                  <a:tab algn="l" pos="3930480"/>
                  <a:tab algn="l" pos="4913280"/>
                  <a:tab algn="l" pos="5896080"/>
                  <a:tab algn="l" pos="6878520"/>
                  <a:tab algn="l" pos="7861320"/>
                  <a:tab algn="l" pos="8844120"/>
                  <a:tab algn="l" pos="9826560"/>
                  <a:tab algn="l" pos="10809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7"/>
            <p:cNvSpPr/>
            <p:nvPr/>
          </p:nvSpPr>
          <p:spPr>
            <a:xfrm>
              <a:off x="365040" y="1628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8"/>
            <p:cNvSpPr/>
            <p:nvPr/>
          </p:nvSpPr>
          <p:spPr>
            <a:xfrm>
              <a:off x="365040" y="18561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9"/>
            <p:cNvSpPr/>
            <p:nvPr/>
          </p:nvSpPr>
          <p:spPr>
            <a:xfrm>
              <a:off x="365040" y="2311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"/>
            <p:cNvSpPr/>
            <p:nvPr/>
          </p:nvSpPr>
          <p:spPr>
            <a:xfrm>
              <a:off x="365040" y="20836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1"/>
            <p:cNvSpPr/>
            <p:nvPr/>
          </p:nvSpPr>
          <p:spPr>
            <a:xfrm>
              <a:off x="365040" y="2539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2"/>
            <p:cNvSpPr/>
            <p:nvPr/>
          </p:nvSpPr>
          <p:spPr>
            <a:xfrm>
              <a:off x="365040" y="27666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3"/>
            <p:cNvSpPr/>
            <p:nvPr/>
          </p:nvSpPr>
          <p:spPr>
            <a:xfrm>
              <a:off x="365040" y="32216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4"/>
            <p:cNvSpPr/>
            <p:nvPr/>
          </p:nvSpPr>
          <p:spPr>
            <a:xfrm>
              <a:off x="365040" y="29941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5"/>
            <p:cNvSpPr/>
            <p:nvPr/>
          </p:nvSpPr>
          <p:spPr>
            <a:xfrm>
              <a:off x="365040" y="34495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6"/>
            <p:cNvSpPr/>
            <p:nvPr/>
          </p:nvSpPr>
          <p:spPr>
            <a:xfrm>
              <a:off x="365040" y="36770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7"/>
            <p:cNvSpPr/>
            <p:nvPr/>
          </p:nvSpPr>
          <p:spPr>
            <a:xfrm>
              <a:off x="365040" y="41320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8"/>
            <p:cNvSpPr/>
            <p:nvPr/>
          </p:nvSpPr>
          <p:spPr>
            <a:xfrm>
              <a:off x="365040" y="39045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365040" y="56304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0"/>
            <p:cNvSpPr/>
            <p:nvPr/>
          </p:nvSpPr>
          <p:spPr>
            <a:xfrm>
              <a:off x="365040" y="58579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1"/>
            <p:cNvSpPr/>
            <p:nvPr/>
          </p:nvSpPr>
          <p:spPr>
            <a:xfrm>
              <a:off x="365040" y="6313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2"/>
            <p:cNvSpPr/>
            <p:nvPr/>
          </p:nvSpPr>
          <p:spPr>
            <a:xfrm>
              <a:off x="365040" y="60854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3"/>
            <p:cNvSpPr/>
            <p:nvPr/>
          </p:nvSpPr>
          <p:spPr>
            <a:xfrm>
              <a:off x="365040" y="654084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4"/>
            <p:cNvSpPr/>
            <p:nvPr/>
          </p:nvSpPr>
          <p:spPr>
            <a:xfrm>
              <a:off x="365040" y="67683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5"/>
            <p:cNvSpPr/>
            <p:nvPr/>
          </p:nvSpPr>
          <p:spPr>
            <a:xfrm>
              <a:off x="365040" y="722376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6"/>
            <p:cNvSpPr/>
            <p:nvPr/>
          </p:nvSpPr>
          <p:spPr>
            <a:xfrm>
              <a:off x="365040" y="69958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7"/>
            <p:cNvSpPr/>
            <p:nvPr/>
          </p:nvSpPr>
          <p:spPr>
            <a:xfrm>
              <a:off x="365040" y="745128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28"/>
            <p:cNvSpPr/>
            <p:nvPr/>
          </p:nvSpPr>
          <p:spPr>
            <a:xfrm>
              <a:off x="365040" y="76788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9"/>
            <p:cNvSpPr/>
            <p:nvPr/>
          </p:nvSpPr>
          <p:spPr>
            <a:xfrm>
              <a:off x="365040" y="813420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30"/>
            <p:cNvSpPr/>
            <p:nvPr/>
          </p:nvSpPr>
          <p:spPr>
            <a:xfrm>
              <a:off x="365040" y="7906320"/>
              <a:ext cx="20160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32"/>
          <p:cNvSpPr/>
          <p:nvPr/>
        </p:nvSpPr>
        <p:spPr>
          <a:xfrm>
            <a:off x="60480" y="9009000"/>
            <a:ext cx="3402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7: Quality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033"/>
          <p:cNvSpPr/>
          <p:nvPr/>
        </p:nvSpPr>
        <p:spPr>
          <a:xfrm>
            <a:off x="223920" y="0"/>
            <a:ext cx="2727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034"/>
          <p:cNvSpPr/>
          <p:nvPr/>
        </p:nvSpPr>
        <p:spPr>
          <a:xfrm>
            <a:off x="4118040" y="0"/>
            <a:ext cx="2894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A2D-BC83-4F09-9316-EA0F6E3D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045-81D3-4CFF-95D1-6BE90FD6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153-F7E8-4D06-B140-5F3CBA25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FD9-EECA-402E-803A-05187012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36F-DD98-4A1C-BFC7-E3B3E52F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314-F1C6-413A-956F-00717261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EF2-BD94-4F07-AB63-E09C9660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DF6-2A12-4C99-8E56-92302616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286-3B3F-4135-BD61-6E2850FA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9D9-2865-4614-868B-0488D744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25A-7360-4E53-B5B0-952356E0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799-792F-4A37-B3AC-B9509AA5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D051-9A75-43F9-8197-B2E093EDA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9. Gestión de Calidad: Toyota – Ren</a:t>
            </a:r>
            <a:r>
              <a:rPr b="0" lang="es-CL" sz="1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 Caldent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60948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yota Motor Manufactu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Andon Board"/>
          <p:cNvPicPr/>
          <p:nvPr/>
        </p:nvPicPr>
        <p:blipFill>
          <a:blip r:embed="rId1"/>
          <a:stretch/>
        </p:blipFill>
        <p:spPr>
          <a:xfrm>
            <a:off x="3124080" y="2590920"/>
            <a:ext cx="2857680" cy="3246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04720" y="5802480"/>
            <a:ext cx="27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Garamond"/>
              </a:rPr>
              <a:t>Example of an Andon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Como Determinar el  Numero de Tarjetas Kanb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6200" y="3560760"/>
                <a:ext cx="844380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manda Esperada durante lead time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ventario Segurida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maño Contenedo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Rectangle 5"/>
          <p:cNvSpPr/>
          <p:nvPr/>
        </p:nvSpPr>
        <p:spPr>
          <a:xfrm>
            <a:off x="609480" y="2286000"/>
            <a:ext cx="7391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Garamond"/>
              </a:rPr>
              <a:t>k =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umero de tarj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 = Tamaño del 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374760" y="77328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1295280"/>
            <a:ext cx="16765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019920" y="1295280"/>
            <a:ext cx="167616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3809880" y="1143000"/>
            <a:ext cx="1600200" cy="83808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Times New Roman"/>
              </a:rPr>
              <a:t>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699000" y="198108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WIP = k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×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3124080" y="1600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510552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777240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5335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80880" y="5397480"/>
            <a:ext cx="853452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 = Demanda promedio del proceso B durante una unidad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 = Lead time del proceso A para reponer demanda de B (misma unidad de tiem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 = Inventario de seguridad como fracción de la demanda durante el lead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80440" y="312408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0033"/>
                </a:solidFill>
                <a:latin typeface="Palatino Linotype"/>
              </a:rPr>
              <a:t>Número Óptimo de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190440" y="75960"/>
            <a:ext cx="7810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lementos del TPS: Jido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84280" y="1270080"/>
            <a:ext cx="8153280" cy="65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Hacer cualquier problema de producción visible instantáneamente y detener la producción de productos defectu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onstruir calidad en los procesos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alquier variación que no agregue valor es un “desperdici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Valor es definido desde el punto de vista del cliente: la próxima estación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Estandarizar procesos y documentar los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iagramas de Trabajo: tiempo de ciclo, secuencia de tare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inta de colores para marcar cada etapa d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Cuerda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orque detectar problemas donde y cuando ocurr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áles son los costos y beneficios de tirar la cuer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Paneles 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Señalar problemas a niveles mas altos de control, e.g., Code 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2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Emple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9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cientemente seleccionar e invertir en educar a l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trenamiento person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earn by doing”: </a:t>
            </a:r>
            <a:r>
              <a:rPr b="0" i="1" lang="es-CL" sz="2000" spc="-1" strike="noStrike">
                <a:solidFill>
                  <a:srgbClr val="990033"/>
                </a:solidFill>
                <a:latin typeface="Garamond"/>
              </a:rPr>
              <a:t>mejoramiento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: entrenado para agregar valor y mejorar los procesos; resolver problemas usando análisis causal y empoderamiento (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Employee Empowerment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Area: el mas experimentado de la zona de trabajo y con mejor capacidad pedagógica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íder de Grupo: Experimentado como líder de área y con mayor conocimiento de T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sistente de Gerente: Mayor conocimiento y ha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ol de los Gerentes: Pensamiento estratégico y no apagar incen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Kaiz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1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mbiar por algo mej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r los estándares de trabajo, equipos, y otros procesos de producción realizados diar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Eliminar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desperdicios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 siete catego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1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Sobre-producción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5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Bloqueo o Deten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. Manipulación Innecesaria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6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Procesos que no agregan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3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Inventario Excesivo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7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Movimientos inefic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4.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Correcciones por def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86868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Si la línea parar durante un ciclo (57sec) ento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0033"/>
                </a:solidFill>
                <a:latin typeface="Times New Roman"/>
              </a:rPr>
              <a:t>el costo sería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valor de un auto $18,5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margen por auto 17% de $18,500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3,14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624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El costo variable del trabajo durante un ciclo </a:t>
            </a: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$0.269 por trabajad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66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 ejemplo, si se para por 1 minuto la sección de Final 1, entonces solo este segmento de la línea se detend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# de personas en Final 1 =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T / persona-min = ($17/60) * 1.5 = $0.42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tal ST/min = 30 * 0.425 = $12.75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i la detención es mas larga y afecta toda la línea de ensamblaje, entonces el ST involucra a los 769 empleados = 769 * 0.425 = $327 por minuto (incluyendo team y group leaders) = 1019 * 0.425 = $433 /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5720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Costo de Parar la L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PS: El Impacto  de la Cuerda And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8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2 andon por trabajador con una sola parada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iempo por Turno = 450 min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roductividad = 85-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erdida de Trabajo por Turno = 5 a 15% de 450 minut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22.5 a 67.5 min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nsidere Final 1 con 30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andon = 30*12 = 3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paradas por turno (1 in 12) = 360/12 = 30 pa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6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iempo promedio parado = Tiempo Parado / # Paradas = [22.5/30, 67.5/30] = [0.75, 2.25] mins por pa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T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oyota: ha sido investigada y documentada intens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ácticas (como kanbans) han sido copiadas por muchas otras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uchas compañías han tratado de desarrollar sus propias versiones de TPS y han fal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azones: No son cul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luso Nissan y Honda no han po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oyota ha introducido exitosamente TPS en USA y Argent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rqué es tan difícil de log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4920" y="54864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coding the DNA of the Toyota Production System” by Steven Spear and Kent Bow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Harvard Business Review 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60440" y="228600"/>
            <a:ext cx="41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orqué es tan Difíci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12-month share performance"/>
          <p:cNvPicPr/>
          <p:nvPr/>
        </p:nvPicPr>
        <p:blipFill>
          <a:blip r:embed="rId1"/>
          <a:stretch/>
        </p:blipFill>
        <p:spPr>
          <a:xfrm>
            <a:off x="979560" y="1397160"/>
            <a:ext cx="7326360" cy="43941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841320" y="57643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WSJ: Sept. 03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60080" y="228600"/>
            <a:ext cx="31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tock de Toyo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314360" y="1320840"/>
            <a:ext cx="68389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68580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4920" y="1371600"/>
            <a:ext cx="925344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qué trata el ca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uales son los problemas con la instalación de los asie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Qué debería hacer Doug Fries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Conclusiones de 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51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Trabajadores bien Capacitados; Invertir en entrenamiento y estandarización de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calidad en el diseño y en los proces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tegrar a lo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troalimentación instantánea en caso de problemas. No se deben delegar los problemas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No se debe crear desperdi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joramiento contin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3480" y="330120"/>
            <a:ext cx="476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21440" y="1600200"/>
            <a:ext cx="86443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Producción Justo-a-Tiempo (o Just-In-Time (JIT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Jid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Kai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“</a:t>
            </a:r>
            <a:r>
              <a:rPr b="0" lang="es-CL" sz="4400" spc="-1" strike="noStrike">
                <a:solidFill>
                  <a:srgbClr val="990033"/>
                </a:solidFill>
                <a:latin typeface="Garamond"/>
              </a:rPr>
              <a:t>Producir solo lo que se necesite, solo cuanto se necesite, y solo cuando se necesite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3"/>
          <p:cNvSpPr/>
          <p:nvPr/>
        </p:nvSpPr>
        <p:spPr>
          <a:xfrm>
            <a:off x="1219320" y="1981080"/>
            <a:ext cx="662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1447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228600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124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>
            <a:off x="39625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>
            <a:off x="601992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7696080" y="1905120"/>
            <a:ext cx="0" cy="15228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495288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54864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44197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144792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2860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F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1240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4495680" y="160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A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160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28600" y="2514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lan Inicial de Producción (P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1371600" y="3657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Revi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1676520" y="434340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IP es fijado y pasa a llamarse Orden de Producción de Vehículos (OP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3581280" y="57592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PV es dividido en planes sema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5029200" y="419112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Ordenes de partes a proveedores y secuencia de producción  diaria para la primera semana de Mayo son fina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5562720" y="3657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eparación de la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6095880" y="251460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Producción para la primera semana de  Ma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68580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6477120" y="1905120"/>
            <a:ext cx="0" cy="1522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8"/>
          <p:cNvSpPr/>
          <p:nvPr/>
        </p:nvSpPr>
        <p:spPr>
          <a:xfrm flipV="1">
            <a:off x="1752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9"/>
          <p:cNvSpPr/>
          <p:nvPr/>
        </p:nvSpPr>
        <p:spPr>
          <a:xfrm flipV="1">
            <a:off x="2666880" y="1980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0"/>
          <p:cNvSpPr/>
          <p:nvPr/>
        </p:nvSpPr>
        <p:spPr>
          <a:xfrm>
            <a:off x="3505320" y="2057400"/>
            <a:ext cx="457200" cy="220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1"/>
          <p:cNvSpPr/>
          <p:nvPr/>
        </p:nvSpPr>
        <p:spPr>
          <a:xfrm flipV="1">
            <a:off x="47242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2"/>
          <p:cNvSpPr/>
          <p:nvPr/>
        </p:nvSpPr>
        <p:spPr>
          <a:xfrm flipV="1">
            <a:off x="533412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3"/>
          <p:cNvSpPr/>
          <p:nvPr/>
        </p:nvSpPr>
        <p:spPr>
          <a:xfrm flipV="1">
            <a:off x="5791320" y="1980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4"/>
          <p:cNvSpPr/>
          <p:nvPr/>
        </p:nvSpPr>
        <p:spPr>
          <a:xfrm flipV="1">
            <a:off x="624852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5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lementos del TPS: J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ducción JIT : Heijun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6520" y="1143000"/>
            <a:ext cx="831852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alancear la producción total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ariedad en Mayo 1992: 23 sedan y modelos wagon, 11 colores de exterior, 29 variaciones de interior &amp; 30 opciones adi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ivelar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enor riesgo de inventario obsol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incronización con v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7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safíos y Complej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ducir tiempos de se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orporar programación de la producción en los flujos de material e información en tiemp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Producción JIT : Tarjetas Kan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019160"/>
            <a:ext cx="8305560" cy="73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ada contenedor de partes tiene una tarjeta Kanban indic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# código, descripción, tamaño del batch, dirección de destino,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3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arjetas viajan físicamente con el contenedor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istema Pull: solo los Kanban inician la producción de pa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Flujo de Información inserto dentro del proceso de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trol de Inventario: Nivel de WIP esta ligado al número de Kanb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373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3175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5240" y="586728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Sistema Kan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257040" y="1143000"/>
            <a:ext cx="8429400" cy="4471560"/>
            <a:chOff x="257040" y="1143000"/>
            <a:chExt cx="8429400" cy="4471560"/>
          </a:xfrm>
        </p:grpSpPr>
        <p:pic>
          <p:nvPicPr>
            <p:cNvPr id="105" name="Picture 20" descr=""/>
            <p:cNvPicPr/>
            <p:nvPr/>
          </p:nvPicPr>
          <p:blipFill>
            <a:blip r:embed="rId1"/>
            <a:stretch/>
          </p:blipFill>
          <p:spPr>
            <a:xfrm>
              <a:off x="461520" y="1173960"/>
              <a:ext cx="8224920" cy="438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1"/>
            <p:cNvSpPr/>
            <p:nvPr/>
          </p:nvSpPr>
          <p:spPr>
            <a:xfrm>
              <a:off x="1954440" y="1143000"/>
              <a:ext cx="1480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257040" y="1216080"/>
              <a:ext cx="15202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7041600" y="5063760"/>
              <a:ext cx="123516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uesto de tarje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Kanban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4675320" y="4087080"/>
              <a:ext cx="82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En tránsi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25"/>
            <p:cNvSpPr/>
            <p:nvPr/>
          </p:nvSpPr>
          <p:spPr>
            <a:xfrm>
              <a:off x="1792800" y="2332080"/>
              <a:ext cx="5612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26"/>
            <p:cNvSpPr/>
            <p:nvPr/>
          </p:nvSpPr>
          <p:spPr>
            <a:xfrm>
              <a:off x="5892840" y="237420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ent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27"/>
            <p:cNvSpPr/>
            <p:nvPr/>
          </p:nvSpPr>
          <p:spPr>
            <a:xfrm>
              <a:off x="6897960" y="286956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2785320" y="2841480"/>
              <a:ext cx="6397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en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trabajo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9"/>
            <p:cNvSpPr/>
            <p:nvPr/>
          </p:nvSpPr>
          <p:spPr>
            <a:xfrm>
              <a:off x="5499360" y="2095200"/>
              <a:ext cx="1140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arjeta de reti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30"/>
            <p:cNvSpPr/>
            <p:nvPr/>
          </p:nvSpPr>
          <p:spPr>
            <a:xfrm>
              <a:off x="3895200" y="236016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31"/>
            <p:cNvSpPr/>
            <p:nvPr/>
          </p:nvSpPr>
          <p:spPr>
            <a:xfrm>
              <a:off x="7968600" y="2388240"/>
              <a:ext cx="56124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Área de sal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ha83930_1207"/>
          <p:cNvPicPr/>
          <p:nvPr/>
        </p:nvPicPr>
        <p:blipFill>
          <a:blip r:embed="rId1"/>
          <a:stretch/>
        </p:blipFill>
        <p:spPr>
          <a:xfrm>
            <a:off x="2971800" y="838080"/>
            <a:ext cx="5943600" cy="351180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>
            <a:off x="165240" y="71604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Kanban"/>
          <p:cNvPicPr/>
          <p:nvPr/>
        </p:nvPicPr>
        <p:blipFill>
          <a:blip r:embed="rId2"/>
          <a:stretch/>
        </p:blipFill>
        <p:spPr>
          <a:xfrm>
            <a:off x="533520" y="3505320"/>
            <a:ext cx="354960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733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Producción J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8:47:35Z</dcterms:created>
  <dc:creator>Rene Caldentey</dc:creator>
  <dc:description/>
  <dc:language>en-US</dc:language>
  <cp:lastModifiedBy>Rene Caldentey</cp:lastModifiedBy>
  <dcterms:modified xsi:type="dcterms:W3CDTF">2009-05-27T21:48:02Z</dcterms:modified>
  <cp:revision>44</cp:revision>
  <dc:subject/>
  <dc:title>PowerPoint Presentation</dc:title>
</cp:coreProperties>
</file>