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74C3-46E5-4349-9F1F-FCEB39F4F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50DD-1B4C-4644-A1F6-AE5B5AECB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E62B-3F77-4C12-9703-12639DACA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8E56-ED85-40E8-B268-334B704A7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A7DBF-43DF-429F-834B-DB2557CE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A9003-4F32-4B6F-B325-E74D1B31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E296A-60A4-4FEA-A4DC-26C3D242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7A4C9-345C-48BB-BA02-DCE0FE49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C8C27-70F3-4DA5-B5D8-10AE8B74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16B78-8BD2-4A11-8C1D-F93162B2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74AB4-5D15-419C-81EA-60EAF47F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FB91-8947-4B06-A95C-85EA9032C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82787-B99E-4220-AA6F-FB33AA90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4557A-01E0-42A5-BB25-B59F05D0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9FC82-1158-48D0-A2FD-43177581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691FE-616E-4B76-8096-3A51FCEA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E1F73-EAFB-4374-A379-2E173B4C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667F-EA3B-40C8-99DD-2172EE4A7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2397-B6F5-4E9A-A00B-70C612396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28FF-53E9-4FAA-B850-0F1626D81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4696-3D53-439F-B247-B88F4EA90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64E6-A04F-4A67-B3F4-9DDF08E2C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A796-C592-4C2A-B665-04CECC005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0EFF-5C68-4C67-B736-7CB2BBD93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1173-C7BA-4CB8-BA54-ADF45E09C8B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5BA8-EE46-41A6-8557-DDEA386C5C81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73E8-FE5D-4931-9D24-8B986D534F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AAAE-39CB-4BC4-8CA0-2DFE51465C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D0D5-305F-4594-895E-0CBF07AC83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ítimo Alimento Salm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C69B-0763-4172-A0A7-885705C94B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C57B-7538-4199-8BAD-56D18453A6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49A4-DCBD-455A-A978-4F10D8AAD8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57F8-A3EF-4837-A5E7-A24C28A3E2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ECC6-A9B1-42BC-ADB9-766A059540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699D-6B0B-448C-93DB-B69D57998C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17F5-534B-4B61-9FBF-EAC56B2FB3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A682-F46C-4A3D-BD60-F1FCB20DA2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3E64B-6C6A-49BB-BC73-A0E52BD61E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9-10-05T22:34:51Z</dcterms:modified>
  <cp:revision>158</cp:revision>
  <dc:subject/>
  <dc:title>Comercio Electrónico</dc:title>
</cp:coreProperties>
</file>