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25E66-9B06-486D-8E3F-FE9CD078E3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42A8C-E6DF-4E47-BC41-B60915C0BA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9B993-5A51-47F3-82C0-006BF9FC94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EBB41-D5BC-4872-8EEF-63BCED5CC7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E24CA2-92BA-4203-ABEB-58877A649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E8EEC5-F4FC-48FB-BE8B-0CF8257A5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E1412E-11AE-4EF8-8D0F-6ACD1CDE5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ED8D68-5C4F-4865-8FF0-BF18B6117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B0FED4-90E0-42F2-82D7-7E112BFEA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C3CA5B-838C-4650-A61B-54CABF253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D13B42-8A08-420A-99C3-959D587E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81AEF-69C3-4569-B769-73CB7B9CBD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66DD88-4EF4-4B85-AF06-6C50167F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6D8AE9-7FE4-4D40-811C-BF15C97A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173409-B136-4165-9E3F-82A0ABF82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60FB13-B745-49EF-AD71-89627D28F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E6982A-826D-4439-816E-67F52802B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B2B5C-A7B6-494A-B9F4-EDD93062B9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63BB4-541F-4B11-8714-B82ED79310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8894B-8A9A-43D7-97EF-D789905B46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24B38-310B-4804-B53D-367CFD2000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4988B-9B5D-4874-9E17-431C3999AA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AEC14-73AA-440E-8796-933A91183E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DFBDA-E59D-4C1E-BF45-B59ACB8523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7600">
            <a:off x="5067000" y="6237000"/>
            <a:ext cx="3733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7A198-7A33-47B2-88C0-1C1AFAA3B7F1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AC490-28F0-49D7-94A2-F55A3F092CDF}" type="slidenum"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1676520" y="350532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Logística de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blemas de congest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miones con compartimentos para distintos productos: Bancu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igazón cliente-vehícul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ransbordos: camión-tr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EB113-D98E-4721-8C0B-2B19272F462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ra tener en cuent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problema de diseño de flota requiere valores medios de uso y considera demandas de pun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ebe tener en cuenta el trade-off que existe entre los costos y la calidad del servic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posible el uso de simul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transporte está ligado a la localización y a los inventar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BE022-E03E-4D67-A9B8-5CCAD5AE4CE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nfoques de Solu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étodos manua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sando mapas, afiches, cartas Gantt, pizarras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lución por lógic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étodos heurístic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tilización de computado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proximados a la solución óptim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ptimizació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odelos matemát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proximaciones con heurístic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012D6-EE55-4E7C-9F93-E513E328B7B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sos en Chil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SICAM: productos forest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huquicamata: despacho de mineral y last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hilectra: despacho de vehículos de emerge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ina El Soldado: transporte de perso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serraderos Arau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arítimo Alimento Salm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3E2D7-17AA-4C09-9618-8D080BB79AC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ipos de Decision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ácticas-Estratég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iseño de flot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Cuántos vehículo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De qué tipo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peraciona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signación de vehículos a tare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ute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B32A5-4D14-4118-AB46-B569E2C838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 Gener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ipos de Vehícu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sajer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uses (transporte público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axi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rvici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rre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sur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mergencia médic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hilectr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8D663-A595-4834-9DD3-C74675B6762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3980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duct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CU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upermercad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huquicamat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osqu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hel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s de viaj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ircui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rre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alabell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da y vuelta entre orígenes y destin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orest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inerí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A6865-68F3-4230-BE9F-F1BA307B5B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lot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 vehícul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últiples vehícul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ehículos igual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ehículos de distinto tipo (costo, capacidad, etc.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laciones Contractua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hículos propi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rmiten mayor control y seguridad de servici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hículos subcontratad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rmiten descentralización administrativ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s vital en este caso el tema de los contratos (costo real versus costo de contrato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F04C8-F05C-49EE-B0D1-2728AD0F84F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stema mixt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ehículos propios y subcontratado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irve para calcular costos y asegurar el servicio a los clientes más important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ponentes de Cos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s fij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 inversió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 operación (sueldos, patente, etc.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variables de oper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2D303-64A8-4D9D-BF29-EF5737E83A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úmero de depósit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últiples (una o más planta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úmero de destin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últip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so madera: puerto, aserraderos, planta de celulosa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terminístic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ocástic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volumen: CCU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localización: fallas Chilectra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tiempo de viaje: Shel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37E47-2658-470D-8AD5-E22DC61A216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recuencia de viaj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últiples por día: Chuquicama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 duración de más de un día: Aserraderos Arauc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iempos de trabaj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 sobretiemp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n sobretiemp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iempos y distancias de viaj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ocidos: minerí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imados: bosq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leatorios: ciu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0977F-8173-489C-8178-FCB81EE19D2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bjetiv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inimizar costos rea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inimizar costos de contra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inimizar tiempo de llegada (emergencia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ximizar la calidad del servicio (clientes atendidos a tiempo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inimizar el riesgo de no cumplir la deman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ximizar beneficio ne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actores adiciona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ntanas de tiemp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upermercado permite descargar entre 6-8 AM y 21-23 PM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hibición de entrar al centro en determinadas hor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F33C5-4884-4050-94E8-0235CF75C2E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6T14:21:15Z</dcterms:created>
  <dc:creator>Dpto. Ingeniería Industrial</dc:creator>
  <dc:description/>
  <dc:language>en-US</dc:language>
  <cp:lastModifiedBy>.................</cp:lastModifiedBy>
  <cp:lastPrinted>2002-04-16T09:14:48Z</cp:lastPrinted>
  <dcterms:modified xsi:type="dcterms:W3CDTF">2009-10-05T22:34:51Z</dcterms:modified>
  <cp:revision>158</cp:revision>
  <dc:subject/>
  <dc:title>Comercio Electrónico</dc:title>
</cp:coreProperties>
</file>