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7FB0-3D99-4279-BABF-4E58AF94A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111D-A18D-4A8E-B792-4CD95B034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9CA1-C434-4F60-8792-450C191AE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054F-7C7C-4247-9A35-E09EDAF9F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17F56-3B9C-4E44-9267-29C9792D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958E0-B354-435D-8229-4FE17EA7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C8AFF-EB71-4C00-8418-F2710402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DAFBF-8AD0-449E-8B67-4CF4D657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6FB73-9106-4EEF-B181-5B7D3ED2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CE0E5-D459-4EFA-8C7F-4FD36F01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15F47-C959-4012-9414-498FCAFF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EDEE-FEF6-4B03-8CC6-0DCC19DCB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CDEAE-EC7E-4FA7-AAD1-E50EC8A9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C5341-0564-4AE8-A54D-A9A84C72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68F99-849E-41BC-8952-1FBCBEE1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3A9EF-EA35-4837-8353-30CADDA1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0B848-AF01-4599-A2F0-9392471B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2B04-F7F5-4684-B61A-30B997E6E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2685-21BE-48AD-BF10-2F361EBB4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8357-0F41-4F84-8A2A-136568AF0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0C68-8FA7-4795-9EBB-83E1E7CC6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59A6-0B59-456D-84F7-EBCECD24D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B90F-A8E5-495F-8523-211684F72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8F8C-7A7C-4E9D-BF0F-4E58E6B10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A43A-90F8-4CD5-9DF4-22A545C3735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0568-90BE-45FC-AB83-D03267D04EE6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4886-4FF3-48DE-AD4E-CF5D81374C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860A-1A8A-4A36-B543-EC9361E69D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8242-21D6-4574-BB2D-F5FC858AE8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ítimo Alimento Salm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2637-1CFF-41CE-B6DB-71BEA64E90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4BBD-8300-487B-9AB3-FF3A0A39DC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68B5-563D-48BE-86FD-B2A8AF86CF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ED61-E2BC-49D1-8504-7D63B92145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AD5C-642D-4C39-AC7D-10A1F33C9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29DB-87F9-450A-8F7F-0A0CF80C00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F8F5-8B15-4AE8-A18F-107AB7C2E2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86BC-FC94-4910-BD42-E7FDC3E03C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4672-D703-49A5-BF4B-BB7896329C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9-10-05T22:34:51Z</dcterms:modified>
  <cp:revision>158</cp:revision>
  <dc:subject/>
  <dc:title>Comercio Electrónico</dc:title>
</cp:coreProperties>
</file>