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5E85-EB51-4F8F-A4F0-2C698CDDA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0DFF-CFCA-4D3E-8ADD-C0A921DF9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5AE9-F35F-4981-B680-902DAA269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67590-8607-423D-B523-D2A83F97D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7BF54-743E-4BD3-B1F3-756B77E2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6E35C-0151-46AD-8392-983CD1D7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A1439-D684-4B2F-AAEF-E197E14A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99450-C4FF-46F2-9E6E-683B6CC5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3EE8D-5DC9-4FA2-B888-39DFDEE5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92A10-B8A0-4F2F-BD2D-6C04A1DE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40EAB-4449-4410-93C2-C1B4E501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38EE-673A-4014-B3C8-0FFE529F1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5AE83-2462-43DE-A7A6-85CB14AD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168D9-9035-450D-BED0-46631480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A5E52-7DA0-4E06-BE3F-9707AEE0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C3F4C-4521-46CC-8BF8-295CAD8F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3A6CF-A303-4583-839B-1D3BFAB6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B79B-1A49-4DED-B568-747DA19F9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1E6A-FFB6-442E-A39A-0C93BA920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3B7E-56BB-46C2-ADF8-855E2D4D8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7622-C4D6-40B2-9BD8-CA79C8595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8E27-DA90-49E5-87AF-FA9B2515D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859E-291E-4C55-9441-E8D9ED97A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88F7F-9752-4346-AF9F-A8C0C714A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6428-E737-403B-9B91-D57A7042E3D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FCA2-ADCD-46DC-9CD6-0847DE3559B1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2272-6F93-4EC6-BA82-06B3387C3B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E8CC-EDBA-4952-8273-26FC0EF8C7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EBC37-6835-4694-8888-3D9477DFE9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ítimo Alimento Salm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0152-0FA0-49AF-BDC0-D266CD1F25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06FF-3DBA-4F35-BC62-CD2C76614D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F054-919D-4470-AF9B-F99ECDA751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F928-3796-46B3-87B0-DD918172CF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5FD3-26A6-4E27-9271-D4E7D5F6B4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45FD-CFD0-43C4-B600-94BB07FF40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510D-5B73-4152-9E22-D8D3119457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320A-E5F4-443E-BCF0-7C7D06DA87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31E7-CAD0-407A-9DB2-93DF55A023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9-10-05T22:34:51Z</dcterms:modified>
  <cp:revision>158</cp:revision>
  <dc:subject/>
  <dc:title>Comercio Electrónico</dc:title>
</cp:coreProperties>
</file>