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12.wmf" ContentType="image/x-wmf"/>
  <Override PartName="/ppt/media/image22.wmf" ContentType="image/x-wmf"/>
  <Override PartName="/ppt/media/image6.jpeg" ContentType="image/jpeg"/>
  <Override PartName="/ppt/media/image10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7.wmf" ContentType="image/x-wmf"/>
  <Override PartName="/ppt/media/image16.jpeg" ContentType="image/jpeg"/>
  <Override PartName="/ppt/media/image14.wmf" ContentType="image/x-wmf"/>
  <Override PartName="/ppt/media/image2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BB3695-AF1D-4D51-B17A-F5E7128B0F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83827D-933E-467B-BD18-4793A49F1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88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F0D113-7A27-454C-A4D5-8C1762B68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36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2C526E-C1A3-419A-B49A-AD07C45091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42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F03AD8-59A5-473C-BB5F-61D28166FF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48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33DA04-0E0E-40F5-B503-6784384EC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54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339695-A84D-44B8-9E8C-216E44FE4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60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4A5C97-C0DA-4DBE-849E-B285BB625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66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3826D6-EAD2-4D0B-8097-EF1732C8C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72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B9D198-728C-4BC0-BC00-AA9FCD69E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78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AC5183-0B6D-4D32-B625-A6E3213CC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84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FF6A90-CD4E-4FA2-99C7-DF8CA2612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90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2DC72E-A938-416E-A88F-FD1E50E9A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94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4FA81A-7E5D-4148-B307-D5D47D9FD5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96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42B4B0-BBB4-4C16-838C-7C1E384D8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02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D3F4A1-1493-49A6-B076-B471AA3E5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08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D39687-6AD6-485C-B7A8-F5D7756AF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14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2DD77F-C449-4E6C-AE5F-C457C580F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20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FE1AEB-16D1-4B20-86B9-64C639C08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26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F8414B-77E4-4A57-A678-756F65AA9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32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25ECC3-2CFE-4AEA-BE86-023654462A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38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D1BF8E-9BB4-4873-83AA-538AB1A58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44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5623F5-72CF-4240-A5DE-47BD4E0993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50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4FD70B-FC02-457D-81A7-496BDEA1B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00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05FDCC-519B-4A03-B57A-E4D9EF8E63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56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9D1053-587F-4FB4-BAA4-CC0489F93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62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837751-B524-4581-AEB9-CE95F3841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68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390335-A526-4897-82B7-1A558E9AA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74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D6F188-91B5-4D48-A4C7-73C2C33D58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80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E752CC-7656-43DF-BFDE-9067AFB41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86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54E915-5E05-4C63-82FD-3DD1C2A8E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92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CE059F-1222-4717-8171-461878A335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98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CC00B3-D1D3-4488-A6B1-E92F5DDE9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04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8AD5B9-A71F-48D7-AF2A-0A1038123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10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E2AC4F-1BD6-4318-ACBA-61BB546634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06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92C17B-64EE-467C-B788-9E3824982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16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EF6AE3-4666-42E7-A421-B9518342A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22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1FDA3C-C206-4B7F-AE51-B513D4678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28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DD0476-6A43-4DEC-863B-CC1CAB77EA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34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73F479-1CF2-4C62-A473-46CAC4CAC1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40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D69E4B-D7B4-40DA-9595-BBFB67EBC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46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10930B-1894-4B10-BF24-FF2FE2B86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52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3553A9-D9F8-465F-A747-9452DFCA5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58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58178E-C2B8-4EA4-B07D-3E922E7448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64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F0F4C0-E605-4213-9226-542B5149F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70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B2BCC9-9172-4D3F-BD4A-C74DE4E5D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12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7F60DC-45AC-4542-81AF-966F75ADDE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76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A28DCF-5178-4C68-9E74-75F2977CD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82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3C4237-4403-431D-90F2-F5E42B1D9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88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590A45-7689-42A4-BAB6-E56834F9A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94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2BF54F-8BF7-49F4-9C14-6547BAF6E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00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00F5D5-526E-4664-B617-6B217391B7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18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E0DBDF-C2FC-46A8-9021-8373F7B4E4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24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720F53-445D-4506-82D8-4E2A26E769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30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476760"/>
            <a:ext cx="5257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Palatino Linotype"/>
              </a:rPr>
              <a:t>Program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981840" y="6299280"/>
            <a:ext cx="2162160" cy="49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177840"/>
            <a:ext cx="7772400" cy="160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Programación de Proyec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1819440"/>
            <a:ext cx="3757320" cy="4733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495680" y="1913040"/>
            <a:ext cx="16765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19720" y="1871640"/>
            <a:ext cx="1861920" cy="1006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Garamond"/>
              </a:rPr>
              <a:t>Asumo que las cosas no han marchado segun lo planeado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46120" y="914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2360" y="1066680"/>
            <a:ext cx="57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Times New Roman"/>
              </a:rPr>
              <a:t>2.  </a:t>
            </a:r>
            <a:r>
              <a:rPr b="1" lang="es-CL" sz="2800" spc="-1" strike="noStrike">
                <a:solidFill>
                  <a:srgbClr val="990033"/>
                </a:solidFill>
                <a:latin typeface="Times New Roman"/>
              </a:rPr>
              <a:t>Después que el Proyecto Comenz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2198520"/>
            <a:ext cx="800100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Garamond"/>
              </a:rPr>
              <a:t>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Monitorea recurso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costos, calidad, y presupuestos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Revisar planes y mo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recursos para alcanzar me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de tiempo y 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70000"/>
              </a:lnSpc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70000"/>
              </a:lnSpc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70000"/>
              </a:lnSpc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495680" y="1600200"/>
            <a:ext cx="4472280" cy="36320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0760" y="139680"/>
            <a:ext cx="8559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Actividades de Gestión en un Pro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914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92240"/>
            <a:ext cx="886464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lanificación, Programación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61200" y="1295280"/>
            <a:ext cx="2490480" cy="1458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990033"/>
                </a:solidFill>
                <a:uFillTx/>
                <a:latin typeface="Arial Narrow"/>
              </a:rPr>
              <a:t>Project Plann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990033"/>
                </a:solidFill>
                <a:latin typeface="Arial Narrow"/>
              </a:rPr>
              <a:t>1.  Setting goa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990033"/>
                </a:solidFill>
                <a:latin typeface="Arial Narrow"/>
              </a:rPr>
              <a:t>2.  Defining the projec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990033"/>
                </a:solidFill>
                <a:latin typeface="Arial Narrow"/>
              </a:rPr>
              <a:t>3.  Tying needs into timed projec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990033"/>
                </a:solidFill>
                <a:latin typeface="Arial Narrow"/>
              </a:rPr>
              <a:t>     </a:t>
            </a:r>
            <a:r>
              <a:rPr b="0" lang="en-US" sz="1500" spc="-1" strike="noStrike">
                <a:solidFill>
                  <a:srgbClr val="990033"/>
                </a:solidFill>
                <a:latin typeface="Arial Narrow"/>
              </a:rPr>
              <a:t>activiti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990033"/>
                </a:solidFill>
                <a:latin typeface="Arial Narrow"/>
              </a:rPr>
              <a:t>4.  Organizing the tea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21880" y="2811600"/>
            <a:ext cx="2578680" cy="145836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000000"/>
                </a:solidFill>
                <a:uFillTx/>
                <a:latin typeface="Arial Narrow"/>
              </a:rPr>
              <a:t>Project Schedul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1.  Tying resources to specifi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activiti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2.  Relating activities to each o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3.  Updating and revising on 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regular ba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78520" y="1417680"/>
            <a:ext cx="2001240" cy="123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990033"/>
                </a:solidFill>
                <a:uFillTx/>
                <a:latin typeface="Arial Narrow"/>
              </a:rPr>
              <a:t>Time/cost estimat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990033"/>
                </a:solidFill>
                <a:latin typeface="Arial Narrow"/>
              </a:rPr>
              <a:t>Budge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990033"/>
                </a:solidFill>
                <a:latin typeface="Arial Narrow"/>
              </a:rPr>
              <a:t>Engineering diagram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990033"/>
                </a:solidFill>
                <a:latin typeface="Arial Narrow"/>
              </a:rPr>
              <a:t>Cash flow char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990033"/>
                </a:solidFill>
                <a:latin typeface="Arial Narrow"/>
              </a:rPr>
              <a:t>Material availability detai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222240" y="3051000"/>
            <a:ext cx="1615680" cy="100188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000000"/>
                </a:solidFill>
                <a:uFillTx/>
                <a:latin typeface="Arial Narrow"/>
              </a:rPr>
              <a:t>CPM/PER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Gantt char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Milestone char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Cash flow schedul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410560" y="4316400"/>
            <a:ext cx="2904840" cy="1230120"/>
          </a:xfrm>
          <a:prstGeom prst="rect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ffffff"/>
                </a:solidFill>
                <a:uFillTx/>
                <a:latin typeface="Arial Narrow"/>
              </a:rPr>
              <a:t>Project Controll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 Narrow"/>
              </a:rPr>
              <a:t>1.  Monitoring resources, costs, quality,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0" lang="en-US" sz="1500" spc="-1" strike="noStrike">
                <a:solidFill>
                  <a:srgbClr val="ffffff"/>
                </a:solidFill>
                <a:latin typeface="Arial Narrow"/>
              </a:rPr>
              <a:t>and budge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 Narrow"/>
              </a:rPr>
              <a:t>2.  Revising and changing pla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 Narrow"/>
              </a:rPr>
              <a:t>3.  Shifting resources to meet demand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059600" y="4440240"/>
            <a:ext cx="1417320" cy="1001880"/>
          </a:xfrm>
          <a:prstGeom prst="rect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ffffff"/>
                </a:solidFill>
                <a:uFillTx/>
                <a:latin typeface="Arial Narrow"/>
              </a:rPr>
              <a:t>Repor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Arial Narrow"/>
              </a:rPr>
              <a:t>budge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Arial Narrow"/>
              </a:rPr>
              <a:t>delayed activiti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Arial Narrow"/>
              </a:rPr>
              <a:t>slack activiti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19920" y="4863960"/>
            <a:ext cx="749160" cy="292320"/>
          </a:xfrm>
          <a:prstGeom prst="rightArrow">
            <a:avLst>
              <a:gd name="adj1" fmla="val 75000"/>
              <a:gd name="adj2" fmla="val 128152"/>
            </a:avLst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76640" y="1841400"/>
            <a:ext cx="749520" cy="292320"/>
          </a:xfrm>
          <a:prstGeom prst="rightArrow">
            <a:avLst>
              <a:gd name="adj1" fmla="val 75000"/>
              <a:gd name="adj2" fmla="val 128213"/>
            </a:avLst>
          </a:prstGeom>
          <a:solidFill>
            <a:srgbClr val="9900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05520" y="3432240"/>
            <a:ext cx="749160" cy="288720"/>
          </a:xfrm>
          <a:prstGeom prst="rightArrow">
            <a:avLst>
              <a:gd name="adj1" fmla="val 75000"/>
              <a:gd name="adj2" fmla="val 129750"/>
            </a:avLst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6600" y="5649840"/>
            <a:ext cx="1251360" cy="31716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Before Projec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611960" y="5653080"/>
            <a:ext cx="1261800" cy="31716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During Projec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25480" y="5608800"/>
            <a:ext cx="806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914400" y="1179360"/>
            <a:ext cx="7315200" cy="51451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-228600" y="139680"/>
            <a:ext cx="8991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Desafíos en la Gestión de Proyec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6120" y="914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99600" y="990720"/>
            <a:ext cx="645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Times New Roman"/>
              </a:rPr>
              <a:t>Preguntas que podemos responder usando C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1600200"/>
            <a:ext cx="7772400" cy="60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Esta el proyecto atrasado, adelantado o a tiemp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Si el proyecto debe terminar antes de lo planeado, cuál es la forma de reducir su duración al menor cos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Esta el proyecto sobre o bajo su presupues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Tenemos suficientes recursos para terminar el proyecto a tiemp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4040" y="914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69800" y="152280"/>
            <a:ext cx="63118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P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28600" y="30492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57200" y="1295280"/>
          <a:ext cx="8229600" cy="5076720"/>
        </p:xfrm>
        <a:graphic>
          <a:graphicData uri="http://schemas.openxmlformats.org/drawingml/2006/table">
            <a:tbl>
              <a:tblPr/>
              <a:tblGrid>
                <a:gridCol w="4470480"/>
                <a:gridCol w="2084400"/>
                <a:gridCol w="1674720"/>
              </a:tblGrid>
              <a:tr h="697680"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990033"/>
                          </a:solidFill>
                          <a:latin typeface="Arial Narrow"/>
                        </a:rPr>
                        <a:t>Activ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990033"/>
                      </a:solidFill>
                    </a:lnT>
                    <a:lnB w="1368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990033"/>
                          </a:solidFill>
                          <a:latin typeface="Arial Narrow"/>
                        </a:rPr>
                        <a:t>Duración Espera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990033"/>
                          </a:solidFill>
                          <a:latin typeface="Arial Narrow"/>
                        </a:rPr>
                        <a:t>(en mes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990033"/>
                      </a:solidFill>
                    </a:lnT>
                    <a:lnB w="1368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990033"/>
                          </a:solidFill>
                          <a:latin typeface="Arial Narrow"/>
                        </a:rPr>
                        <a:t>Predeces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990033"/>
                          </a:solidFill>
                          <a:latin typeface="Arial Narrow"/>
                        </a:rPr>
                        <a:t>Inmedia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990033"/>
                      </a:solidFill>
                    </a:lnT>
                    <a:lnB w="1368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 – Do preliminary market analy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00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00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0033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 – Develop preliminary product desig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 – Do preliminary manufacturing stu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 – Evaluate and select best product desig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,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 – Develop detailed marketing pl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 – Design manufacturing pro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 – Develop detailed product desig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H – Build and test prot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 – Finalize product desig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, 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J – Order compon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 – Order production equip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 – Install production equip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99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"/>
          <p:cNvSpPr/>
          <p:nvPr/>
        </p:nvSpPr>
        <p:spPr>
          <a:xfrm>
            <a:off x="554040" y="76212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13520" y="905040"/>
            <a:ext cx="71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8000"/>
                </a:solidFill>
                <a:latin typeface="Palatino Linotype"/>
              </a:rPr>
              <a:t>Proyecto de Desarrollo de una Mountain B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2280" y="-76320"/>
            <a:ext cx="815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División del Proyecto en Activida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90600" y="4572000"/>
            <a:ext cx="867708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La carta Gantt muestra el tiempo “mas temprano” de termino del proye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Pero, no indica cuales son las actividades “criticas” (es decir, retraso en estas actividades retrasaría todo el proyect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Tampoco indica cuales actividades (y cuanto) deben acelerase para terminar el proyecto en un plazo determin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828800" y="1143000"/>
            <a:ext cx="5276880" cy="34322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52280" y="22860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3333cc"/>
                </a:solidFill>
                <a:latin typeface="Times New Roman"/>
              </a:rPr>
              <a:t>Carta Gantt para el Proyecto Mountain Bik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54040" y="914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5800" y="0"/>
            <a:ext cx="777240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Grafo de Activida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54040" y="914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219320" y="1143000"/>
            <a:ext cx="6476760" cy="2271600"/>
            <a:chOff x="1219320" y="1143000"/>
            <a:chExt cx="6476760" cy="2271600"/>
          </a:xfrm>
        </p:grpSpPr>
        <p:sp>
          <p:nvSpPr>
            <p:cNvPr id="166" name=""/>
            <p:cNvSpPr/>
            <p:nvPr/>
          </p:nvSpPr>
          <p:spPr>
            <a:xfrm>
              <a:off x="2648160" y="2895480"/>
              <a:ext cx="3912840" cy="51912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008000"/>
                  </a:solidFill>
                  <a:latin typeface="Garamond"/>
                </a:rPr>
                <a:t>Actividad en el Nod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19320" y="1676520"/>
              <a:ext cx="1066680" cy="53316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aramond"/>
                </a:rPr>
                <a:t>Sta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124080" y="1143000"/>
              <a:ext cx="685800" cy="53352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aramond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52880" y="2133720"/>
              <a:ext cx="685800" cy="53316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aramond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52880" y="1143000"/>
              <a:ext cx="685800" cy="53352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aramond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81680" y="2133720"/>
              <a:ext cx="685800" cy="53316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aramond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29400" y="1600200"/>
              <a:ext cx="1066680" cy="53352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aramond"/>
                </a:rPr>
                <a:t>E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2286000" y="1371600"/>
              <a:ext cx="8380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86000" y="1981080"/>
              <a:ext cx="861840" cy="428760"/>
            </a:xfrm>
            <a:custGeom>
              <a:avLst/>
              <a:gdLst/>
              <a:ahLst/>
              <a:rect l="l" t="t" r="r" b="b"/>
              <a:pathLst>
                <a:path w="543" h="270">
                  <a:moveTo>
                    <a:pt x="0" y="0"/>
                  </a:moveTo>
                  <a:lnTo>
                    <a:pt x="543" y="27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809880" y="13716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835440" y="236844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638680" y="1371600"/>
              <a:ext cx="9907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5664240" y="1885680"/>
              <a:ext cx="9907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786120" y="1514520"/>
              <a:ext cx="1281240" cy="703080"/>
            </a:xfrm>
            <a:custGeom>
              <a:avLst/>
              <a:gdLst/>
              <a:ahLst/>
              <a:rect l="l" t="t" r="r" b="b"/>
              <a:pathLst>
                <a:path w="807" h="443">
                  <a:moveTo>
                    <a:pt x="0" y="0"/>
                  </a:moveTo>
                  <a:lnTo>
                    <a:pt x="807" y="44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295280" y="3962520"/>
            <a:ext cx="6477120" cy="2452680"/>
            <a:chOff x="1295280" y="3962520"/>
            <a:chExt cx="6477120" cy="2452680"/>
          </a:xfrm>
        </p:grpSpPr>
        <p:sp>
          <p:nvSpPr>
            <p:cNvPr id="181" name=""/>
            <p:cNvSpPr/>
            <p:nvPr/>
          </p:nvSpPr>
          <p:spPr>
            <a:xfrm>
              <a:off x="2460240" y="4229280"/>
              <a:ext cx="415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Palatino Linotype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926440" y="5896080"/>
              <a:ext cx="3824280" cy="51912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008000"/>
                  </a:solidFill>
                  <a:latin typeface="Garamond"/>
                </a:rPr>
                <a:t>Actividad en el Arc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295280" y="4648320"/>
              <a:ext cx="1067040" cy="53316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aramond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200400" y="4114800"/>
              <a:ext cx="685800" cy="53352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aramond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228840" y="5105520"/>
              <a:ext cx="685800" cy="53316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aramond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029200" y="4114800"/>
              <a:ext cx="685800" cy="53352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aramond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57640" y="5105520"/>
              <a:ext cx="685800" cy="53316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aramond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05720" y="4572000"/>
              <a:ext cx="1066680" cy="53352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aramond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2362320" y="4343400"/>
              <a:ext cx="8380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362320" y="4952880"/>
              <a:ext cx="861840" cy="428760"/>
            </a:xfrm>
            <a:custGeom>
              <a:avLst/>
              <a:gdLst/>
              <a:ahLst/>
              <a:rect l="l" t="t" r="r" b="b"/>
              <a:pathLst>
                <a:path w="543" h="270">
                  <a:moveTo>
                    <a:pt x="0" y="0"/>
                  </a:moveTo>
                  <a:lnTo>
                    <a:pt x="543" y="27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86200" y="43434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911760" y="534024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715000" y="4343400"/>
              <a:ext cx="99072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5740560" y="4857480"/>
              <a:ext cx="990360" cy="533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513160" y="5105520"/>
              <a:ext cx="389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Palatino Linotype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198680" y="3962520"/>
              <a:ext cx="389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Palatino Linotype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200840" y="4952880"/>
              <a:ext cx="418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Palatino Linotype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543480" y="46483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114800" y="4952880"/>
            <a:ext cx="1066680" cy="5335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Ini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486400" y="4343400"/>
            <a:ext cx="685800" cy="5335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A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86400" y="5562720"/>
            <a:ext cx="685800" cy="5331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B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705720" y="4343400"/>
            <a:ext cx="685800" cy="5335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C(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724800" y="5572080"/>
            <a:ext cx="685800" cy="5335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D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848720" y="5029200"/>
            <a:ext cx="1066680" cy="5335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54040" y="914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Tiempos Fundamentales en un Graf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1143000"/>
            <a:ext cx="6782040" cy="34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Para cada actividad identificamos seis tiemp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99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00"/>
                </a:solidFill>
                <a:latin typeface="Garamond"/>
              </a:rPr>
              <a:t>D: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Du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99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00"/>
                </a:solidFill>
                <a:latin typeface="Garamond"/>
              </a:rPr>
              <a:t>ES: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Comienzo mas Tempr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99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00"/>
                </a:solidFill>
                <a:latin typeface="Garamond"/>
              </a:rPr>
              <a:t>EF: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Termino mas Temprano (EF = ES +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99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00"/>
                </a:solidFill>
                <a:latin typeface="Garamond"/>
              </a:rPr>
              <a:t>LF: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Termino mas Ta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99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00"/>
                </a:solidFill>
                <a:latin typeface="Garamond"/>
              </a:rPr>
              <a:t>LS: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Comienzo mas Tarde (LS = LF – 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99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00"/>
                </a:solidFill>
                <a:latin typeface="Garamond"/>
              </a:rPr>
              <a:t>ST : Holgura.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Máximo tiempo que una actividad puede retrasarse sin aumentar la duración del proyecto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ST = LS – ES = LF – E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99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7391520" y="1371600"/>
            <a:ext cx="1066680" cy="1371600"/>
            <a:chOff x="7391520" y="1371600"/>
            <a:chExt cx="1066680" cy="1371600"/>
          </a:xfrm>
        </p:grpSpPr>
        <p:sp>
          <p:nvSpPr>
            <p:cNvPr id="209" name=""/>
            <p:cNvSpPr/>
            <p:nvPr/>
          </p:nvSpPr>
          <p:spPr>
            <a:xfrm>
              <a:off x="7534440" y="2133360"/>
              <a:ext cx="762120" cy="60984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(D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915320" y="13716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91520" y="175248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457400" y="1374480"/>
              <a:ext cx="46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00"/>
                  </a:solidFill>
                  <a:latin typeface="Garamond"/>
                </a:rPr>
                <a:t>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965720" y="139068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00"/>
                  </a:solidFill>
                  <a:latin typeface="Garamond"/>
                </a:rPr>
                <a:t>E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39040" y="1785960"/>
              <a:ext cx="46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00"/>
                  </a:solidFill>
                  <a:latin typeface="Garamond"/>
                </a:rPr>
                <a:t>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947720" y="176364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00"/>
                  </a:solidFill>
                  <a:latin typeface="Garamond"/>
                </a:rPr>
                <a:t>L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28600" y="4513320"/>
            <a:ext cx="3809880" cy="12016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 flipV="1">
            <a:off x="5181480" y="480060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38640" y="53341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72200" y="46101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172200" y="5843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391520" y="4633920"/>
            <a:ext cx="5331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00880" y="5457960"/>
            <a:ext cx="528840" cy="323640"/>
          </a:xfrm>
          <a:custGeom>
            <a:avLst/>
            <a:gdLst/>
            <a:ahLst/>
            <a:rect l="l" t="t" r="r" b="b"/>
            <a:pathLst>
              <a:path w="333" h="204">
                <a:moveTo>
                  <a:pt x="0" y="204"/>
                </a:moveTo>
                <a:lnTo>
                  <a:pt x="33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124680" y="4743360"/>
            <a:ext cx="671400" cy="924120"/>
          </a:xfrm>
          <a:custGeom>
            <a:avLst/>
            <a:gdLst/>
            <a:ahLst/>
            <a:rect l="l" t="t" r="r" b="b"/>
            <a:pathLst>
              <a:path w="423" h="582">
                <a:moveTo>
                  <a:pt x="0" y="0"/>
                </a:moveTo>
                <a:lnTo>
                  <a:pt x="423" y="58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57960" y="3786120"/>
            <a:ext cx="685800" cy="533160"/>
            <a:chOff x="5457960" y="3786120"/>
            <a:chExt cx="685800" cy="533160"/>
          </a:xfrm>
        </p:grpSpPr>
        <p:sp>
          <p:nvSpPr>
            <p:cNvPr id="225" name=""/>
            <p:cNvSpPr/>
            <p:nvPr/>
          </p:nvSpPr>
          <p:spPr>
            <a:xfrm>
              <a:off x="5791320" y="37861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457960" y="40669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6705720" y="3786120"/>
            <a:ext cx="685800" cy="533160"/>
            <a:chOff x="6705720" y="3786120"/>
            <a:chExt cx="685800" cy="533160"/>
          </a:xfrm>
        </p:grpSpPr>
        <p:sp>
          <p:nvSpPr>
            <p:cNvPr id="228" name=""/>
            <p:cNvSpPr/>
            <p:nvPr/>
          </p:nvSpPr>
          <p:spPr>
            <a:xfrm>
              <a:off x="7039080" y="37861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05720" y="40669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486400" y="6172200"/>
            <a:ext cx="685800" cy="533160"/>
            <a:chOff x="5486400" y="6172200"/>
            <a:chExt cx="685800" cy="533160"/>
          </a:xfrm>
        </p:grpSpPr>
        <p:sp>
          <p:nvSpPr>
            <p:cNvPr id="231" name=""/>
            <p:cNvSpPr/>
            <p:nvPr/>
          </p:nvSpPr>
          <p:spPr>
            <a:xfrm>
              <a:off x="5819760" y="617220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486400" y="6453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6734160" y="6172200"/>
            <a:ext cx="685800" cy="533160"/>
            <a:chOff x="6734160" y="6172200"/>
            <a:chExt cx="685800" cy="533160"/>
          </a:xfrm>
        </p:grpSpPr>
        <p:sp>
          <p:nvSpPr>
            <p:cNvPr id="234" name=""/>
            <p:cNvSpPr/>
            <p:nvPr/>
          </p:nvSpPr>
          <p:spPr>
            <a:xfrm>
              <a:off x="7067520" y="617220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734160" y="6453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4300560" y="4386240"/>
            <a:ext cx="685800" cy="533160"/>
            <a:chOff x="4300560" y="4386240"/>
            <a:chExt cx="685800" cy="533160"/>
          </a:xfrm>
        </p:grpSpPr>
        <p:sp>
          <p:nvSpPr>
            <p:cNvPr id="237" name=""/>
            <p:cNvSpPr/>
            <p:nvPr/>
          </p:nvSpPr>
          <p:spPr>
            <a:xfrm>
              <a:off x="4633920" y="43862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300560" y="46670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8029440" y="4438800"/>
            <a:ext cx="685800" cy="533160"/>
            <a:chOff x="8029440" y="4438800"/>
            <a:chExt cx="685800" cy="533160"/>
          </a:xfrm>
        </p:grpSpPr>
        <p:sp>
          <p:nvSpPr>
            <p:cNvPr id="240" name=""/>
            <p:cNvSpPr/>
            <p:nvPr/>
          </p:nvSpPr>
          <p:spPr>
            <a:xfrm>
              <a:off x="8362800" y="443880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029440" y="47196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170640" y="4038480"/>
            <a:ext cx="15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00"/>
                </a:solidFill>
                <a:latin typeface="Palatino Linotype"/>
              </a:rPr>
              <a:t>Ejemplo</a:t>
            </a:r>
            <a:r>
              <a:rPr b="1" lang="en-US" sz="2400" spc="-1" strike="noStrike">
                <a:solidFill>
                  <a:srgbClr val="990000"/>
                </a:solidFill>
                <a:latin typeface="Palatino Linotype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609480" y="78732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480" y="65160"/>
            <a:ext cx="64771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ritical Path Method (CPM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590920" y="1397160"/>
            <a:ext cx="3267000" cy="21492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577080" y="838080"/>
            <a:ext cx="539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Palatino Linotype"/>
              </a:rPr>
              <a:t>Ejemplo: FCN Securities Demo 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295280" y="4191120"/>
            <a:ext cx="7010640" cy="2063520"/>
            <a:chOff x="1295280" y="4191120"/>
            <a:chExt cx="7010640" cy="2063520"/>
          </a:xfrm>
        </p:grpSpPr>
        <p:sp>
          <p:nvSpPr>
            <p:cNvPr id="248" name=""/>
            <p:cNvSpPr/>
            <p:nvPr/>
          </p:nvSpPr>
          <p:spPr>
            <a:xfrm>
              <a:off x="1295280" y="4940280"/>
              <a:ext cx="5335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A(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52760" y="4191120"/>
              <a:ext cx="5335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B(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09880" y="4191120"/>
              <a:ext cx="5335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C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514600" y="4933800"/>
              <a:ext cx="5335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E(4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514600" y="5778360"/>
              <a:ext cx="5335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H(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073480" y="4191120"/>
              <a:ext cx="5335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D(4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349880" y="4952880"/>
              <a:ext cx="5331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F(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959360" y="5797440"/>
              <a:ext cx="5335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I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172200" y="4952880"/>
              <a:ext cx="5335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G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543800" y="4927680"/>
              <a:ext cx="762120" cy="533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758960" y="4489560"/>
              <a:ext cx="806400" cy="514080"/>
            </a:xfrm>
            <a:custGeom>
              <a:avLst/>
              <a:gdLst/>
              <a:ahLst/>
              <a:rect l="l" t="t" r="r" b="b"/>
              <a:pathLst>
                <a:path w="508" h="324">
                  <a:moveTo>
                    <a:pt x="0" y="324"/>
                  </a:moveTo>
                  <a:lnTo>
                    <a:pt x="50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828800" y="5181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52480" y="5334120"/>
              <a:ext cx="787680" cy="583920"/>
            </a:xfrm>
            <a:custGeom>
              <a:avLst/>
              <a:gdLst/>
              <a:ahLst/>
              <a:rect l="l" t="t" r="r" b="b"/>
              <a:pathLst>
                <a:path w="496" h="368">
                  <a:moveTo>
                    <a:pt x="0" y="0"/>
                  </a:moveTo>
                  <a:lnTo>
                    <a:pt x="496" y="36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086280" y="4419720"/>
              <a:ext cx="723600" cy="1440"/>
            </a:xfrm>
            <a:custGeom>
              <a:avLst/>
              <a:gdLst/>
              <a:ahLst/>
              <a:rect l="l" t="t" r="r" b="b"/>
              <a:pathLst>
                <a:path w="456" h="1">
                  <a:moveTo>
                    <a:pt x="0" y="0"/>
                  </a:moveTo>
                  <a:lnTo>
                    <a:pt x="456" y="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343400" y="4419720"/>
              <a:ext cx="723960" cy="1440"/>
            </a:xfrm>
            <a:custGeom>
              <a:avLst/>
              <a:gdLst/>
              <a:ahLst/>
              <a:rect l="l" t="t" r="r" b="b"/>
              <a:pathLst>
                <a:path w="456" h="1">
                  <a:moveTo>
                    <a:pt x="0" y="0"/>
                  </a:moveTo>
                  <a:lnTo>
                    <a:pt x="456" y="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048120" y="51814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76920" y="51814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048120" y="6026040"/>
              <a:ext cx="19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568840" y="4527720"/>
              <a:ext cx="679680" cy="501480"/>
            </a:xfrm>
            <a:custGeom>
              <a:avLst/>
              <a:gdLst/>
              <a:ahLst/>
              <a:rect l="l" t="t" r="r" b="b"/>
              <a:pathLst>
                <a:path w="428" h="316">
                  <a:moveTo>
                    <a:pt x="0" y="0"/>
                  </a:moveTo>
                  <a:lnTo>
                    <a:pt x="428" y="31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705720" y="519444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5486400" y="5333760"/>
              <a:ext cx="21337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1353960" y="3760920"/>
            <a:ext cx="5334120" cy="2617560"/>
            <a:chOff x="1353960" y="3760920"/>
            <a:chExt cx="5334120" cy="2617560"/>
          </a:xfrm>
        </p:grpSpPr>
        <p:sp>
          <p:nvSpPr>
            <p:cNvPr id="270" name=""/>
            <p:cNvSpPr/>
            <p:nvPr/>
          </p:nvSpPr>
          <p:spPr>
            <a:xfrm>
              <a:off x="2814480" y="3773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595600" y="397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573200" y="4473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353960" y="4673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087800" y="37609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868560" y="3960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307120" y="37609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087880" y="3960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249720" y="47023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030480" y="4902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078520" y="47023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859280" y="4902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325680" y="5589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106800" y="5789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840280" y="5997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621400" y="61977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450120" y="4473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230880" y="4673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1279080" y="3870360"/>
            <a:ext cx="5553000" cy="2608200"/>
            <a:chOff x="1279080" y="3870360"/>
            <a:chExt cx="5553000" cy="2608200"/>
          </a:xfrm>
        </p:grpSpPr>
        <p:sp>
          <p:nvSpPr>
            <p:cNvPr id="289" name=""/>
            <p:cNvSpPr/>
            <p:nvPr/>
          </p:nvSpPr>
          <p:spPr>
            <a:xfrm>
              <a:off x="2520720" y="388296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69840" y="388620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279080" y="458316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528560" y="458640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793680" y="387036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043160" y="387360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013000" y="387036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252400" y="387360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955600" y="481176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204720" y="481500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784400" y="481176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023800" y="481500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031920" y="569916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270960" y="570240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488920" y="610704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785560" y="611028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106320" y="458316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395400" y="458640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1274400" y="3657600"/>
            <a:ext cx="7856640" cy="2608200"/>
            <a:chOff x="1274400" y="3657600"/>
            <a:chExt cx="7856640" cy="2608200"/>
          </a:xfrm>
        </p:grpSpPr>
        <p:sp>
          <p:nvSpPr>
            <p:cNvPr id="308" name=""/>
            <p:cNvSpPr/>
            <p:nvPr/>
          </p:nvSpPr>
          <p:spPr>
            <a:xfrm>
              <a:off x="2515680" y="367020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65160" y="367344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274400" y="437040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523520" y="437364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789000" y="365760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038120" y="366084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008320" y="365760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247360" y="366084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950920" y="459900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200040" y="460224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779720" y="459900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018760" y="460224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026880" y="548640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276360" y="548964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541480" y="589428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790960" y="589752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103080" y="437040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390360" y="437364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196400" y="4484520"/>
              <a:ext cx="193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8000"/>
                  </a:solidFill>
                  <a:latin typeface="Garamond"/>
                </a:rPr>
                <a:t>Duración</a:t>
              </a:r>
              <a:r>
                <a:rPr b="1" lang="en-US" sz="2000" spc="-1" strike="noStrike">
                  <a:solidFill>
                    <a:srgbClr val="008000"/>
                  </a:solidFill>
                  <a:latin typeface="Garamond"/>
                </a:rPr>
                <a:t> = 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1295280" y="4191120"/>
            <a:ext cx="7010640" cy="2063520"/>
            <a:chOff x="1295280" y="4191120"/>
            <a:chExt cx="7010640" cy="2063520"/>
          </a:xfrm>
        </p:grpSpPr>
        <p:sp>
          <p:nvSpPr>
            <p:cNvPr id="328" name=""/>
            <p:cNvSpPr/>
            <p:nvPr/>
          </p:nvSpPr>
          <p:spPr>
            <a:xfrm>
              <a:off x="1295280" y="4940280"/>
              <a:ext cx="533520" cy="457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A(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552760" y="4191120"/>
              <a:ext cx="533520" cy="457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B(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809880" y="4191120"/>
              <a:ext cx="533520" cy="457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C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514600" y="4933800"/>
              <a:ext cx="533520" cy="457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E(4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514600" y="5778360"/>
              <a:ext cx="5335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H(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73480" y="4191120"/>
              <a:ext cx="533520" cy="457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D(4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349880" y="4952880"/>
              <a:ext cx="533160" cy="457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F(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959360" y="5797440"/>
              <a:ext cx="5335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I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172200" y="4952880"/>
              <a:ext cx="533520" cy="457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G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543800" y="4927680"/>
              <a:ext cx="762120" cy="5331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758960" y="4489560"/>
              <a:ext cx="806400" cy="514080"/>
            </a:xfrm>
            <a:custGeom>
              <a:avLst/>
              <a:gdLst/>
              <a:ahLst/>
              <a:rect l="l" t="t" r="r" b="b"/>
              <a:pathLst>
                <a:path w="508" h="324">
                  <a:moveTo>
                    <a:pt x="0" y="324"/>
                  </a:moveTo>
                  <a:lnTo>
                    <a:pt x="508" y="0"/>
                  </a:lnTo>
                </a:path>
              </a:pathLst>
            </a:custGeom>
            <a:noFill/>
            <a:ln w="38160">
              <a:solidFill>
                <a:srgbClr val="8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828800" y="5181480"/>
              <a:ext cx="6858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752480" y="5334120"/>
              <a:ext cx="787680" cy="583920"/>
            </a:xfrm>
            <a:custGeom>
              <a:avLst/>
              <a:gdLst/>
              <a:ahLst/>
              <a:rect l="l" t="t" r="r" b="b"/>
              <a:pathLst>
                <a:path w="496" h="368">
                  <a:moveTo>
                    <a:pt x="0" y="0"/>
                  </a:moveTo>
                  <a:lnTo>
                    <a:pt x="496" y="36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086280" y="4419720"/>
              <a:ext cx="723600" cy="1440"/>
            </a:xfrm>
            <a:custGeom>
              <a:avLst/>
              <a:gdLst/>
              <a:ahLst/>
              <a:rect l="l" t="t" r="r" b="b"/>
              <a:pathLst>
                <a:path w="456" h="1">
                  <a:moveTo>
                    <a:pt x="0" y="0"/>
                  </a:moveTo>
                  <a:lnTo>
                    <a:pt x="456" y="1"/>
                  </a:lnTo>
                </a:path>
              </a:pathLst>
            </a:custGeom>
            <a:noFill/>
            <a:ln w="38160">
              <a:solidFill>
                <a:srgbClr val="8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343400" y="4419720"/>
              <a:ext cx="723960" cy="1440"/>
            </a:xfrm>
            <a:custGeom>
              <a:avLst/>
              <a:gdLst/>
              <a:ahLst/>
              <a:rect l="l" t="t" r="r" b="b"/>
              <a:pathLst>
                <a:path w="456" h="1">
                  <a:moveTo>
                    <a:pt x="0" y="0"/>
                  </a:moveTo>
                  <a:lnTo>
                    <a:pt x="456" y="1"/>
                  </a:lnTo>
                </a:path>
              </a:pathLst>
            </a:custGeom>
            <a:noFill/>
            <a:ln w="38160">
              <a:solidFill>
                <a:srgbClr val="8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048120" y="5181480"/>
              <a:ext cx="129528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76920" y="5181480"/>
              <a:ext cx="129528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048120" y="6026040"/>
              <a:ext cx="19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568840" y="4527720"/>
              <a:ext cx="679680" cy="501480"/>
            </a:xfrm>
            <a:custGeom>
              <a:avLst/>
              <a:gdLst/>
              <a:ahLst/>
              <a:rect l="l" t="t" r="r" b="b"/>
              <a:pathLst>
                <a:path w="428" h="316">
                  <a:moveTo>
                    <a:pt x="0" y="0"/>
                  </a:moveTo>
                  <a:lnTo>
                    <a:pt x="428" y="316"/>
                  </a:lnTo>
                </a:path>
              </a:pathLst>
            </a:custGeom>
            <a:noFill/>
            <a:ln w="38160">
              <a:solidFill>
                <a:srgbClr val="8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705720" y="5194440"/>
              <a:ext cx="83808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5486400" y="5333760"/>
              <a:ext cx="21337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1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244440" y="152280"/>
            <a:ext cx="8594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Grafo Proyecto Mountain Bi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0880" y="838080"/>
            <a:ext cx="8382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5680" y="152280"/>
            <a:ext cx="24638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2244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1287360"/>
            <a:ext cx="8076960" cy="53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Técnicas de Gestión de Proye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Definición de Activ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Critical Path Method (CP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Frontera Eficiente: Costo vs. D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Evaluación de Proye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Gestión de Presu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V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Control de Incertidumb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Garamond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Performance Evaluation Review Technique (PE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396720" y="19080"/>
            <a:ext cx="7527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Resumen de Método CP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54040" y="70488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09480" y="801720"/>
            <a:ext cx="7772400" cy="64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Garamond"/>
              </a:rPr>
              <a:t>Seis </a:t>
            </a:r>
            <a:r>
              <a:rPr b="1" i="1" lang="es-CL" sz="2800" spc="-1" strike="noStrike">
                <a:solidFill>
                  <a:srgbClr val="990033"/>
                </a:solidFill>
                <a:latin typeface="Garamond"/>
              </a:rPr>
              <a:t>tiempos</a:t>
            </a:r>
            <a:r>
              <a:rPr b="1" lang="es-CL" sz="2800" spc="-1" strike="noStrike">
                <a:solidFill>
                  <a:srgbClr val="000000"/>
                </a:solidFill>
                <a:latin typeface="Garamond"/>
              </a:rPr>
              <a:t> importantes para cad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Du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ES, EF: Inicio y Término mas tempr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LS, LF: Inicio y Término mas ta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ST: Holgu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000000"/>
                </a:solidFill>
                <a:uFillTx/>
                <a:latin typeface="Garamond"/>
              </a:rPr>
              <a:t>Paso “Forwar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876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000000"/>
                </a:solidFill>
                <a:uFillTx/>
                <a:latin typeface="Garamond"/>
              </a:rPr>
              <a:t>Paso “Backwar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Garamond"/>
              </a:rPr>
              <a:t>Actividades Criticas y Caminos Crit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Holgura: ST = LF-EF =LS-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ST es cero para las actividades critic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838080" y="3133800"/>
                <a:ext cx="762012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S 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 para </m:t>
                              </m:r>
                              <m:r>
                                <m:t xml:space="preserve">Nodo</m:t>
                              </m:r>
                              <m:r>
                                <m:t xml:space="preserve">Inicio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,  sino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ax</m:t>
                              </m:r>
                              <m:d>
                                <m:dPr>
                                  <m:begChr m:val="{"/>
                                  <m:endChr m:val="}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F para todas actividades predecesoras</m:t>
                                  </m:r>
                                </m:e>
                              </m:d>
                              <m:r>
                                <m:rPr>
                                  <m:lit/>
                                  <m:nor/>
                                </m:rPr>
                                <m:t xml:space="preserve">  </m:t>
                              </m:r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  &amp;   EF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ES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914400" y="4495680"/>
                <a:ext cx="685944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F 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EF    for </m:t>
                              </m:r>
                              <m:r>
                                <m:t xml:space="preserve">Nodo</m:t>
                              </m:r>
                              <m:r>
                                <m:t xml:space="preserve">Fin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,   sino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in</m:t>
                              </m:r>
                              <m:d>
                                <m:dPr>
                                  <m:begChr m:val="{"/>
                                  <m:endChr m:val="}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LS de todas las actividades sucesoras</m:t>
                                  </m:r>
                                </m:e>
                              </m:d>
                              <m:r>
                                <m:rPr>
                                  <m:lit/>
                                  <m:nor/>
                                </m:rPr>
                                <m:t xml:space="preserve">  </m:t>
                              </m:r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  &amp;   LS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LF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685800" y="228600"/>
            <a:ext cx="7772400" cy="160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Frontera Eficiente:</a:t>
            </a:r>
            <a:br>
              <a:rPr sz="4400"/>
            </a:b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Costos versus Dur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1560600" y="1987560"/>
            <a:ext cx="5830920" cy="41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533520" y="1143000"/>
            <a:ext cx="8153280" cy="48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990033"/>
                </a:solidFill>
                <a:latin typeface="Garamond"/>
              </a:rPr>
              <a:t>“</a:t>
            </a:r>
            <a:r>
              <a:rPr b="1" lang="es-CL" sz="2800" spc="-1" strike="noStrike">
                <a:solidFill>
                  <a:srgbClr val="990033"/>
                </a:solidFill>
                <a:latin typeface="Garamond"/>
              </a:rPr>
              <a:t>Crashing”:</a:t>
            </a:r>
            <a:r>
              <a:rPr b="1" lang="es-CL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Reducir la duración del proyecto asignando más recursos a una o mas actividades crit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990033"/>
                </a:solidFill>
                <a:latin typeface="Garamond"/>
              </a:rPr>
              <a:t>Información</a:t>
            </a:r>
            <a:r>
              <a:rPr b="1" lang="es-CL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Requerida para análisis Tiempo/Co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00"/>
                </a:solidFill>
                <a:uFillTx/>
                <a:latin typeface="Garamond"/>
              </a:rPr>
              <a:t>Estimación de Duración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s-CL" sz="2400" spc="-1" strike="noStrike" u="sng">
                <a:solidFill>
                  <a:srgbClr val="000000"/>
                </a:solidFill>
                <a:uFillTx/>
                <a:latin typeface="Garamond"/>
              </a:rPr>
              <a:t>Estimación de 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Duración Normal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     Costo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Duración Mínima (Crash)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     Costo Máximo (Cras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990720" y="5245200"/>
          <a:ext cx="746748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5245200"/>
                    <a:ext cx="746748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"/>
          <p:cNvSpPr/>
          <p:nvPr/>
        </p:nvSpPr>
        <p:spPr>
          <a:xfrm>
            <a:off x="762120" y="5105520"/>
            <a:ext cx="7848360" cy="1066680"/>
          </a:xfrm>
          <a:prstGeom prst="rect">
            <a:avLst/>
          </a:prstGeom>
          <a:noFill/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54040" y="914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57200" y="228600"/>
            <a:ext cx="78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cc"/>
                </a:solidFill>
                <a:latin typeface="Times New Roman"/>
              </a:rPr>
              <a:t>Relación Tiempo/Costo en un Proye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2676600" y="2225520"/>
            <a:ext cx="3476520" cy="2425680"/>
          </a:xfrm>
          <a:custGeom>
            <a:avLst/>
            <a:gdLst/>
            <a:ahLst/>
            <a:rect l="l" t="t" r="r" b="b"/>
            <a:pathLst>
              <a:path w="2190" h="1528">
                <a:moveTo>
                  <a:pt x="0" y="0"/>
                </a:moveTo>
                <a:lnTo>
                  <a:pt x="2190" y="1528"/>
                </a:ln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54040" y="914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030400" y="5168880"/>
            <a:ext cx="134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Garamond"/>
              </a:rPr>
              <a:t>Cra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Garamond"/>
              </a:rPr>
              <a:t>D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679840" y="50482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503680" y="5172120"/>
            <a:ext cx="134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Garamond"/>
              </a:rPr>
              <a:t>N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Garamond"/>
              </a:rPr>
              <a:t>D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153120" y="5051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240320" y="5181480"/>
            <a:ext cx="12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ura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ctiv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019880" y="1162080"/>
            <a:ext cx="25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osto de la Activ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781280" y="51246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1857240" y="152388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781280" y="4648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90480" y="4419720"/>
            <a:ext cx="116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Garamond"/>
              </a:rPr>
              <a:t>N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Garamond"/>
              </a:rPr>
              <a:t>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81280" y="2225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07840" y="1996920"/>
            <a:ext cx="929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Garamond"/>
              </a:rPr>
              <a:t>Cra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Garamond"/>
              </a:rPr>
              <a:t>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676600" y="2222640"/>
            <a:ext cx="1440" cy="2806560"/>
          </a:xfrm>
          <a:custGeom>
            <a:avLst/>
            <a:gdLst/>
            <a:ahLst/>
            <a:rect l="l" t="t" r="r" b="b"/>
            <a:pathLst>
              <a:path w="1" h="1768">
                <a:moveTo>
                  <a:pt x="0" y="1768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933560" y="2225520"/>
            <a:ext cx="739800" cy="1800"/>
          </a:xfrm>
          <a:custGeom>
            <a:avLst/>
            <a:gdLst/>
            <a:ahLst/>
            <a:rect l="l" t="t" r="r" b="b"/>
            <a:pathLst>
              <a:path w="466" h="1">
                <a:moveTo>
                  <a:pt x="0" y="0"/>
                </a:moveTo>
                <a:lnTo>
                  <a:pt x="466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641680" y="21906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33560" y="46483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6153120" y="4648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114960" y="461952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228600"/>
            <a:ext cx="78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cc"/>
                </a:solidFill>
                <a:latin typeface="Times New Roman"/>
              </a:rPr>
              <a:t>Relación Tiempo/Costo en un Proye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 flipH="1" flipV="1">
            <a:off x="5285880" y="4495680"/>
            <a:ext cx="685800" cy="15264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 flipV="1">
            <a:off x="4142880" y="4038480"/>
            <a:ext cx="1143000" cy="45720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 flipV="1">
            <a:off x="3228840" y="3428640"/>
            <a:ext cx="914400" cy="60948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529000" y="2224080"/>
            <a:ext cx="285480" cy="747720"/>
          </a:xfrm>
          <a:custGeom>
            <a:avLst/>
            <a:gdLst/>
            <a:ahLst/>
            <a:rect l="l" t="t" r="r" b="b"/>
            <a:pathLst>
              <a:path w="180" h="471">
                <a:moveTo>
                  <a:pt x="180" y="4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54040" y="914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878120" y="5168880"/>
            <a:ext cx="134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Garamond"/>
              </a:rPr>
              <a:t>Cra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Garamond"/>
              </a:rPr>
              <a:t>D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27200" y="50482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351400" y="5172120"/>
            <a:ext cx="134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Garamond"/>
              </a:rPr>
              <a:t>N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Garamond"/>
              </a:rPr>
              <a:t>D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000840" y="5051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069680" y="5170320"/>
            <a:ext cx="14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Garamond"/>
              </a:rPr>
              <a:t>Dur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Garamond"/>
              </a:rPr>
              <a:t>Ac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85080" y="1231920"/>
            <a:ext cx="26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Garamond"/>
              </a:rPr>
              <a:t>Costo de la Activ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628640" y="51246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1704960" y="152388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628640" y="46483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38200" y="4419720"/>
            <a:ext cx="116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Garamond"/>
              </a:rPr>
              <a:t>N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Garamond"/>
              </a:rPr>
              <a:t>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628640" y="22255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55560" y="1996920"/>
            <a:ext cx="929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Garamond"/>
              </a:rPr>
              <a:t>Cra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Garamond"/>
              </a:rPr>
              <a:t>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523960" y="2222640"/>
            <a:ext cx="1800" cy="2806560"/>
          </a:xfrm>
          <a:custGeom>
            <a:avLst/>
            <a:gdLst/>
            <a:ahLst/>
            <a:rect l="l" t="t" r="r" b="b"/>
            <a:pathLst>
              <a:path w="1" h="1768">
                <a:moveTo>
                  <a:pt x="0" y="1768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781280" y="2225520"/>
            <a:ext cx="739800" cy="1800"/>
          </a:xfrm>
          <a:custGeom>
            <a:avLst/>
            <a:gdLst/>
            <a:ahLst/>
            <a:rect l="l" t="t" r="r" b="b"/>
            <a:pathLst>
              <a:path w="466" h="1">
                <a:moveTo>
                  <a:pt x="0" y="0"/>
                </a:moveTo>
                <a:lnTo>
                  <a:pt x="466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489040" y="21906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781280" y="4648320"/>
            <a:ext cx="41907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6000840" y="4648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962680" y="461952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173480" y="2057400"/>
            <a:ext cx="264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8000"/>
                </a:solidFill>
                <a:latin typeface="Palatino Linotype"/>
              </a:rPr>
              <a:t>Fronte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8000"/>
                </a:solidFill>
                <a:latin typeface="Palatino Linotype"/>
              </a:rPr>
              <a:t>Pareto Efic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402000" y="2514600"/>
            <a:ext cx="838080" cy="990720"/>
          </a:xfrm>
          <a:custGeom>
            <a:avLst/>
            <a:gdLst/>
            <a:ahLst/>
            <a:rect l="l" t="t" r="r" b="b"/>
            <a:pathLst>
              <a:path w="528" h="624">
                <a:moveTo>
                  <a:pt x="528" y="0"/>
                </a:moveTo>
                <a:cubicBezTo>
                  <a:pt x="320" y="36"/>
                  <a:pt x="112" y="72"/>
                  <a:pt x="96" y="144"/>
                </a:cubicBezTo>
                <a:cubicBezTo>
                  <a:pt x="80" y="216"/>
                  <a:pt x="448" y="352"/>
                  <a:pt x="432" y="432"/>
                </a:cubicBezTo>
                <a:cubicBezTo>
                  <a:pt x="416" y="512"/>
                  <a:pt x="72" y="592"/>
                  <a:pt x="0" y="624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809800" y="2962440"/>
            <a:ext cx="419040" cy="466560"/>
          </a:xfrm>
          <a:custGeom>
            <a:avLst/>
            <a:gdLst/>
            <a:ahLst/>
            <a:rect l="l" t="t" r="r" b="b"/>
            <a:pathLst>
              <a:path w="264" h="294">
                <a:moveTo>
                  <a:pt x="0" y="0"/>
                </a:moveTo>
                <a:lnTo>
                  <a:pt x="264" y="294"/>
                </a:lnTo>
              </a:path>
            </a:pathLst>
          </a:custGeom>
          <a:noFill/>
          <a:ln w="381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7200" y="228600"/>
            <a:ext cx="78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cc"/>
                </a:solidFill>
                <a:latin typeface="Times New Roman"/>
              </a:rPr>
              <a:t>Relación Tiempo/Costo en un Proye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152280" y="266760"/>
            <a:ext cx="883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cc"/>
                </a:solidFill>
                <a:latin typeface="Times New Roman"/>
              </a:rPr>
              <a:t>Estimación de Tiempos y Costos – Proyecto Mountain Bi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609480" y="1143000"/>
          <a:ext cx="7925040" cy="5027760"/>
        </p:xfrm>
        <a:graphic>
          <a:graphicData uri="http://schemas.openxmlformats.org/drawingml/2006/table">
            <a:tbl>
              <a:tblPr/>
              <a:tblGrid>
                <a:gridCol w="881280"/>
                <a:gridCol w="1027080"/>
                <a:gridCol w="1027080"/>
                <a:gridCol w="806400"/>
                <a:gridCol w="1174680"/>
                <a:gridCol w="1687680"/>
                <a:gridCol w="1320840"/>
              </a:tblGrid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33"/>
                          </a:solidFill>
                          <a:latin typeface="Arial Narrow"/>
                        </a:rPr>
                        <a:t>A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990033"/>
                      </a:solidFill>
                    </a:lnR>
                    <a:lnT w="18720">
                      <a:solidFill>
                        <a:srgbClr val="990033"/>
                      </a:solidFill>
                    </a:lnT>
                    <a:lnB w="1368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33"/>
                          </a:solidFill>
                          <a:latin typeface="Arial Narrow"/>
                        </a:rPr>
                        <a:t>Normal Time (month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 w="18720">
                      <a:solidFill>
                        <a:srgbClr val="990033"/>
                      </a:solidFill>
                    </a:lnT>
                    <a:lnB w="1368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33"/>
                          </a:solidFill>
                          <a:latin typeface="Arial Narrow"/>
                        </a:rPr>
                        <a:t>Normal Cost (‘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 w="18720">
                      <a:solidFill>
                        <a:srgbClr val="990033"/>
                      </a:solidFill>
                    </a:lnT>
                    <a:lnB w="1368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33"/>
                          </a:solidFill>
                          <a:latin typeface="Arial Narrow"/>
                        </a:rPr>
                        <a:t>Crash 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 w="18720">
                      <a:solidFill>
                        <a:srgbClr val="990033"/>
                      </a:solidFill>
                    </a:lnT>
                    <a:lnB w="1368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33"/>
                          </a:solidFill>
                          <a:latin typeface="Arial Narrow"/>
                        </a:rPr>
                        <a:t>Crash Cos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33"/>
                          </a:solidFill>
                          <a:latin typeface="Arial Narrow"/>
                        </a:rPr>
                        <a:t>(‘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 w="18720">
                      <a:solidFill>
                        <a:srgbClr val="990033"/>
                      </a:solidFill>
                    </a:lnT>
                    <a:lnB w="1368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33"/>
                          </a:solidFill>
                          <a:latin typeface="Arial Narrow"/>
                        </a:rPr>
                        <a:t>Maximum Months Avail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 w="18720">
                      <a:solidFill>
                        <a:srgbClr val="990033"/>
                      </a:solidFill>
                    </a:lnT>
                    <a:lnB w="1368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33"/>
                          </a:solidFill>
                          <a:latin typeface="Arial Narrow"/>
                        </a:rPr>
                        <a:t>Cost/Month (‘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33"/>
                      </a:solidFill>
                    </a:lnL>
                    <a:lnR>
                      <a:noFill/>
                    </a:lnR>
                    <a:lnT w="18720">
                      <a:solidFill>
                        <a:srgbClr val="990033"/>
                      </a:solidFill>
                    </a:lnT>
                    <a:lnB w="1368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990033"/>
                      </a:solidFill>
                    </a:lnR>
                    <a:lnT w="13680">
                      <a:solidFill>
                        <a:srgbClr val="9900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 w="13680">
                      <a:solidFill>
                        <a:srgbClr val="9900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 w="13680">
                      <a:solidFill>
                        <a:srgbClr val="9900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 w="13680">
                      <a:solidFill>
                        <a:srgbClr val="9900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 w="13680">
                      <a:solidFill>
                        <a:srgbClr val="9900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 w="13680">
                      <a:solidFill>
                        <a:srgbClr val="9900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>
                      <a:noFill/>
                    </a:lnR>
                    <a:lnT w="13680">
                      <a:solidFill>
                        <a:srgbClr val="990033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 w="18720">
                      <a:solidFill>
                        <a:srgbClr val="990033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 w="18720">
                      <a:solidFill>
                        <a:srgbClr val="990033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 w="18720">
                      <a:solidFill>
                        <a:srgbClr val="990033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 w="18720">
                      <a:solidFill>
                        <a:srgbClr val="990033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 w="18720">
                      <a:solidFill>
                        <a:srgbClr val="990033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 w="18720">
                      <a:solidFill>
                        <a:srgbClr val="990033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990033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414" name=""/>
          <p:cNvSpPr/>
          <p:nvPr/>
        </p:nvSpPr>
        <p:spPr>
          <a:xfrm>
            <a:off x="1824120" y="6100920"/>
            <a:ext cx="150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Total = 26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54040" y="914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04920" y="21826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A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219320" y="18018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B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19320" y="263988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C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286000" y="2182680"/>
            <a:ext cx="533520" cy="5335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D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733920" y="119232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E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895560" y="216864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F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733920" y="288144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G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043600" y="293364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H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410080" y="2182680"/>
            <a:ext cx="68580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I(1.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781680" y="218268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J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781680" y="288144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K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8077320" y="24112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L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848720" y="1258920"/>
            <a:ext cx="761760" cy="4665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Fini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62120" y="2054160"/>
            <a:ext cx="447480" cy="204840"/>
          </a:xfrm>
          <a:custGeom>
            <a:avLst/>
            <a:gdLst/>
            <a:ahLst/>
            <a:rect l="l" t="t" r="r" b="b"/>
            <a:pathLst>
              <a:path w="282" h="129">
                <a:moveTo>
                  <a:pt x="0" y="129"/>
                </a:moveTo>
                <a:lnTo>
                  <a:pt x="282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62120" y="2639880"/>
            <a:ext cx="452160" cy="257400"/>
          </a:xfrm>
          <a:custGeom>
            <a:avLst/>
            <a:gdLst/>
            <a:ahLst/>
            <a:rect l="l" t="t" r="r" b="b"/>
            <a:pathLst>
              <a:path w="285" h="162">
                <a:moveTo>
                  <a:pt x="0" y="0"/>
                </a:moveTo>
                <a:lnTo>
                  <a:pt x="285" y="16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752480" y="2639880"/>
            <a:ext cx="609840" cy="271440"/>
          </a:xfrm>
          <a:custGeom>
            <a:avLst/>
            <a:gdLst/>
            <a:ahLst/>
            <a:rect l="l" t="t" r="r" b="b"/>
            <a:pathLst>
              <a:path w="384" h="171">
                <a:moveTo>
                  <a:pt x="0" y="171"/>
                </a:move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762200" y="2049480"/>
            <a:ext cx="600120" cy="209520"/>
          </a:xfrm>
          <a:custGeom>
            <a:avLst/>
            <a:gdLst/>
            <a:ahLst/>
            <a:rect l="l" t="t" r="r" b="b"/>
            <a:pathLst>
              <a:path w="378" h="132">
                <a:moveTo>
                  <a:pt x="0" y="0"/>
                </a:moveTo>
                <a:lnTo>
                  <a:pt x="378" y="132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743200" y="1501920"/>
            <a:ext cx="976320" cy="757080"/>
          </a:xfrm>
          <a:custGeom>
            <a:avLst/>
            <a:gdLst/>
            <a:ahLst/>
            <a:rect l="l" t="t" r="r" b="b"/>
            <a:pathLst>
              <a:path w="615" h="477">
                <a:moveTo>
                  <a:pt x="0" y="477"/>
                </a:moveTo>
                <a:lnTo>
                  <a:pt x="61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19520" y="2406600"/>
            <a:ext cx="1057320" cy="4680"/>
          </a:xfrm>
          <a:custGeom>
            <a:avLst/>
            <a:gdLst/>
            <a:ahLst/>
            <a:rect l="l" t="t" r="r" b="b"/>
            <a:pathLst>
              <a:path w="666" h="3">
                <a:moveTo>
                  <a:pt x="0" y="3"/>
                </a:moveTo>
                <a:lnTo>
                  <a:pt x="66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743200" y="2639880"/>
            <a:ext cx="984240" cy="489240"/>
          </a:xfrm>
          <a:custGeom>
            <a:avLst/>
            <a:gdLst/>
            <a:ahLst/>
            <a:rect l="l" t="t" r="r" b="b"/>
            <a:pathLst>
              <a:path w="620" h="308">
                <a:moveTo>
                  <a:pt x="0" y="0"/>
                </a:moveTo>
                <a:lnTo>
                  <a:pt x="620" y="308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276800" y="3170160"/>
            <a:ext cx="758880" cy="31680"/>
          </a:xfrm>
          <a:custGeom>
            <a:avLst/>
            <a:gdLst/>
            <a:ahLst/>
            <a:rect l="l" t="t" r="r" b="b"/>
            <a:pathLst>
              <a:path w="478" h="20">
                <a:moveTo>
                  <a:pt x="0" y="0"/>
                </a:moveTo>
                <a:lnTo>
                  <a:pt x="478" y="2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14040" bIns="-14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442120" y="2716200"/>
            <a:ext cx="196560" cy="247680"/>
          </a:xfrm>
          <a:custGeom>
            <a:avLst/>
            <a:gdLst/>
            <a:ahLst/>
            <a:rect l="l" t="t" r="r" b="b"/>
            <a:pathLst>
              <a:path w="124" h="156">
                <a:moveTo>
                  <a:pt x="0" y="156"/>
                </a:moveTo>
                <a:lnTo>
                  <a:pt x="124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448160" y="2411280"/>
            <a:ext cx="961920" cy="1800"/>
          </a:xfrm>
          <a:custGeom>
            <a:avLst/>
            <a:gdLst/>
            <a:ahLst/>
            <a:rect l="l" t="t" r="r" b="b"/>
            <a:pathLst>
              <a:path w="606" h="1">
                <a:moveTo>
                  <a:pt x="0" y="0"/>
                </a:moveTo>
                <a:lnTo>
                  <a:pt x="606" y="1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91200" y="2411280"/>
            <a:ext cx="690480" cy="1800"/>
          </a:xfrm>
          <a:custGeom>
            <a:avLst/>
            <a:gdLst/>
            <a:ahLst/>
            <a:rect l="l" t="t" r="r" b="b"/>
            <a:pathLst>
              <a:path w="435" h="1">
                <a:moveTo>
                  <a:pt x="0" y="0"/>
                </a:moveTo>
                <a:lnTo>
                  <a:pt x="435" y="1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915160" y="2678040"/>
            <a:ext cx="860400" cy="438120"/>
          </a:xfrm>
          <a:custGeom>
            <a:avLst/>
            <a:gdLst/>
            <a:ahLst/>
            <a:rect l="l" t="t" r="r" b="b"/>
            <a:pathLst>
              <a:path w="542" h="276">
                <a:moveTo>
                  <a:pt x="0" y="0"/>
                </a:moveTo>
                <a:lnTo>
                  <a:pt x="542" y="276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318440" y="2801880"/>
            <a:ext cx="777960" cy="352440"/>
          </a:xfrm>
          <a:custGeom>
            <a:avLst/>
            <a:gdLst/>
            <a:ahLst/>
            <a:rect l="l" t="t" r="r" b="b"/>
            <a:pathLst>
              <a:path w="490" h="222">
                <a:moveTo>
                  <a:pt x="0" y="222"/>
                </a:moveTo>
                <a:lnTo>
                  <a:pt x="490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238880" y="1654200"/>
            <a:ext cx="766800" cy="604800"/>
          </a:xfrm>
          <a:custGeom>
            <a:avLst/>
            <a:gdLst/>
            <a:ahLst/>
            <a:rect l="l" t="t" r="r" b="b"/>
            <a:pathLst>
              <a:path w="483" h="381">
                <a:moveTo>
                  <a:pt x="0" y="381"/>
                </a:moveTo>
                <a:lnTo>
                  <a:pt x="48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305920" y="1730520"/>
            <a:ext cx="1440" cy="680760"/>
          </a:xfrm>
          <a:custGeom>
            <a:avLst/>
            <a:gdLst/>
            <a:ahLst/>
            <a:rect l="l" t="t" r="r" b="b"/>
            <a:pathLst>
              <a:path w="1" h="429">
                <a:moveTo>
                  <a:pt x="0" y="429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267080" y="145404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271440" y="2716200"/>
            <a:ext cx="490680" cy="523800"/>
            <a:chOff x="271440" y="2716200"/>
            <a:chExt cx="490680" cy="523800"/>
          </a:xfrm>
        </p:grpSpPr>
        <p:sp>
          <p:nvSpPr>
            <p:cNvPr id="446" name=""/>
            <p:cNvSpPr/>
            <p:nvPr/>
          </p:nvSpPr>
          <p:spPr>
            <a:xfrm>
              <a:off x="516960" y="27162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71440" y="297792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554040" y="74916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58720" y="88920"/>
            <a:ext cx="7670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oyecto Mountain Bi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23920" y="2711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95360" y="2711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239840" y="1273320"/>
            <a:ext cx="490680" cy="523800"/>
            <a:chOff x="1239840" y="1273320"/>
            <a:chExt cx="490680" cy="523800"/>
          </a:xfrm>
        </p:grpSpPr>
        <p:sp>
          <p:nvSpPr>
            <p:cNvPr id="453" name=""/>
            <p:cNvSpPr/>
            <p:nvPr/>
          </p:nvSpPr>
          <p:spPr>
            <a:xfrm>
              <a:off x="1485360" y="127332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239840" y="153504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1192320" y="1268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463760" y="1268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1690560" y="2976480"/>
            <a:ext cx="490680" cy="523800"/>
            <a:chOff x="1690560" y="2976480"/>
            <a:chExt cx="490680" cy="523800"/>
          </a:xfrm>
        </p:grpSpPr>
        <p:sp>
          <p:nvSpPr>
            <p:cNvPr id="458" name=""/>
            <p:cNvSpPr/>
            <p:nvPr/>
          </p:nvSpPr>
          <p:spPr>
            <a:xfrm>
              <a:off x="1936080" y="297648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690560" y="323820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1643040" y="2971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14480" y="2971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2324160" y="1649520"/>
            <a:ext cx="490320" cy="523800"/>
            <a:chOff x="2324160" y="1649520"/>
            <a:chExt cx="490320" cy="523800"/>
          </a:xfrm>
        </p:grpSpPr>
        <p:sp>
          <p:nvSpPr>
            <p:cNvPr id="463" name=""/>
            <p:cNvSpPr/>
            <p:nvPr/>
          </p:nvSpPr>
          <p:spPr>
            <a:xfrm>
              <a:off x="2569320" y="164952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324160" y="191124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2276640" y="1644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548080" y="1644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4343400" y="1801800"/>
            <a:ext cx="490680" cy="523800"/>
            <a:chOff x="4343400" y="1801800"/>
            <a:chExt cx="490680" cy="523800"/>
          </a:xfrm>
        </p:grpSpPr>
        <p:sp>
          <p:nvSpPr>
            <p:cNvPr id="468" name=""/>
            <p:cNvSpPr/>
            <p:nvPr/>
          </p:nvSpPr>
          <p:spPr>
            <a:xfrm>
              <a:off x="4588920" y="18018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343400" y="206352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0" name=""/>
          <p:cNvSpPr/>
          <p:nvPr/>
        </p:nvSpPr>
        <p:spPr>
          <a:xfrm>
            <a:off x="4295880" y="1797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567320" y="1797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4411800" y="887400"/>
            <a:ext cx="490320" cy="523800"/>
            <a:chOff x="4411800" y="887400"/>
            <a:chExt cx="490320" cy="523800"/>
          </a:xfrm>
        </p:grpSpPr>
        <p:sp>
          <p:nvSpPr>
            <p:cNvPr id="473" name=""/>
            <p:cNvSpPr/>
            <p:nvPr/>
          </p:nvSpPr>
          <p:spPr>
            <a:xfrm>
              <a:off x="4656960" y="8874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411800" y="114912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5" name=""/>
          <p:cNvSpPr/>
          <p:nvPr/>
        </p:nvSpPr>
        <p:spPr>
          <a:xfrm>
            <a:off x="4364280" y="882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635720" y="882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3754440" y="3425760"/>
            <a:ext cx="490680" cy="523800"/>
            <a:chOff x="3754440" y="3425760"/>
            <a:chExt cx="490680" cy="523800"/>
          </a:xfrm>
        </p:grpSpPr>
        <p:sp>
          <p:nvSpPr>
            <p:cNvPr id="478" name=""/>
            <p:cNvSpPr/>
            <p:nvPr/>
          </p:nvSpPr>
          <p:spPr>
            <a:xfrm>
              <a:off x="3999960" y="342576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754440" y="368748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3706920" y="3421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978360" y="3421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5064120" y="3459240"/>
            <a:ext cx="490680" cy="523800"/>
            <a:chOff x="5064120" y="3459240"/>
            <a:chExt cx="490680" cy="523800"/>
          </a:xfrm>
        </p:grpSpPr>
        <p:sp>
          <p:nvSpPr>
            <p:cNvPr id="483" name=""/>
            <p:cNvSpPr/>
            <p:nvPr/>
          </p:nvSpPr>
          <p:spPr>
            <a:xfrm>
              <a:off x="5309640" y="345924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064120" y="372096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5" name=""/>
          <p:cNvSpPr/>
          <p:nvPr/>
        </p:nvSpPr>
        <p:spPr>
          <a:xfrm>
            <a:off x="5016600" y="34545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288040" y="34545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5459400" y="1668600"/>
            <a:ext cx="490680" cy="523800"/>
            <a:chOff x="5459400" y="1668600"/>
            <a:chExt cx="490680" cy="523800"/>
          </a:xfrm>
        </p:grpSpPr>
        <p:sp>
          <p:nvSpPr>
            <p:cNvPr id="488" name=""/>
            <p:cNvSpPr/>
            <p:nvPr/>
          </p:nvSpPr>
          <p:spPr>
            <a:xfrm>
              <a:off x="5704920" y="16686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459400" y="193032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5411880" y="1644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638680" y="163980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6705720" y="1668600"/>
            <a:ext cx="490320" cy="523800"/>
            <a:chOff x="6705720" y="1668600"/>
            <a:chExt cx="490320" cy="523800"/>
          </a:xfrm>
        </p:grpSpPr>
        <p:sp>
          <p:nvSpPr>
            <p:cNvPr id="493" name=""/>
            <p:cNvSpPr/>
            <p:nvPr/>
          </p:nvSpPr>
          <p:spPr>
            <a:xfrm>
              <a:off x="6950880" y="16686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705720" y="193032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6402960" y="16635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891840" y="165744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6800760" y="3421080"/>
            <a:ext cx="490680" cy="523800"/>
            <a:chOff x="6800760" y="3421080"/>
            <a:chExt cx="490680" cy="523800"/>
          </a:xfrm>
        </p:grpSpPr>
        <p:sp>
          <p:nvSpPr>
            <p:cNvPr id="498" name=""/>
            <p:cNvSpPr/>
            <p:nvPr/>
          </p:nvSpPr>
          <p:spPr>
            <a:xfrm>
              <a:off x="7046280" y="342108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00760" y="368280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6478920" y="341640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993360" y="341640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8115480" y="3025800"/>
            <a:ext cx="490320" cy="523800"/>
            <a:chOff x="8115480" y="3025800"/>
            <a:chExt cx="490320" cy="523800"/>
          </a:xfrm>
        </p:grpSpPr>
        <p:sp>
          <p:nvSpPr>
            <p:cNvPr id="503" name=""/>
            <p:cNvSpPr/>
            <p:nvPr/>
          </p:nvSpPr>
          <p:spPr>
            <a:xfrm>
              <a:off x="8360640" y="30258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115480" y="328752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5" name=""/>
          <p:cNvSpPr/>
          <p:nvPr/>
        </p:nvSpPr>
        <p:spPr>
          <a:xfrm>
            <a:off x="7793280" y="302112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8307720" y="302112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8320320" y="324648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812360" y="325908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604040" y="113040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154760" y="112860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4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97960" y="18813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478920" y="362592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993360" y="361332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402960" y="18795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4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411880" y="1887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638680" y="188280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024520" y="3664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295960" y="3664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710160" y="3630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981600" y="3630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294440" y="19875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565880" y="19875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281320" y="1843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552760" y="1843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189080" y="1461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460520" y="1461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38360" y="3189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909800" y="3189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0400" y="29084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01840" y="29084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791320" y="2878200"/>
            <a:ext cx="0" cy="33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477120" y="2878200"/>
            <a:ext cx="0" cy="33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273240" y="3505320"/>
            <a:ext cx="7917120" cy="3100320"/>
            <a:chOff x="273240" y="3505320"/>
            <a:chExt cx="7917120" cy="3100320"/>
          </a:xfrm>
        </p:grpSpPr>
        <p:sp>
          <p:nvSpPr>
            <p:cNvPr id="534" name=""/>
            <p:cNvSpPr/>
            <p:nvPr/>
          </p:nvSpPr>
          <p:spPr>
            <a:xfrm>
              <a:off x="6192720" y="5703840"/>
              <a:ext cx="152640" cy="15228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269040" y="585612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1544400" y="5780160"/>
              <a:ext cx="46479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 flipV="1">
              <a:off x="1523880" y="3556080"/>
              <a:ext cx="20880" cy="268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544760" y="6237360"/>
              <a:ext cx="533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811920" y="5851440"/>
              <a:ext cx="1378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990033"/>
                  </a:solidFill>
                  <a:latin typeface="Garamond"/>
                </a:rPr>
                <a:t>Dur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990033"/>
                  </a:solidFill>
                  <a:latin typeface="Garamond"/>
                </a:rPr>
                <a:t>Proyec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73240" y="3505320"/>
              <a:ext cx="1317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990033"/>
                  </a:solidFill>
                  <a:latin typeface="Garamond"/>
                </a:rPr>
                <a:t>Cos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990033"/>
                  </a:solidFill>
                  <a:latin typeface="Garamond"/>
                </a:rPr>
                <a:t>Proyec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833400" y="5562720"/>
              <a:ext cx="69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26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964840" y="6237360"/>
              <a:ext cx="69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5.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3" name=""/>
          <p:cNvSpPr/>
          <p:nvPr/>
        </p:nvSpPr>
        <p:spPr>
          <a:xfrm>
            <a:off x="5680440" y="4114800"/>
            <a:ext cx="336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00"/>
                </a:solidFill>
                <a:uFillTx/>
                <a:latin typeface="Garamond"/>
              </a:rPr>
              <a:t>Camino Crític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990033"/>
                </a:solidFill>
                <a:latin typeface="Garamond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G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-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7300440" y="4444920"/>
            <a:ext cx="1637640" cy="1348560"/>
            <a:chOff x="7300440" y="4444920"/>
            <a:chExt cx="1637640" cy="1348560"/>
          </a:xfrm>
        </p:grpSpPr>
        <p:sp>
          <p:nvSpPr>
            <p:cNvPr id="545" name=""/>
            <p:cNvSpPr/>
            <p:nvPr/>
          </p:nvSpPr>
          <p:spPr>
            <a:xfrm>
              <a:off x="7466040" y="4444920"/>
              <a:ext cx="380880" cy="381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7686000" y="4800600"/>
              <a:ext cx="484200" cy="368280"/>
            </a:xfrm>
            <a:custGeom>
              <a:avLst/>
              <a:gdLst/>
              <a:ahLst/>
              <a:rect l="l" t="t" r="r" b="b"/>
              <a:pathLst>
                <a:path w="305" h="232">
                  <a:moveTo>
                    <a:pt x="0" y="232"/>
                  </a:moveTo>
                  <a:cubicBezTo>
                    <a:pt x="16" y="203"/>
                    <a:pt x="62" y="64"/>
                    <a:pt x="99" y="55"/>
                  </a:cubicBezTo>
                  <a:cubicBezTo>
                    <a:pt x="136" y="46"/>
                    <a:pt x="190" y="189"/>
                    <a:pt x="224" y="180"/>
                  </a:cubicBezTo>
                  <a:cubicBezTo>
                    <a:pt x="258" y="171"/>
                    <a:pt x="288" y="37"/>
                    <a:pt x="30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300440" y="5089680"/>
              <a:ext cx="1637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Garamond"/>
                </a:rPr>
                <a:t>Actividad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Garamond"/>
                </a:rPr>
                <a:t>más Bar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8" name=""/>
          <p:cNvSpPr/>
          <p:nvPr/>
        </p:nvSpPr>
        <p:spPr>
          <a:xfrm>
            <a:off x="6356160" y="888840"/>
            <a:ext cx="297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00"/>
                </a:solidFill>
                <a:latin typeface="Garamond"/>
              </a:rPr>
              <a:t>Duración Proyecto= 15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304920" y="21826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A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219320" y="18018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B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219320" y="263988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C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286000" y="2182680"/>
            <a:ext cx="533520" cy="5335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D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733920" y="119232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E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895560" y="216864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F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733920" y="288144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G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043600" y="2933640"/>
            <a:ext cx="533160" cy="5335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H(0.5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410080" y="2182680"/>
            <a:ext cx="68580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I(1.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781680" y="218268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J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781680" y="288144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K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8077320" y="24112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L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848720" y="1258920"/>
            <a:ext cx="761760" cy="4665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Fini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62120" y="2054160"/>
            <a:ext cx="447480" cy="204840"/>
          </a:xfrm>
          <a:custGeom>
            <a:avLst/>
            <a:gdLst/>
            <a:ahLst/>
            <a:rect l="l" t="t" r="r" b="b"/>
            <a:pathLst>
              <a:path w="282" h="129">
                <a:moveTo>
                  <a:pt x="0" y="129"/>
                </a:moveTo>
                <a:lnTo>
                  <a:pt x="282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62120" y="2639880"/>
            <a:ext cx="452160" cy="257400"/>
          </a:xfrm>
          <a:custGeom>
            <a:avLst/>
            <a:gdLst/>
            <a:ahLst/>
            <a:rect l="l" t="t" r="r" b="b"/>
            <a:pathLst>
              <a:path w="285" h="162">
                <a:moveTo>
                  <a:pt x="0" y="0"/>
                </a:moveTo>
                <a:lnTo>
                  <a:pt x="285" y="16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752480" y="2639880"/>
            <a:ext cx="609840" cy="271440"/>
          </a:xfrm>
          <a:custGeom>
            <a:avLst/>
            <a:gdLst/>
            <a:ahLst/>
            <a:rect l="l" t="t" r="r" b="b"/>
            <a:pathLst>
              <a:path w="384" h="171">
                <a:moveTo>
                  <a:pt x="0" y="171"/>
                </a:move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762200" y="2049480"/>
            <a:ext cx="600120" cy="209520"/>
          </a:xfrm>
          <a:custGeom>
            <a:avLst/>
            <a:gdLst/>
            <a:ahLst/>
            <a:rect l="l" t="t" r="r" b="b"/>
            <a:pathLst>
              <a:path w="378" h="132">
                <a:moveTo>
                  <a:pt x="0" y="0"/>
                </a:moveTo>
                <a:lnTo>
                  <a:pt x="378" y="132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743200" y="1501920"/>
            <a:ext cx="976320" cy="757080"/>
          </a:xfrm>
          <a:custGeom>
            <a:avLst/>
            <a:gdLst/>
            <a:ahLst/>
            <a:rect l="l" t="t" r="r" b="b"/>
            <a:pathLst>
              <a:path w="615" h="477">
                <a:moveTo>
                  <a:pt x="0" y="477"/>
                </a:moveTo>
                <a:lnTo>
                  <a:pt x="61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819520" y="2406600"/>
            <a:ext cx="1057320" cy="4680"/>
          </a:xfrm>
          <a:custGeom>
            <a:avLst/>
            <a:gdLst/>
            <a:ahLst/>
            <a:rect l="l" t="t" r="r" b="b"/>
            <a:pathLst>
              <a:path w="666" h="3">
                <a:moveTo>
                  <a:pt x="0" y="3"/>
                </a:moveTo>
                <a:lnTo>
                  <a:pt x="66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743200" y="2639880"/>
            <a:ext cx="984240" cy="489240"/>
          </a:xfrm>
          <a:custGeom>
            <a:avLst/>
            <a:gdLst/>
            <a:ahLst/>
            <a:rect l="l" t="t" r="r" b="b"/>
            <a:pathLst>
              <a:path w="620" h="308">
                <a:moveTo>
                  <a:pt x="0" y="0"/>
                </a:moveTo>
                <a:lnTo>
                  <a:pt x="620" y="308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276800" y="3170160"/>
            <a:ext cx="758880" cy="31680"/>
          </a:xfrm>
          <a:custGeom>
            <a:avLst/>
            <a:gdLst/>
            <a:ahLst/>
            <a:rect l="l" t="t" r="r" b="b"/>
            <a:pathLst>
              <a:path w="478" h="20">
                <a:moveTo>
                  <a:pt x="0" y="0"/>
                </a:moveTo>
                <a:lnTo>
                  <a:pt x="478" y="2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14040" bIns="-14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442120" y="2716200"/>
            <a:ext cx="196560" cy="247680"/>
          </a:xfrm>
          <a:custGeom>
            <a:avLst/>
            <a:gdLst/>
            <a:ahLst/>
            <a:rect l="l" t="t" r="r" b="b"/>
            <a:pathLst>
              <a:path w="124" h="156">
                <a:moveTo>
                  <a:pt x="0" y="156"/>
                </a:moveTo>
                <a:lnTo>
                  <a:pt x="124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448160" y="2411280"/>
            <a:ext cx="961920" cy="1800"/>
          </a:xfrm>
          <a:custGeom>
            <a:avLst/>
            <a:gdLst/>
            <a:ahLst/>
            <a:rect l="l" t="t" r="r" b="b"/>
            <a:pathLst>
              <a:path w="606" h="1">
                <a:moveTo>
                  <a:pt x="0" y="0"/>
                </a:moveTo>
                <a:lnTo>
                  <a:pt x="606" y="1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091200" y="2411280"/>
            <a:ext cx="690480" cy="1800"/>
          </a:xfrm>
          <a:custGeom>
            <a:avLst/>
            <a:gdLst/>
            <a:ahLst/>
            <a:rect l="l" t="t" r="r" b="b"/>
            <a:pathLst>
              <a:path w="435" h="1">
                <a:moveTo>
                  <a:pt x="0" y="0"/>
                </a:moveTo>
                <a:lnTo>
                  <a:pt x="435" y="1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915160" y="2678040"/>
            <a:ext cx="860400" cy="438120"/>
          </a:xfrm>
          <a:custGeom>
            <a:avLst/>
            <a:gdLst/>
            <a:ahLst/>
            <a:rect l="l" t="t" r="r" b="b"/>
            <a:pathLst>
              <a:path w="542" h="276">
                <a:moveTo>
                  <a:pt x="0" y="0"/>
                </a:moveTo>
                <a:lnTo>
                  <a:pt x="542" y="276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318440" y="2801880"/>
            <a:ext cx="777960" cy="352440"/>
          </a:xfrm>
          <a:custGeom>
            <a:avLst/>
            <a:gdLst/>
            <a:ahLst/>
            <a:rect l="l" t="t" r="r" b="b"/>
            <a:pathLst>
              <a:path w="490" h="222">
                <a:moveTo>
                  <a:pt x="0" y="222"/>
                </a:moveTo>
                <a:lnTo>
                  <a:pt x="490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238880" y="1654200"/>
            <a:ext cx="766800" cy="604800"/>
          </a:xfrm>
          <a:custGeom>
            <a:avLst/>
            <a:gdLst/>
            <a:ahLst/>
            <a:rect l="l" t="t" r="r" b="b"/>
            <a:pathLst>
              <a:path w="483" h="381">
                <a:moveTo>
                  <a:pt x="0" y="381"/>
                </a:moveTo>
                <a:lnTo>
                  <a:pt x="48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8305920" y="1730520"/>
            <a:ext cx="1440" cy="680760"/>
          </a:xfrm>
          <a:custGeom>
            <a:avLst/>
            <a:gdLst/>
            <a:ahLst/>
            <a:rect l="l" t="t" r="r" b="b"/>
            <a:pathLst>
              <a:path w="1" h="429">
                <a:moveTo>
                  <a:pt x="0" y="429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267080" y="145404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271440" y="2716200"/>
            <a:ext cx="490680" cy="523800"/>
            <a:chOff x="271440" y="2716200"/>
            <a:chExt cx="490680" cy="523800"/>
          </a:xfrm>
        </p:grpSpPr>
        <p:sp>
          <p:nvSpPr>
            <p:cNvPr id="579" name=""/>
            <p:cNvSpPr/>
            <p:nvPr/>
          </p:nvSpPr>
          <p:spPr>
            <a:xfrm>
              <a:off x="516960" y="27162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1440" y="297792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554040" y="74916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23920" y="2711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95360" y="2711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1239840" y="1273320"/>
            <a:ext cx="490680" cy="523800"/>
            <a:chOff x="1239840" y="1273320"/>
            <a:chExt cx="490680" cy="523800"/>
          </a:xfrm>
        </p:grpSpPr>
        <p:sp>
          <p:nvSpPr>
            <p:cNvPr id="585" name=""/>
            <p:cNvSpPr/>
            <p:nvPr/>
          </p:nvSpPr>
          <p:spPr>
            <a:xfrm>
              <a:off x="1485360" y="127332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239840" y="153504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1192320" y="1268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463760" y="1268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1690560" y="2976480"/>
            <a:ext cx="490680" cy="523800"/>
            <a:chOff x="1690560" y="2976480"/>
            <a:chExt cx="490680" cy="523800"/>
          </a:xfrm>
        </p:grpSpPr>
        <p:sp>
          <p:nvSpPr>
            <p:cNvPr id="590" name=""/>
            <p:cNvSpPr/>
            <p:nvPr/>
          </p:nvSpPr>
          <p:spPr>
            <a:xfrm>
              <a:off x="1936080" y="297648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690560" y="323820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1643040" y="2971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914480" y="2971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2324160" y="1649520"/>
            <a:ext cx="490320" cy="523800"/>
            <a:chOff x="2324160" y="1649520"/>
            <a:chExt cx="490320" cy="523800"/>
          </a:xfrm>
        </p:grpSpPr>
        <p:sp>
          <p:nvSpPr>
            <p:cNvPr id="595" name=""/>
            <p:cNvSpPr/>
            <p:nvPr/>
          </p:nvSpPr>
          <p:spPr>
            <a:xfrm>
              <a:off x="2569320" y="164952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324160" y="191124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7" name=""/>
          <p:cNvSpPr/>
          <p:nvPr/>
        </p:nvSpPr>
        <p:spPr>
          <a:xfrm>
            <a:off x="2276640" y="1644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548080" y="1644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4343400" y="1801800"/>
            <a:ext cx="490680" cy="523800"/>
            <a:chOff x="4343400" y="1801800"/>
            <a:chExt cx="490680" cy="523800"/>
          </a:xfrm>
        </p:grpSpPr>
        <p:sp>
          <p:nvSpPr>
            <p:cNvPr id="600" name=""/>
            <p:cNvSpPr/>
            <p:nvPr/>
          </p:nvSpPr>
          <p:spPr>
            <a:xfrm>
              <a:off x="4588920" y="18018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343400" y="206352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2" name=""/>
          <p:cNvSpPr/>
          <p:nvPr/>
        </p:nvSpPr>
        <p:spPr>
          <a:xfrm>
            <a:off x="4295880" y="1797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567320" y="1797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4411800" y="887400"/>
            <a:ext cx="490320" cy="523800"/>
            <a:chOff x="4411800" y="887400"/>
            <a:chExt cx="490320" cy="523800"/>
          </a:xfrm>
        </p:grpSpPr>
        <p:sp>
          <p:nvSpPr>
            <p:cNvPr id="605" name=""/>
            <p:cNvSpPr/>
            <p:nvPr/>
          </p:nvSpPr>
          <p:spPr>
            <a:xfrm>
              <a:off x="4656960" y="8874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411800" y="114912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4364280" y="882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635720" y="882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3754440" y="3425760"/>
            <a:ext cx="490680" cy="523800"/>
            <a:chOff x="3754440" y="3425760"/>
            <a:chExt cx="490680" cy="523800"/>
          </a:xfrm>
        </p:grpSpPr>
        <p:sp>
          <p:nvSpPr>
            <p:cNvPr id="610" name=""/>
            <p:cNvSpPr/>
            <p:nvPr/>
          </p:nvSpPr>
          <p:spPr>
            <a:xfrm>
              <a:off x="3999960" y="342576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754440" y="368748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3706920" y="3421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978360" y="3421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5064120" y="3459240"/>
            <a:ext cx="490680" cy="523800"/>
            <a:chOff x="5064120" y="3459240"/>
            <a:chExt cx="490680" cy="523800"/>
          </a:xfrm>
        </p:grpSpPr>
        <p:sp>
          <p:nvSpPr>
            <p:cNvPr id="615" name=""/>
            <p:cNvSpPr/>
            <p:nvPr/>
          </p:nvSpPr>
          <p:spPr>
            <a:xfrm>
              <a:off x="5309640" y="345924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064120" y="372096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7" name=""/>
          <p:cNvSpPr/>
          <p:nvPr/>
        </p:nvSpPr>
        <p:spPr>
          <a:xfrm>
            <a:off x="5016600" y="34545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288400" y="34545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5459400" y="1668600"/>
            <a:ext cx="490680" cy="523800"/>
            <a:chOff x="5459400" y="1668600"/>
            <a:chExt cx="490680" cy="523800"/>
          </a:xfrm>
        </p:grpSpPr>
        <p:sp>
          <p:nvSpPr>
            <p:cNvPr id="620" name=""/>
            <p:cNvSpPr/>
            <p:nvPr/>
          </p:nvSpPr>
          <p:spPr>
            <a:xfrm>
              <a:off x="5704920" y="16686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459400" y="193032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>
            <a:off x="5301000" y="16444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681520" y="163980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6705720" y="1668600"/>
            <a:ext cx="490320" cy="523800"/>
            <a:chOff x="6705720" y="1668600"/>
            <a:chExt cx="490320" cy="523800"/>
          </a:xfrm>
        </p:grpSpPr>
        <p:sp>
          <p:nvSpPr>
            <p:cNvPr id="625" name=""/>
            <p:cNvSpPr/>
            <p:nvPr/>
          </p:nvSpPr>
          <p:spPr>
            <a:xfrm>
              <a:off x="6950880" y="16686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705720" y="193032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6602400" y="16635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891120" y="165744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6800760" y="3421080"/>
            <a:ext cx="490680" cy="523800"/>
            <a:chOff x="6800760" y="3421080"/>
            <a:chExt cx="490680" cy="523800"/>
          </a:xfrm>
        </p:grpSpPr>
        <p:sp>
          <p:nvSpPr>
            <p:cNvPr id="630" name=""/>
            <p:cNvSpPr/>
            <p:nvPr/>
          </p:nvSpPr>
          <p:spPr>
            <a:xfrm>
              <a:off x="7046280" y="342108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800760" y="368280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2" name=""/>
          <p:cNvSpPr/>
          <p:nvPr/>
        </p:nvSpPr>
        <p:spPr>
          <a:xfrm>
            <a:off x="6681600" y="34164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992640" y="34164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8115480" y="3025800"/>
            <a:ext cx="490320" cy="523800"/>
            <a:chOff x="8115480" y="3025800"/>
            <a:chExt cx="490320" cy="523800"/>
          </a:xfrm>
        </p:grpSpPr>
        <p:sp>
          <p:nvSpPr>
            <p:cNvPr id="635" name=""/>
            <p:cNvSpPr/>
            <p:nvPr/>
          </p:nvSpPr>
          <p:spPr>
            <a:xfrm>
              <a:off x="8360640" y="30258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115480" y="328752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>
            <a:off x="7920000" y="30211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8307360" y="30211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8319960" y="32464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939080" y="32590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603680" y="11304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294080" y="11286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897600" y="18813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681600" y="36259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992640" y="36385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602400" y="18795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323320" y="18874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689440" y="188280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024520" y="3664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296320" y="36640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710160" y="3630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981600" y="3630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208760" y="2000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565880" y="19875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281320" y="1843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552760" y="1843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189080" y="1461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460520" y="1461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638360" y="3189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909800" y="3189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30400" y="29084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01840" y="29084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791320" y="2878200"/>
            <a:ext cx="0" cy="33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477120" y="2878200"/>
            <a:ext cx="0" cy="33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192720" y="5703840"/>
            <a:ext cx="15264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269040" y="5856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1544400" y="578016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 flipV="1">
            <a:off x="1523880" y="3556080"/>
            <a:ext cx="20880" cy="268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544760" y="6237360"/>
            <a:ext cx="5333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879960" y="5875200"/>
            <a:ext cx="12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Garamond"/>
              </a:rPr>
              <a:t>Du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Garamond"/>
              </a:rPr>
              <a:t>Proy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74760" y="3529080"/>
            <a:ext cx="120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Garamond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Garamond"/>
              </a:rPr>
              <a:t>Proy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946080" y="565308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26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965560" y="62373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715000" y="5537160"/>
            <a:ext cx="15228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608800" y="62355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791320" y="5683320"/>
            <a:ext cx="1440" cy="565200"/>
          </a:xfrm>
          <a:custGeom>
            <a:avLst/>
            <a:gdLst/>
            <a:ahLst/>
            <a:rect l="l" t="t" r="r" b="b"/>
            <a:pathLst>
              <a:path w="1" h="356">
                <a:moveTo>
                  <a:pt x="0" y="0"/>
                </a:moveTo>
                <a:lnTo>
                  <a:pt x="1" y="35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1523880" y="561348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952560" y="541188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26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510520" y="4114800"/>
            <a:ext cx="33634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00"/>
                </a:solidFill>
                <a:uFillTx/>
                <a:latin typeface="Garamond"/>
              </a:rPr>
              <a:t>Camino Crítico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990033"/>
                </a:solidFill>
                <a:latin typeface="Garamond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G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990033"/>
                </a:solidFill>
                <a:latin typeface="Garamond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-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445440" y="88884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00"/>
                </a:solidFill>
                <a:latin typeface="Garamond"/>
              </a:rPr>
              <a:t>Duración Proyecto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990000"/>
                </a:solidFill>
                <a:latin typeface="Garamond"/>
              </a:rPr>
              <a:t>= 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858000" y="4495680"/>
            <a:ext cx="380880" cy="3812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58720" y="88920"/>
            <a:ext cx="7670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oyecto Mountain Bi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1549440" y="5411880"/>
            <a:ext cx="3774960" cy="1440"/>
          </a:xfrm>
          <a:custGeom>
            <a:avLst/>
            <a:gdLst/>
            <a:ahLst/>
            <a:rect l="l" t="t" r="r" b="b"/>
            <a:pathLst>
              <a:path w="2378" h="1">
                <a:moveTo>
                  <a:pt x="2378" y="1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04920" y="21826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A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219320" y="18018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B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219320" y="263988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C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286000" y="2182680"/>
            <a:ext cx="533520" cy="5335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D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733920" y="119232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E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895560" y="216864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F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733920" y="288144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G(2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043600" y="2933640"/>
            <a:ext cx="533160" cy="5335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H(0.5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410080" y="2182680"/>
            <a:ext cx="68580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I(1.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781680" y="218268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J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781680" y="288144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K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8077320" y="24112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L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848720" y="1258920"/>
            <a:ext cx="761760" cy="4665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Fini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762120" y="2054160"/>
            <a:ext cx="447480" cy="204840"/>
          </a:xfrm>
          <a:custGeom>
            <a:avLst/>
            <a:gdLst/>
            <a:ahLst/>
            <a:rect l="l" t="t" r="r" b="b"/>
            <a:pathLst>
              <a:path w="282" h="129">
                <a:moveTo>
                  <a:pt x="0" y="129"/>
                </a:moveTo>
                <a:lnTo>
                  <a:pt x="282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762120" y="2639880"/>
            <a:ext cx="452160" cy="257400"/>
          </a:xfrm>
          <a:custGeom>
            <a:avLst/>
            <a:gdLst/>
            <a:ahLst/>
            <a:rect l="l" t="t" r="r" b="b"/>
            <a:pathLst>
              <a:path w="285" h="162">
                <a:moveTo>
                  <a:pt x="0" y="0"/>
                </a:moveTo>
                <a:lnTo>
                  <a:pt x="285" y="16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752480" y="2639880"/>
            <a:ext cx="609840" cy="271440"/>
          </a:xfrm>
          <a:custGeom>
            <a:avLst/>
            <a:gdLst/>
            <a:ahLst/>
            <a:rect l="l" t="t" r="r" b="b"/>
            <a:pathLst>
              <a:path w="384" h="171">
                <a:moveTo>
                  <a:pt x="0" y="171"/>
                </a:move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762200" y="2049480"/>
            <a:ext cx="600120" cy="209520"/>
          </a:xfrm>
          <a:custGeom>
            <a:avLst/>
            <a:gdLst/>
            <a:ahLst/>
            <a:rect l="l" t="t" r="r" b="b"/>
            <a:pathLst>
              <a:path w="378" h="132">
                <a:moveTo>
                  <a:pt x="0" y="0"/>
                </a:moveTo>
                <a:lnTo>
                  <a:pt x="378" y="132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743200" y="1501920"/>
            <a:ext cx="976320" cy="757080"/>
          </a:xfrm>
          <a:custGeom>
            <a:avLst/>
            <a:gdLst/>
            <a:ahLst/>
            <a:rect l="l" t="t" r="r" b="b"/>
            <a:pathLst>
              <a:path w="615" h="477">
                <a:moveTo>
                  <a:pt x="0" y="477"/>
                </a:moveTo>
                <a:lnTo>
                  <a:pt x="61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819520" y="2406600"/>
            <a:ext cx="1057320" cy="4680"/>
          </a:xfrm>
          <a:custGeom>
            <a:avLst/>
            <a:gdLst/>
            <a:ahLst/>
            <a:rect l="l" t="t" r="r" b="b"/>
            <a:pathLst>
              <a:path w="666" h="3">
                <a:moveTo>
                  <a:pt x="0" y="3"/>
                </a:moveTo>
                <a:lnTo>
                  <a:pt x="666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1040" bIns="-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743200" y="2639880"/>
            <a:ext cx="984240" cy="489240"/>
          </a:xfrm>
          <a:custGeom>
            <a:avLst/>
            <a:gdLst/>
            <a:ahLst/>
            <a:rect l="l" t="t" r="r" b="b"/>
            <a:pathLst>
              <a:path w="620" h="308">
                <a:moveTo>
                  <a:pt x="0" y="0"/>
                </a:moveTo>
                <a:lnTo>
                  <a:pt x="620" y="308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276800" y="3170160"/>
            <a:ext cx="758880" cy="31680"/>
          </a:xfrm>
          <a:custGeom>
            <a:avLst/>
            <a:gdLst/>
            <a:ahLst/>
            <a:rect l="l" t="t" r="r" b="b"/>
            <a:pathLst>
              <a:path w="478" h="20">
                <a:moveTo>
                  <a:pt x="0" y="0"/>
                </a:moveTo>
                <a:lnTo>
                  <a:pt x="478" y="2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14040" bIns="-14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442120" y="2716200"/>
            <a:ext cx="196560" cy="247680"/>
          </a:xfrm>
          <a:custGeom>
            <a:avLst/>
            <a:gdLst/>
            <a:ahLst/>
            <a:rect l="l" t="t" r="r" b="b"/>
            <a:pathLst>
              <a:path w="124" h="156">
                <a:moveTo>
                  <a:pt x="0" y="156"/>
                </a:moveTo>
                <a:lnTo>
                  <a:pt x="124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448160" y="2411280"/>
            <a:ext cx="961920" cy="1800"/>
          </a:xfrm>
          <a:custGeom>
            <a:avLst/>
            <a:gdLst/>
            <a:ahLst/>
            <a:rect l="l" t="t" r="r" b="b"/>
            <a:pathLst>
              <a:path w="606" h="1">
                <a:moveTo>
                  <a:pt x="0" y="0"/>
                </a:moveTo>
                <a:lnTo>
                  <a:pt x="606" y="1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091200" y="2411280"/>
            <a:ext cx="690480" cy="1800"/>
          </a:xfrm>
          <a:custGeom>
            <a:avLst/>
            <a:gdLst/>
            <a:ahLst/>
            <a:rect l="l" t="t" r="r" b="b"/>
            <a:pathLst>
              <a:path w="435" h="1">
                <a:moveTo>
                  <a:pt x="0" y="0"/>
                </a:moveTo>
                <a:lnTo>
                  <a:pt x="435" y="1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915160" y="2678040"/>
            <a:ext cx="860400" cy="438120"/>
          </a:xfrm>
          <a:custGeom>
            <a:avLst/>
            <a:gdLst/>
            <a:ahLst/>
            <a:rect l="l" t="t" r="r" b="b"/>
            <a:pathLst>
              <a:path w="542" h="276">
                <a:moveTo>
                  <a:pt x="0" y="0"/>
                </a:moveTo>
                <a:lnTo>
                  <a:pt x="542" y="276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7318440" y="2801880"/>
            <a:ext cx="777960" cy="352440"/>
          </a:xfrm>
          <a:custGeom>
            <a:avLst/>
            <a:gdLst/>
            <a:ahLst/>
            <a:rect l="l" t="t" r="r" b="b"/>
            <a:pathLst>
              <a:path w="490" h="222">
                <a:moveTo>
                  <a:pt x="0" y="222"/>
                </a:moveTo>
                <a:lnTo>
                  <a:pt x="490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7238880" y="1654200"/>
            <a:ext cx="766800" cy="604800"/>
          </a:xfrm>
          <a:custGeom>
            <a:avLst/>
            <a:gdLst/>
            <a:ahLst/>
            <a:rect l="l" t="t" r="r" b="b"/>
            <a:pathLst>
              <a:path w="483" h="381">
                <a:moveTo>
                  <a:pt x="0" y="381"/>
                </a:moveTo>
                <a:lnTo>
                  <a:pt x="48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8305920" y="1730520"/>
            <a:ext cx="1440" cy="680760"/>
          </a:xfrm>
          <a:custGeom>
            <a:avLst/>
            <a:gdLst/>
            <a:ahLst/>
            <a:rect l="l" t="t" r="r" b="b"/>
            <a:pathLst>
              <a:path w="1" h="429">
                <a:moveTo>
                  <a:pt x="0" y="429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267080" y="145404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271440" y="2716200"/>
            <a:ext cx="490680" cy="523800"/>
            <a:chOff x="271440" y="2716200"/>
            <a:chExt cx="490680" cy="523800"/>
          </a:xfrm>
        </p:grpSpPr>
        <p:sp>
          <p:nvSpPr>
            <p:cNvPr id="714" name=""/>
            <p:cNvSpPr/>
            <p:nvPr/>
          </p:nvSpPr>
          <p:spPr>
            <a:xfrm>
              <a:off x="516960" y="27162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71440" y="297792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6" name=""/>
          <p:cNvSpPr/>
          <p:nvPr/>
        </p:nvSpPr>
        <p:spPr>
          <a:xfrm>
            <a:off x="554040" y="74916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23920" y="2711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95360" y="2711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1239840" y="1273320"/>
            <a:ext cx="490680" cy="523800"/>
            <a:chOff x="1239840" y="1273320"/>
            <a:chExt cx="490680" cy="523800"/>
          </a:xfrm>
        </p:grpSpPr>
        <p:sp>
          <p:nvSpPr>
            <p:cNvPr id="720" name=""/>
            <p:cNvSpPr/>
            <p:nvPr/>
          </p:nvSpPr>
          <p:spPr>
            <a:xfrm>
              <a:off x="1485360" y="127332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239840" y="153504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2" name=""/>
          <p:cNvSpPr/>
          <p:nvPr/>
        </p:nvSpPr>
        <p:spPr>
          <a:xfrm>
            <a:off x="1192320" y="1268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463760" y="1268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1690560" y="2976480"/>
            <a:ext cx="490680" cy="523800"/>
            <a:chOff x="1690560" y="2976480"/>
            <a:chExt cx="490680" cy="523800"/>
          </a:xfrm>
        </p:grpSpPr>
        <p:sp>
          <p:nvSpPr>
            <p:cNvPr id="725" name=""/>
            <p:cNvSpPr/>
            <p:nvPr/>
          </p:nvSpPr>
          <p:spPr>
            <a:xfrm>
              <a:off x="1936080" y="297648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690560" y="323820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7" name=""/>
          <p:cNvSpPr/>
          <p:nvPr/>
        </p:nvSpPr>
        <p:spPr>
          <a:xfrm>
            <a:off x="1643040" y="2971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914480" y="2971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2324160" y="1649520"/>
            <a:ext cx="490320" cy="523800"/>
            <a:chOff x="2324160" y="1649520"/>
            <a:chExt cx="490320" cy="523800"/>
          </a:xfrm>
        </p:grpSpPr>
        <p:sp>
          <p:nvSpPr>
            <p:cNvPr id="730" name=""/>
            <p:cNvSpPr/>
            <p:nvPr/>
          </p:nvSpPr>
          <p:spPr>
            <a:xfrm>
              <a:off x="2569320" y="164952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324160" y="191124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2" name=""/>
          <p:cNvSpPr/>
          <p:nvPr/>
        </p:nvSpPr>
        <p:spPr>
          <a:xfrm>
            <a:off x="2276640" y="1644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548080" y="1644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4343400" y="1801800"/>
            <a:ext cx="490680" cy="523800"/>
            <a:chOff x="4343400" y="1801800"/>
            <a:chExt cx="490680" cy="523800"/>
          </a:xfrm>
        </p:grpSpPr>
        <p:sp>
          <p:nvSpPr>
            <p:cNvPr id="735" name=""/>
            <p:cNvSpPr/>
            <p:nvPr/>
          </p:nvSpPr>
          <p:spPr>
            <a:xfrm>
              <a:off x="4588920" y="18018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343400" y="206352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7" name=""/>
          <p:cNvSpPr/>
          <p:nvPr/>
        </p:nvSpPr>
        <p:spPr>
          <a:xfrm>
            <a:off x="4295880" y="1797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567320" y="1797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4411800" y="887400"/>
            <a:ext cx="490320" cy="523800"/>
            <a:chOff x="4411800" y="887400"/>
            <a:chExt cx="490320" cy="523800"/>
          </a:xfrm>
        </p:grpSpPr>
        <p:sp>
          <p:nvSpPr>
            <p:cNvPr id="740" name=""/>
            <p:cNvSpPr/>
            <p:nvPr/>
          </p:nvSpPr>
          <p:spPr>
            <a:xfrm>
              <a:off x="4656960" y="8874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411800" y="114912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2" name=""/>
          <p:cNvSpPr/>
          <p:nvPr/>
        </p:nvSpPr>
        <p:spPr>
          <a:xfrm>
            <a:off x="4364280" y="882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635720" y="882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3754440" y="3425760"/>
            <a:ext cx="490680" cy="523800"/>
            <a:chOff x="3754440" y="3425760"/>
            <a:chExt cx="490680" cy="523800"/>
          </a:xfrm>
        </p:grpSpPr>
        <p:sp>
          <p:nvSpPr>
            <p:cNvPr id="745" name=""/>
            <p:cNvSpPr/>
            <p:nvPr/>
          </p:nvSpPr>
          <p:spPr>
            <a:xfrm>
              <a:off x="3999960" y="342576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754440" y="368748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7" name=""/>
          <p:cNvSpPr/>
          <p:nvPr/>
        </p:nvSpPr>
        <p:spPr>
          <a:xfrm>
            <a:off x="3706920" y="3421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978720" y="34210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9" name=""/>
          <p:cNvGrpSpPr/>
          <p:nvPr/>
        </p:nvGrpSpPr>
        <p:grpSpPr>
          <a:xfrm>
            <a:off x="5064120" y="3459240"/>
            <a:ext cx="490680" cy="523800"/>
            <a:chOff x="5064120" y="3459240"/>
            <a:chExt cx="490680" cy="523800"/>
          </a:xfrm>
        </p:grpSpPr>
        <p:sp>
          <p:nvSpPr>
            <p:cNvPr id="750" name=""/>
            <p:cNvSpPr/>
            <p:nvPr/>
          </p:nvSpPr>
          <p:spPr>
            <a:xfrm>
              <a:off x="5309640" y="345924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064120" y="372096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2" name=""/>
          <p:cNvSpPr/>
          <p:nvPr/>
        </p:nvSpPr>
        <p:spPr>
          <a:xfrm>
            <a:off x="4920120" y="34545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288040" y="34545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4" name=""/>
          <p:cNvGrpSpPr/>
          <p:nvPr/>
        </p:nvGrpSpPr>
        <p:grpSpPr>
          <a:xfrm>
            <a:off x="5459400" y="1668600"/>
            <a:ext cx="490680" cy="523800"/>
            <a:chOff x="5459400" y="1668600"/>
            <a:chExt cx="490680" cy="523800"/>
          </a:xfrm>
        </p:grpSpPr>
        <p:sp>
          <p:nvSpPr>
            <p:cNvPr id="755" name=""/>
            <p:cNvSpPr/>
            <p:nvPr/>
          </p:nvSpPr>
          <p:spPr>
            <a:xfrm>
              <a:off x="5704920" y="16686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459400" y="193032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7" name=""/>
          <p:cNvSpPr/>
          <p:nvPr/>
        </p:nvSpPr>
        <p:spPr>
          <a:xfrm>
            <a:off x="5376960" y="1644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681520" y="163980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.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6705720" y="1668600"/>
            <a:ext cx="490320" cy="523800"/>
            <a:chOff x="6705720" y="1668600"/>
            <a:chExt cx="490320" cy="523800"/>
          </a:xfrm>
        </p:grpSpPr>
        <p:sp>
          <p:nvSpPr>
            <p:cNvPr id="760" name=""/>
            <p:cNvSpPr/>
            <p:nvPr/>
          </p:nvSpPr>
          <p:spPr>
            <a:xfrm>
              <a:off x="6950880" y="16686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705720" y="193032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2" name=""/>
          <p:cNvSpPr/>
          <p:nvPr/>
        </p:nvSpPr>
        <p:spPr>
          <a:xfrm>
            <a:off x="6555240" y="16635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891840" y="165744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6800760" y="3421080"/>
            <a:ext cx="490680" cy="523800"/>
            <a:chOff x="6800760" y="3421080"/>
            <a:chExt cx="490680" cy="523800"/>
          </a:xfrm>
        </p:grpSpPr>
        <p:sp>
          <p:nvSpPr>
            <p:cNvPr id="765" name=""/>
            <p:cNvSpPr/>
            <p:nvPr/>
          </p:nvSpPr>
          <p:spPr>
            <a:xfrm>
              <a:off x="7046280" y="342108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800760" y="368280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"/>
          <p:cNvSpPr/>
          <p:nvPr/>
        </p:nvSpPr>
        <p:spPr>
          <a:xfrm>
            <a:off x="6631200" y="34164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993360" y="341640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8115480" y="3025800"/>
            <a:ext cx="490320" cy="523800"/>
            <a:chOff x="8115480" y="3025800"/>
            <a:chExt cx="490320" cy="523800"/>
          </a:xfrm>
        </p:grpSpPr>
        <p:sp>
          <p:nvSpPr>
            <p:cNvPr id="770" name=""/>
            <p:cNvSpPr/>
            <p:nvPr/>
          </p:nvSpPr>
          <p:spPr>
            <a:xfrm>
              <a:off x="8360640" y="30258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8115480" y="328752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2" name=""/>
          <p:cNvSpPr/>
          <p:nvPr/>
        </p:nvSpPr>
        <p:spPr>
          <a:xfrm>
            <a:off x="7857000" y="302112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8307720" y="302112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4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604040" y="113040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4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154760" y="112860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897960" y="18813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4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475680" y="1892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399280" y="1887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689440" y="188280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920120" y="3676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295960" y="3664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710160" y="3630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981960" y="36306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310280" y="2000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565880" y="19875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281320" y="1843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552760" y="1843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189080" y="1461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460520" y="1461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638360" y="3189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909800" y="3189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230400" y="29084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01840" y="29084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791320" y="2878200"/>
            <a:ext cx="0" cy="33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477120" y="2878200"/>
            <a:ext cx="0" cy="33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192720" y="5703840"/>
            <a:ext cx="15264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269040" y="5856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H="1">
            <a:off x="1544400" y="578016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H="1" flipV="1">
            <a:off x="1523880" y="3556080"/>
            <a:ext cx="20880" cy="268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544760" y="6237360"/>
            <a:ext cx="5333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879960" y="5875200"/>
            <a:ext cx="12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Garamond"/>
              </a:rPr>
              <a:t>Du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Garamond"/>
              </a:rPr>
              <a:t>Proy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414360" y="3529080"/>
            <a:ext cx="120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Garamond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Garamond"/>
              </a:rPr>
              <a:t>Proy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946080" y="565308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26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965560" y="62373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715000" y="5537160"/>
            <a:ext cx="15228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608800" y="62355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791320" y="5683320"/>
            <a:ext cx="1440" cy="565200"/>
          </a:xfrm>
          <a:custGeom>
            <a:avLst/>
            <a:gdLst/>
            <a:ahLst/>
            <a:rect l="l" t="t" r="r" b="b"/>
            <a:pathLst>
              <a:path w="1" h="356">
                <a:moveTo>
                  <a:pt x="0" y="0"/>
                </a:moveTo>
                <a:lnTo>
                  <a:pt x="1" y="35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1523880" y="561348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952560" y="541188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26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656760" y="36385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7018920" y="363852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7857000" y="3224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8307720" y="3224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4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5248440" y="5321160"/>
            <a:ext cx="152280" cy="15264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119560" y="62355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4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321160" y="548316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949320" y="521964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26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289120" y="3949560"/>
            <a:ext cx="34318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00"/>
                </a:solidFill>
                <a:uFillTx/>
                <a:latin typeface="Garamond"/>
              </a:rPr>
              <a:t>Caminos Crítico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990033"/>
                </a:solidFill>
                <a:latin typeface="Garamond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G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990033"/>
                </a:solidFill>
                <a:latin typeface="Garamond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990033"/>
                </a:solidFill>
                <a:latin typeface="Garamond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   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F   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7493040" y="4292640"/>
            <a:ext cx="380880" cy="7621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6278760" y="888840"/>
            <a:ext cx="30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00"/>
                </a:solidFill>
                <a:latin typeface="Garamond"/>
              </a:rPr>
              <a:t>Duración Proyecto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990000"/>
                </a:solidFill>
                <a:latin typeface="Garamond"/>
              </a:rPr>
              <a:t>= 14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558720" y="88920"/>
            <a:ext cx="7670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oyecto Mountain Bi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"/>
          <p:cNvSpPr/>
          <p:nvPr/>
        </p:nvSpPr>
        <p:spPr>
          <a:xfrm>
            <a:off x="1549440" y="5411880"/>
            <a:ext cx="3774960" cy="1440"/>
          </a:xfrm>
          <a:custGeom>
            <a:avLst/>
            <a:gdLst/>
            <a:ahLst/>
            <a:rect l="l" t="t" r="r" b="b"/>
            <a:pathLst>
              <a:path w="2378" h="1">
                <a:moveTo>
                  <a:pt x="2378" y="1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304920" y="21826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A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219320" y="18018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B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219320" y="263988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C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286000" y="2182680"/>
            <a:ext cx="533520" cy="5335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D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733920" y="119232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E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895560" y="216864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F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733920" y="288144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G(2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043600" y="2933640"/>
            <a:ext cx="533160" cy="5335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H(0.5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410080" y="2182680"/>
            <a:ext cx="685800" cy="5335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I(0.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781680" y="218268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J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781680" y="288144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K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8077320" y="24112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L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7848720" y="1258920"/>
            <a:ext cx="761760" cy="4665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Fini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762120" y="2054160"/>
            <a:ext cx="447480" cy="204840"/>
          </a:xfrm>
          <a:custGeom>
            <a:avLst/>
            <a:gdLst/>
            <a:ahLst/>
            <a:rect l="l" t="t" r="r" b="b"/>
            <a:pathLst>
              <a:path w="282" h="129">
                <a:moveTo>
                  <a:pt x="0" y="129"/>
                </a:moveTo>
                <a:lnTo>
                  <a:pt x="282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762120" y="2639880"/>
            <a:ext cx="452160" cy="257400"/>
          </a:xfrm>
          <a:custGeom>
            <a:avLst/>
            <a:gdLst/>
            <a:ahLst/>
            <a:rect l="l" t="t" r="r" b="b"/>
            <a:pathLst>
              <a:path w="285" h="162">
                <a:moveTo>
                  <a:pt x="0" y="0"/>
                </a:moveTo>
                <a:lnTo>
                  <a:pt x="285" y="16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752480" y="2639880"/>
            <a:ext cx="609840" cy="271440"/>
          </a:xfrm>
          <a:custGeom>
            <a:avLst/>
            <a:gdLst/>
            <a:ahLst/>
            <a:rect l="l" t="t" r="r" b="b"/>
            <a:pathLst>
              <a:path w="384" h="171">
                <a:moveTo>
                  <a:pt x="0" y="171"/>
                </a:move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762200" y="2049480"/>
            <a:ext cx="600120" cy="209520"/>
          </a:xfrm>
          <a:custGeom>
            <a:avLst/>
            <a:gdLst/>
            <a:ahLst/>
            <a:rect l="l" t="t" r="r" b="b"/>
            <a:pathLst>
              <a:path w="378" h="132">
                <a:moveTo>
                  <a:pt x="0" y="0"/>
                </a:moveTo>
                <a:lnTo>
                  <a:pt x="378" y="132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743200" y="1501920"/>
            <a:ext cx="976320" cy="757080"/>
          </a:xfrm>
          <a:custGeom>
            <a:avLst/>
            <a:gdLst/>
            <a:ahLst/>
            <a:rect l="l" t="t" r="r" b="b"/>
            <a:pathLst>
              <a:path w="615" h="477">
                <a:moveTo>
                  <a:pt x="0" y="477"/>
                </a:moveTo>
                <a:lnTo>
                  <a:pt x="61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819520" y="2406600"/>
            <a:ext cx="1057320" cy="4680"/>
          </a:xfrm>
          <a:custGeom>
            <a:avLst/>
            <a:gdLst/>
            <a:ahLst/>
            <a:rect l="l" t="t" r="r" b="b"/>
            <a:pathLst>
              <a:path w="666" h="3">
                <a:moveTo>
                  <a:pt x="0" y="3"/>
                </a:moveTo>
                <a:lnTo>
                  <a:pt x="666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1040" bIns="-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743200" y="2639880"/>
            <a:ext cx="984240" cy="489240"/>
          </a:xfrm>
          <a:custGeom>
            <a:avLst/>
            <a:gdLst/>
            <a:ahLst/>
            <a:rect l="l" t="t" r="r" b="b"/>
            <a:pathLst>
              <a:path w="620" h="308">
                <a:moveTo>
                  <a:pt x="0" y="0"/>
                </a:moveTo>
                <a:lnTo>
                  <a:pt x="620" y="308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276800" y="3170160"/>
            <a:ext cx="758880" cy="31680"/>
          </a:xfrm>
          <a:custGeom>
            <a:avLst/>
            <a:gdLst/>
            <a:ahLst/>
            <a:rect l="l" t="t" r="r" b="b"/>
            <a:pathLst>
              <a:path w="478" h="20">
                <a:moveTo>
                  <a:pt x="0" y="0"/>
                </a:moveTo>
                <a:lnTo>
                  <a:pt x="478" y="2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14040" bIns="-14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442120" y="2716200"/>
            <a:ext cx="196560" cy="247680"/>
          </a:xfrm>
          <a:custGeom>
            <a:avLst/>
            <a:gdLst/>
            <a:ahLst/>
            <a:rect l="l" t="t" r="r" b="b"/>
            <a:pathLst>
              <a:path w="124" h="156">
                <a:moveTo>
                  <a:pt x="0" y="156"/>
                </a:moveTo>
                <a:lnTo>
                  <a:pt x="124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448160" y="2411280"/>
            <a:ext cx="961920" cy="1800"/>
          </a:xfrm>
          <a:custGeom>
            <a:avLst/>
            <a:gdLst/>
            <a:ahLst/>
            <a:rect l="l" t="t" r="r" b="b"/>
            <a:pathLst>
              <a:path w="606" h="1">
                <a:moveTo>
                  <a:pt x="0" y="0"/>
                </a:moveTo>
                <a:lnTo>
                  <a:pt x="606" y="1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6091200" y="2411280"/>
            <a:ext cx="690480" cy="1800"/>
          </a:xfrm>
          <a:custGeom>
            <a:avLst/>
            <a:gdLst/>
            <a:ahLst/>
            <a:rect l="l" t="t" r="r" b="b"/>
            <a:pathLst>
              <a:path w="435" h="1">
                <a:moveTo>
                  <a:pt x="0" y="0"/>
                </a:moveTo>
                <a:lnTo>
                  <a:pt x="435" y="1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915160" y="2678040"/>
            <a:ext cx="860400" cy="438120"/>
          </a:xfrm>
          <a:custGeom>
            <a:avLst/>
            <a:gdLst/>
            <a:ahLst/>
            <a:rect l="l" t="t" r="r" b="b"/>
            <a:pathLst>
              <a:path w="542" h="276">
                <a:moveTo>
                  <a:pt x="0" y="0"/>
                </a:moveTo>
                <a:lnTo>
                  <a:pt x="542" y="276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7318440" y="2801880"/>
            <a:ext cx="777960" cy="352440"/>
          </a:xfrm>
          <a:custGeom>
            <a:avLst/>
            <a:gdLst/>
            <a:ahLst/>
            <a:rect l="l" t="t" r="r" b="b"/>
            <a:pathLst>
              <a:path w="490" h="222">
                <a:moveTo>
                  <a:pt x="0" y="222"/>
                </a:moveTo>
                <a:lnTo>
                  <a:pt x="490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7238880" y="1654200"/>
            <a:ext cx="766800" cy="604800"/>
          </a:xfrm>
          <a:custGeom>
            <a:avLst/>
            <a:gdLst/>
            <a:ahLst/>
            <a:rect l="l" t="t" r="r" b="b"/>
            <a:pathLst>
              <a:path w="483" h="381">
                <a:moveTo>
                  <a:pt x="0" y="381"/>
                </a:moveTo>
                <a:lnTo>
                  <a:pt x="48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8305920" y="1730520"/>
            <a:ext cx="1440" cy="680760"/>
          </a:xfrm>
          <a:custGeom>
            <a:avLst/>
            <a:gdLst/>
            <a:ahLst/>
            <a:rect l="l" t="t" r="r" b="b"/>
            <a:pathLst>
              <a:path w="1" h="429">
                <a:moveTo>
                  <a:pt x="0" y="429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267080" y="145404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271440" y="2716200"/>
            <a:ext cx="490680" cy="523800"/>
            <a:chOff x="271440" y="2716200"/>
            <a:chExt cx="490680" cy="523800"/>
          </a:xfrm>
        </p:grpSpPr>
        <p:sp>
          <p:nvSpPr>
            <p:cNvPr id="853" name=""/>
            <p:cNvSpPr/>
            <p:nvPr/>
          </p:nvSpPr>
          <p:spPr>
            <a:xfrm>
              <a:off x="516960" y="27162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71440" y="297792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5" name=""/>
          <p:cNvSpPr/>
          <p:nvPr/>
        </p:nvSpPr>
        <p:spPr>
          <a:xfrm>
            <a:off x="554040" y="74916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23920" y="2711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95360" y="2711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8" name=""/>
          <p:cNvGrpSpPr/>
          <p:nvPr/>
        </p:nvGrpSpPr>
        <p:grpSpPr>
          <a:xfrm>
            <a:off x="1239840" y="1273320"/>
            <a:ext cx="490680" cy="523800"/>
            <a:chOff x="1239840" y="1273320"/>
            <a:chExt cx="490680" cy="523800"/>
          </a:xfrm>
        </p:grpSpPr>
        <p:sp>
          <p:nvSpPr>
            <p:cNvPr id="859" name=""/>
            <p:cNvSpPr/>
            <p:nvPr/>
          </p:nvSpPr>
          <p:spPr>
            <a:xfrm>
              <a:off x="1485360" y="127332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239840" y="153504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1" name=""/>
          <p:cNvSpPr/>
          <p:nvPr/>
        </p:nvSpPr>
        <p:spPr>
          <a:xfrm>
            <a:off x="1192320" y="1268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463760" y="1268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3" name=""/>
          <p:cNvGrpSpPr/>
          <p:nvPr/>
        </p:nvGrpSpPr>
        <p:grpSpPr>
          <a:xfrm>
            <a:off x="1690560" y="2976480"/>
            <a:ext cx="490680" cy="523800"/>
            <a:chOff x="1690560" y="2976480"/>
            <a:chExt cx="490680" cy="523800"/>
          </a:xfrm>
        </p:grpSpPr>
        <p:sp>
          <p:nvSpPr>
            <p:cNvPr id="864" name=""/>
            <p:cNvSpPr/>
            <p:nvPr/>
          </p:nvSpPr>
          <p:spPr>
            <a:xfrm>
              <a:off x="1936080" y="297648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690560" y="323820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6" name=""/>
          <p:cNvSpPr/>
          <p:nvPr/>
        </p:nvSpPr>
        <p:spPr>
          <a:xfrm>
            <a:off x="1643040" y="2971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914480" y="2971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8" name=""/>
          <p:cNvGrpSpPr/>
          <p:nvPr/>
        </p:nvGrpSpPr>
        <p:grpSpPr>
          <a:xfrm>
            <a:off x="2324160" y="1649520"/>
            <a:ext cx="490320" cy="523800"/>
            <a:chOff x="2324160" y="1649520"/>
            <a:chExt cx="490320" cy="523800"/>
          </a:xfrm>
        </p:grpSpPr>
        <p:sp>
          <p:nvSpPr>
            <p:cNvPr id="869" name=""/>
            <p:cNvSpPr/>
            <p:nvPr/>
          </p:nvSpPr>
          <p:spPr>
            <a:xfrm>
              <a:off x="2569320" y="164952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324160" y="191124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1" name=""/>
          <p:cNvSpPr/>
          <p:nvPr/>
        </p:nvSpPr>
        <p:spPr>
          <a:xfrm>
            <a:off x="2276640" y="1644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548080" y="1644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3" name=""/>
          <p:cNvGrpSpPr/>
          <p:nvPr/>
        </p:nvGrpSpPr>
        <p:grpSpPr>
          <a:xfrm>
            <a:off x="4343400" y="1801800"/>
            <a:ext cx="490680" cy="523800"/>
            <a:chOff x="4343400" y="1801800"/>
            <a:chExt cx="490680" cy="523800"/>
          </a:xfrm>
        </p:grpSpPr>
        <p:sp>
          <p:nvSpPr>
            <p:cNvPr id="874" name=""/>
            <p:cNvSpPr/>
            <p:nvPr/>
          </p:nvSpPr>
          <p:spPr>
            <a:xfrm>
              <a:off x="4588920" y="18018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343400" y="206352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6" name=""/>
          <p:cNvSpPr/>
          <p:nvPr/>
        </p:nvSpPr>
        <p:spPr>
          <a:xfrm>
            <a:off x="4295880" y="1797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567320" y="1797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8" name=""/>
          <p:cNvGrpSpPr/>
          <p:nvPr/>
        </p:nvGrpSpPr>
        <p:grpSpPr>
          <a:xfrm>
            <a:off x="4411800" y="887400"/>
            <a:ext cx="490320" cy="523800"/>
            <a:chOff x="4411800" y="887400"/>
            <a:chExt cx="490320" cy="523800"/>
          </a:xfrm>
        </p:grpSpPr>
        <p:sp>
          <p:nvSpPr>
            <p:cNvPr id="879" name=""/>
            <p:cNvSpPr/>
            <p:nvPr/>
          </p:nvSpPr>
          <p:spPr>
            <a:xfrm>
              <a:off x="4656960" y="8874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411800" y="114912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1" name=""/>
          <p:cNvSpPr/>
          <p:nvPr/>
        </p:nvSpPr>
        <p:spPr>
          <a:xfrm>
            <a:off x="4364280" y="882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635720" y="882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3754440" y="3425760"/>
            <a:ext cx="490680" cy="523800"/>
            <a:chOff x="3754440" y="3425760"/>
            <a:chExt cx="490680" cy="523800"/>
          </a:xfrm>
        </p:grpSpPr>
        <p:sp>
          <p:nvSpPr>
            <p:cNvPr id="884" name=""/>
            <p:cNvSpPr/>
            <p:nvPr/>
          </p:nvSpPr>
          <p:spPr>
            <a:xfrm>
              <a:off x="3999960" y="342576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754440" y="368748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6" name=""/>
          <p:cNvSpPr/>
          <p:nvPr/>
        </p:nvSpPr>
        <p:spPr>
          <a:xfrm>
            <a:off x="3706920" y="3421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978720" y="34210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5064120" y="3459240"/>
            <a:ext cx="490680" cy="523800"/>
            <a:chOff x="5064120" y="3459240"/>
            <a:chExt cx="490680" cy="523800"/>
          </a:xfrm>
        </p:grpSpPr>
        <p:sp>
          <p:nvSpPr>
            <p:cNvPr id="889" name=""/>
            <p:cNvSpPr/>
            <p:nvPr/>
          </p:nvSpPr>
          <p:spPr>
            <a:xfrm>
              <a:off x="5309640" y="345924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064120" y="372096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1" name=""/>
          <p:cNvSpPr/>
          <p:nvPr/>
        </p:nvSpPr>
        <p:spPr>
          <a:xfrm>
            <a:off x="4920120" y="34545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5288040" y="34545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3" name=""/>
          <p:cNvGrpSpPr/>
          <p:nvPr/>
        </p:nvGrpSpPr>
        <p:grpSpPr>
          <a:xfrm>
            <a:off x="5459400" y="1668600"/>
            <a:ext cx="490680" cy="523800"/>
            <a:chOff x="5459400" y="1668600"/>
            <a:chExt cx="490680" cy="523800"/>
          </a:xfrm>
        </p:grpSpPr>
        <p:sp>
          <p:nvSpPr>
            <p:cNvPr id="894" name=""/>
            <p:cNvSpPr/>
            <p:nvPr/>
          </p:nvSpPr>
          <p:spPr>
            <a:xfrm>
              <a:off x="5704920" y="16686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459400" y="193032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6" name=""/>
          <p:cNvSpPr/>
          <p:nvPr/>
        </p:nvSpPr>
        <p:spPr>
          <a:xfrm>
            <a:off x="5376960" y="1644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5681520" y="163980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6705720" y="1668600"/>
            <a:ext cx="490320" cy="523800"/>
            <a:chOff x="6705720" y="1668600"/>
            <a:chExt cx="490320" cy="523800"/>
          </a:xfrm>
        </p:grpSpPr>
        <p:sp>
          <p:nvSpPr>
            <p:cNvPr id="899" name=""/>
            <p:cNvSpPr/>
            <p:nvPr/>
          </p:nvSpPr>
          <p:spPr>
            <a:xfrm>
              <a:off x="6950880" y="16686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705720" y="193032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1" name=""/>
          <p:cNvSpPr/>
          <p:nvPr/>
        </p:nvSpPr>
        <p:spPr>
          <a:xfrm>
            <a:off x="6555240" y="16635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891840" y="16574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800760" y="3421080"/>
            <a:ext cx="490680" cy="523800"/>
            <a:chOff x="6800760" y="3421080"/>
            <a:chExt cx="490680" cy="523800"/>
          </a:xfrm>
        </p:grpSpPr>
        <p:sp>
          <p:nvSpPr>
            <p:cNvPr id="904" name=""/>
            <p:cNvSpPr/>
            <p:nvPr/>
          </p:nvSpPr>
          <p:spPr>
            <a:xfrm>
              <a:off x="7046280" y="342108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800760" y="368280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6" name=""/>
          <p:cNvSpPr/>
          <p:nvPr/>
        </p:nvSpPr>
        <p:spPr>
          <a:xfrm>
            <a:off x="6631200" y="34164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993360" y="341640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8" name=""/>
          <p:cNvGrpSpPr/>
          <p:nvPr/>
        </p:nvGrpSpPr>
        <p:grpSpPr>
          <a:xfrm>
            <a:off x="8115480" y="3025800"/>
            <a:ext cx="490320" cy="523800"/>
            <a:chOff x="8115480" y="3025800"/>
            <a:chExt cx="490320" cy="523800"/>
          </a:xfrm>
        </p:grpSpPr>
        <p:sp>
          <p:nvSpPr>
            <p:cNvPr id="909" name=""/>
            <p:cNvSpPr/>
            <p:nvPr/>
          </p:nvSpPr>
          <p:spPr>
            <a:xfrm>
              <a:off x="8360640" y="30258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8115480" y="328752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7857000" y="302112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8307720" y="302112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604040" y="113040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154760" y="112860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6897960" y="18813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475680" y="1892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5399280" y="1887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689440" y="188280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920120" y="3676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5295960" y="3664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710160" y="3630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981960" y="36306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310280" y="2000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565880" y="19875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2281320" y="1843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552760" y="1843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1189080" y="1461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460520" y="1461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638360" y="3189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1909800" y="3189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30400" y="29084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01840" y="29084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91320" y="2878200"/>
            <a:ext cx="0" cy="33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477120" y="2878200"/>
            <a:ext cx="0" cy="33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192720" y="5703840"/>
            <a:ext cx="15264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6269040" y="5856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H="1">
            <a:off x="1544400" y="578016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H="1" flipV="1">
            <a:off x="1523880" y="3556080"/>
            <a:ext cx="20880" cy="268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544760" y="6237360"/>
            <a:ext cx="5333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879960" y="5875200"/>
            <a:ext cx="12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Garamond"/>
              </a:rPr>
              <a:t>Du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Garamond"/>
              </a:rPr>
              <a:t>Proy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46160" y="3657600"/>
            <a:ext cx="120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Garamond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Garamond"/>
              </a:rPr>
              <a:t>Proy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946080" y="565308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26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5965560" y="62373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5715000" y="5537160"/>
            <a:ext cx="15228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608800" y="62355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791320" y="5683320"/>
            <a:ext cx="1440" cy="565200"/>
          </a:xfrm>
          <a:custGeom>
            <a:avLst/>
            <a:gdLst/>
            <a:ahLst/>
            <a:rect l="l" t="t" r="r" b="b"/>
            <a:pathLst>
              <a:path w="1" h="356">
                <a:moveTo>
                  <a:pt x="0" y="0"/>
                </a:moveTo>
                <a:lnTo>
                  <a:pt x="1" y="35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H="1">
            <a:off x="1523880" y="561348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952560" y="541188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26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656760" y="36385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018920" y="363852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857000" y="3224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8307720" y="3224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5248440" y="5321160"/>
            <a:ext cx="152280" cy="15264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5119560" y="62355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4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321160" y="548316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949320" y="521964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26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419720" y="4826160"/>
            <a:ext cx="15228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268520" y="62229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3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495680" y="49528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1523880" y="4876920"/>
            <a:ext cx="2895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936720" y="468648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27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278760" y="888840"/>
            <a:ext cx="30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00"/>
                </a:solidFill>
                <a:latin typeface="Garamond"/>
              </a:rPr>
              <a:t>Duración Proyecto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990000"/>
                </a:solidFill>
                <a:latin typeface="Garamond"/>
              </a:rPr>
              <a:t>= 13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604840" y="4038480"/>
            <a:ext cx="34318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00"/>
                </a:solidFill>
                <a:uFillTx/>
                <a:latin typeface="Garamond"/>
              </a:rPr>
              <a:t>Caminos Crítico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990033"/>
                </a:solidFill>
                <a:latin typeface="Garamond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G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990033"/>
                </a:solidFill>
                <a:latin typeface="Garamond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990033"/>
                </a:solidFill>
                <a:latin typeface="Garamond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990033"/>
                </a:solidFill>
                <a:latin typeface="Garamond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   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F   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990033"/>
                </a:solidFill>
                <a:latin typeface="Garamond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6049800" y="4379760"/>
            <a:ext cx="381240" cy="7621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558720" y="88920"/>
            <a:ext cx="7670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oyecto Mountain Bi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38080" y="1455840"/>
            <a:ext cx="7772400" cy="66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Una unidad, mediano-largo plazo (meses o añ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No es repetitivos como procesos de produ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Muchas actividades interrelacion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Difícil de planificar y contr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Equipos de uso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Aunque alto grado de especialización en algunas á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50000"/>
              </a:lnSpc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Alto grado de especialización en el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5680" y="152280"/>
            <a:ext cx="5664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Qué es un Proyecto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244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/>
          <p:nvPr/>
        </p:nvSpPr>
        <p:spPr>
          <a:xfrm>
            <a:off x="1549440" y="5411880"/>
            <a:ext cx="3774960" cy="1440"/>
          </a:xfrm>
          <a:custGeom>
            <a:avLst/>
            <a:gdLst/>
            <a:ahLst/>
            <a:rect l="l" t="t" r="r" b="b"/>
            <a:pathLst>
              <a:path w="2378" h="1">
                <a:moveTo>
                  <a:pt x="2378" y="1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04920" y="21826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A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219320" y="1801800"/>
            <a:ext cx="533160" cy="5335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B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1219320" y="2639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C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2286000" y="2182680"/>
            <a:ext cx="533520" cy="5335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D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733920" y="119232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E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895560" y="216864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F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733920" y="288144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G(2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043600" y="2933640"/>
            <a:ext cx="533160" cy="5335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H(0.5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5410080" y="2182680"/>
            <a:ext cx="685800" cy="5335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I(0.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781680" y="218268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J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781680" y="288144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K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8077320" y="24112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L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848720" y="1258920"/>
            <a:ext cx="761760" cy="4665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Fini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762120" y="2054160"/>
            <a:ext cx="447480" cy="204840"/>
          </a:xfrm>
          <a:custGeom>
            <a:avLst/>
            <a:gdLst/>
            <a:ahLst/>
            <a:rect l="l" t="t" r="r" b="b"/>
            <a:pathLst>
              <a:path w="282" h="129">
                <a:moveTo>
                  <a:pt x="0" y="129"/>
                </a:moveTo>
                <a:lnTo>
                  <a:pt x="282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762120" y="2639880"/>
            <a:ext cx="452160" cy="257400"/>
          </a:xfrm>
          <a:custGeom>
            <a:avLst/>
            <a:gdLst/>
            <a:ahLst/>
            <a:rect l="l" t="t" r="r" b="b"/>
            <a:pathLst>
              <a:path w="285" h="162">
                <a:moveTo>
                  <a:pt x="0" y="0"/>
                </a:moveTo>
                <a:lnTo>
                  <a:pt x="285" y="162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752480" y="2639880"/>
            <a:ext cx="609840" cy="271440"/>
          </a:xfrm>
          <a:custGeom>
            <a:avLst/>
            <a:gdLst/>
            <a:ahLst/>
            <a:rect l="l" t="t" r="r" b="b"/>
            <a:pathLst>
              <a:path w="384" h="171">
                <a:moveTo>
                  <a:pt x="0" y="171"/>
                </a:moveTo>
                <a:lnTo>
                  <a:pt x="384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762200" y="2049480"/>
            <a:ext cx="600120" cy="209520"/>
          </a:xfrm>
          <a:custGeom>
            <a:avLst/>
            <a:gdLst/>
            <a:ahLst/>
            <a:rect l="l" t="t" r="r" b="b"/>
            <a:pathLst>
              <a:path w="378" h="132">
                <a:moveTo>
                  <a:pt x="0" y="0"/>
                </a:moveTo>
                <a:lnTo>
                  <a:pt x="378" y="132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743200" y="1501920"/>
            <a:ext cx="976320" cy="757080"/>
          </a:xfrm>
          <a:custGeom>
            <a:avLst/>
            <a:gdLst/>
            <a:ahLst/>
            <a:rect l="l" t="t" r="r" b="b"/>
            <a:pathLst>
              <a:path w="615" h="477">
                <a:moveTo>
                  <a:pt x="0" y="477"/>
                </a:moveTo>
                <a:lnTo>
                  <a:pt x="61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2819520" y="2406600"/>
            <a:ext cx="1057320" cy="4680"/>
          </a:xfrm>
          <a:custGeom>
            <a:avLst/>
            <a:gdLst/>
            <a:ahLst/>
            <a:rect l="l" t="t" r="r" b="b"/>
            <a:pathLst>
              <a:path w="666" h="3">
                <a:moveTo>
                  <a:pt x="0" y="3"/>
                </a:moveTo>
                <a:lnTo>
                  <a:pt x="666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1040" bIns="-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743200" y="2639880"/>
            <a:ext cx="984240" cy="489240"/>
          </a:xfrm>
          <a:custGeom>
            <a:avLst/>
            <a:gdLst/>
            <a:ahLst/>
            <a:rect l="l" t="t" r="r" b="b"/>
            <a:pathLst>
              <a:path w="620" h="308">
                <a:moveTo>
                  <a:pt x="0" y="0"/>
                </a:moveTo>
                <a:lnTo>
                  <a:pt x="620" y="308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276800" y="3170160"/>
            <a:ext cx="758880" cy="31680"/>
          </a:xfrm>
          <a:custGeom>
            <a:avLst/>
            <a:gdLst/>
            <a:ahLst/>
            <a:rect l="l" t="t" r="r" b="b"/>
            <a:pathLst>
              <a:path w="478" h="20">
                <a:moveTo>
                  <a:pt x="0" y="0"/>
                </a:moveTo>
                <a:lnTo>
                  <a:pt x="478" y="2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14040" bIns="-14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5442120" y="2716200"/>
            <a:ext cx="196560" cy="247680"/>
          </a:xfrm>
          <a:custGeom>
            <a:avLst/>
            <a:gdLst/>
            <a:ahLst/>
            <a:rect l="l" t="t" r="r" b="b"/>
            <a:pathLst>
              <a:path w="124" h="156">
                <a:moveTo>
                  <a:pt x="0" y="156"/>
                </a:moveTo>
                <a:lnTo>
                  <a:pt x="124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4448160" y="2411280"/>
            <a:ext cx="961920" cy="1800"/>
          </a:xfrm>
          <a:custGeom>
            <a:avLst/>
            <a:gdLst/>
            <a:ahLst/>
            <a:rect l="l" t="t" r="r" b="b"/>
            <a:pathLst>
              <a:path w="606" h="1">
                <a:moveTo>
                  <a:pt x="0" y="0"/>
                </a:moveTo>
                <a:lnTo>
                  <a:pt x="606" y="1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091200" y="2411280"/>
            <a:ext cx="690480" cy="1800"/>
          </a:xfrm>
          <a:custGeom>
            <a:avLst/>
            <a:gdLst/>
            <a:ahLst/>
            <a:rect l="l" t="t" r="r" b="b"/>
            <a:pathLst>
              <a:path w="435" h="1">
                <a:moveTo>
                  <a:pt x="0" y="0"/>
                </a:moveTo>
                <a:lnTo>
                  <a:pt x="435" y="1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915160" y="2678040"/>
            <a:ext cx="860400" cy="438120"/>
          </a:xfrm>
          <a:custGeom>
            <a:avLst/>
            <a:gdLst/>
            <a:ahLst/>
            <a:rect l="l" t="t" r="r" b="b"/>
            <a:pathLst>
              <a:path w="542" h="276">
                <a:moveTo>
                  <a:pt x="0" y="0"/>
                </a:moveTo>
                <a:lnTo>
                  <a:pt x="542" y="276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7318440" y="2801880"/>
            <a:ext cx="777960" cy="352440"/>
          </a:xfrm>
          <a:custGeom>
            <a:avLst/>
            <a:gdLst/>
            <a:ahLst/>
            <a:rect l="l" t="t" r="r" b="b"/>
            <a:pathLst>
              <a:path w="490" h="222">
                <a:moveTo>
                  <a:pt x="0" y="222"/>
                </a:moveTo>
                <a:lnTo>
                  <a:pt x="490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7238880" y="1654200"/>
            <a:ext cx="766800" cy="604800"/>
          </a:xfrm>
          <a:custGeom>
            <a:avLst/>
            <a:gdLst/>
            <a:ahLst/>
            <a:rect l="l" t="t" r="r" b="b"/>
            <a:pathLst>
              <a:path w="483" h="381">
                <a:moveTo>
                  <a:pt x="0" y="381"/>
                </a:moveTo>
                <a:lnTo>
                  <a:pt x="48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8305920" y="1730520"/>
            <a:ext cx="1440" cy="680760"/>
          </a:xfrm>
          <a:custGeom>
            <a:avLst/>
            <a:gdLst/>
            <a:ahLst/>
            <a:rect l="l" t="t" r="r" b="b"/>
            <a:pathLst>
              <a:path w="1" h="429">
                <a:moveTo>
                  <a:pt x="0" y="429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267080" y="145404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6" name=""/>
          <p:cNvGrpSpPr/>
          <p:nvPr/>
        </p:nvGrpSpPr>
        <p:grpSpPr>
          <a:xfrm>
            <a:off x="271440" y="2716200"/>
            <a:ext cx="490680" cy="523800"/>
            <a:chOff x="271440" y="2716200"/>
            <a:chExt cx="490680" cy="523800"/>
          </a:xfrm>
        </p:grpSpPr>
        <p:sp>
          <p:nvSpPr>
            <p:cNvPr id="997" name=""/>
            <p:cNvSpPr/>
            <p:nvPr/>
          </p:nvSpPr>
          <p:spPr>
            <a:xfrm>
              <a:off x="516960" y="27162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71440" y="297792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9" name=""/>
          <p:cNvSpPr/>
          <p:nvPr/>
        </p:nvSpPr>
        <p:spPr>
          <a:xfrm>
            <a:off x="554040" y="74916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23920" y="2711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495360" y="2711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2" name=""/>
          <p:cNvGrpSpPr/>
          <p:nvPr/>
        </p:nvGrpSpPr>
        <p:grpSpPr>
          <a:xfrm>
            <a:off x="1239840" y="1273320"/>
            <a:ext cx="490680" cy="523800"/>
            <a:chOff x="1239840" y="1273320"/>
            <a:chExt cx="490680" cy="523800"/>
          </a:xfrm>
        </p:grpSpPr>
        <p:sp>
          <p:nvSpPr>
            <p:cNvPr id="1003" name=""/>
            <p:cNvSpPr/>
            <p:nvPr/>
          </p:nvSpPr>
          <p:spPr>
            <a:xfrm>
              <a:off x="1485360" y="127332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239840" y="153504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5" name=""/>
          <p:cNvSpPr/>
          <p:nvPr/>
        </p:nvSpPr>
        <p:spPr>
          <a:xfrm>
            <a:off x="1192320" y="1268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463760" y="1268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7" name=""/>
          <p:cNvGrpSpPr/>
          <p:nvPr/>
        </p:nvGrpSpPr>
        <p:grpSpPr>
          <a:xfrm>
            <a:off x="1690560" y="2976480"/>
            <a:ext cx="490680" cy="523800"/>
            <a:chOff x="1690560" y="2976480"/>
            <a:chExt cx="490680" cy="523800"/>
          </a:xfrm>
        </p:grpSpPr>
        <p:sp>
          <p:nvSpPr>
            <p:cNvPr id="1008" name=""/>
            <p:cNvSpPr/>
            <p:nvPr/>
          </p:nvSpPr>
          <p:spPr>
            <a:xfrm>
              <a:off x="1936080" y="297648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690560" y="323820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0" name=""/>
          <p:cNvSpPr/>
          <p:nvPr/>
        </p:nvSpPr>
        <p:spPr>
          <a:xfrm>
            <a:off x="1643040" y="2971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914480" y="2971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2" name=""/>
          <p:cNvGrpSpPr/>
          <p:nvPr/>
        </p:nvGrpSpPr>
        <p:grpSpPr>
          <a:xfrm>
            <a:off x="2324160" y="1649520"/>
            <a:ext cx="490320" cy="523800"/>
            <a:chOff x="2324160" y="1649520"/>
            <a:chExt cx="490320" cy="523800"/>
          </a:xfrm>
        </p:grpSpPr>
        <p:sp>
          <p:nvSpPr>
            <p:cNvPr id="1013" name=""/>
            <p:cNvSpPr/>
            <p:nvPr/>
          </p:nvSpPr>
          <p:spPr>
            <a:xfrm>
              <a:off x="2569320" y="164952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324160" y="191124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5" name=""/>
          <p:cNvSpPr/>
          <p:nvPr/>
        </p:nvSpPr>
        <p:spPr>
          <a:xfrm>
            <a:off x="2276640" y="1644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2548080" y="1644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4343400" y="1801800"/>
            <a:ext cx="490680" cy="523800"/>
            <a:chOff x="4343400" y="1801800"/>
            <a:chExt cx="490680" cy="523800"/>
          </a:xfrm>
        </p:grpSpPr>
        <p:sp>
          <p:nvSpPr>
            <p:cNvPr id="1018" name=""/>
            <p:cNvSpPr/>
            <p:nvPr/>
          </p:nvSpPr>
          <p:spPr>
            <a:xfrm>
              <a:off x="4588920" y="18018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343400" y="206352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4295880" y="1797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4567320" y="1797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2" name=""/>
          <p:cNvGrpSpPr/>
          <p:nvPr/>
        </p:nvGrpSpPr>
        <p:grpSpPr>
          <a:xfrm>
            <a:off x="4411800" y="887400"/>
            <a:ext cx="490320" cy="523800"/>
            <a:chOff x="4411800" y="887400"/>
            <a:chExt cx="490320" cy="523800"/>
          </a:xfrm>
        </p:grpSpPr>
        <p:sp>
          <p:nvSpPr>
            <p:cNvPr id="1023" name=""/>
            <p:cNvSpPr/>
            <p:nvPr/>
          </p:nvSpPr>
          <p:spPr>
            <a:xfrm>
              <a:off x="4656960" y="8874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411800" y="114912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5" name=""/>
          <p:cNvSpPr/>
          <p:nvPr/>
        </p:nvSpPr>
        <p:spPr>
          <a:xfrm>
            <a:off x="4364280" y="882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635720" y="882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7" name=""/>
          <p:cNvGrpSpPr/>
          <p:nvPr/>
        </p:nvGrpSpPr>
        <p:grpSpPr>
          <a:xfrm>
            <a:off x="3754440" y="3425760"/>
            <a:ext cx="490680" cy="523800"/>
            <a:chOff x="3754440" y="3425760"/>
            <a:chExt cx="490680" cy="523800"/>
          </a:xfrm>
        </p:grpSpPr>
        <p:sp>
          <p:nvSpPr>
            <p:cNvPr id="1028" name=""/>
            <p:cNvSpPr/>
            <p:nvPr/>
          </p:nvSpPr>
          <p:spPr>
            <a:xfrm>
              <a:off x="3999960" y="342576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3754440" y="368748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0" name=""/>
          <p:cNvSpPr/>
          <p:nvPr/>
        </p:nvSpPr>
        <p:spPr>
          <a:xfrm>
            <a:off x="3706920" y="3421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3978720" y="34210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2" name=""/>
          <p:cNvGrpSpPr/>
          <p:nvPr/>
        </p:nvGrpSpPr>
        <p:grpSpPr>
          <a:xfrm>
            <a:off x="5064120" y="3459240"/>
            <a:ext cx="490680" cy="523800"/>
            <a:chOff x="5064120" y="3459240"/>
            <a:chExt cx="490680" cy="523800"/>
          </a:xfrm>
        </p:grpSpPr>
        <p:sp>
          <p:nvSpPr>
            <p:cNvPr id="1033" name=""/>
            <p:cNvSpPr/>
            <p:nvPr/>
          </p:nvSpPr>
          <p:spPr>
            <a:xfrm>
              <a:off x="5309640" y="345924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064120" y="372096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5" name=""/>
          <p:cNvSpPr/>
          <p:nvPr/>
        </p:nvSpPr>
        <p:spPr>
          <a:xfrm>
            <a:off x="4920120" y="34545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5288040" y="34545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7" name=""/>
          <p:cNvGrpSpPr/>
          <p:nvPr/>
        </p:nvGrpSpPr>
        <p:grpSpPr>
          <a:xfrm>
            <a:off x="5459400" y="1668600"/>
            <a:ext cx="490680" cy="523800"/>
            <a:chOff x="5459400" y="1668600"/>
            <a:chExt cx="490680" cy="523800"/>
          </a:xfrm>
        </p:grpSpPr>
        <p:sp>
          <p:nvSpPr>
            <p:cNvPr id="1038" name=""/>
            <p:cNvSpPr/>
            <p:nvPr/>
          </p:nvSpPr>
          <p:spPr>
            <a:xfrm>
              <a:off x="5704920" y="16686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459400" y="193032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0" name=""/>
          <p:cNvSpPr/>
          <p:nvPr/>
        </p:nvSpPr>
        <p:spPr>
          <a:xfrm>
            <a:off x="5376960" y="1644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5681520" y="163980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.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2" name=""/>
          <p:cNvGrpSpPr/>
          <p:nvPr/>
        </p:nvGrpSpPr>
        <p:grpSpPr>
          <a:xfrm>
            <a:off x="6705720" y="1668600"/>
            <a:ext cx="490320" cy="523800"/>
            <a:chOff x="6705720" y="1668600"/>
            <a:chExt cx="490320" cy="523800"/>
          </a:xfrm>
        </p:grpSpPr>
        <p:sp>
          <p:nvSpPr>
            <p:cNvPr id="1043" name=""/>
            <p:cNvSpPr/>
            <p:nvPr/>
          </p:nvSpPr>
          <p:spPr>
            <a:xfrm>
              <a:off x="6950880" y="16686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705720" y="193032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5" name=""/>
          <p:cNvSpPr/>
          <p:nvPr/>
        </p:nvSpPr>
        <p:spPr>
          <a:xfrm>
            <a:off x="6555240" y="16635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891840" y="16574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7" name=""/>
          <p:cNvGrpSpPr/>
          <p:nvPr/>
        </p:nvGrpSpPr>
        <p:grpSpPr>
          <a:xfrm>
            <a:off x="6800760" y="3421080"/>
            <a:ext cx="490680" cy="523800"/>
            <a:chOff x="6800760" y="3421080"/>
            <a:chExt cx="490680" cy="523800"/>
          </a:xfrm>
        </p:grpSpPr>
        <p:sp>
          <p:nvSpPr>
            <p:cNvPr id="1048" name=""/>
            <p:cNvSpPr/>
            <p:nvPr/>
          </p:nvSpPr>
          <p:spPr>
            <a:xfrm>
              <a:off x="7046280" y="342108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800760" y="368280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0" name=""/>
          <p:cNvSpPr/>
          <p:nvPr/>
        </p:nvSpPr>
        <p:spPr>
          <a:xfrm>
            <a:off x="6631200" y="34164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993360" y="34164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2" name=""/>
          <p:cNvGrpSpPr/>
          <p:nvPr/>
        </p:nvGrpSpPr>
        <p:grpSpPr>
          <a:xfrm>
            <a:off x="8115480" y="3025800"/>
            <a:ext cx="490320" cy="523800"/>
            <a:chOff x="8115480" y="3025800"/>
            <a:chExt cx="490320" cy="523800"/>
          </a:xfrm>
        </p:grpSpPr>
        <p:sp>
          <p:nvSpPr>
            <p:cNvPr id="1053" name=""/>
            <p:cNvSpPr/>
            <p:nvPr/>
          </p:nvSpPr>
          <p:spPr>
            <a:xfrm>
              <a:off x="8360640" y="30258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115480" y="328752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5" name=""/>
          <p:cNvSpPr/>
          <p:nvPr/>
        </p:nvSpPr>
        <p:spPr>
          <a:xfrm>
            <a:off x="7857000" y="30211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8307720" y="302112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4604040" y="113040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4154760" y="112860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897960" y="18813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475680" y="1892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5399280" y="1887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689440" y="188280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4920120" y="3676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295960" y="3664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710160" y="3630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3981960" y="36306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310280" y="2000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565880" y="19875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281320" y="1843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2552760" y="1843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1189080" y="1461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1460520" y="1461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1638360" y="3189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1909800" y="3189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30400" y="29084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01840" y="29084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5791320" y="2878200"/>
            <a:ext cx="0" cy="33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6477120" y="2878200"/>
            <a:ext cx="0" cy="33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6192720" y="5703840"/>
            <a:ext cx="15264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6269040" y="5856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H="1">
            <a:off x="1544400" y="578016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H="1" flipV="1">
            <a:off x="1523880" y="3556080"/>
            <a:ext cx="20880" cy="268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544760" y="6237360"/>
            <a:ext cx="5333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879960" y="5875200"/>
            <a:ext cx="12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Garamond"/>
              </a:rPr>
              <a:t>Du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Garamond"/>
              </a:rPr>
              <a:t>Proy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-30240" y="4138560"/>
            <a:ext cx="120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Garamond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Garamond"/>
              </a:rPr>
              <a:t>Proy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946080" y="565308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26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5965560" y="62373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5715000" y="5537160"/>
            <a:ext cx="15228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608800" y="62355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5791320" y="5683320"/>
            <a:ext cx="1440" cy="565200"/>
          </a:xfrm>
          <a:custGeom>
            <a:avLst/>
            <a:gdLst/>
            <a:ahLst/>
            <a:rect l="l" t="t" r="r" b="b"/>
            <a:pathLst>
              <a:path w="1" h="356">
                <a:moveTo>
                  <a:pt x="0" y="0"/>
                </a:moveTo>
                <a:lnTo>
                  <a:pt x="1" y="35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 flipH="1">
            <a:off x="1523880" y="561348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952560" y="541188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26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656760" y="36385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7018560" y="36385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7857000" y="3224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8307720" y="3224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5248440" y="5321160"/>
            <a:ext cx="152280" cy="15264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5119560" y="62355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4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321160" y="548316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949320" y="521964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26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419720" y="4826160"/>
            <a:ext cx="15228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4268520" y="62229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3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495680" y="49528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 flipH="1">
            <a:off x="1523880" y="4876920"/>
            <a:ext cx="2895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936720" y="468648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27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3328920" y="62247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505320" y="3809880"/>
            <a:ext cx="152280" cy="15264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3581280" y="3962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914400" y="370836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28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 flipH="1">
            <a:off x="1523880" y="388620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517360" y="3886200"/>
            <a:ext cx="3463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000000"/>
                </a:solidFill>
                <a:uFillTx/>
                <a:latin typeface="Garamond"/>
              </a:rPr>
              <a:t>Caminos Críticos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Garamond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aramond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1800" spc="-1" strike="noStrike">
                <a:solidFill>
                  <a:srgbClr val="990033"/>
                </a:solidFill>
                <a:latin typeface="Garamond"/>
              </a:rPr>
              <a:t>B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1800" spc="-1" strike="noStrike">
                <a:solidFill>
                  <a:srgbClr val="990033"/>
                </a:solidFill>
                <a:latin typeface="Garamond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1800" spc="-1" strike="noStrike">
                <a:solidFill>
                  <a:srgbClr val="3333cc"/>
                </a:solidFill>
                <a:latin typeface="Garamond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–  </a:t>
            </a:r>
            <a:r>
              <a:rPr b="1" lang="en-US" sz="1800" spc="-1" strike="noStrike">
                <a:solidFill>
                  <a:srgbClr val="990033"/>
                </a:solidFill>
                <a:latin typeface="Garamond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1800" spc="-1" strike="noStrike">
                <a:solidFill>
                  <a:srgbClr val="990033"/>
                </a:solidFill>
                <a:latin typeface="Garamond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1800" spc="-1" strike="noStrike">
                <a:solidFill>
                  <a:srgbClr val="3333cc"/>
                </a:solidFill>
                <a:latin typeface="Garamond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1800" spc="-1" strike="noStrike">
                <a:solidFill>
                  <a:srgbClr val="3333cc"/>
                </a:solidFill>
                <a:latin typeface="Garamond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aramond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1800" spc="-1" strike="noStrike">
                <a:solidFill>
                  <a:srgbClr val="990033"/>
                </a:solidFill>
                <a:latin typeface="Garamond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 – </a:t>
            </a:r>
            <a:r>
              <a:rPr b="1" lang="en-US" sz="1800" spc="-1" strike="noStrike">
                <a:solidFill>
                  <a:srgbClr val="990033"/>
                </a:solidFill>
                <a:latin typeface="Garamond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–      </a:t>
            </a:r>
            <a:r>
              <a:rPr b="1" lang="en-US" sz="1800" spc="-1" strike="noStrike">
                <a:solidFill>
                  <a:srgbClr val="3333cc"/>
                </a:solidFill>
                <a:latin typeface="Garamond"/>
              </a:rPr>
              <a:t>F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1800" spc="-1" strike="noStrike">
                <a:solidFill>
                  <a:srgbClr val="990033"/>
                </a:solidFill>
                <a:latin typeface="Garamond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1800" spc="-1" strike="noStrike">
                <a:solidFill>
                  <a:srgbClr val="3333cc"/>
                </a:solidFill>
                <a:latin typeface="Garamond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1800" spc="-1" strike="noStrike">
                <a:solidFill>
                  <a:srgbClr val="3333cc"/>
                </a:solidFill>
                <a:latin typeface="Garamond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aramond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–      </a:t>
            </a:r>
            <a:r>
              <a:rPr b="1" lang="en-US" sz="1800" spc="-1" strike="noStrike">
                <a:solidFill>
                  <a:srgbClr val="3333cc"/>
                </a:solidFill>
                <a:latin typeface="Garamond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1800" spc="-1" strike="noStrike">
                <a:solidFill>
                  <a:srgbClr val="990033"/>
                </a:solidFill>
                <a:latin typeface="Garamond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1800" spc="-1" strike="noStrike">
                <a:solidFill>
                  <a:srgbClr val="3333cc"/>
                </a:solidFill>
                <a:latin typeface="Garamond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–  </a:t>
            </a:r>
            <a:r>
              <a:rPr b="1" lang="en-US" sz="1800" spc="-1" strike="noStrike">
                <a:solidFill>
                  <a:srgbClr val="990033"/>
                </a:solidFill>
                <a:latin typeface="Garamond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1800" spc="-1" strike="noStrike">
                <a:solidFill>
                  <a:srgbClr val="990033"/>
                </a:solidFill>
                <a:latin typeface="Garamond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1800" spc="-1" strike="noStrike">
                <a:solidFill>
                  <a:srgbClr val="3333cc"/>
                </a:solidFill>
                <a:latin typeface="Garamond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1800" spc="-1" strike="noStrike">
                <a:solidFill>
                  <a:srgbClr val="3333cc"/>
                </a:solidFill>
                <a:latin typeface="Garamond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aramond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–      </a:t>
            </a:r>
            <a:r>
              <a:rPr b="1" lang="en-US" sz="1800" spc="-1" strike="noStrike">
                <a:solidFill>
                  <a:srgbClr val="3333cc"/>
                </a:solidFill>
                <a:latin typeface="Garamond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1800" spc="-1" strike="noStrike">
                <a:solidFill>
                  <a:srgbClr val="990033"/>
                </a:solidFill>
                <a:latin typeface="Garamond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–      </a:t>
            </a:r>
            <a:r>
              <a:rPr b="1" lang="en-US" sz="1800" spc="-1" strike="noStrike">
                <a:solidFill>
                  <a:srgbClr val="3333cc"/>
                </a:solidFill>
                <a:latin typeface="Garamond"/>
              </a:rPr>
              <a:t>F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1800" spc="-1" strike="noStrike">
                <a:solidFill>
                  <a:srgbClr val="990033"/>
                </a:solidFill>
                <a:latin typeface="Garamond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1800" spc="-1" strike="noStrike">
                <a:solidFill>
                  <a:srgbClr val="3333cc"/>
                </a:solidFill>
                <a:latin typeface="Garamond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1800" spc="-1" strike="noStrike">
                <a:solidFill>
                  <a:srgbClr val="3333cc"/>
                </a:solidFill>
                <a:latin typeface="Garamond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5549760" y="4157640"/>
            <a:ext cx="349560" cy="1278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270120" y="888840"/>
            <a:ext cx="30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00"/>
                </a:solidFill>
                <a:latin typeface="Garamond"/>
              </a:rPr>
              <a:t>Duración Proyecto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990000"/>
                </a:solidFill>
                <a:latin typeface="Garamond"/>
              </a:rPr>
              <a:t>= 11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558720" y="88920"/>
            <a:ext cx="7670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oyecto Mountain Bi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5" name="" descr=""/>
          <p:cNvPicPr/>
          <p:nvPr/>
        </p:nvPicPr>
        <p:blipFill>
          <a:blip r:embed="rId1"/>
          <a:stretch/>
        </p:blipFill>
        <p:spPr>
          <a:xfrm>
            <a:off x="4038480" y="3763800"/>
            <a:ext cx="4953240" cy="2713320"/>
          </a:xfrm>
          <a:prstGeom prst="rect">
            <a:avLst/>
          </a:prstGeom>
          <a:ln w="0">
            <a:noFill/>
          </a:ln>
        </p:spPr>
      </p:pic>
      <p:sp>
        <p:nvSpPr>
          <p:cNvPr id="1116" name=""/>
          <p:cNvSpPr/>
          <p:nvPr/>
        </p:nvSpPr>
        <p:spPr>
          <a:xfrm>
            <a:off x="304920" y="2182680"/>
            <a:ext cx="533160" cy="5335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A(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219320" y="1801800"/>
            <a:ext cx="533160" cy="5335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B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219320" y="2639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C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286000" y="2182680"/>
            <a:ext cx="533520" cy="5335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D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733920" y="119232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E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895560" y="2168640"/>
            <a:ext cx="533520" cy="5331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F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733920" y="288144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G(1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5043600" y="2933640"/>
            <a:ext cx="533160" cy="5335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H(0.5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5410080" y="2182680"/>
            <a:ext cx="685800" cy="5335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I(0.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781680" y="218268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J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6781680" y="2881440"/>
            <a:ext cx="533520" cy="5331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K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8077320" y="2411280"/>
            <a:ext cx="533160" cy="5335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L(1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7848720" y="1258920"/>
            <a:ext cx="761760" cy="4665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Fini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762120" y="2054160"/>
            <a:ext cx="447480" cy="204840"/>
          </a:xfrm>
          <a:custGeom>
            <a:avLst/>
            <a:gdLst/>
            <a:ahLst/>
            <a:rect l="l" t="t" r="r" b="b"/>
            <a:pathLst>
              <a:path w="282" h="129">
                <a:moveTo>
                  <a:pt x="0" y="129"/>
                </a:moveTo>
                <a:lnTo>
                  <a:pt x="282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762120" y="2639880"/>
            <a:ext cx="452160" cy="257400"/>
          </a:xfrm>
          <a:custGeom>
            <a:avLst/>
            <a:gdLst/>
            <a:ahLst/>
            <a:rect l="l" t="t" r="r" b="b"/>
            <a:pathLst>
              <a:path w="285" h="162">
                <a:moveTo>
                  <a:pt x="0" y="0"/>
                </a:moveTo>
                <a:lnTo>
                  <a:pt x="285" y="162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1752480" y="2639880"/>
            <a:ext cx="609840" cy="271440"/>
          </a:xfrm>
          <a:custGeom>
            <a:avLst/>
            <a:gdLst/>
            <a:ahLst/>
            <a:rect l="l" t="t" r="r" b="b"/>
            <a:pathLst>
              <a:path w="384" h="171">
                <a:moveTo>
                  <a:pt x="0" y="171"/>
                </a:moveTo>
                <a:lnTo>
                  <a:pt x="384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1762200" y="2049480"/>
            <a:ext cx="600120" cy="209520"/>
          </a:xfrm>
          <a:custGeom>
            <a:avLst/>
            <a:gdLst/>
            <a:ahLst/>
            <a:rect l="l" t="t" r="r" b="b"/>
            <a:pathLst>
              <a:path w="378" h="132">
                <a:moveTo>
                  <a:pt x="0" y="0"/>
                </a:moveTo>
                <a:lnTo>
                  <a:pt x="378" y="132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2743200" y="1501920"/>
            <a:ext cx="976320" cy="757080"/>
          </a:xfrm>
          <a:custGeom>
            <a:avLst/>
            <a:gdLst/>
            <a:ahLst/>
            <a:rect l="l" t="t" r="r" b="b"/>
            <a:pathLst>
              <a:path w="615" h="477">
                <a:moveTo>
                  <a:pt x="0" y="477"/>
                </a:moveTo>
                <a:lnTo>
                  <a:pt x="61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2819520" y="2406600"/>
            <a:ext cx="1057320" cy="4680"/>
          </a:xfrm>
          <a:custGeom>
            <a:avLst/>
            <a:gdLst/>
            <a:ahLst/>
            <a:rect l="l" t="t" r="r" b="b"/>
            <a:pathLst>
              <a:path w="666" h="3">
                <a:moveTo>
                  <a:pt x="0" y="3"/>
                </a:moveTo>
                <a:lnTo>
                  <a:pt x="666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1040" bIns="-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2743200" y="2639880"/>
            <a:ext cx="984240" cy="489240"/>
          </a:xfrm>
          <a:custGeom>
            <a:avLst/>
            <a:gdLst/>
            <a:ahLst/>
            <a:rect l="l" t="t" r="r" b="b"/>
            <a:pathLst>
              <a:path w="620" h="308">
                <a:moveTo>
                  <a:pt x="0" y="0"/>
                </a:moveTo>
                <a:lnTo>
                  <a:pt x="620" y="308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276800" y="3170160"/>
            <a:ext cx="758880" cy="31680"/>
          </a:xfrm>
          <a:custGeom>
            <a:avLst/>
            <a:gdLst/>
            <a:ahLst/>
            <a:rect l="l" t="t" r="r" b="b"/>
            <a:pathLst>
              <a:path w="478" h="20">
                <a:moveTo>
                  <a:pt x="0" y="0"/>
                </a:moveTo>
                <a:lnTo>
                  <a:pt x="478" y="2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14040" bIns="-14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442120" y="2716200"/>
            <a:ext cx="196560" cy="247680"/>
          </a:xfrm>
          <a:custGeom>
            <a:avLst/>
            <a:gdLst/>
            <a:ahLst/>
            <a:rect l="l" t="t" r="r" b="b"/>
            <a:pathLst>
              <a:path w="124" h="156">
                <a:moveTo>
                  <a:pt x="0" y="156"/>
                </a:moveTo>
                <a:lnTo>
                  <a:pt x="124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448160" y="2411280"/>
            <a:ext cx="961920" cy="1800"/>
          </a:xfrm>
          <a:custGeom>
            <a:avLst/>
            <a:gdLst/>
            <a:ahLst/>
            <a:rect l="l" t="t" r="r" b="b"/>
            <a:pathLst>
              <a:path w="606" h="1">
                <a:moveTo>
                  <a:pt x="0" y="0"/>
                </a:moveTo>
                <a:lnTo>
                  <a:pt x="606" y="1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6091200" y="2411280"/>
            <a:ext cx="690480" cy="1800"/>
          </a:xfrm>
          <a:custGeom>
            <a:avLst/>
            <a:gdLst/>
            <a:ahLst/>
            <a:rect l="l" t="t" r="r" b="b"/>
            <a:pathLst>
              <a:path w="435" h="1">
                <a:moveTo>
                  <a:pt x="0" y="0"/>
                </a:moveTo>
                <a:lnTo>
                  <a:pt x="435" y="1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5915160" y="2678040"/>
            <a:ext cx="860400" cy="438120"/>
          </a:xfrm>
          <a:custGeom>
            <a:avLst/>
            <a:gdLst/>
            <a:ahLst/>
            <a:rect l="l" t="t" r="r" b="b"/>
            <a:pathLst>
              <a:path w="542" h="276">
                <a:moveTo>
                  <a:pt x="0" y="0"/>
                </a:moveTo>
                <a:lnTo>
                  <a:pt x="542" y="276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7318440" y="2801880"/>
            <a:ext cx="777960" cy="352440"/>
          </a:xfrm>
          <a:custGeom>
            <a:avLst/>
            <a:gdLst/>
            <a:ahLst/>
            <a:rect l="l" t="t" r="r" b="b"/>
            <a:pathLst>
              <a:path w="490" h="222">
                <a:moveTo>
                  <a:pt x="0" y="222"/>
                </a:moveTo>
                <a:lnTo>
                  <a:pt x="490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7238880" y="1654200"/>
            <a:ext cx="766800" cy="604800"/>
          </a:xfrm>
          <a:custGeom>
            <a:avLst/>
            <a:gdLst/>
            <a:ahLst/>
            <a:rect l="l" t="t" r="r" b="b"/>
            <a:pathLst>
              <a:path w="483" h="381">
                <a:moveTo>
                  <a:pt x="0" y="381"/>
                </a:moveTo>
                <a:lnTo>
                  <a:pt x="48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8305920" y="1730520"/>
            <a:ext cx="1440" cy="680760"/>
          </a:xfrm>
          <a:custGeom>
            <a:avLst/>
            <a:gdLst/>
            <a:ahLst/>
            <a:rect l="l" t="t" r="r" b="b"/>
            <a:pathLst>
              <a:path w="1" h="429">
                <a:moveTo>
                  <a:pt x="0" y="429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267080" y="145404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5" name=""/>
          <p:cNvGrpSpPr/>
          <p:nvPr/>
        </p:nvGrpSpPr>
        <p:grpSpPr>
          <a:xfrm>
            <a:off x="271440" y="2716200"/>
            <a:ext cx="490680" cy="523800"/>
            <a:chOff x="271440" y="2716200"/>
            <a:chExt cx="490680" cy="523800"/>
          </a:xfrm>
        </p:grpSpPr>
        <p:sp>
          <p:nvSpPr>
            <p:cNvPr id="1146" name=""/>
            <p:cNvSpPr/>
            <p:nvPr/>
          </p:nvSpPr>
          <p:spPr>
            <a:xfrm>
              <a:off x="516960" y="27162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71440" y="297792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8" name=""/>
          <p:cNvSpPr/>
          <p:nvPr/>
        </p:nvSpPr>
        <p:spPr>
          <a:xfrm>
            <a:off x="554040" y="74916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223920" y="2711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495720" y="27115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1" name=""/>
          <p:cNvGrpSpPr/>
          <p:nvPr/>
        </p:nvGrpSpPr>
        <p:grpSpPr>
          <a:xfrm>
            <a:off x="1239840" y="1273320"/>
            <a:ext cx="490680" cy="523800"/>
            <a:chOff x="1239840" y="1273320"/>
            <a:chExt cx="490680" cy="523800"/>
          </a:xfrm>
        </p:grpSpPr>
        <p:sp>
          <p:nvSpPr>
            <p:cNvPr id="1152" name=""/>
            <p:cNvSpPr/>
            <p:nvPr/>
          </p:nvSpPr>
          <p:spPr>
            <a:xfrm>
              <a:off x="1485360" y="127332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1239840" y="153504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4" name=""/>
          <p:cNvSpPr/>
          <p:nvPr/>
        </p:nvSpPr>
        <p:spPr>
          <a:xfrm>
            <a:off x="1103760" y="1255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1451520" y="12430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6" name=""/>
          <p:cNvGrpSpPr/>
          <p:nvPr/>
        </p:nvGrpSpPr>
        <p:grpSpPr>
          <a:xfrm>
            <a:off x="1690560" y="2976480"/>
            <a:ext cx="490680" cy="523800"/>
            <a:chOff x="1690560" y="2976480"/>
            <a:chExt cx="490680" cy="523800"/>
          </a:xfrm>
        </p:grpSpPr>
        <p:sp>
          <p:nvSpPr>
            <p:cNvPr id="1157" name=""/>
            <p:cNvSpPr/>
            <p:nvPr/>
          </p:nvSpPr>
          <p:spPr>
            <a:xfrm>
              <a:off x="1936080" y="297648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1690560" y="323820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9" name=""/>
          <p:cNvSpPr/>
          <p:nvPr/>
        </p:nvSpPr>
        <p:spPr>
          <a:xfrm>
            <a:off x="1554480" y="29718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914840" y="29718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1" name=""/>
          <p:cNvGrpSpPr/>
          <p:nvPr/>
        </p:nvGrpSpPr>
        <p:grpSpPr>
          <a:xfrm>
            <a:off x="2324160" y="1649520"/>
            <a:ext cx="490320" cy="523800"/>
            <a:chOff x="2324160" y="1649520"/>
            <a:chExt cx="490320" cy="523800"/>
          </a:xfrm>
        </p:grpSpPr>
        <p:sp>
          <p:nvSpPr>
            <p:cNvPr id="1162" name=""/>
            <p:cNvSpPr/>
            <p:nvPr/>
          </p:nvSpPr>
          <p:spPr>
            <a:xfrm>
              <a:off x="2569320" y="164952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2324160" y="191124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4" name=""/>
          <p:cNvSpPr/>
          <p:nvPr/>
        </p:nvSpPr>
        <p:spPr>
          <a:xfrm>
            <a:off x="2200680" y="16444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2548440" y="16444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6" name=""/>
          <p:cNvGrpSpPr/>
          <p:nvPr/>
        </p:nvGrpSpPr>
        <p:grpSpPr>
          <a:xfrm>
            <a:off x="4343400" y="1801800"/>
            <a:ext cx="490680" cy="523800"/>
            <a:chOff x="4343400" y="1801800"/>
            <a:chExt cx="490680" cy="523800"/>
          </a:xfrm>
        </p:grpSpPr>
        <p:sp>
          <p:nvSpPr>
            <p:cNvPr id="1167" name=""/>
            <p:cNvSpPr/>
            <p:nvPr/>
          </p:nvSpPr>
          <p:spPr>
            <a:xfrm>
              <a:off x="4588920" y="18018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343400" y="206352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9" name=""/>
          <p:cNvSpPr/>
          <p:nvPr/>
        </p:nvSpPr>
        <p:spPr>
          <a:xfrm>
            <a:off x="4218480" y="17971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4567680" y="17971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1" name=""/>
          <p:cNvGrpSpPr/>
          <p:nvPr/>
        </p:nvGrpSpPr>
        <p:grpSpPr>
          <a:xfrm>
            <a:off x="4411800" y="887400"/>
            <a:ext cx="490320" cy="523800"/>
            <a:chOff x="4411800" y="887400"/>
            <a:chExt cx="490320" cy="523800"/>
          </a:xfrm>
        </p:grpSpPr>
        <p:sp>
          <p:nvSpPr>
            <p:cNvPr id="1172" name=""/>
            <p:cNvSpPr/>
            <p:nvPr/>
          </p:nvSpPr>
          <p:spPr>
            <a:xfrm>
              <a:off x="4656960" y="8874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411800" y="114912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4" name=""/>
          <p:cNvSpPr/>
          <p:nvPr/>
        </p:nvSpPr>
        <p:spPr>
          <a:xfrm>
            <a:off x="4259520" y="8827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4635720" y="8827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6" name=""/>
          <p:cNvGrpSpPr/>
          <p:nvPr/>
        </p:nvGrpSpPr>
        <p:grpSpPr>
          <a:xfrm>
            <a:off x="3754440" y="3425760"/>
            <a:ext cx="490680" cy="523800"/>
            <a:chOff x="3754440" y="3425760"/>
            <a:chExt cx="490680" cy="523800"/>
          </a:xfrm>
        </p:grpSpPr>
        <p:sp>
          <p:nvSpPr>
            <p:cNvPr id="1177" name=""/>
            <p:cNvSpPr/>
            <p:nvPr/>
          </p:nvSpPr>
          <p:spPr>
            <a:xfrm>
              <a:off x="3999960" y="342576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3754440" y="368748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9" name=""/>
          <p:cNvSpPr/>
          <p:nvPr/>
        </p:nvSpPr>
        <p:spPr>
          <a:xfrm>
            <a:off x="3611880" y="34210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978360" y="3421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1" name=""/>
          <p:cNvGrpSpPr/>
          <p:nvPr/>
        </p:nvGrpSpPr>
        <p:grpSpPr>
          <a:xfrm>
            <a:off x="5064120" y="3459240"/>
            <a:ext cx="490680" cy="523800"/>
            <a:chOff x="5064120" y="3459240"/>
            <a:chExt cx="490680" cy="523800"/>
          </a:xfrm>
        </p:grpSpPr>
        <p:sp>
          <p:nvSpPr>
            <p:cNvPr id="1182" name=""/>
            <p:cNvSpPr/>
            <p:nvPr/>
          </p:nvSpPr>
          <p:spPr>
            <a:xfrm>
              <a:off x="5309640" y="345924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064120" y="372096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4" name=""/>
          <p:cNvSpPr/>
          <p:nvPr/>
        </p:nvSpPr>
        <p:spPr>
          <a:xfrm>
            <a:off x="5033880" y="34545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250240" y="34545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6" name=""/>
          <p:cNvGrpSpPr/>
          <p:nvPr/>
        </p:nvGrpSpPr>
        <p:grpSpPr>
          <a:xfrm>
            <a:off x="5459400" y="1668600"/>
            <a:ext cx="490680" cy="523800"/>
            <a:chOff x="5459400" y="1668600"/>
            <a:chExt cx="490680" cy="523800"/>
          </a:xfrm>
        </p:grpSpPr>
        <p:sp>
          <p:nvSpPr>
            <p:cNvPr id="1187" name=""/>
            <p:cNvSpPr/>
            <p:nvPr/>
          </p:nvSpPr>
          <p:spPr>
            <a:xfrm>
              <a:off x="5704920" y="16686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459400" y="193032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9" name=""/>
          <p:cNvSpPr/>
          <p:nvPr/>
        </p:nvSpPr>
        <p:spPr>
          <a:xfrm>
            <a:off x="5326560" y="16444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5681520" y="163980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1" name=""/>
          <p:cNvGrpSpPr/>
          <p:nvPr/>
        </p:nvGrpSpPr>
        <p:grpSpPr>
          <a:xfrm>
            <a:off x="6705720" y="1668600"/>
            <a:ext cx="490320" cy="523800"/>
            <a:chOff x="6705720" y="1668600"/>
            <a:chExt cx="490320" cy="523800"/>
          </a:xfrm>
        </p:grpSpPr>
        <p:sp>
          <p:nvSpPr>
            <p:cNvPr id="1192" name=""/>
            <p:cNvSpPr/>
            <p:nvPr/>
          </p:nvSpPr>
          <p:spPr>
            <a:xfrm>
              <a:off x="6950880" y="16686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6705720" y="193032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4" name=""/>
          <p:cNvSpPr/>
          <p:nvPr/>
        </p:nvSpPr>
        <p:spPr>
          <a:xfrm>
            <a:off x="6631200" y="16635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6929640" y="16574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6" name=""/>
          <p:cNvGrpSpPr/>
          <p:nvPr/>
        </p:nvGrpSpPr>
        <p:grpSpPr>
          <a:xfrm>
            <a:off x="6800760" y="3421080"/>
            <a:ext cx="490680" cy="523800"/>
            <a:chOff x="6800760" y="3421080"/>
            <a:chExt cx="490680" cy="523800"/>
          </a:xfrm>
        </p:grpSpPr>
        <p:sp>
          <p:nvSpPr>
            <p:cNvPr id="1197" name=""/>
            <p:cNvSpPr/>
            <p:nvPr/>
          </p:nvSpPr>
          <p:spPr>
            <a:xfrm>
              <a:off x="7046280" y="342108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6800760" y="368280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9" name=""/>
          <p:cNvSpPr/>
          <p:nvPr/>
        </p:nvSpPr>
        <p:spPr>
          <a:xfrm>
            <a:off x="6783480" y="3416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6993000" y="3416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1" name=""/>
          <p:cNvGrpSpPr/>
          <p:nvPr/>
        </p:nvGrpSpPr>
        <p:grpSpPr>
          <a:xfrm>
            <a:off x="8115480" y="3025800"/>
            <a:ext cx="490320" cy="523800"/>
            <a:chOff x="8115480" y="3025800"/>
            <a:chExt cx="490320" cy="523800"/>
          </a:xfrm>
        </p:grpSpPr>
        <p:sp>
          <p:nvSpPr>
            <p:cNvPr id="1202" name=""/>
            <p:cNvSpPr/>
            <p:nvPr/>
          </p:nvSpPr>
          <p:spPr>
            <a:xfrm>
              <a:off x="8360640" y="30258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8115480" y="328752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4" name=""/>
          <p:cNvSpPr/>
          <p:nvPr/>
        </p:nvSpPr>
        <p:spPr>
          <a:xfrm>
            <a:off x="8059680" y="3021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8307720" y="30211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604040" y="11304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4243680" y="11286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6897960" y="18813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6539400" y="189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5335920" y="18874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5689440" y="188280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046840" y="3676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5258160" y="36640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634200" y="36306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3981600" y="3630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4218480" y="2000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4565880" y="19875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2192760" y="18558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2553120" y="18432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1100520" y="14619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1460880" y="14619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1562400" y="31892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1910160" y="31892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30400" y="29084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502200" y="29084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5791320" y="2878200"/>
            <a:ext cx="0" cy="33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6477120" y="2878200"/>
            <a:ext cx="0" cy="33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6770880" y="3638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7018560" y="3638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8059680" y="3224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8307720" y="3224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6373440" y="819000"/>
            <a:ext cx="29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00"/>
                </a:solidFill>
                <a:latin typeface="Garamond"/>
              </a:rPr>
              <a:t>Duración Proyecto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990000"/>
                </a:solidFill>
                <a:latin typeface="Garamond"/>
              </a:rPr>
              <a:t>= 8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3" name="" descr=""/>
          <p:cNvPicPr/>
          <p:nvPr/>
        </p:nvPicPr>
        <p:blipFill>
          <a:blip r:embed="rId2"/>
          <a:stretch/>
        </p:blipFill>
        <p:spPr>
          <a:xfrm>
            <a:off x="291960" y="3851280"/>
            <a:ext cx="3289320" cy="2320920"/>
          </a:xfrm>
          <a:prstGeom prst="rect">
            <a:avLst/>
          </a:prstGeom>
          <a:ln w="0">
            <a:noFill/>
          </a:ln>
        </p:spPr>
      </p:pic>
      <p:sp>
        <p:nvSpPr>
          <p:cNvPr id="1234" name=""/>
          <p:cNvSpPr/>
          <p:nvPr/>
        </p:nvSpPr>
        <p:spPr>
          <a:xfrm>
            <a:off x="558720" y="88920"/>
            <a:ext cx="7670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oyecto Mountain Bi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"/>
          <p:cNvSpPr/>
          <p:nvPr/>
        </p:nvSpPr>
        <p:spPr>
          <a:xfrm>
            <a:off x="609480" y="78732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152280" y="152280"/>
            <a:ext cx="89917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Resumen Construcción Frontera Eficiente (Cras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80880" y="990720"/>
            <a:ext cx="8534520" cy="67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Para cada actividad calc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buClr>
                <a:srgbClr val="8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buClr>
                <a:srgbClr val="8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Usando CPM identific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5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Duración del proyecto, holguras, </a:t>
            </a:r>
            <a:r>
              <a:rPr b="1" lang="es-CL" sz="1800" spc="-1" strike="noStrike" u="sng">
                <a:solidFill>
                  <a:srgbClr val="3333cc"/>
                </a:solidFill>
                <a:uFillTx/>
                <a:latin typeface="Garamond"/>
              </a:rPr>
              <a:t>Todos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 los Caminos Crític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5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Encontrar el  </a:t>
            </a:r>
            <a:r>
              <a:rPr b="1" lang="es-CL" sz="2000" spc="-1" strike="noStrike">
                <a:solidFill>
                  <a:srgbClr val="800000"/>
                </a:solidFill>
                <a:latin typeface="Garamond"/>
              </a:rPr>
              <a:t>“conjunto mas barato”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de Actividades Criticas que al ser reducidas su duración se reduce la duración de </a:t>
            </a:r>
            <a:r>
              <a:rPr b="1" lang="es-CL" sz="2000" spc="-1" strike="noStrike" u="sng">
                <a:solidFill>
                  <a:srgbClr val="3333cc"/>
                </a:solidFill>
                <a:uFillTx/>
                <a:latin typeface="Garamond"/>
              </a:rPr>
              <a:t>TODOS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los Caminos Crítico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Determinar lo máximo que se puede reducir la duración de las actividades del punto 3. Tenga presente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5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La Holgura de actividades que no son criticas puede reducirse mientras reduce la duración de actividades crític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5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No puede reducir la duración de una actividad por debajo de su duración míni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6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Repetir los pasos 2-3-4 hasta que encuentre un Camino Critico para el cual todas las actividades estén en su duración míni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5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8" name=""/>
              <p:cNvSpPr txBox="1"/>
              <p:nvPr/>
            </p:nvSpPr>
            <p:spPr>
              <a:xfrm>
                <a:off x="1168560" y="1467000"/>
                <a:ext cx="629892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t por Unidad de Tiempo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to Crash - Costo Norma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iempo Normal - Tiempo Cras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6" dur="500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1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6" dur="500"/>
                                        <p:tgtEl>
                                          <p:spTgt spid="1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1" dur="500"/>
                                        <p:tgtEl>
                                          <p:spTgt spid="1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6" dur="500"/>
                                        <p:tgtEl>
                                          <p:spTgt spid="1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1" dur="500"/>
                                        <p:tgtEl>
                                          <p:spTgt spid="1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6" dur="500"/>
                                        <p:tgtEl>
                                          <p:spTgt spid="1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1" dur="500"/>
                                        <p:tgtEl>
                                          <p:spTgt spid="12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6" dur="500"/>
                                        <p:tgtEl>
                                          <p:spTgt spid="12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"/>
          <p:cNvSpPr/>
          <p:nvPr/>
        </p:nvSpPr>
        <p:spPr>
          <a:xfrm>
            <a:off x="459720" y="228600"/>
            <a:ext cx="39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jemplo: FCN (B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0" name=""/>
          <p:cNvGraphicFramePr/>
          <p:nvPr/>
        </p:nvGraphicFramePr>
        <p:xfrm>
          <a:off x="457200" y="3827520"/>
          <a:ext cx="4038480" cy="196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27520"/>
                    <a:ext cx="4038480" cy="19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2" name=""/>
          <p:cNvSpPr/>
          <p:nvPr/>
        </p:nvSpPr>
        <p:spPr>
          <a:xfrm>
            <a:off x="4708440" y="3836880"/>
            <a:ext cx="420696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Suponga que A termino con tres semans de retraso &amp; que la penalidad por cada semana de retraso es de $9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33"/>
                </a:solidFill>
                <a:latin typeface="Palatino Linotype"/>
              </a:rPr>
              <a:t>Cuál es la estrategia optima que minimiza los costos de ejecución del proyecto + penalidades?</a:t>
            </a:r>
            <a:r>
              <a:rPr b="1" lang="es-CL" sz="24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554040" y="914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4" name=""/>
          <p:cNvGrpSpPr/>
          <p:nvPr/>
        </p:nvGrpSpPr>
        <p:grpSpPr>
          <a:xfrm>
            <a:off x="533520" y="1295280"/>
            <a:ext cx="7009920" cy="2063520"/>
            <a:chOff x="533520" y="1295280"/>
            <a:chExt cx="7009920" cy="2063520"/>
          </a:xfrm>
        </p:grpSpPr>
        <p:sp>
          <p:nvSpPr>
            <p:cNvPr id="1245" name=""/>
            <p:cNvSpPr/>
            <p:nvPr/>
          </p:nvSpPr>
          <p:spPr>
            <a:xfrm>
              <a:off x="533520" y="2044440"/>
              <a:ext cx="533160" cy="457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A(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1790640" y="1295280"/>
              <a:ext cx="533160" cy="457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B(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3047760" y="1295280"/>
              <a:ext cx="533160" cy="457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C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1752480" y="2037960"/>
              <a:ext cx="533160" cy="457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E(4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1752480" y="2882520"/>
              <a:ext cx="5331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H(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311360" y="1295280"/>
              <a:ext cx="533160" cy="457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D(4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3587760" y="2057040"/>
              <a:ext cx="532800" cy="457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F(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197240" y="2901600"/>
              <a:ext cx="5331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I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410080" y="2057040"/>
              <a:ext cx="533160" cy="457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G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781680" y="2031840"/>
              <a:ext cx="761760" cy="5331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996840" y="1593720"/>
              <a:ext cx="806040" cy="514080"/>
            </a:xfrm>
            <a:custGeom>
              <a:avLst/>
              <a:gdLst/>
              <a:ahLst/>
              <a:rect l="l" t="t" r="r" b="b"/>
              <a:pathLst>
                <a:path w="508" h="324">
                  <a:moveTo>
                    <a:pt x="0" y="324"/>
                  </a:moveTo>
                  <a:lnTo>
                    <a:pt x="508" y="0"/>
                  </a:lnTo>
                </a:path>
              </a:pathLst>
            </a:custGeom>
            <a:noFill/>
            <a:ln w="38160">
              <a:solidFill>
                <a:srgbClr val="8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1066680" y="2285640"/>
              <a:ext cx="68544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990360" y="2438280"/>
              <a:ext cx="787320" cy="583920"/>
            </a:xfrm>
            <a:custGeom>
              <a:avLst/>
              <a:gdLst/>
              <a:ahLst/>
              <a:rect l="l" t="t" r="r" b="b"/>
              <a:pathLst>
                <a:path w="496" h="368">
                  <a:moveTo>
                    <a:pt x="0" y="0"/>
                  </a:moveTo>
                  <a:lnTo>
                    <a:pt x="496" y="36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324160" y="1523880"/>
              <a:ext cx="723240" cy="1440"/>
            </a:xfrm>
            <a:custGeom>
              <a:avLst/>
              <a:gdLst/>
              <a:ahLst/>
              <a:rect l="l" t="t" r="r" b="b"/>
              <a:pathLst>
                <a:path w="456" h="1">
                  <a:moveTo>
                    <a:pt x="0" y="0"/>
                  </a:moveTo>
                  <a:lnTo>
                    <a:pt x="456" y="1"/>
                  </a:lnTo>
                </a:path>
              </a:pathLst>
            </a:custGeom>
            <a:noFill/>
            <a:ln w="38160">
              <a:solidFill>
                <a:srgbClr val="8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3581280" y="1523880"/>
              <a:ext cx="723600" cy="1440"/>
            </a:xfrm>
            <a:custGeom>
              <a:avLst/>
              <a:gdLst/>
              <a:ahLst/>
              <a:rect l="l" t="t" r="r" b="b"/>
              <a:pathLst>
                <a:path w="456" h="1">
                  <a:moveTo>
                    <a:pt x="0" y="0"/>
                  </a:moveTo>
                  <a:lnTo>
                    <a:pt x="456" y="1"/>
                  </a:lnTo>
                </a:path>
              </a:pathLst>
            </a:custGeom>
            <a:noFill/>
            <a:ln w="38160">
              <a:solidFill>
                <a:srgbClr val="8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2286000" y="2285640"/>
              <a:ext cx="129492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114800" y="2285640"/>
              <a:ext cx="129492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286000" y="3130200"/>
              <a:ext cx="190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806720" y="1631880"/>
              <a:ext cx="679320" cy="501480"/>
            </a:xfrm>
            <a:custGeom>
              <a:avLst/>
              <a:gdLst/>
              <a:ahLst/>
              <a:rect l="l" t="t" r="r" b="b"/>
              <a:pathLst>
                <a:path w="428" h="316">
                  <a:moveTo>
                    <a:pt x="0" y="0"/>
                  </a:moveTo>
                  <a:lnTo>
                    <a:pt x="428" y="316"/>
                  </a:lnTo>
                </a:path>
              </a:pathLst>
            </a:custGeom>
            <a:noFill/>
            <a:ln w="38160">
              <a:solidFill>
                <a:srgbClr val="8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943600" y="2298600"/>
              <a:ext cx="83772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V="1">
              <a:off x="4724280" y="2437920"/>
              <a:ext cx="21333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6" name=""/>
          <p:cNvSpPr/>
          <p:nvPr/>
        </p:nvSpPr>
        <p:spPr>
          <a:xfrm>
            <a:off x="7133040" y="1004760"/>
            <a:ext cx="21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9933"/>
                </a:solidFill>
                <a:latin typeface="Garamond"/>
              </a:rPr>
              <a:t>D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9933"/>
                </a:solidFill>
                <a:latin typeface="Garamond"/>
              </a:rPr>
              <a:t>Program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9933"/>
                </a:solidFill>
                <a:latin typeface="Garamond"/>
              </a:rPr>
              <a:t>12 sema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"/>
          <p:cNvSpPr/>
          <p:nvPr/>
        </p:nvSpPr>
        <p:spPr>
          <a:xfrm>
            <a:off x="554040" y="74304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482760" y="34920"/>
            <a:ext cx="523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Casos Patológic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9" name=""/>
          <p:cNvGraphicFramePr/>
          <p:nvPr/>
        </p:nvGraphicFramePr>
        <p:xfrm>
          <a:off x="2057400" y="1066680"/>
          <a:ext cx="5229000" cy="2317680"/>
        </p:xfrm>
        <a:graphic>
          <a:graphicData uri="http://schemas.openxmlformats.org/drawingml/2006/table">
            <a:tbl>
              <a:tblPr/>
              <a:tblGrid>
                <a:gridCol w="936720"/>
                <a:gridCol w="1247760"/>
                <a:gridCol w="1015560"/>
                <a:gridCol w="1013760"/>
                <a:gridCol w="101520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edec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rm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urati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day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ra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u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day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rashing Cos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$/da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28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8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8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,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0" name=""/>
          <p:cNvSpPr/>
          <p:nvPr/>
        </p:nvSpPr>
        <p:spPr>
          <a:xfrm>
            <a:off x="12952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2362320" y="396252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438280" y="5638680"/>
            <a:ext cx="533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(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657600" y="45720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4648320" y="3962520"/>
            <a:ext cx="53316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(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5029200" y="48769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6781680" y="48769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 flipV="1">
            <a:off x="1676520" y="4267080"/>
            <a:ext cx="685800" cy="53352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752480" y="525780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2895480" y="419112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2819520" y="4419720"/>
            <a:ext cx="838080" cy="38088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4191120" y="4952880"/>
            <a:ext cx="838080" cy="15264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 flipV="1">
            <a:off x="2971800" y="5257440"/>
            <a:ext cx="2057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5181480" y="4267080"/>
            <a:ext cx="1600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5562720" y="5181480"/>
            <a:ext cx="1218960" cy="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5833440" y="5472000"/>
            <a:ext cx="284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8000"/>
                </a:solidFill>
                <a:latin typeface="Palatino Linotype"/>
              </a:rPr>
              <a:t>Duración: 7 sema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"/>
          <p:cNvSpPr/>
          <p:nvPr/>
        </p:nvSpPr>
        <p:spPr>
          <a:xfrm>
            <a:off x="554040" y="74304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7" name=""/>
          <p:cNvGraphicFramePr/>
          <p:nvPr/>
        </p:nvGraphicFramePr>
        <p:xfrm>
          <a:off x="2057400" y="914400"/>
          <a:ext cx="5229000" cy="2317680"/>
        </p:xfrm>
        <a:graphic>
          <a:graphicData uri="http://schemas.openxmlformats.org/drawingml/2006/table">
            <a:tbl>
              <a:tblPr/>
              <a:tblGrid>
                <a:gridCol w="936720"/>
                <a:gridCol w="1247760"/>
                <a:gridCol w="1015560"/>
                <a:gridCol w="1013760"/>
                <a:gridCol w="101520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edec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rm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urati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day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ra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u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day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rashing Cos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$/da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28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8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8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,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8" name=""/>
          <p:cNvSpPr/>
          <p:nvPr/>
        </p:nvSpPr>
        <p:spPr>
          <a:xfrm>
            <a:off x="12952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2362320" y="396252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2438280" y="56386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(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3657600" y="45720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4648320" y="396252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(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5029200" y="48769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6781680" y="48769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 flipV="1">
            <a:off x="1676520" y="4267080"/>
            <a:ext cx="685800" cy="53352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1752480" y="5257800"/>
            <a:ext cx="685800" cy="53352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2895480" y="4191120"/>
            <a:ext cx="1752840" cy="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2819520" y="4419720"/>
            <a:ext cx="838080" cy="38088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4191120" y="4952880"/>
            <a:ext cx="838080" cy="15264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 flipV="1">
            <a:off x="2971800" y="5257440"/>
            <a:ext cx="2057400" cy="68580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5181480" y="4267080"/>
            <a:ext cx="1600200" cy="76212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5562720" y="5181480"/>
            <a:ext cx="1218960" cy="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5565240" y="5429160"/>
            <a:ext cx="33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8000"/>
                </a:solidFill>
                <a:latin typeface="Garamond"/>
              </a:rPr>
              <a:t>Duración: 6 sema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191520" y="3352680"/>
            <a:ext cx="46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800000"/>
                </a:solidFill>
                <a:latin typeface="Palatino Linotype"/>
              </a:rPr>
              <a:t>Primera Semana: Reducir 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482760" y="34920"/>
            <a:ext cx="523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Casos Patológic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"/>
          <p:cNvSpPr/>
          <p:nvPr/>
        </p:nvSpPr>
        <p:spPr>
          <a:xfrm>
            <a:off x="554040" y="74304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7" name=""/>
          <p:cNvGraphicFramePr/>
          <p:nvPr/>
        </p:nvGraphicFramePr>
        <p:xfrm>
          <a:off x="2057400" y="914400"/>
          <a:ext cx="5229000" cy="2317680"/>
        </p:xfrm>
        <a:graphic>
          <a:graphicData uri="http://schemas.openxmlformats.org/drawingml/2006/table">
            <a:tbl>
              <a:tblPr/>
              <a:tblGrid>
                <a:gridCol w="936720"/>
                <a:gridCol w="1247760"/>
                <a:gridCol w="1015560"/>
                <a:gridCol w="1013760"/>
                <a:gridCol w="101520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edec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rm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urati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day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ra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u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day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rashing Cos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$/da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28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8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8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,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8" name=""/>
          <p:cNvSpPr/>
          <p:nvPr/>
        </p:nvSpPr>
        <p:spPr>
          <a:xfrm>
            <a:off x="12952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2362320" y="396252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2438280" y="56386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(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3657600" y="45720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4648320" y="396252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(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5029200" y="48769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6781680" y="48769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 flipV="1">
            <a:off x="1676520" y="4267080"/>
            <a:ext cx="685800" cy="53352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1752480" y="5257800"/>
            <a:ext cx="685800" cy="53352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2895480" y="4191120"/>
            <a:ext cx="1752840" cy="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2819520" y="4419720"/>
            <a:ext cx="83808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4191120" y="4952880"/>
            <a:ext cx="83808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 flipV="1">
            <a:off x="2971800" y="5257440"/>
            <a:ext cx="2057400" cy="68580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5181480" y="4267080"/>
            <a:ext cx="1600200" cy="76212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5562720" y="5181480"/>
            <a:ext cx="1218960" cy="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5565240" y="5429160"/>
            <a:ext cx="33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8000"/>
                </a:solidFill>
                <a:latin typeface="Garamond"/>
              </a:rPr>
              <a:t>Duración: 5 sema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193320" y="3352680"/>
            <a:ext cx="525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800000"/>
                </a:solidFill>
                <a:latin typeface="Palatino Linotype"/>
              </a:rPr>
              <a:t>Segunda Semana: Reducir A &amp; 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82760" y="34920"/>
            <a:ext cx="523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Casos Patológic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"/>
          <p:cNvSpPr/>
          <p:nvPr/>
        </p:nvSpPr>
        <p:spPr>
          <a:xfrm>
            <a:off x="533520" y="70344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80880" y="42840"/>
            <a:ext cx="853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Crashing Usando Programacion Line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-510840" y="974880"/>
            <a:ext cx="8903520" cy="53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Variables de Decisión:</a:t>
            </a:r>
            <a:r>
              <a:rPr b="1" lang="es-C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Para cada actividad definim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= Tiempo de inicio de la actividad 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= Duración de la actividad 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= Duración del proy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4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Restricci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s-CL" sz="2000" spc="-1" strike="noStrike" baseline="30000">
                <a:solidFill>
                  <a:srgbClr val="000000"/>
                </a:solidFill>
                <a:latin typeface="Garamond"/>
              </a:rPr>
              <a:t>crash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D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D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s-CL" sz="2000" spc="-1" strike="noStrike" baseline="30000">
                <a:solidFill>
                  <a:srgbClr val="000000"/>
                </a:solidFill>
                <a:latin typeface="Garamond"/>
              </a:rPr>
              <a:t>normal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 Para cada actividad 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max{T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+D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: para toda actividad k que precede a actividad i}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= max{T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+ D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: para toda actividad k que NO tiene sucesor}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Duración Requer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No negativ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buClr>
                <a:srgbClr val="9900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 </a:t>
            </a: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Función Objetiv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Defimos C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s-CL" sz="2000" spc="-1" strike="noStrike" baseline="30000">
                <a:solidFill>
                  <a:srgbClr val="000000"/>
                </a:solidFill>
                <a:latin typeface="Garamond"/>
              </a:rPr>
              <a:t>normal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el costo normal de ejecucion de 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561240" y="5257800"/>
            <a:ext cx="7413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=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aramond"/>
              </a:rPr>
              <a:t>normal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 + (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aramond"/>
              </a:rPr>
              <a:t>normal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–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Costo por Unidad de Tiemp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0" name=""/>
              <p:cNvSpPr txBox="1"/>
              <p:nvPr/>
            </p:nvSpPr>
            <p:spPr>
              <a:xfrm>
                <a:off x="1371600" y="5638680"/>
                <a:ext cx="601992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imize Project Excution Cost: Min Z 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3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3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3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3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3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3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3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3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1" dur="5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6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"/>
          <p:cNvSpPr/>
          <p:nvPr/>
        </p:nvSpPr>
        <p:spPr>
          <a:xfrm>
            <a:off x="554040" y="78408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2" name=""/>
          <p:cNvGraphicFramePr/>
          <p:nvPr/>
        </p:nvGraphicFramePr>
        <p:xfrm>
          <a:off x="2057400" y="955800"/>
          <a:ext cx="5229000" cy="2317680"/>
        </p:xfrm>
        <a:graphic>
          <a:graphicData uri="http://schemas.openxmlformats.org/drawingml/2006/table">
            <a:tbl>
              <a:tblPr/>
              <a:tblGrid>
                <a:gridCol w="936720"/>
                <a:gridCol w="1247760"/>
                <a:gridCol w="1015560"/>
                <a:gridCol w="1013760"/>
                <a:gridCol w="101520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edec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rm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urati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day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ra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u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day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rashing Cos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$/da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28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8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8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,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3" name=""/>
          <p:cNvSpPr/>
          <p:nvPr/>
        </p:nvSpPr>
        <p:spPr>
          <a:xfrm>
            <a:off x="482760" y="34920"/>
            <a:ext cx="8432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Casos Patológicos: Solución Usando P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"/>
          <p:cNvSpPr/>
          <p:nvPr/>
        </p:nvSpPr>
        <p:spPr>
          <a:xfrm>
            <a:off x="554040" y="914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77840" y="254160"/>
            <a:ext cx="7670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Cuál es el VPN de un Proyect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609480" y="936720"/>
            <a:ext cx="8305920" cy="60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A cada actividad del proyecto le podemos asociar un costo de ejecución y un beneficio al completar la ac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La holgura de las actividad que no son criticas ofrece flexibilidad en su ejecución. Cuándo comenzar esta actividades y qué duración deben tener afecta el VPN del proyec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Posponer 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Acelerar Benef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Además, Crashing ofrece flexibilidad en el ejecución del proyec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5680" y="152280"/>
            <a:ext cx="69595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Ejemplos de Proyectos: Becht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2244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143000"/>
            <a:ext cx="8077320" cy="58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Construcción y puesta en marcha del sistema de ferroviario entre Londres y el Channel Tunnel (US$4.6 mil millo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3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Construcción de oleoductos entre el mar Caspio y Rusia (US$850 millo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3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Expansión del aeropuerto de Dubai en los EAU (US$600 millones), y del aeropuerto de Miami en Florida (US$2 mil millo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3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Construcción de plantas de procesamiento de gas en Yemen y Trin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457200" y="254160"/>
            <a:ext cx="853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cc"/>
                </a:solidFill>
                <a:latin typeface="Times New Roman"/>
              </a:rPr>
              <a:t>Calculando el VPN de un Proye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-384480" y="990720"/>
            <a:ext cx="10122840" cy="62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Variables de Decision:</a:t>
            </a:r>
            <a:r>
              <a:rPr b="1" lang="es-CL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= Tiempo de inicio de la actividad 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= Duración de la actividad 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Restricci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s-CL" sz="2000" spc="-1" strike="noStrike" baseline="30000">
                <a:solidFill>
                  <a:srgbClr val="000000"/>
                </a:solidFill>
                <a:latin typeface="Garamond"/>
              </a:rPr>
              <a:t>crash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D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D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s-CL" sz="2000" spc="-1" strike="noStrike" baseline="30000">
                <a:solidFill>
                  <a:srgbClr val="000000"/>
                </a:solidFill>
                <a:latin typeface="Garamond"/>
              </a:rPr>
              <a:t>normal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 para la actividad 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max{T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+D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: para todas las actividades k que preceden a la actividad i}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Non negativit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buClr>
                <a:srgbClr val="9900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Función Objetiv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: Beneficio de completar la actividad 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i :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Costo normal de ejecución de la activida 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NR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: Ingreso neto de completar la actividad  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NR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= R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– C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– (D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s-CL" sz="2000" spc="-1" strike="noStrike" baseline="30000">
                <a:solidFill>
                  <a:srgbClr val="000000"/>
                </a:solidFill>
                <a:latin typeface="Garamond"/>
              </a:rPr>
              <a:t>normal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– D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) 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Crashing Rate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El VPN del proyecto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0" name=""/>
              <p:cNvSpPr txBox="1"/>
              <p:nvPr/>
            </p:nvSpPr>
            <p:spPr>
              <a:xfrm>
                <a:off x="3424320" y="5621400"/>
                <a:ext cx="31338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PV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ctivities</m:t>
                        </m:r>
                      </m:sub>
                      <m:sup/>
                      <m:e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1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520560" y="216000"/>
            <a:ext cx="7861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Flujos y Presupuesto del Proyec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3" name="" descr=""/>
          <p:cNvPicPr/>
          <p:nvPr/>
        </p:nvPicPr>
        <p:blipFill>
          <a:blip r:embed="rId1"/>
          <a:stretch/>
        </p:blipFill>
        <p:spPr>
          <a:xfrm>
            <a:off x="380880" y="1224000"/>
            <a:ext cx="830592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"/>
          <p:cNvSpPr/>
          <p:nvPr/>
        </p:nvSpPr>
        <p:spPr>
          <a:xfrm>
            <a:off x="685800" y="228600"/>
            <a:ext cx="7772400" cy="160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ERT</a:t>
            </a:r>
            <a:br>
              <a:rPr sz="4400"/>
            </a:b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Gestión de Proyecto Bajo Incertidumb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5" name="" descr=""/>
          <p:cNvPicPr/>
          <p:nvPr/>
        </p:nvPicPr>
        <p:blipFill>
          <a:blip r:embed="rId1"/>
          <a:stretch/>
        </p:blipFill>
        <p:spPr>
          <a:xfrm>
            <a:off x="1041480" y="2438280"/>
            <a:ext cx="7048440" cy="37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"/>
          <p:cNvSpPr/>
          <p:nvPr/>
        </p:nvSpPr>
        <p:spPr>
          <a:xfrm>
            <a:off x="241200" y="274680"/>
            <a:ext cx="883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ogram Evaluation and Review Technique (PE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44600" y="11430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380880" y="1523880"/>
            <a:ext cx="8153640" cy="53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Método </a:t>
            </a:r>
            <a:r>
              <a:rPr b="0" lang="es-CL" sz="2800" spc="-1" strike="noStrike">
                <a:solidFill>
                  <a:srgbClr val="990033"/>
                </a:solidFill>
                <a:latin typeface="Garamond"/>
              </a:rPr>
              <a:t>aproximado</a:t>
            </a: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 para incorporar la incertidumbre en la estimación de la duración de las activida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Supuestos fuertes en el comportamiento de la incertidumb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Tratamiento simple de la vari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Proporciona una visión probilistica de la duración del proye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"/>
          <p:cNvSpPr/>
          <p:nvPr/>
        </p:nvSpPr>
        <p:spPr>
          <a:xfrm>
            <a:off x="533520" y="228600"/>
            <a:ext cx="7238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Secuencia de Paso en PE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533520" y="1406520"/>
            <a:ext cx="8229600" cy="56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Calcular </a:t>
            </a:r>
            <a:r>
              <a:rPr b="1" i="1" lang="es-CL" sz="2400" spc="-1" strike="noStrike">
                <a:solidFill>
                  <a:srgbClr val="990033"/>
                </a:solidFill>
                <a:latin typeface="Garamond"/>
              </a:rPr>
              <a:t>Duración Esperada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para cada activ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Calcular la varianza de la duración de cada actividad.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Usar CPM para determinar el camino critico y la </a:t>
            </a:r>
            <a:r>
              <a:rPr b="1" i="1" lang="es-CL" sz="2400" spc="-1" strike="noStrike">
                <a:solidFill>
                  <a:srgbClr val="990033"/>
                </a:solidFill>
                <a:latin typeface="Garamond"/>
              </a:rPr>
              <a:t>Duracion Rsperada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del proyecto.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Sumar las varianzas de la ruta critica para determinar la varianza de la duracion del proye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Aproximar la duración del proyecto como una variable aleatoria Normal con media y varianza según lo calculado en los pasos 3 y 4, respectiv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"/>
          <p:cNvSpPr/>
          <p:nvPr/>
        </p:nvSpPr>
        <p:spPr>
          <a:xfrm>
            <a:off x="863640" y="2286000"/>
            <a:ext cx="0" cy="2438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711360" y="452772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4" name=""/>
          <p:cNvGrpSpPr/>
          <p:nvPr/>
        </p:nvGrpSpPr>
        <p:grpSpPr>
          <a:xfrm>
            <a:off x="1625760" y="2793960"/>
            <a:ext cx="2971800" cy="1701720"/>
            <a:chOff x="1625760" y="2793960"/>
            <a:chExt cx="2971800" cy="1701720"/>
          </a:xfrm>
        </p:grpSpPr>
        <p:sp>
          <p:nvSpPr>
            <p:cNvPr id="1355" name=""/>
            <p:cNvSpPr/>
            <p:nvPr/>
          </p:nvSpPr>
          <p:spPr>
            <a:xfrm>
              <a:off x="1625760" y="2793960"/>
              <a:ext cx="2971800" cy="1625760"/>
            </a:xfrm>
            <a:custGeom>
              <a:avLst/>
              <a:gdLst/>
              <a:ahLst/>
              <a:rect l="l" t="t" r="r" b="b"/>
              <a:pathLst>
                <a:path w="1872" h="1024">
                  <a:moveTo>
                    <a:pt x="0" y="1024"/>
                  </a:moveTo>
                  <a:cubicBezTo>
                    <a:pt x="76" y="1020"/>
                    <a:pt x="152" y="1016"/>
                    <a:pt x="240" y="880"/>
                  </a:cubicBezTo>
                  <a:cubicBezTo>
                    <a:pt x="328" y="744"/>
                    <a:pt x="448" y="352"/>
                    <a:pt x="528" y="208"/>
                  </a:cubicBezTo>
                  <a:cubicBezTo>
                    <a:pt x="608" y="64"/>
                    <a:pt x="664" y="32"/>
                    <a:pt x="720" y="16"/>
                  </a:cubicBezTo>
                  <a:cubicBezTo>
                    <a:pt x="776" y="0"/>
                    <a:pt x="808" y="48"/>
                    <a:pt x="864" y="112"/>
                  </a:cubicBezTo>
                  <a:cubicBezTo>
                    <a:pt x="920" y="176"/>
                    <a:pt x="984" y="304"/>
                    <a:pt x="1056" y="400"/>
                  </a:cubicBezTo>
                  <a:cubicBezTo>
                    <a:pt x="1128" y="496"/>
                    <a:pt x="1208" y="608"/>
                    <a:pt x="1296" y="688"/>
                  </a:cubicBezTo>
                  <a:cubicBezTo>
                    <a:pt x="1384" y="768"/>
                    <a:pt x="1488" y="832"/>
                    <a:pt x="1584" y="880"/>
                  </a:cubicBezTo>
                  <a:cubicBezTo>
                    <a:pt x="1680" y="928"/>
                    <a:pt x="1776" y="952"/>
                    <a:pt x="1872" y="976"/>
                  </a:cubicBezTo>
                </a:path>
              </a:pathLst>
            </a:custGeom>
            <a:noFill/>
            <a:ln w="28440">
              <a:solidFill>
                <a:srgbClr val="99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625760" y="4419720"/>
              <a:ext cx="0" cy="7596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4597560" y="4343400"/>
              <a:ext cx="0" cy="15228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8" name=""/>
          <p:cNvSpPr/>
          <p:nvPr/>
        </p:nvSpPr>
        <p:spPr>
          <a:xfrm>
            <a:off x="939960" y="44956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istic Tim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4064040" y="44956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simistic Tim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2235240" y="449568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Likely Tim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2768760" y="28195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2971800" y="565164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Expected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3225960" y="3276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 flipV="1">
            <a:off x="3225960" y="449532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3962520" y="1828800"/>
            <a:ext cx="4800600" cy="1600200"/>
          </a:xfrm>
          <a:prstGeom prst="rect">
            <a:avLst/>
          </a:prstGeom>
          <a:solidFill>
            <a:srgbClr val="d5d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6" name=""/>
          <p:cNvGraphicFramePr/>
          <p:nvPr/>
        </p:nvGraphicFramePr>
        <p:xfrm>
          <a:off x="4038480" y="1905120"/>
          <a:ext cx="4496040" cy="145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905120"/>
                    <a:ext cx="4496040" cy="14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8" name="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04920" y="228600"/>
            <a:ext cx="5410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ERT: Pasos 1 &amp;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228600" y="99072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990033"/>
                </a:solidFill>
                <a:latin typeface="Garamond"/>
              </a:rPr>
              <a:t>Duración Esperada y Desviación Estándar para cada activ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5199840" y="3429000"/>
            <a:ext cx="3400920" cy="368280"/>
          </a:xfrm>
          <a:prstGeom prst="rect">
            <a:avLst/>
          </a:prstGeom>
          <a:noFill/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Palatino Linotype"/>
              </a:rPr>
              <a:t>Supuesto: Distribución Be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"/>
          <p:cNvSpPr/>
          <p:nvPr/>
        </p:nvSpPr>
        <p:spPr>
          <a:xfrm>
            <a:off x="533520" y="100332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165240" y="304920"/>
            <a:ext cx="8292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asos 1 &amp; 2 Proyecto Mountain Bi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4" name="" descr=""/>
          <p:cNvPicPr/>
          <p:nvPr/>
        </p:nvPicPr>
        <p:blipFill>
          <a:blip r:embed="rId1"/>
          <a:stretch/>
        </p:blipFill>
        <p:spPr>
          <a:xfrm>
            <a:off x="76320" y="1252440"/>
            <a:ext cx="8991360" cy="46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"/>
          <p:cNvSpPr/>
          <p:nvPr/>
        </p:nvSpPr>
        <p:spPr>
          <a:xfrm>
            <a:off x="228600" y="1828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A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1143000" y="14479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B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1143000" y="22860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C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2209680" y="1828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D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3733920" y="138276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E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3895560" y="235908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F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733920" y="30718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G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5043600" y="31240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H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5410080" y="2373480"/>
            <a:ext cx="68580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I(1.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781680" y="237348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J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6781680" y="30718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K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8077320" y="26020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L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7848720" y="1449360"/>
            <a:ext cx="761760" cy="466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Fini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685800" y="1700280"/>
            <a:ext cx="447840" cy="204840"/>
          </a:xfrm>
          <a:custGeom>
            <a:avLst/>
            <a:gdLst/>
            <a:ahLst/>
            <a:rect l="l" t="t" r="r" b="b"/>
            <a:pathLst>
              <a:path w="282" h="129">
                <a:moveTo>
                  <a:pt x="0" y="129"/>
                </a:moveTo>
                <a:lnTo>
                  <a:pt x="282" y="0"/>
                </a:ln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685800" y="2286000"/>
            <a:ext cx="452520" cy="257040"/>
          </a:xfrm>
          <a:custGeom>
            <a:avLst/>
            <a:gdLst/>
            <a:ahLst/>
            <a:rect l="l" t="t" r="r" b="b"/>
            <a:pathLst>
              <a:path w="285" h="162">
                <a:moveTo>
                  <a:pt x="0" y="0"/>
                </a:moveTo>
                <a:lnTo>
                  <a:pt x="285" y="16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1676520" y="2286000"/>
            <a:ext cx="609480" cy="271440"/>
          </a:xfrm>
          <a:custGeom>
            <a:avLst/>
            <a:gdLst/>
            <a:ahLst/>
            <a:rect l="l" t="t" r="r" b="b"/>
            <a:pathLst>
              <a:path w="384" h="171">
                <a:moveTo>
                  <a:pt x="0" y="171"/>
                </a:move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685880" y="1695600"/>
            <a:ext cx="600120" cy="209520"/>
          </a:xfrm>
          <a:custGeom>
            <a:avLst/>
            <a:gdLst/>
            <a:ahLst/>
            <a:rect l="l" t="t" r="r" b="b"/>
            <a:pathLst>
              <a:path w="378" h="132">
                <a:moveTo>
                  <a:pt x="0" y="0"/>
                </a:moveTo>
                <a:lnTo>
                  <a:pt x="378" y="132"/>
                </a:ln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2705040" y="1692360"/>
            <a:ext cx="1014480" cy="250920"/>
          </a:xfrm>
          <a:custGeom>
            <a:avLst/>
            <a:gdLst/>
            <a:ahLst/>
            <a:rect l="l" t="t" r="r" b="b"/>
            <a:pathLst>
              <a:path w="639" h="158">
                <a:moveTo>
                  <a:pt x="0" y="158"/>
                </a:moveTo>
                <a:lnTo>
                  <a:pt x="63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2743200" y="2133720"/>
            <a:ext cx="1133640" cy="463320"/>
          </a:xfrm>
          <a:custGeom>
            <a:avLst/>
            <a:gdLst/>
            <a:ahLst/>
            <a:rect l="l" t="t" r="r" b="b"/>
            <a:pathLst>
              <a:path w="714" h="292">
                <a:moveTo>
                  <a:pt x="0" y="0"/>
                </a:moveTo>
                <a:lnTo>
                  <a:pt x="714" y="29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2692440" y="2260440"/>
            <a:ext cx="1035000" cy="1059120"/>
          </a:xfrm>
          <a:custGeom>
            <a:avLst/>
            <a:gdLst/>
            <a:ahLst/>
            <a:rect l="l" t="t" r="r" b="b"/>
            <a:pathLst>
              <a:path w="652" h="667">
                <a:moveTo>
                  <a:pt x="0" y="0"/>
                </a:moveTo>
                <a:lnTo>
                  <a:pt x="652" y="667"/>
                </a:ln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4276800" y="3360600"/>
            <a:ext cx="758880" cy="32040"/>
          </a:xfrm>
          <a:custGeom>
            <a:avLst/>
            <a:gdLst/>
            <a:ahLst/>
            <a:rect l="l" t="t" r="r" b="b"/>
            <a:pathLst>
              <a:path w="478" h="20">
                <a:moveTo>
                  <a:pt x="0" y="0"/>
                </a:moveTo>
                <a:lnTo>
                  <a:pt x="478" y="20"/>
                </a:ln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5442120" y="2906640"/>
            <a:ext cx="196560" cy="247680"/>
          </a:xfrm>
          <a:custGeom>
            <a:avLst/>
            <a:gdLst/>
            <a:ahLst/>
            <a:rect l="l" t="t" r="r" b="b"/>
            <a:pathLst>
              <a:path w="124" h="156">
                <a:moveTo>
                  <a:pt x="0" y="156"/>
                </a:moveTo>
                <a:lnTo>
                  <a:pt x="124" y="0"/>
                </a:ln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4448160" y="2602080"/>
            <a:ext cx="961920" cy="1440"/>
          </a:xfrm>
          <a:custGeom>
            <a:avLst/>
            <a:gdLst/>
            <a:ahLst/>
            <a:rect l="l" t="t" r="r" b="b"/>
            <a:pathLst>
              <a:path w="606" h="1">
                <a:moveTo>
                  <a:pt x="0" y="0"/>
                </a:moveTo>
                <a:lnTo>
                  <a:pt x="606" y="1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6091200" y="2602080"/>
            <a:ext cx="690480" cy="1440"/>
          </a:xfrm>
          <a:custGeom>
            <a:avLst/>
            <a:gdLst/>
            <a:ahLst/>
            <a:rect l="l" t="t" r="r" b="b"/>
            <a:pathLst>
              <a:path w="435" h="1">
                <a:moveTo>
                  <a:pt x="0" y="0"/>
                </a:moveTo>
                <a:lnTo>
                  <a:pt x="435" y="1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5915160" y="2868480"/>
            <a:ext cx="860400" cy="438120"/>
          </a:xfrm>
          <a:custGeom>
            <a:avLst/>
            <a:gdLst/>
            <a:ahLst/>
            <a:rect l="l" t="t" r="r" b="b"/>
            <a:pathLst>
              <a:path w="542" h="276">
                <a:moveTo>
                  <a:pt x="0" y="0"/>
                </a:moveTo>
                <a:lnTo>
                  <a:pt x="542" y="276"/>
                </a:ln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7318440" y="2992320"/>
            <a:ext cx="777960" cy="352440"/>
          </a:xfrm>
          <a:custGeom>
            <a:avLst/>
            <a:gdLst/>
            <a:ahLst/>
            <a:rect l="l" t="t" r="r" b="b"/>
            <a:pathLst>
              <a:path w="490" h="222">
                <a:moveTo>
                  <a:pt x="0" y="222"/>
                </a:moveTo>
                <a:lnTo>
                  <a:pt x="490" y="0"/>
                </a:ln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7238880" y="1844640"/>
            <a:ext cx="766800" cy="604800"/>
          </a:xfrm>
          <a:custGeom>
            <a:avLst/>
            <a:gdLst/>
            <a:ahLst/>
            <a:rect l="l" t="t" r="r" b="b"/>
            <a:pathLst>
              <a:path w="483" h="381">
                <a:moveTo>
                  <a:pt x="0" y="381"/>
                </a:moveTo>
                <a:lnTo>
                  <a:pt x="48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8305920" y="1920960"/>
            <a:ext cx="1440" cy="681120"/>
          </a:xfrm>
          <a:custGeom>
            <a:avLst/>
            <a:gdLst/>
            <a:ahLst/>
            <a:rect l="l" t="t" r="r" b="b"/>
            <a:pathLst>
              <a:path w="1" h="429">
                <a:moveTo>
                  <a:pt x="0" y="429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4267080" y="164448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5791320" y="3068640"/>
            <a:ext cx="0" cy="33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6477120" y="3068640"/>
            <a:ext cx="0" cy="33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6934320" y="846000"/>
            <a:ext cx="245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8000"/>
                </a:solidFill>
                <a:latin typeface="Garamond"/>
              </a:rPr>
              <a:t>Duración Esperad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8000"/>
                </a:solidFill>
                <a:latin typeface="Garamond"/>
              </a:rPr>
              <a:t>15.5 me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495360" y="82548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127080" y="127080"/>
            <a:ext cx="8217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asos 3 &amp; 4 Proyecto Mountain Bi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9" name="" descr=""/>
          <p:cNvPicPr/>
          <p:nvPr/>
        </p:nvPicPr>
        <p:blipFill>
          <a:blip r:embed="rId1"/>
          <a:stretch/>
        </p:blipFill>
        <p:spPr>
          <a:xfrm>
            <a:off x="330120" y="2933640"/>
            <a:ext cx="2774880" cy="3581640"/>
          </a:xfrm>
          <a:prstGeom prst="rect">
            <a:avLst/>
          </a:prstGeom>
          <a:ln w="0">
            <a:noFill/>
          </a:ln>
        </p:spPr>
      </p:pic>
      <p:sp>
        <p:nvSpPr>
          <p:cNvPr id="1410" name=""/>
          <p:cNvSpPr/>
          <p:nvPr/>
        </p:nvSpPr>
        <p:spPr>
          <a:xfrm>
            <a:off x="3588120" y="3794040"/>
            <a:ext cx="5304600" cy="31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33"/>
                </a:solidFill>
                <a:latin typeface="Garamond"/>
              </a:rPr>
              <a:t>Duración Esperada del Proyec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Garamond"/>
              </a:rPr>
              <a:t>T</a:t>
            </a:r>
            <a:r>
              <a:rPr b="0" lang="es-CL" sz="2000" spc="-1" strike="noStrike" baseline="-25000">
                <a:solidFill>
                  <a:srgbClr val="3333cc"/>
                </a:solidFill>
                <a:latin typeface="Garamond"/>
              </a:rPr>
              <a:t>p</a:t>
            </a:r>
            <a:r>
              <a:rPr b="0" lang="es-CL" sz="2000" spc="-1" strike="noStrike">
                <a:solidFill>
                  <a:srgbClr val="3333cc"/>
                </a:solidFill>
                <a:latin typeface="Garamond"/>
              </a:rPr>
              <a:t>= T</a:t>
            </a:r>
            <a:r>
              <a:rPr b="0" lang="es-CL" sz="2000" spc="-1" strike="noStrike" baseline="-25000">
                <a:solidFill>
                  <a:srgbClr val="3333cc"/>
                </a:solidFill>
                <a:latin typeface="Garamond"/>
              </a:rPr>
              <a:t>A</a:t>
            </a:r>
            <a:r>
              <a:rPr b="0" lang="es-CL" sz="2000" spc="-1" strike="noStrike">
                <a:solidFill>
                  <a:srgbClr val="3333cc"/>
                </a:solidFill>
                <a:latin typeface="Garamond"/>
              </a:rPr>
              <a:t> + T</a:t>
            </a:r>
            <a:r>
              <a:rPr b="0" lang="es-CL" sz="2000" spc="-1" strike="noStrike" baseline="-25000">
                <a:solidFill>
                  <a:srgbClr val="3333cc"/>
                </a:solidFill>
                <a:latin typeface="Garamond"/>
              </a:rPr>
              <a:t>B</a:t>
            </a:r>
            <a:r>
              <a:rPr b="0" lang="es-CL" sz="2000" spc="-1" strike="noStrike">
                <a:solidFill>
                  <a:srgbClr val="3333cc"/>
                </a:solidFill>
                <a:latin typeface="Garamond"/>
              </a:rPr>
              <a:t> + T</a:t>
            </a:r>
            <a:r>
              <a:rPr b="0" lang="es-CL" sz="2000" spc="-1" strike="noStrike" baseline="-25000">
                <a:solidFill>
                  <a:srgbClr val="3333cc"/>
                </a:solidFill>
                <a:latin typeface="Garamond"/>
              </a:rPr>
              <a:t>D</a:t>
            </a:r>
            <a:r>
              <a:rPr b="0" lang="es-CL" sz="2000" spc="-1" strike="noStrike">
                <a:solidFill>
                  <a:srgbClr val="3333cc"/>
                </a:solidFill>
                <a:latin typeface="Garamond"/>
              </a:rPr>
              <a:t> + T</a:t>
            </a:r>
            <a:r>
              <a:rPr b="0" lang="es-CL" sz="2000" spc="-1" strike="noStrike" baseline="-25000">
                <a:solidFill>
                  <a:srgbClr val="3333cc"/>
                </a:solidFill>
                <a:latin typeface="Garamond"/>
              </a:rPr>
              <a:t>G</a:t>
            </a:r>
            <a:r>
              <a:rPr b="0" lang="es-CL" sz="2000" spc="-1" strike="noStrike">
                <a:solidFill>
                  <a:srgbClr val="3333cc"/>
                </a:solidFill>
                <a:latin typeface="Garamond"/>
              </a:rPr>
              <a:t> + T</a:t>
            </a:r>
            <a:r>
              <a:rPr b="0" lang="es-CL" sz="2000" spc="-1" strike="noStrike" baseline="-25000">
                <a:solidFill>
                  <a:srgbClr val="3333cc"/>
                </a:solidFill>
                <a:latin typeface="Garamond"/>
              </a:rPr>
              <a:t>H</a:t>
            </a:r>
            <a:r>
              <a:rPr b="0" lang="es-CL" sz="2000" spc="-1" strike="noStrike">
                <a:solidFill>
                  <a:srgbClr val="3333cc"/>
                </a:solidFill>
                <a:latin typeface="Garamond"/>
              </a:rPr>
              <a:t> + T</a:t>
            </a:r>
            <a:r>
              <a:rPr b="0" lang="es-CL" sz="2000" spc="-1" strike="noStrike" baseline="-25000">
                <a:solidFill>
                  <a:srgbClr val="3333cc"/>
                </a:solidFill>
                <a:latin typeface="Garamond"/>
              </a:rPr>
              <a:t>I</a:t>
            </a:r>
            <a:r>
              <a:rPr b="0" lang="es-CL" sz="2000" spc="-1" strike="noStrike">
                <a:solidFill>
                  <a:srgbClr val="3333cc"/>
                </a:solidFill>
                <a:latin typeface="Garamond"/>
              </a:rPr>
              <a:t> + T</a:t>
            </a:r>
            <a:r>
              <a:rPr b="0" lang="es-CL" sz="2000" spc="-1" strike="noStrike" baseline="-25000">
                <a:solidFill>
                  <a:srgbClr val="3333cc"/>
                </a:solidFill>
                <a:latin typeface="Garamond"/>
              </a:rPr>
              <a:t>K</a:t>
            </a:r>
            <a:r>
              <a:rPr b="0" lang="es-CL" sz="2000" spc="-1" strike="noStrike">
                <a:solidFill>
                  <a:srgbClr val="3333cc"/>
                </a:solidFill>
                <a:latin typeface="Garamond"/>
              </a:rPr>
              <a:t> + T</a:t>
            </a:r>
            <a:r>
              <a:rPr b="0" lang="es-CL" sz="2000" spc="-1" strike="noStrike" baseline="-25000">
                <a:solidFill>
                  <a:srgbClr val="3333cc"/>
                </a:solidFill>
                <a:latin typeface="Garamond"/>
              </a:rPr>
              <a:t>L </a:t>
            </a:r>
            <a:r>
              <a:rPr b="0" lang="es-CL" sz="2000" spc="-1" strike="noStrike">
                <a:solidFill>
                  <a:srgbClr val="3333cc"/>
                </a:solidFill>
                <a:latin typeface="Garamond"/>
              </a:rPr>
              <a:t>= 15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33"/>
                </a:solidFill>
                <a:latin typeface="Garamond"/>
              </a:rPr>
              <a:t>Varianza del Proyec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s-CL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</a:t>
            </a:r>
            <a:r>
              <a:rPr b="0" lang="es-CL" sz="2000" spc="-1" strike="noStrike" baseline="-25000">
                <a:solidFill>
                  <a:srgbClr val="3333cc"/>
                </a:solidFill>
                <a:latin typeface="Garamond"/>
              </a:rPr>
              <a:t>P </a:t>
            </a:r>
            <a:r>
              <a:rPr b="0" lang="es-CL" sz="2000" spc="-1" strike="noStrike">
                <a:solidFill>
                  <a:srgbClr val="3333cc"/>
                </a:solidFill>
                <a:latin typeface="Garamond"/>
              </a:rPr>
              <a:t>= </a:t>
            </a:r>
            <a:r>
              <a:rPr b="0" lang="es-CL" sz="20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s-CL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</a:t>
            </a:r>
            <a:r>
              <a:rPr b="0" lang="es-CL" sz="2000" spc="-1" strike="noStrike" baseline="-25000">
                <a:solidFill>
                  <a:srgbClr val="3333cc"/>
                </a:solidFill>
                <a:latin typeface="Garamond"/>
              </a:rPr>
              <a:t>A</a:t>
            </a:r>
            <a:r>
              <a:rPr b="0" lang="es-CL" sz="2000" spc="-1" strike="noStrike">
                <a:solidFill>
                  <a:srgbClr val="3333cc"/>
                </a:solidFill>
                <a:latin typeface="Garamond"/>
              </a:rPr>
              <a:t> + </a:t>
            </a:r>
            <a:r>
              <a:rPr b="0" lang="es-CL" sz="20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s-CL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</a:t>
            </a:r>
            <a:r>
              <a:rPr b="0" lang="es-CL" sz="2000" spc="-1" strike="noStrike" baseline="-25000">
                <a:solidFill>
                  <a:srgbClr val="3333cc"/>
                </a:solidFill>
                <a:latin typeface="Garamond"/>
              </a:rPr>
              <a:t>B</a:t>
            </a:r>
            <a:r>
              <a:rPr b="0" lang="es-CL" sz="2000" spc="-1" strike="noStrike">
                <a:solidFill>
                  <a:srgbClr val="3333cc"/>
                </a:solidFill>
                <a:latin typeface="Garamond"/>
              </a:rPr>
              <a:t> + </a:t>
            </a:r>
            <a:r>
              <a:rPr b="0" lang="es-CL" sz="20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s-CL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</a:t>
            </a:r>
            <a:r>
              <a:rPr b="0" lang="es-CL" sz="2000" spc="-1" strike="noStrike" baseline="-25000">
                <a:solidFill>
                  <a:srgbClr val="3333cc"/>
                </a:solidFill>
                <a:latin typeface="Garamond"/>
              </a:rPr>
              <a:t>D</a:t>
            </a:r>
            <a:r>
              <a:rPr b="0" lang="es-CL" sz="2000" spc="-1" strike="noStrike">
                <a:solidFill>
                  <a:srgbClr val="3333cc"/>
                </a:solidFill>
                <a:latin typeface="Garamond"/>
              </a:rPr>
              <a:t> + </a:t>
            </a:r>
            <a:r>
              <a:rPr b="0" lang="es-CL" sz="20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s-CL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</a:t>
            </a:r>
            <a:r>
              <a:rPr b="0" lang="es-CL" sz="2000" spc="-1" strike="noStrike" baseline="-25000">
                <a:solidFill>
                  <a:srgbClr val="3333cc"/>
                </a:solidFill>
                <a:latin typeface="Garamond"/>
              </a:rPr>
              <a:t>G</a:t>
            </a:r>
            <a:r>
              <a:rPr b="0" lang="es-CL" sz="2000" spc="-1" strike="noStrike">
                <a:solidFill>
                  <a:srgbClr val="3333cc"/>
                </a:solidFill>
                <a:latin typeface="Garamond"/>
              </a:rPr>
              <a:t> + </a:t>
            </a:r>
            <a:r>
              <a:rPr b="0" lang="es-CL" sz="20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s-CL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</a:t>
            </a:r>
            <a:r>
              <a:rPr b="0" lang="es-CL" sz="2000" spc="-1" strike="noStrike" baseline="-25000">
                <a:solidFill>
                  <a:srgbClr val="3333cc"/>
                </a:solidFill>
                <a:latin typeface="Garamond"/>
              </a:rPr>
              <a:t>H</a:t>
            </a:r>
            <a:r>
              <a:rPr b="0" lang="es-CL" sz="2000" spc="-1" strike="noStrike">
                <a:solidFill>
                  <a:srgbClr val="3333cc"/>
                </a:solidFill>
                <a:latin typeface="Garamond"/>
              </a:rPr>
              <a:t> + </a:t>
            </a:r>
            <a:r>
              <a:rPr b="0" lang="es-CL" sz="20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s-CL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</a:t>
            </a:r>
            <a:r>
              <a:rPr b="0" lang="es-CL" sz="2000" spc="-1" strike="noStrike" baseline="-25000">
                <a:solidFill>
                  <a:srgbClr val="3333cc"/>
                </a:solidFill>
                <a:latin typeface="Garamond"/>
              </a:rPr>
              <a:t>I</a:t>
            </a:r>
            <a:r>
              <a:rPr b="0" lang="es-CL" sz="2000" spc="-1" strike="noStrike">
                <a:solidFill>
                  <a:srgbClr val="3333cc"/>
                </a:solidFill>
                <a:latin typeface="Garamond"/>
              </a:rPr>
              <a:t> + </a:t>
            </a:r>
            <a:r>
              <a:rPr b="0" lang="es-CL" sz="20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s-CL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</a:t>
            </a:r>
            <a:r>
              <a:rPr b="0" lang="es-CL" sz="2000" spc="-1" strike="noStrike" baseline="-25000">
                <a:solidFill>
                  <a:srgbClr val="3333cc"/>
                </a:solidFill>
                <a:latin typeface="Garamond"/>
              </a:rPr>
              <a:t>K</a:t>
            </a:r>
            <a:r>
              <a:rPr b="0" lang="es-CL" sz="2000" spc="-1" strike="noStrike">
                <a:solidFill>
                  <a:srgbClr val="3333cc"/>
                </a:solidFill>
                <a:latin typeface="Garamond"/>
              </a:rPr>
              <a:t> + </a:t>
            </a:r>
            <a:r>
              <a:rPr b="0" lang="es-CL" sz="20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s-CL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</a:t>
            </a:r>
            <a:r>
              <a:rPr b="0" lang="es-CL" sz="2000" spc="-1" strike="noStrike" baseline="-25000">
                <a:solidFill>
                  <a:srgbClr val="3333cc"/>
                </a:solidFill>
                <a:latin typeface="Garamond"/>
              </a:rPr>
              <a:t>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baseline="-25000">
                <a:solidFill>
                  <a:srgbClr val="3333cc"/>
                </a:solidFill>
                <a:latin typeface="Garamond"/>
              </a:rPr>
              <a:t>         </a:t>
            </a:r>
            <a:r>
              <a:rPr b="0" lang="es-CL" sz="2000" spc="-1" strike="noStrike">
                <a:solidFill>
                  <a:srgbClr val="3333cc"/>
                </a:solidFill>
                <a:latin typeface="Garamond"/>
              </a:rPr>
              <a:t>= 2.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33"/>
                </a:solidFill>
                <a:latin typeface="Garamond"/>
              </a:rPr>
              <a:t>Desviación Estándar del Proyec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s-CL" sz="2000" spc="-1" strike="noStrike" baseline="-25000">
                <a:solidFill>
                  <a:srgbClr val="3333cc"/>
                </a:solidFill>
                <a:latin typeface="Garamond"/>
              </a:rPr>
              <a:t>P</a:t>
            </a:r>
            <a:r>
              <a:rPr b="0" lang="es-CL" sz="2000" spc="-1" strike="noStrike">
                <a:solidFill>
                  <a:srgbClr val="3333cc"/>
                </a:solidFill>
                <a:latin typeface="Symbol"/>
                <a:ea typeface="Symbol"/>
              </a:rPr>
              <a:t>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0" dur="5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5" dur="5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165240" y="216000"/>
            <a:ext cx="7454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aso 5 Proyecto Mountain Bi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304920" y="1143000"/>
            <a:ext cx="8458200" cy="21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-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Cuál es la </a:t>
            </a:r>
            <a:r>
              <a:rPr b="0" i="1" lang="es-CL" sz="2400" spc="-1" strike="noStrike">
                <a:solidFill>
                  <a:srgbClr val="990033"/>
                </a:solidFill>
                <a:latin typeface="Garamond"/>
              </a:rPr>
              <a:t>Probabilidad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que el proyecto sea completado en menos de 14 mes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- Cuál es la </a:t>
            </a:r>
            <a:r>
              <a:rPr b="0" i="1" lang="es-CL" sz="2400" spc="-1" strike="noStrike">
                <a:solidFill>
                  <a:srgbClr val="990033"/>
                </a:solidFill>
                <a:latin typeface="Garamond"/>
              </a:rPr>
              <a:t>Probabilidad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que el proyecto sea completado entre 13 y 16 mes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380880" y="2895480"/>
            <a:ext cx="8458200" cy="13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Supuesto: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La duración del proyecto tiene una duración Nor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Media = </a:t>
            </a:r>
            <a:r>
              <a:rPr b="0" lang="es-CL" sz="2400" spc="-1" strike="noStrike">
                <a:solidFill>
                  <a:srgbClr val="3333cc"/>
                </a:solidFill>
                <a:latin typeface="Garamond"/>
              </a:rPr>
              <a:t>T</a:t>
            </a:r>
            <a:r>
              <a:rPr b="0" lang="es-CL" sz="2400" spc="-1" strike="noStrike" baseline="-25000">
                <a:solidFill>
                  <a:srgbClr val="3333cc"/>
                </a:solidFill>
                <a:latin typeface="Garamond"/>
              </a:rPr>
              <a:t>P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&amp;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Varianza = </a:t>
            </a:r>
            <a:r>
              <a:rPr b="0" lang="es-CL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s-CL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</a:t>
            </a:r>
            <a:r>
              <a:rPr b="0" lang="es-CL" sz="2400" spc="-1" strike="noStrike" baseline="-25000">
                <a:solidFill>
                  <a:srgbClr val="3333cc"/>
                </a:solidFill>
                <a:latin typeface="Garamond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5" name=""/>
          <p:cNvGrpSpPr/>
          <p:nvPr/>
        </p:nvGrpSpPr>
        <p:grpSpPr>
          <a:xfrm>
            <a:off x="762120" y="4295880"/>
            <a:ext cx="8355960" cy="2457360"/>
            <a:chOff x="762120" y="4295880"/>
            <a:chExt cx="8355960" cy="2457360"/>
          </a:xfrm>
        </p:grpSpPr>
        <p:grpSp>
          <p:nvGrpSpPr>
            <p:cNvPr id="1416" name=""/>
            <p:cNvGrpSpPr/>
            <p:nvPr/>
          </p:nvGrpSpPr>
          <p:grpSpPr>
            <a:xfrm>
              <a:off x="990720" y="4419720"/>
              <a:ext cx="6247440" cy="1744560"/>
              <a:chOff x="990720" y="4419720"/>
              <a:chExt cx="6247440" cy="1744560"/>
            </a:xfrm>
          </p:grpSpPr>
          <p:sp>
            <p:nvSpPr>
              <p:cNvPr id="1417" name=""/>
              <p:cNvSpPr/>
              <p:nvPr/>
            </p:nvSpPr>
            <p:spPr>
              <a:xfrm>
                <a:off x="990720" y="4419720"/>
                <a:ext cx="3124080" cy="1744560"/>
              </a:xfrm>
              <a:custGeom>
                <a:avLst/>
                <a:gdLst/>
                <a:ahLst/>
                <a:rect l="l" t="t" r="r" b="b"/>
                <a:pathLst>
                  <a:path w="2256" h="2352">
                    <a:moveTo>
                      <a:pt x="0" y="2352"/>
                    </a:moveTo>
                    <a:cubicBezTo>
                      <a:pt x="140" y="2348"/>
                      <a:pt x="280" y="2344"/>
                      <a:pt x="432" y="2304"/>
                    </a:cubicBezTo>
                    <a:cubicBezTo>
                      <a:pt x="584" y="2264"/>
                      <a:pt x="768" y="2248"/>
                      <a:pt x="912" y="2112"/>
                    </a:cubicBezTo>
                    <a:cubicBezTo>
                      <a:pt x="1056" y="1976"/>
                      <a:pt x="1176" y="1728"/>
                      <a:pt x="1296" y="1488"/>
                    </a:cubicBezTo>
                    <a:cubicBezTo>
                      <a:pt x="1416" y="1248"/>
                      <a:pt x="1544" y="872"/>
                      <a:pt x="1632" y="672"/>
                    </a:cubicBezTo>
                    <a:cubicBezTo>
                      <a:pt x="1720" y="472"/>
                      <a:pt x="1760" y="392"/>
                      <a:pt x="1824" y="288"/>
                    </a:cubicBezTo>
                    <a:cubicBezTo>
                      <a:pt x="1888" y="184"/>
                      <a:pt x="1944" y="96"/>
                      <a:pt x="2016" y="48"/>
                    </a:cubicBezTo>
                    <a:cubicBezTo>
                      <a:pt x="2088" y="0"/>
                      <a:pt x="2172" y="0"/>
                      <a:pt x="2256" y="0"/>
                    </a:cubicBezTo>
                  </a:path>
                </a:pathLst>
              </a:custGeom>
              <a:noFill/>
              <a:ln w="38160">
                <a:solidFill>
                  <a:srgbClr val="99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 flipH="1">
                <a:off x="4114080" y="4419720"/>
                <a:ext cx="3123720" cy="1744560"/>
              </a:xfrm>
              <a:custGeom>
                <a:avLst/>
                <a:gdLst/>
                <a:ahLst/>
                <a:rect l="l" t="t" r="r" b="b"/>
                <a:pathLst>
                  <a:path w="2256" h="2352">
                    <a:moveTo>
                      <a:pt x="0" y="2352"/>
                    </a:moveTo>
                    <a:cubicBezTo>
                      <a:pt x="140" y="2348"/>
                      <a:pt x="280" y="2344"/>
                      <a:pt x="432" y="2304"/>
                    </a:cubicBezTo>
                    <a:cubicBezTo>
                      <a:pt x="584" y="2264"/>
                      <a:pt x="768" y="2248"/>
                      <a:pt x="912" y="2112"/>
                    </a:cubicBezTo>
                    <a:cubicBezTo>
                      <a:pt x="1056" y="1976"/>
                      <a:pt x="1176" y="1728"/>
                      <a:pt x="1296" y="1488"/>
                    </a:cubicBezTo>
                    <a:cubicBezTo>
                      <a:pt x="1416" y="1248"/>
                      <a:pt x="1544" y="872"/>
                      <a:pt x="1632" y="672"/>
                    </a:cubicBezTo>
                    <a:cubicBezTo>
                      <a:pt x="1720" y="472"/>
                      <a:pt x="1760" y="392"/>
                      <a:pt x="1824" y="288"/>
                    </a:cubicBezTo>
                    <a:cubicBezTo>
                      <a:pt x="1888" y="184"/>
                      <a:pt x="1944" y="96"/>
                      <a:pt x="2016" y="48"/>
                    </a:cubicBezTo>
                    <a:cubicBezTo>
                      <a:pt x="2088" y="0"/>
                      <a:pt x="2172" y="0"/>
                      <a:pt x="2256" y="0"/>
                    </a:cubicBezTo>
                  </a:path>
                </a:pathLst>
              </a:custGeom>
              <a:noFill/>
              <a:ln w="38160">
                <a:solidFill>
                  <a:srgbClr val="99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9" name=""/>
            <p:cNvSpPr/>
            <p:nvPr/>
          </p:nvSpPr>
          <p:spPr>
            <a:xfrm>
              <a:off x="5002200" y="4511520"/>
              <a:ext cx="636480" cy="390600"/>
            </a:xfrm>
            <a:custGeom>
              <a:avLst/>
              <a:gdLst/>
              <a:ahLst/>
              <a:rect l="l" t="t" r="r" b="b"/>
              <a:pathLst>
                <a:path w="768" h="528">
                  <a:moveTo>
                    <a:pt x="768" y="0"/>
                  </a:moveTo>
                  <a:cubicBezTo>
                    <a:pt x="568" y="40"/>
                    <a:pt x="368" y="80"/>
                    <a:pt x="336" y="144"/>
                  </a:cubicBezTo>
                  <a:cubicBezTo>
                    <a:pt x="304" y="208"/>
                    <a:pt x="632" y="320"/>
                    <a:pt x="576" y="384"/>
                  </a:cubicBezTo>
                  <a:cubicBezTo>
                    <a:pt x="520" y="448"/>
                    <a:pt x="260" y="488"/>
                    <a:pt x="0" y="528"/>
                  </a:cubicBezTo>
                </a:path>
              </a:pathLst>
            </a:custGeom>
            <a:noFill/>
            <a:ln w="9360">
              <a:solidFill>
                <a:srgbClr val="9900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419800" y="4295880"/>
              <a:ext cx="1438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990033"/>
                  </a:solidFill>
                  <a:latin typeface="Garamond"/>
                </a:rPr>
                <a:t>Distribució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990033"/>
                  </a:solidFill>
                  <a:latin typeface="Garamond"/>
                </a:rPr>
                <a:t>Norm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7213680" y="5867280"/>
              <a:ext cx="190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imes New Roman"/>
                </a:rPr>
                <a:t>Duración Proye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3919680" y="6173640"/>
              <a:ext cx="523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Garamond"/>
                </a:rPr>
                <a:t>T</a:t>
              </a:r>
              <a:r>
                <a:rPr b="0" lang="en-US" sz="2800" spc="-1" strike="noStrike" baseline="-25000">
                  <a:solidFill>
                    <a:srgbClr val="3333cc"/>
                  </a:solidFill>
                  <a:latin typeface="Garamond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4089240" y="4421160"/>
              <a:ext cx="25560" cy="1827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2971800" y="525780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3821760" y="5043600"/>
              <a:ext cx="560160" cy="51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3333cc"/>
                  </a:solidFill>
                  <a:latin typeface="Symbol"/>
                  <a:ea typeface="Symbol"/>
                </a:rPr>
                <a:t></a:t>
              </a:r>
              <a:r>
                <a:rPr b="0" lang="en-US" sz="2400" spc="-1" strike="noStrike" baseline="-25000">
                  <a:solidFill>
                    <a:srgbClr val="3333cc"/>
                  </a:solidFill>
                  <a:latin typeface="Garamond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762120" y="6248520"/>
              <a:ext cx="739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8" dur="5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"/>
          <p:cNvSpPr/>
          <p:nvPr/>
        </p:nvSpPr>
        <p:spPr>
          <a:xfrm>
            <a:off x="762120" y="2232000"/>
            <a:ext cx="2819160" cy="1666800"/>
          </a:xfrm>
          <a:custGeom>
            <a:avLst/>
            <a:gdLst/>
            <a:ahLst/>
            <a:rect l="l" t="t" r="r" b="b"/>
            <a:pathLst>
              <a:path w="1776" h="1050">
                <a:moveTo>
                  <a:pt x="1774" y="1050"/>
                </a:moveTo>
                <a:lnTo>
                  <a:pt x="1776" y="0"/>
                </a:lnTo>
                <a:lnTo>
                  <a:pt x="1632" y="130"/>
                </a:lnTo>
                <a:lnTo>
                  <a:pt x="1488" y="322"/>
                </a:lnTo>
                <a:lnTo>
                  <a:pt x="1344" y="514"/>
                </a:lnTo>
                <a:lnTo>
                  <a:pt x="1170" y="712"/>
                </a:lnTo>
                <a:lnTo>
                  <a:pt x="972" y="880"/>
                </a:lnTo>
                <a:lnTo>
                  <a:pt x="718" y="952"/>
                </a:lnTo>
                <a:lnTo>
                  <a:pt x="336" y="994"/>
                </a:lnTo>
                <a:lnTo>
                  <a:pt x="144" y="994"/>
                </a:lnTo>
                <a:lnTo>
                  <a:pt x="48" y="994"/>
                </a:lnTo>
                <a:lnTo>
                  <a:pt x="0" y="994"/>
                </a:lnTo>
                <a:lnTo>
                  <a:pt x="0" y="1050"/>
                </a:lnTo>
                <a:lnTo>
                  <a:pt x="1774" y="105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8" name=""/>
              <p:cNvSpPr txBox="1"/>
              <p:nvPr/>
            </p:nvSpPr>
            <p:spPr>
              <a:xfrm>
                <a:off x="1128600" y="4611600"/>
                <a:ext cx="6745320" cy="9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7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9" name=""/>
          <p:cNvSpPr/>
          <p:nvPr/>
        </p:nvSpPr>
        <p:spPr>
          <a:xfrm>
            <a:off x="838080" y="5791320"/>
            <a:ext cx="7239240" cy="703800"/>
          </a:xfrm>
          <a:prstGeom prst="rect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rob(Dur ≤ 14) = </a:t>
            </a:r>
            <a:r>
              <a:rPr b="1" lang="en-US" sz="2000" spc="-1" strike="noStrike">
                <a:solidFill>
                  <a:srgbClr val="990033"/>
                </a:solidFill>
                <a:latin typeface="Garamond"/>
              </a:rPr>
              <a:t>NORMDIST(14,15.5,1.54,TRUE)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= 16.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533520" y="1158840"/>
            <a:ext cx="808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Cuál es la </a:t>
            </a:r>
            <a:r>
              <a:rPr b="0" i="1" lang="es-CL" sz="2400" spc="-1" strike="noStrike">
                <a:solidFill>
                  <a:srgbClr val="990033"/>
                </a:solidFill>
                <a:latin typeface="Garamond"/>
              </a:rPr>
              <a:t>Probabilidad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que el proyecto sea completado en menos de 14 mese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2" name=""/>
          <p:cNvGrpSpPr/>
          <p:nvPr/>
        </p:nvGrpSpPr>
        <p:grpSpPr>
          <a:xfrm>
            <a:off x="990720" y="2070000"/>
            <a:ext cx="6247440" cy="1744920"/>
            <a:chOff x="990720" y="2070000"/>
            <a:chExt cx="6247440" cy="1744920"/>
          </a:xfrm>
        </p:grpSpPr>
        <p:sp>
          <p:nvSpPr>
            <p:cNvPr id="1433" name=""/>
            <p:cNvSpPr/>
            <p:nvPr/>
          </p:nvSpPr>
          <p:spPr>
            <a:xfrm>
              <a:off x="990720" y="2070000"/>
              <a:ext cx="3124080" cy="1744920"/>
            </a:xfrm>
            <a:custGeom>
              <a:avLst/>
              <a:gdLst/>
              <a:ahLst/>
              <a:rect l="l" t="t" r="r" b="b"/>
              <a:pathLst>
                <a:path w="2256" h="2352">
                  <a:moveTo>
                    <a:pt x="0" y="2352"/>
                  </a:moveTo>
                  <a:cubicBezTo>
                    <a:pt x="140" y="2348"/>
                    <a:pt x="280" y="2344"/>
                    <a:pt x="432" y="2304"/>
                  </a:cubicBezTo>
                  <a:cubicBezTo>
                    <a:pt x="584" y="2264"/>
                    <a:pt x="768" y="2248"/>
                    <a:pt x="912" y="2112"/>
                  </a:cubicBezTo>
                  <a:cubicBezTo>
                    <a:pt x="1056" y="1976"/>
                    <a:pt x="1176" y="1728"/>
                    <a:pt x="1296" y="1488"/>
                  </a:cubicBezTo>
                  <a:cubicBezTo>
                    <a:pt x="1416" y="1248"/>
                    <a:pt x="1544" y="872"/>
                    <a:pt x="1632" y="672"/>
                  </a:cubicBezTo>
                  <a:cubicBezTo>
                    <a:pt x="1720" y="472"/>
                    <a:pt x="1760" y="392"/>
                    <a:pt x="1824" y="288"/>
                  </a:cubicBezTo>
                  <a:cubicBezTo>
                    <a:pt x="1888" y="184"/>
                    <a:pt x="1944" y="96"/>
                    <a:pt x="2016" y="48"/>
                  </a:cubicBezTo>
                  <a:cubicBezTo>
                    <a:pt x="2088" y="0"/>
                    <a:pt x="2172" y="0"/>
                    <a:pt x="2256" y="0"/>
                  </a:cubicBezTo>
                </a:path>
              </a:pathLst>
            </a:custGeom>
            <a:noFill/>
            <a:ln w="38160">
              <a:solidFill>
                <a:srgbClr val="99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H="1">
              <a:off x="4114080" y="2070000"/>
              <a:ext cx="3123720" cy="1744920"/>
            </a:xfrm>
            <a:custGeom>
              <a:avLst/>
              <a:gdLst/>
              <a:ahLst/>
              <a:rect l="l" t="t" r="r" b="b"/>
              <a:pathLst>
                <a:path w="2256" h="2352">
                  <a:moveTo>
                    <a:pt x="0" y="2352"/>
                  </a:moveTo>
                  <a:cubicBezTo>
                    <a:pt x="140" y="2348"/>
                    <a:pt x="280" y="2344"/>
                    <a:pt x="432" y="2304"/>
                  </a:cubicBezTo>
                  <a:cubicBezTo>
                    <a:pt x="584" y="2264"/>
                    <a:pt x="768" y="2248"/>
                    <a:pt x="912" y="2112"/>
                  </a:cubicBezTo>
                  <a:cubicBezTo>
                    <a:pt x="1056" y="1976"/>
                    <a:pt x="1176" y="1728"/>
                    <a:pt x="1296" y="1488"/>
                  </a:cubicBezTo>
                  <a:cubicBezTo>
                    <a:pt x="1416" y="1248"/>
                    <a:pt x="1544" y="872"/>
                    <a:pt x="1632" y="672"/>
                  </a:cubicBezTo>
                  <a:cubicBezTo>
                    <a:pt x="1720" y="472"/>
                    <a:pt x="1760" y="392"/>
                    <a:pt x="1824" y="288"/>
                  </a:cubicBezTo>
                  <a:cubicBezTo>
                    <a:pt x="1888" y="184"/>
                    <a:pt x="1944" y="96"/>
                    <a:pt x="2016" y="48"/>
                  </a:cubicBezTo>
                  <a:cubicBezTo>
                    <a:pt x="2088" y="0"/>
                    <a:pt x="2172" y="0"/>
                    <a:pt x="2256" y="0"/>
                  </a:cubicBezTo>
                </a:path>
              </a:pathLst>
            </a:custGeom>
            <a:noFill/>
            <a:ln w="38160">
              <a:solidFill>
                <a:srgbClr val="99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5" name=""/>
          <p:cNvSpPr/>
          <p:nvPr/>
        </p:nvSpPr>
        <p:spPr>
          <a:xfrm>
            <a:off x="5002200" y="2162160"/>
            <a:ext cx="636480" cy="390600"/>
          </a:xfrm>
          <a:custGeom>
            <a:avLst/>
            <a:gdLst/>
            <a:ahLst/>
            <a:rect l="l" t="t" r="r" b="b"/>
            <a:pathLst>
              <a:path w="768" h="528">
                <a:moveTo>
                  <a:pt x="768" y="0"/>
                </a:moveTo>
                <a:cubicBezTo>
                  <a:pt x="568" y="40"/>
                  <a:pt x="368" y="80"/>
                  <a:pt x="336" y="144"/>
                </a:cubicBezTo>
                <a:cubicBezTo>
                  <a:pt x="304" y="208"/>
                  <a:pt x="632" y="320"/>
                  <a:pt x="576" y="384"/>
                </a:cubicBezTo>
                <a:cubicBezTo>
                  <a:pt x="520" y="448"/>
                  <a:pt x="260" y="488"/>
                  <a:pt x="0" y="528"/>
                </a:cubicBezTo>
              </a:path>
            </a:pathLst>
          </a:custGeom>
          <a:noFill/>
          <a:ln w="9360">
            <a:solidFill>
              <a:srgbClr val="99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5476320" y="1924200"/>
            <a:ext cx="159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0033"/>
                </a:solidFill>
                <a:latin typeface="Garamond"/>
              </a:rPr>
              <a:t>Distribu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0033"/>
                </a:solidFill>
                <a:latin typeface="Garamond"/>
              </a:rPr>
              <a:t>N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7042680" y="3529080"/>
            <a:ext cx="22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Duración Proy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3880440" y="3871800"/>
            <a:ext cx="1235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Garamond"/>
              </a:rPr>
              <a:t>T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Garamond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Garamond"/>
              </a:rPr>
              <a:t>=15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4089240" y="2071800"/>
            <a:ext cx="25560" cy="1827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6909840" y="2297160"/>
            <a:ext cx="12304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Garamond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Garamond"/>
              </a:rPr>
              <a:t>=1.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762120" y="3898800"/>
            <a:ext cx="7391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 flipV="1">
            <a:off x="3581280" y="220932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3314160" y="387360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Garamond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165240" y="216000"/>
            <a:ext cx="7454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aso 5 Proyecto Mountain Bi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5" dur="5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0" dur="10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38160"/>
            <a:ext cx="914400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cc"/>
                </a:solidFill>
                <a:latin typeface="Times New Roman"/>
              </a:rPr>
              <a:t>Ejemplo: Desarrollo de Nuevos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914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533520" y="1066680"/>
            <a:ext cx="8172000" cy="2557800"/>
            <a:chOff x="533520" y="1066680"/>
            <a:chExt cx="8172000" cy="2557800"/>
          </a:xfrm>
        </p:grpSpPr>
        <p:sp>
          <p:nvSpPr>
            <p:cNvPr id="63" name=""/>
            <p:cNvSpPr/>
            <p:nvPr/>
          </p:nvSpPr>
          <p:spPr>
            <a:xfrm>
              <a:off x="533520" y="1219320"/>
              <a:ext cx="2361960" cy="45720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ccccff">
                    <a:alpha val="81176"/>
                  </a:srgbClr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Georgia"/>
                </a:rPr>
                <a:t>Product Desig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2286000" cy="45720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ccccff">
                    <a:alpha val="81176"/>
                  </a:srgbClr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Georgia"/>
                </a:rPr>
                <a:t>Process Desig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181480" y="2286000"/>
              <a:ext cx="3200400" cy="45720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ccccff">
                    <a:alpha val="81176"/>
                  </a:srgbClr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Georgia"/>
                </a:rPr>
                <a:t>Prototype &amp; Startu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410080" y="1066680"/>
              <a:ext cx="25718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aramond"/>
                </a:rPr>
                <a:t>Engineering Chang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838080" y="2971440"/>
              <a:ext cx="7867440" cy="653040"/>
              <a:chOff x="838080" y="2971440"/>
              <a:chExt cx="7867440" cy="653040"/>
            </a:xfrm>
          </p:grpSpPr>
          <p:sp>
            <p:nvSpPr>
              <p:cNvPr id="68" name=""/>
              <p:cNvSpPr/>
              <p:nvPr/>
            </p:nvSpPr>
            <p:spPr>
              <a:xfrm>
                <a:off x="856800" y="3238560"/>
                <a:ext cx="7848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>
                <a:off x="838080" y="299052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V="1">
                <a:off x="8686440" y="3009600"/>
                <a:ext cx="0" cy="2286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752640" y="3257640"/>
                <a:ext cx="198108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MONTH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V="1">
                <a:off x="1257120" y="297144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V="1">
                <a:off x="1714320" y="297144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V="1">
                <a:off x="2247480" y="297144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V="1">
                <a:off x="2781000" y="297144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V="1">
                <a:off x="3371400" y="297144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3943080" y="297144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V="1">
                <a:off x="7600680" y="297144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V="1">
                <a:off x="4590720" y="297144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V="1">
                <a:off x="5143320" y="297144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V="1">
                <a:off x="5790960" y="297144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V="1">
                <a:off x="6438600" y="297144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7010280" y="297144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V="1">
                <a:off x="8153280" y="297144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" name=""/>
          <p:cNvGrpSpPr/>
          <p:nvPr/>
        </p:nvGrpSpPr>
        <p:grpSpPr>
          <a:xfrm>
            <a:off x="533520" y="4133880"/>
            <a:ext cx="8172360" cy="2405160"/>
            <a:chOff x="533520" y="4133880"/>
            <a:chExt cx="8172360" cy="2405160"/>
          </a:xfrm>
        </p:grpSpPr>
        <p:sp>
          <p:nvSpPr>
            <p:cNvPr id="86" name=""/>
            <p:cNvSpPr/>
            <p:nvPr/>
          </p:nvSpPr>
          <p:spPr>
            <a:xfrm>
              <a:off x="533520" y="4133880"/>
              <a:ext cx="2362320" cy="45720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ccccff">
                    <a:alpha val="81176"/>
                  </a:srgbClr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Georgia"/>
                </a:rPr>
                <a:t>Product Desig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219320" y="4667400"/>
              <a:ext cx="2286000" cy="45720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ccccff">
                    <a:alpha val="81176"/>
                  </a:srgbClr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Georgia"/>
                </a:rPr>
                <a:t>Process Desig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362320" y="5191200"/>
              <a:ext cx="3200400" cy="45720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ccccff">
                    <a:alpha val="81176"/>
                  </a:srgbClr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Georgia"/>
                </a:rPr>
                <a:t>Prototype &amp; Startu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43600" y="4191120"/>
              <a:ext cx="2571840" cy="155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90000"/>
                  </a:solidFill>
                  <a:latin typeface="Garamond"/>
                </a:rPr>
                <a:t>Concurrent Engineeri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838440" y="5886000"/>
              <a:ext cx="7867440" cy="653040"/>
              <a:chOff x="838440" y="5886000"/>
              <a:chExt cx="7867440" cy="653040"/>
            </a:xfrm>
          </p:grpSpPr>
          <p:sp>
            <p:nvSpPr>
              <p:cNvPr id="91" name=""/>
              <p:cNvSpPr/>
              <p:nvPr/>
            </p:nvSpPr>
            <p:spPr>
              <a:xfrm>
                <a:off x="857160" y="6153120"/>
                <a:ext cx="7848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>
                <a:off x="838440" y="590508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V="1">
                <a:off x="8686800" y="5924160"/>
                <a:ext cx="0" cy="2286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753000" y="6172200"/>
                <a:ext cx="198108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MONTH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V="1">
                <a:off x="1257480" y="588600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V="1">
                <a:off x="1714680" y="588600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V="1">
                <a:off x="2247840" y="588600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>
                <a:off x="2781360" y="588600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3371760" y="588600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V="1">
                <a:off x="3943440" y="588600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V="1">
                <a:off x="7601040" y="588600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V="1">
                <a:off x="4591080" y="588600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V="1">
                <a:off x="5143680" y="588600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V="1">
                <a:off x="5791320" y="588600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V="1">
                <a:off x="6438960" y="588600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V="1">
                <a:off x="7010640" y="588600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V="1">
                <a:off x="8153640" y="588600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"/>
          <p:cNvSpPr/>
          <p:nvPr/>
        </p:nvSpPr>
        <p:spPr>
          <a:xfrm>
            <a:off x="3193920" y="2070000"/>
            <a:ext cx="1301760" cy="1825560"/>
          </a:xfrm>
          <a:custGeom>
            <a:avLst/>
            <a:gdLst/>
            <a:ahLst/>
            <a:rect l="l" t="t" r="r" b="b"/>
            <a:pathLst>
              <a:path w="820" h="1150">
                <a:moveTo>
                  <a:pt x="0" y="1150"/>
                </a:moveTo>
                <a:lnTo>
                  <a:pt x="4" y="376"/>
                </a:lnTo>
                <a:lnTo>
                  <a:pt x="106" y="230"/>
                </a:lnTo>
                <a:lnTo>
                  <a:pt x="196" y="136"/>
                </a:lnTo>
                <a:lnTo>
                  <a:pt x="340" y="40"/>
                </a:lnTo>
                <a:lnTo>
                  <a:pt x="434" y="2"/>
                </a:lnTo>
                <a:lnTo>
                  <a:pt x="578" y="0"/>
                </a:lnTo>
                <a:lnTo>
                  <a:pt x="720" y="2"/>
                </a:lnTo>
                <a:lnTo>
                  <a:pt x="820" y="40"/>
                </a:lnTo>
                <a:lnTo>
                  <a:pt x="820" y="1150"/>
                </a:lnTo>
                <a:lnTo>
                  <a:pt x="0" y="115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762120" y="4876920"/>
            <a:ext cx="7924680" cy="1008720"/>
          </a:xfrm>
          <a:prstGeom prst="rect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Prob(13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≤ </a:t>
            </a: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Duración Proyecto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≤ 16)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NORMDIST(</a:t>
            </a:r>
            <a:r>
              <a:rPr b="1" lang="en-US" sz="2000" spc="-1" strike="noStrike">
                <a:solidFill>
                  <a:srgbClr val="800000"/>
                </a:solidFill>
                <a:latin typeface="Palatino Linotype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,15.5,1.54,TRUE)  - NORMDIST(</a:t>
            </a:r>
            <a:r>
              <a:rPr b="1" lang="en-US" sz="2000" spc="-1" strike="noStrike">
                <a:solidFill>
                  <a:srgbClr val="800000"/>
                </a:solidFill>
                <a:latin typeface="Palatino Linotype"/>
              </a:rPr>
              <a:t>13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,15.5,1.54,TRU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= 57.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533520" y="1158840"/>
            <a:ext cx="808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Cuál es la </a:t>
            </a:r>
            <a:r>
              <a:rPr b="0" i="1" lang="es-CL" sz="2400" spc="-1" strike="noStrike">
                <a:solidFill>
                  <a:srgbClr val="990033"/>
                </a:solidFill>
                <a:latin typeface="Garamond"/>
              </a:rPr>
              <a:t>Probabilidad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que el proyecto sea completado entre 13 y 16 mese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9" name=""/>
          <p:cNvGrpSpPr/>
          <p:nvPr/>
        </p:nvGrpSpPr>
        <p:grpSpPr>
          <a:xfrm>
            <a:off x="990720" y="2070000"/>
            <a:ext cx="6247440" cy="1744920"/>
            <a:chOff x="990720" y="2070000"/>
            <a:chExt cx="6247440" cy="1744920"/>
          </a:xfrm>
        </p:grpSpPr>
        <p:sp>
          <p:nvSpPr>
            <p:cNvPr id="1450" name=""/>
            <p:cNvSpPr/>
            <p:nvPr/>
          </p:nvSpPr>
          <p:spPr>
            <a:xfrm>
              <a:off x="990720" y="2070000"/>
              <a:ext cx="3124080" cy="1744920"/>
            </a:xfrm>
            <a:custGeom>
              <a:avLst/>
              <a:gdLst/>
              <a:ahLst/>
              <a:rect l="l" t="t" r="r" b="b"/>
              <a:pathLst>
                <a:path w="2256" h="2352">
                  <a:moveTo>
                    <a:pt x="0" y="2352"/>
                  </a:moveTo>
                  <a:cubicBezTo>
                    <a:pt x="140" y="2348"/>
                    <a:pt x="280" y="2344"/>
                    <a:pt x="432" y="2304"/>
                  </a:cubicBezTo>
                  <a:cubicBezTo>
                    <a:pt x="584" y="2264"/>
                    <a:pt x="768" y="2248"/>
                    <a:pt x="912" y="2112"/>
                  </a:cubicBezTo>
                  <a:cubicBezTo>
                    <a:pt x="1056" y="1976"/>
                    <a:pt x="1176" y="1728"/>
                    <a:pt x="1296" y="1488"/>
                  </a:cubicBezTo>
                  <a:cubicBezTo>
                    <a:pt x="1416" y="1248"/>
                    <a:pt x="1544" y="872"/>
                    <a:pt x="1632" y="672"/>
                  </a:cubicBezTo>
                  <a:cubicBezTo>
                    <a:pt x="1720" y="472"/>
                    <a:pt x="1760" y="392"/>
                    <a:pt x="1824" y="288"/>
                  </a:cubicBezTo>
                  <a:cubicBezTo>
                    <a:pt x="1888" y="184"/>
                    <a:pt x="1944" y="96"/>
                    <a:pt x="2016" y="48"/>
                  </a:cubicBezTo>
                  <a:cubicBezTo>
                    <a:pt x="2088" y="0"/>
                    <a:pt x="2172" y="0"/>
                    <a:pt x="2256" y="0"/>
                  </a:cubicBezTo>
                </a:path>
              </a:pathLst>
            </a:custGeom>
            <a:noFill/>
            <a:ln w="38160">
              <a:solidFill>
                <a:srgbClr val="99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H="1">
              <a:off x="4114080" y="2070000"/>
              <a:ext cx="3123720" cy="1744920"/>
            </a:xfrm>
            <a:custGeom>
              <a:avLst/>
              <a:gdLst/>
              <a:ahLst/>
              <a:rect l="l" t="t" r="r" b="b"/>
              <a:pathLst>
                <a:path w="2256" h="2352">
                  <a:moveTo>
                    <a:pt x="0" y="2352"/>
                  </a:moveTo>
                  <a:cubicBezTo>
                    <a:pt x="140" y="2348"/>
                    <a:pt x="280" y="2344"/>
                    <a:pt x="432" y="2304"/>
                  </a:cubicBezTo>
                  <a:cubicBezTo>
                    <a:pt x="584" y="2264"/>
                    <a:pt x="768" y="2248"/>
                    <a:pt x="912" y="2112"/>
                  </a:cubicBezTo>
                  <a:cubicBezTo>
                    <a:pt x="1056" y="1976"/>
                    <a:pt x="1176" y="1728"/>
                    <a:pt x="1296" y="1488"/>
                  </a:cubicBezTo>
                  <a:cubicBezTo>
                    <a:pt x="1416" y="1248"/>
                    <a:pt x="1544" y="872"/>
                    <a:pt x="1632" y="672"/>
                  </a:cubicBezTo>
                  <a:cubicBezTo>
                    <a:pt x="1720" y="472"/>
                    <a:pt x="1760" y="392"/>
                    <a:pt x="1824" y="288"/>
                  </a:cubicBezTo>
                  <a:cubicBezTo>
                    <a:pt x="1888" y="184"/>
                    <a:pt x="1944" y="96"/>
                    <a:pt x="2016" y="48"/>
                  </a:cubicBezTo>
                  <a:cubicBezTo>
                    <a:pt x="2088" y="0"/>
                    <a:pt x="2172" y="0"/>
                    <a:pt x="2256" y="0"/>
                  </a:cubicBezTo>
                </a:path>
              </a:pathLst>
            </a:custGeom>
            <a:noFill/>
            <a:ln w="38160">
              <a:solidFill>
                <a:srgbClr val="99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2" name=""/>
          <p:cNvSpPr/>
          <p:nvPr/>
        </p:nvSpPr>
        <p:spPr>
          <a:xfrm>
            <a:off x="5002200" y="2162160"/>
            <a:ext cx="636480" cy="390600"/>
          </a:xfrm>
          <a:custGeom>
            <a:avLst/>
            <a:gdLst/>
            <a:ahLst/>
            <a:rect l="l" t="t" r="r" b="b"/>
            <a:pathLst>
              <a:path w="768" h="528">
                <a:moveTo>
                  <a:pt x="768" y="0"/>
                </a:moveTo>
                <a:cubicBezTo>
                  <a:pt x="568" y="40"/>
                  <a:pt x="368" y="80"/>
                  <a:pt x="336" y="144"/>
                </a:cubicBezTo>
                <a:cubicBezTo>
                  <a:pt x="304" y="208"/>
                  <a:pt x="632" y="320"/>
                  <a:pt x="576" y="384"/>
                </a:cubicBezTo>
                <a:cubicBezTo>
                  <a:pt x="520" y="448"/>
                  <a:pt x="260" y="488"/>
                  <a:pt x="0" y="528"/>
                </a:cubicBezTo>
              </a:path>
            </a:pathLst>
          </a:custGeom>
          <a:noFill/>
          <a:ln w="9360">
            <a:solidFill>
              <a:srgbClr val="99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5452560" y="1946160"/>
            <a:ext cx="1357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Garamond"/>
              </a:rPr>
              <a:t>Norm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Garamond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7042680" y="3529080"/>
            <a:ext cx="22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Duración Proy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3910680" y="3871800"/>
            <a:ext cx="476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Garamond"/>
              </a:rPr>
              <a:t>T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Garamond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4089240" y="2071800"/>
            <a:ext cx="25560" cy="1827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6909840" y="2297160"/>
            <a:ext cx="12304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Garamond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Garamond"/>
              </a:rPr>
              <a:t>=1.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762120" y="3898800"/>
            <a:ext cx="7391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 flipV="1">
            <a:off x="3200400" y="266652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2945880" y="388620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Garamond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4492800" y="2124000"/>
            <a:ext cx="6120" cy="1762200"/>
          </a:xfrm>
          <a:custGeom>
            <a:avLst/>
            <a:gdLst/>
            <a:ahLst/>
            <a:rect l="l" t="t" r="r" b="b"/>
            <a:pathLst>
              <a:path w="4" h="1110">
                <a:moveTo>
                  <a:pt x="4" y="111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4228560" y="388620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Garamond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165240" y="216000"/>
            <a:ext cx="7454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aso 5 Proyecto Mountain Bi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7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304920" y="1143000"/>
            <a:ext cx="8686800" cy="39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Suponga que una cadena retail importante esta interesada en compr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su prototipo de la bicicleta Mountain Bike. El precio al que us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puede vender el proyecto depende de la fecha de entrega como mues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la siguiente tabla. En caso de retrasos usted deberá pagara una mult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$300 por mes de retraso. Los costos de ejecución del proyecto son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$262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4983120" y="3809880"/>
            <a:ext cx="370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Cuál es la fecha de entrega óptima que usted debe ofre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7" name="" descr=""/>
          <p:cNvPicPr/>
          <p:nvPr/>
        </p:nvPicPr>
        <p:blipFill>
          <a:blip r:embed="rId1"/>
          <a:stretch/>
        </p:blipFill>
        <p:spPr>
          <a:xfrm>
            <a:off x="2349360" y="3209760"/>
            <a:ext cx="2525760" cy="3013200"/>
          </a:xfrm>
          <a:prstGeom prst="rect">
            <a:avLst/>
          </a:prstGeom>
          <a:ln w="0">
            <a:noFill/>
          </a:ln>
        </p:spPr>
      </p:pic>
      <p:sp>
        <p:nvSpPr>
          <p:cNvPr id="1468" name=""/>
          <p:cNvSpPr/>
          <p:nvPr/>
        </p:nvSpPr>
        <p:spPr>
          <a:xfrm>
            <a:off x="165240" y="216000"/>
            <a:ext cx="7454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aso 5 Proyecto Mountain Bi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9" name="" descr=""/>
          <p:cNvPicPr/>
          <p:nvPr/>
        </p:nvPicPr>
        <p:blipFill>
          <a:blip r:embed="rId1"/>
          <a:stretch/>
        </p:blipFill>
        <p:spPr>
          <a:xfrm>
            <a:off x="1463760" y="2971800"/>
            <a:ext cx="2422440" cy="3581280"/>
          </a:xfrm>
          <a:prstGeom prst="rect">
            <a:avLst/>
          </a:prstGeom>
          <a:ln w="0">
            <a:noFill/>
          </a:ln>
        </p:spPr>
      </p:pic>
      <p:sp>
        <p:nvSpPr>
          <p:cNvPr id="1470" name=""/>
          <p:cNvSpPr/>
          <p:nvPr/>
        </p:nvSpPr>
        <p:spPr>
          <a:xfrm>
            <a:off x="228600" y="698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-614520" y="762120"/>
            <a:ext cx="1052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Suponga que usted ofrece  el proyecto en 16 mese a un precio de $38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Cuál es la </a:t>
            </a:r>
            <a:r>
              <a:rPr b="0" i="1" lang="es-CL" sz="2400" spc="-1" strike="noStrike">
                <a:solidFill>
                  <a:srgbClr val="800000"/>
                </a:solidFill>
                <a:latin typeface="Garamond"/>
              </a:rPr>
              <a:t>Penalidad Esperada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por retrasar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380880" y="1600200"/>
            <a:ext cx="86868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800000"/>
                </a:solidFill>
                <a:latin typeface="Palatino Linotype"/>
              </a:rPr>
              <a:t>Penalidad Esperada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  <a:ea typeface="Arial"/>
              </a:rPr>
              <a:t>300×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20.8%+600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  <a:ea typeface="Arial"/>
              </a:rPr>
              <a:t>×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11.3%+900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  <a:ea typeface="Arial"/>
              </a:rPr>
              <a:t>×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4.1%+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  <a:ea typeface="Arial"/>
              </a:rPr>
              <a:t>1200×1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%+1500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  <a:ea typeface="Arial"/>
              </a:rPr>
              <a:t>×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0.2% = $180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800000"/>
                </a:solidFill>
                <a:latin typeface="Palatino Linotype"/>
              </a:rPr>
              <a:t>Margen Neto =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$3800 - $2620 - $180.71 = $999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1790640" y="4140360"/>
            <a:ext cx="533520" cy="380880"/>
          </a:xfrm>
          <a:prstGeom prst="ellipse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4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3733560" cy="3286080"/>
          </a:xfrm>
          <a:prstGeom prst="rect">
            <a:avLst/>
          </a:prstGeom>
          <a:ln w="0">
            <a:noFill/>
          </a:ln>
        </p:spPr>
      </p:pic>
      <p:sp>
        <p:nvSpPr>
          <p:cNvPr id="1475" name=""/>
          <p:cNvSpPr/>
          <p:nvPr/>
        </p:nvSpPr>
        <p:spPr>
          <a:xfrm>
            <a:off x="6794640" y="4152960"/>
            <a:ext cx="914400" cy="380880"/>
          </a:xfrm>
          <a:prstGeom prst="ellipse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0" y="76320"/>
            <a:ext cx="7454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aso 5 Proyecto Mountain Bi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4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4" dur="5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9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2" dur="5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"/>
          <p:cNvSpPr/>
          <p:nvPr/>
        </p:nvSpPr>
        <p:spPr>
          <a:xfrm>
            <a:off x="304920" y="216000"/>
            <a:ext cx="8762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Supuestos y Limitaciones de PE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685800" y="1193760"/>
            <a:ext cx="8153280" cy="59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aramond"/>
              </a:rPr>
              <a:t>Actividades tiene una distribución Be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aramond"/>
              </a:rPr>
              <a:t>Duración de la actividades son independien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aramond"/>
              </a:rPr>
              <a:t>Hay un único camino crític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aramond"/>
              </a:rPr>
              <a:t>El Camino Crítico tiene una duración que es significativamente mas larga que cualquier otro camino del proyect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aramond"/>
              </a:rPr>
              <a:t>La duración del proyecto tiene una distribución Norm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aramond"/>
              </a:rPr>
              <a:t>Usar simulación si estos supuestos no se satisface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507960" y="914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"/>
          <p:cNvSpPr/>
          <p:nvPr/>
        </p:nvSpPr>
        <p:spPr>
          <a:xfrm>
            <a:off x="304920" y="228600"/>
            <a:ext cx="2819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esum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507960" y="914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457200" y="1206360"/>
            <a:ext cx="8247240" cy="62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Garamond"/>
              </a:rPr>
              <a:t>Critical Path Method (CP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No hay incertidum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Determina la Duración del Proy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Caminos Críticos, Actividades Criticas y Holgu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Método simple (algoritmo “goloso”) para definir la frontera eficiente Tiempo/Co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ogram Evaluation and Review Technique (</a:t>
            </a:r>
            <a:r>
              <a:rPr b="1" lang="es-CL" sz="2400" spc="-1" strike="noStrike">
                <a:solidFill>
                  <a:srgbClr val="000000"/>
                </a:solidFill>
                <a:latin typeface="Garamond"/>
              </a:rPr>
              <a:t>PE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Incertidumbre en la duración de las actividad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Basado en muchos supuestos y aproximac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Estima la duración media y varianza de la duración del proy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Asume la duración del proyecto está Normalmente distribui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Garamond"/>
              </a:rPr>
              <a:t>Simulación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Método muy preciso y flexible para manejar incertidum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Muy útil en la práct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057400" y="1308240"/>
            <a:ext cx="4800600" cy="3600360"/>
          </a:xfrm>
          <a:prstGeom prst="rect">
            <a:avLst/>
          </a:prstGeom>
          <a:ln w="9360">
            <a:solidFill>
              <a:srgbClr val="99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09" name=""/>
          <p:cNvSpPr/>
          <p:nvPr/>
        </p:nvSpPr>
        <p:spPr>
          <a:xfrm>
            <a:off x="1066680" y="5318280"/>
            <a:ext cx="7620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rash of super-luxury vehicles launched recently - including the Rolls, the Maybach and Volkswagen's new Bentley - were all planned at the peak of the dotcom boom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b Lutz, GM Vice-Chairma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320480" y="838080"/>
            <a:ext cx="61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Palatino Linotype"/>
              </a:rPr>
              <a:t>The 1,000 horsepower Cadillac Sixteen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49528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General Motors is unlikely to build the super-luxury Cadillac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76212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-152280" y="-152280"/>
            <a:ext cx="914400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cc"/>
                </a:solidFill>
                <a:latin typeface="Times New Roman"/>
              </a:rPr>
              <a:t>Ejemplo: Desarrollo de Nuevos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80880" y="914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914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92240" y="1143000"/>
            <a:ext cx="4608360" cy="5410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610160" y="1736640"/>
            <a:ext cx="4343400" cy="46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Garamond"/>
              </a:rPr>
              <a:t>April 14, 2002: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Tiger Woods wins Augusta wearing a a Nike Golf polo shirt with a collar spoiled by southern humidit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Garamond"/>
              </a:rPr>
              <a:t>April 22, 2002</a:t>
            </a:r>
            <a:r>
              <a:rPr b="0" lang="en-US" sz="1800" spc="-1" strike="noStrike">
                <a:solidFill>
                  <a:srgbClr val="990033"/>
                </a:solidFill>
                <a:latin typeface="Garamond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 S.I. cover pho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Garamond"/>
              </a:rPr>
              <a:t>Next day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, Nike calls Esquel Apparel (Hong Kong) to design a polo-shirt to withstand weath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Garamond"/>
              </a:rPr>
              <a:t>Immediately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, Esquel’s research begins developing the new fabri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Garamond"/>
              </a:rPr>
              <a:t>By May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the Gaoming factory is shipping prototypes to Flori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44640" y="1209600"/>
            <a:ext cx="27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33"/>
                </a:solidFill>
                <a:uFillTx/>
                <a:latin typeface="Times New Roman"/>
              </a:rPr>
              <a:t>Sequence of Ev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77320" y="6324480"/>
            <a:ext cx="220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Full story: W.S.J. 3/26/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-228600" y="38160"/>
            <a:ext cx="914400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cc"/>
                </a:solidFill>
                <a:latin typeface="Times New Roman"/>
              </a:rPr>
              <a:t>Ejemplo: Desarrollo de Nuevos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84280" y="139680"/>
            <a:ext cx="8559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Ejemplos: Microsoft &amp; F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2244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486080"/>
            <a:ext cx="8458200" cy="43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Garamond"/>
              </a:rPr>
              <a:t>Microsoft Windows 2000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Cientos de Program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Millones de Líneas de Códi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Millones de Dólares en 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Garamond"/>
              </a:rPr>
              <a:t>Rediseño del Ford Musta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450 personas en el 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Costo US$ 700 mill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25% mas rápido y 30% mas barato que otros proyectos de similares características en  F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2244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22360" y="1108080"/>
            <a:ext cx="543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Times New Roman"/>
              </a:rPr>
              <a:t>1.  </a:t>
            </a:r>
            <a:r>
              <a:rPr b="1" lang="es-CL" sz="2800" spc="-1" strike="noStrike">
                <a:solidFill>
                  <a:srgbClr val="990033"/>
                </a:solidFill>
                <a:latin typeface="Times New Roman"/>
              </a:rPr>
              <a:t>Antes que el Proyecto Com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1758960"/>
            <a:ext cx="8467560" cy="49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Garamond"/>
              </a:rPr>
              <a:t>Plan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Definir objetivos, definición del proyecto y equipo de trabaj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9900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Descomposición en actividade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9900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Grafo de precedencia y estimación de costos y du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Garamond"/>
              </a:rPr>
              <a:t>Programación (Schedul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Relacionar gente, dinero, y recursos a actividades especificas y entre el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9900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33"/>
                </a:solidFill>
                <a:latin typeface="Garamond"/>
              </a:rPr>
              <a:t>CPM: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Tiempo versus Costos (“Estimaciones Perfectas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buClr>
                <a:srgbClr val="990033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Actividades Critic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buClr>
                <a:srgbClr val="990033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Frontera Eficiente: Tiempo versus Costos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9900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33"/>
                </a:solidFill>
                <a:latin typeface="Garamond"/>
              </a:rPr>
              <a:t>PERT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(tomar en cuenta la incertidumb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buClr>
                <a:srgbClr val="990033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Gestión de Ries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760" y="139680"/>
            <a:ext cx="8559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Actividades de Gestión en un Pro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7T14:41:27Z</dcterms:created>
  <dc:creator>Rene Caldentey</dc:creator>
  <dc:description/>
  <dc:language>en-US</dc:language>
  <cp:lastModifiedBy>Rene Caldentey</cp:lastModifiedBy>
  <dcterms:modified xsi:type="dcterms:W3CDTF">2008-04-24T03:22:24Z</dcterms:modified>
  <cp:revision>130</cp:revision>
  <dc:subject/>
  <dc:title>Competitive Advantage from Operations (B01.1234.U2)</dc:title>
</cp:coreProperties>
</file>