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2.wmf" ContentType="image/x-wmf"/>
  <Override PartName="/ppt/media/image22.wmf" ContentType="image/x-wmf"/>
  <Override PartName="/ppt/media/image6.jpeg" ContentType="image/jpeg"/>
  <Override PartName="/ppt/media/image10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jpeg" ContentType="image/jpeg"/>
  <Override PartName="/ppt/media/image14.wmf" ContentType="image/x-wmf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AE511-8AAC-42A3-8A97-E5772B60A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3C5E3-6B95-411F-9ED1-7C6C46386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A1364-7F87-4F1B-AF9A-4B87157BF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BC627-00F5-4772-A2D0-604B78BCD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62D70-927B-4927-92CE-664C706B7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724A7-D424-4C7C-AB2C-85F1D1DC7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C822E-3907-4943-A885-1BABAD772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836E6-9793-4E9C-BD0F-1DB009A6B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56872-2EA0-4A44-8FA6-D816766D4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9E72B-6C89-4794-9FD7-7A07E5C35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F6136-F9D2-458C-AD62-6BAF01090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2B6C2-0B9C-4054-827B-366BCC7B0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CE9F7-2F05-4E73-83B0-2C8F2D917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AD7B6-96A8-4562-820D-7B5F62892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4EF18-DADC-44A4-A710-66A320236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B0B8E-394B-409C-86C4-2EE66CD6F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0A34D-4D2D-4849-BD28-25DAD42F1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1BD4E-D92D-487F-8E98-6DD19AD40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BFE7C-0EA0-409E-84C1-B5AF330FC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CFBCA-90BC-407E-8117-D7B9EBCA5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ED152-78B4-4011-97BD-FF51C31F1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3EC4E-C80B-4A54-8D9D-D7C6E7BCD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74043-6A2E-403E-AF2A-5DBC8A7CC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01107-A98D-44AC-835B-2213F53D3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0AA64-368C-4628-86FF-2359087C3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E90FF-D22D-41C6-BB82-816AC95ED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76359-6A4B-4A89-B04C-CA51E17B8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AE882-2B34-48D5-8A57-6E2B79B2E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3F7CF-B120-48F0-A5B3-2F2439D44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86FC2-F0BA-47A2-A1D7-C0BAEDC0F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F93E3-855C-400E-9BA5-230B67341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D62CE-15AC-448A-8ABE-E9308820A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3DF21-90B5-4508-AD4B-115D2937B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0580B-8202-4F6F-904C-DCF499E48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34838-B82D-444E-9BC3-81EAFEE4A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1D0B2-55BA-452C-85A5-0124EE2BF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6E4B5-11BD-4E36-B4D1-CA6F32C96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40E94-1068-4241-B7C2-16714B7C5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9E0E1-3D3D-4304-B0C5-5FB9114F9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0C1C0-A627-409E-8CCC-57437D0B1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F4049-DA9A-499A-B282-93E439A88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B0C72-9D90-4B10-ABBB-395DB5813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9B930-92F0-42E1-B257-3498CED00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E23A3-26F0-42E2-A1D6-749E049F6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B3F27-6A61-4B53-A44E-536E1E8F7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0D216-398A-4B46-AEED-215019397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48B3B-5466-43EC-BE79-55D90686D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B904B-D397-48AC-96C4-5E7A90671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6C754-B070-4589-9522-C1A45C313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6BCC6-E9DF-48CF-88D0-3E97DEA76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03006-934F-415F-A5C1-A1B7FEDE6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E3D41-A430-4642-9AD1-B488D4783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994C2-25F0-4CE2-8D61-D0C4495E9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7B809-6EEB-4D20-9808-819A2AD3C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76760"/>
            <a:ext cx="525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Program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981840" y="629928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77840"/>
            <a:ext cx="777240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Programación de Proy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1819440"/>
            <a:ext cx="3757320" cy="4733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95680" y="1913040"/>
            <a:ext cx="1676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1871640"/>
            <a:ext cx="1861920" cy="10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aramond"/>
              </a:rPr>
              <a:t>Asumo que las cosas no han marchado segun lo planeado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4612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2360" y="1066680"/>
            <a:ext cx="57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2.  </a:t>
            </a:r>
            <a:r>
              <a:rPr b="1" lang="es-CL" sz="2800" spc="-1" strike="noStrike">
                <a:solidFill>
                  <a:srgbClr val="990033"/>
                </a:solidFill>
                <a:latin typeface="Times New Roman"/>
              </a:rPr>
              <a:t>Después que el Proyecto Comenz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198520"/>
            <a:ext cx="8001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onitorea recurs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stos, calidad, y presupuesto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evisar planes y m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ecursos para alcanzar m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 tiempo y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472280" cy="3632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760" y="139680"/>
            <a:ext cx="855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ctividades de Gestión en un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92240"/>
            <a:ext cx="8864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lanificación, Programación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1200" y="1295280"/>
            <a:ext cx="2490480" cy="145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990033"/>
                </a:solidFill>
                <a:uFillTx/>
                <a:latin typeface="Arial Narrow"/>
              </a:rPr>
              <a:t>Project Plann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1.  Setting go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2.  Defining the proje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3.  Tying needs into timed proje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activ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4.  Organizing the t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21880" y="2811600"/>
            <a:ext cx="2578680" cy="145836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 Narrow"/>
              </a:rPr>
              <a:t>Project Schedul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1.  Tying resources to specifi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ctiv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2.  Relating activities to each o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3.  Updating and revising on 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gular ba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78520" y="1417680"/>
            <a:ext cx="2001240" cy="123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990033"/>
                </a:solidFill>
                <a:uFillTx/>
                <a:latin typeface="Arial Narrow"/>
              </a:rPr>
              <a:t>Time/cost estima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Budg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Engineering diagra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Cash flow char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Material availability detai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22240" y="3051000"/>
            <a:ext cx="1615680" cy="10018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 Narrow"/>
              </a:rPr>
              <a:t>CPM/PE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Gantt char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Milestone char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ash flow schedu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10560" y="4316400"/>
            <a:ext cx="2904840" cy="123012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ffff"/>
                </a:solidFill>
                <a:uFillTx/>
                <a:latin typeface="Arial Narrow"/>
              </a:rPr>
              <a:t>Project Controll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1.  Monitoring resources, costs, quality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and budg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2.  Revising and changing pla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3.  Shifting resources to meet dema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59600" y="4440240"/>
            <a:ext cx="1417320" cy="10018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ffff"/>
                </a:solidFill>
                <a:uFillTx/>
                <a:latin typeface="Arial Narrow"/>
              </a:rPr>
              <a:t>Repor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budg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delayed activ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slack activ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4863960"/>
            <a:ext cx="749160" cy="292320"/>
          </a:xfrm>
          <a:prstGeom prst="rightArrow">
            <a:avLst>
              <a:gd name="adj1" fmla="val 75000"/>
              <a:gd name="adj2" fmla="val 128152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76640" y="1841400"/>
            <a:ext cx="749520" cy="292320"/>
          </a:xfrm>
          <a:prstGeom prst="rightArrow">
            <a:avLst>
              <a:gd name="adj1" fmla="val 75000"/>
              <a:gd name="adj2" fmla="val 128213"/>
            </a:avLst>
          </a:prstGeom>
          <a:solidFill>
            <a:srgbClr val="9900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3432240"/>
            <a:ext cx="749160" cy="288720"/>
          </a:xfrm>
          <a:prstGeom prst="rightArrow">
            <a:avLst>
              <a:gd name="adj1" fmla="val 75000"/>
              <a:gd name="adj2" fmla="val 12975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6600" y="5649840"/>
            <a:ext cx="1251360" cy="3171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Before Proje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11960" y="5653080"/>
            <a:ext cx="1261800" cy="3171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During Proje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5480" y="560880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1179360"/>
            <a:ext cx="7315200" cy="5145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-228600" y="13968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esafíos en la Gestión de Proye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612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99600" y="990720"/>
            <a:ext cx="64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reguntas que podemos responder usando C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600200"/>
            <a:ext cx="7772400" cy="60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sta el proyecto atrasado, adelantado o a tiemp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Si el proyecto debe terminar antes de lo planeado, cuál es la forma de reducir su duración al menor cos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sta el proyecto sobre o bajo su presupues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Tenemos suficientes recursos para terminar el proyecto a tiemp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9800" y="152280"/>
            <a:ext cx="6311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P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304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295280"/>
          <a:ext cx="8229600" cy="5076720"/>
        </p:xfrm>
        <a:graphic>
          <a:graphicData uri="http://schemas.openxmlformats.org/drawingml/2006/table">
            <a:tbl>
              <a:tblPr/>
              <a:tblGrid>
                <a:gridCol w="4470480"/>
                <a:gridCol w="2084400"/>
                <a:gridCol w="1674720"/>
              </a:tblGrid>
              <a:tr h="69768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Activ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Duración Espera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(en mes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Predece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Inmedi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– Do preliminary market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 – Develop preliminary product desig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 – Do preliminary manufacturing stu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 – Evaluate and select best product 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,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 – Develop detailed marketing p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 – Design manufacturing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 – Develop detailed product 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 – Build and test prot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 – Finalize product 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, 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 – Order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 – Order production 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 – Install production 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554040" y="7621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3520" y="905040"/>
            <a:ext cx="71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8000"/>
                </a:solidFill>
                <a:latin typeface="Palatino Linotype"/>
              </a:rPr>
              <a:t>Proyecto de Desarrollo de una Mountain B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-763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visión del Proyecto en Activ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0600" y="4572000"/>
            <a:ext cx="867708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a carta Gantt muestra el tiempo “mas temprano” de termino del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ero, no indica cuales son las actividades “criticas” (es decir, retraso en estas actividades retrasaría todo el proyect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ampoco indica cuales actividades (y cuanto) deben acelerase para terminar el proyecto en un plazo determin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276880" cy="3432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52280" y="2286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3333cc"/>
                </a:solidFill>
                <a:latin typeface="Times New Roman"/>
              </a:rPr>
              <a:t>Carta Gantt para el Proyecto Mountain Bik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Grafo de Activ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19320" y="1143000"/>
            <a:ext cx="6476760" cy="2271600"/>
            <a:chOff x="1219320" y="1143000"/>
            <a:chExt cx="6476760" cy="2271600"/>
          </a:xfrm>
        </p:grpSpPr>
        <p:sp>
          <p:nvSpPr>
            <p:cNvPr id="166" name=""/>
            <p:cNvSpPr/>
            <p:nvPr/>
          </p:nvSpPr>
          <p:spPr>
            <a:xfrm>
              <a:off x="2648160" y="2895480"/>
              <a:ext cx="3912840" cy="51912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8000"/>
                  </a:solidFill>
                  <a:latin typeface="Garamond"/>
                </a:rPr>
                <a:t>Actividad en el No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1676520"/>
              <a:ext cx="1066680" cy="5331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24080" y="1143000"/>
              <a:ext cx="68580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52880" y="2133720"/>
              <a:ext cx="685800" cy="5331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2880" y="1143000"/>
              <a:ext cx="68580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81680" y="2133720"/>
              <a:ext cx="685800" cy="5331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9400" y="1600200"/>
              <a:ext cx="106668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286000" y="137160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6000" y="1981080"/>
              <a:ext cx="861840" cy="428760"/>
            </a:xfrm>
            <a:custGeom>
              <a:avLst/>
              <a:gdLst/>
              <a:ahLst/>
              <a:rect l="l" t="t" r="r" b="b"/>
              <a:pathLst>
                <a:path w="543" h="270">
                  <a:moveTo>
                    <a:pt x="0" y="0"/>
                  </a:moveTo>
                  <a:lnTo>
                    <a:pt x="543" y="2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09880" y="1371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35440" y="23684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38680" y="137160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5664240" y="1885680"/>
              <a:ext cx="990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86120" y="1514520"/>
              <a:ext cx="1281240" cy="703080"/>
            </a:xfrm>
            <a:custGeom>
              <a:avLst/>
              <a:gdLst/>
              <a:ahLst/>
              <a:rect l="l" t="t" r="r" b="b"/>
              <a:pathLst>
                <a:path w="807" h="443">
                  <a:moveTo>
                    <a:pt x="0" y="0"/>
                  </a:moveTo>
                  <a:lnTo>
                    <a:pt x="807" y="44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295280" y="3962520"/>
            <a:ext cx="6477120" cy="2452680"/>
            <a:chOff x="1295280" y="3962520"/>
            <a:chExt cx="6477120" cy="2452680"/>
          </a:xfrm>
        </p:grpSpPr>
        <p:sp>
          <p:nvSpPr>
            <p:cNvPr id="181" name=""/>
            <p:cNvSpPr/>
            <p:nvPr/>
          </p:nvSpPr>
          <p:spPr>
            <a:xfrm>
              <a:off x="2460240" y="4229280"/>
              <a:ext cx="415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Palatino Linotype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26440" y="5896080"/>
              <a:ext cx="3824280" cy="51912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8000"/>
                  </a:solidFill>
                  <a:latin typeface="Garamond"/>
                </a:rPr>
                <a:t>Actividad en el Ar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95280" y="4648320"/>
              <a:ext cx="1067040" cy="5331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0400" y="4114800"/>
              <a:ext cx="68580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28840" y="5105520"/>
              <a:ext cx="685800" cy="5331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29200" y="4114800"/>
              <a:ext cx="68580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57640" y="5105520"/>
              <a:ext cx="685800" cy="5331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05720" y="4572000"/>
              <a:ext cx="106668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362320" y="434340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62320" y="4952880"/>
              <a:ext cx="861840" cy="428760"/>
            </a:xfrm>
            <a:custGeom>
              <a:avLst/>
              <a:gdLst/>
              <a:ahLst/>
              <a:rect l="l" t="t" r="r" b="b"/>
              <a:pathLst>
                <a:path w="543" h="270">
                  <a:moveTo>
                    <a:pt x="0" y="0"/>
                  </a:moveTo>
                  <a:lnTo>
                    <a:pt x="543" y="2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200" y="4343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11760" y="53402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15000" y="434340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740560" y="4857480"/>
              <a:ext cx="99036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13160" y="5105520"/>
              <a:ext cx="389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Palatino Linotype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98680" y="3962520"/>
              <a:ext cx="389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Palatino Linotype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00840" y="4952880"/>
              <a:ext cx="418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Palatino Linotype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43480" y="4648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114800" y="4952880"/>
            <a:ext cx="106668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4343400"/>
            <a:ext cx="68580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5562720"/>
            <a:ext cx="685800" cy="5331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B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4343400"/>
            <a:ext cx="68580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24800" y="5572080"/>
            <a:ext cx="68580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5029200"/>
            <a:ext cx="106668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iempos Fundamentales en un Graf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143000"/>
            <a:ext cx="678204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ara cada actividad identificamos seis tiem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Garamond"/>
              </a:rPr>
              <a:t>D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Garamond"/>
              </a:rPr>
              <a:t>ES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Comienzo mas Tempr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Garamond"/>
              </a:rPr>
              <a:t>EF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Termino mas Temprano (EF = ES +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Garamond"/>
              </a:rPr>
              <a:t>LF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Termino mas Ta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Garamond"/>
              </a:rPr>
              <a:t>LS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Comienzo mas Tarde (LS = LF –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Garamond"/>
              </a:rPr>
              <a:t>ST : Holgura.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Máximo tiempo que una actividad puede retrasarse sin aumentar la duración del proyecto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T = LS – ES = LF – 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391520" y="1371600"/>
            <a:ext cx="1066680" cy="1371600"/>
            <a:chOff x="7391520" y="1371600"/>
            <a:chExt cx="1066680" cy="1371600"/>
          </a:xfrm>
        </p:grpSpPr>
        <p:sp>
          <p:nvSpPr>
            <p:cNvPr id="209" name=""/>
            <p:cNvSpPr/>
            <p:nvPr/>
          </p:nvSpPr>
          <p:spPr>
            <a:xfrm>
              <a:off x="7534440" y="2133360"/>
              <a:ext cx="762120" cy="60984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(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915320" y="13716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91520" y="17524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57400" y="1374480"/>
              <a:ext cx="46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Garamond"/>
                </a:rPr>
                <a:t>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65720" y="13906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Garamond"/>
                </a:rPr>
                <a:t>E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39040" y="1785960"/>
              <a:ext cx="46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Garamond"/>
                </a:rPr>
                <a:t>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47720" y="17636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Garamond"/>
                </a:rPr>
                <a:t>L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" y="4513320"/>
            <a:ext cx="3809880" cy="1201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 flipV="1">
            <a:off x="5181480" y="48006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38640" y="53341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46101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5843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63392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00880" y="5457960"/>
            <a:ext cx="528840" cy="323640"/>
          </a:xfrm>
          <a:custGeom>
            <a:avLst/>
            <a:gdLst/>
            <a:ahLst/>
            <a:rect l="l" t="t" r="r" b="b"/>
            <a:pathLst>
              <a:path w="333" h="204">
                <a:moveTo>
                  <a:pt x="0" y="204"/>
                </a:moveTo>
                <a:lnTo>
                  <a:pt x="33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24680" y="4743360"/>
            <a:ext cx="671400" cy="924120"/>
          </a:xfrm>
          <a:custGeom>
            <a:avLst/>
            <a:gdLst/>
            <a:ahLst/>
            <a:rect l="l" t="t" r="r" b="b"/>
            <a:pathLst>
              <a:path w="423" h="582">
                <a:moveTo>
                  <a:pt x="0" y="0"/>
                </a:moveTo>
                <a:lnTo>
                  <a:pt x="423" y="58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57960" y="3786120"/>
            <a:ext cx="685800" cy="533160"/>
            <a:chOff x="5457960" y="3786120"/>
            <a:chExt cx="685800" cy="533160"/>
          </a:xfrm>
        </p:grpSpPr>
        <p:sp>
          <p:nvSpPr>
            <p:cNvPr id="225" name=""/>
            <p:cNvSpPr/>
            <p:nvPr/>
          </p:nvSpPr>
          <p:spPr>
            <a:xfrm>
              <a:off x="5791320" y="3786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57960" y="4066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705720" y="3786120"/>
            <a:ext cx="685800" cy="533160"/>
            <a:chOff x="6705720" y="3786120"/>
            <a:chExt cx="685800" cy="533160"/>
          </a:xfrm>
        </p:grpSpPr>
        <p:sp>
          <p:nvSpPr>
            <p:cNvPr id="228" name=""/>
            <p:cNvSpPr/>
            <p:nvPr/>
          </p:nvSpPr>
          <p:spPr>
            <a:xfrm>
              <a:off x="7039080" y="3786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4066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486400" y="6172200"/>
            <a:ext cx="685800" cy="533160"/>
            <a:chOff x="5486400" y="6172200"/>
            <a:chExt cx="685800" cy="533160"/>
          </a:xfrm>
        </p:grpSpPr>
        <p:sp>
          <p:nvSpPr>
            <p:cNvPr id="231" name=""/>
            <p:cNvSpPr/>
            <p:nvPr/>
          </p:nvSpPr>
          <p:spPr>
            <a:xfrm>
              <a:off x="5819760" y="61722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86400" y="6453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734160" y="6172200"/>
            <a:ext cx="685800" cy="533160"/>
            <a:chOff x="6734160" y="6172200"/>
            <a:chExt cx="685800" cy="533160"/>
          </a:xfrm>
        </p:grpSpPr>
        <p:sp>
          <p:nvSpPr>
            <p:cNvPr id="234" name=""/>
            <p:cNvSpPr/>
            <p:nvPr/>
          </p:nvSpPr>
          <p:spPr>
            <a:xfrm>
              <a:off x="7067520" y="61722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34160" y="6453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300560" y="4386240"/>
            <a:ext cx="685800" cy="533160"/>
            <a:chOff x="4300560" y="4386240"/>
            <a:chExt cx="685800" cy="533160"/>
          </a:xfrm>
        </p:grpSpPr>
        <p:sp>
          <p:nvSpPr>
            <p:cNvPr id="237" name=""/>
            <p:cNvSpPr/>
            <p:nvPr/>
          </p:nvSpPr>
          <p:spPr>
            <a:xfrm>
              <a:off x="4633920" y="4386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00560" y="4667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8029440" y="4438800"/>
            <a:ext cx="685800" cy="533160"/>
            <a:chOff x="8029440" y="4438800"/>
            <a:chExt cx="685800" cy="533160"/>
          </a:xfrm>
        </p:grpSpPr>
        <p:sp>
          <p:nvSpPr>
            <p:cNvPr id="240" name=""/>
            <p:cNvSpPr/>
            <p:nvPr/>
          </p:nvSpPr>
          <p:spPr>
            <a:xfrm>
              <a:off x="8362800" y="44388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29440" y="4719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70640" y="4038480"/>
            <a:ext cx="15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00"/>
                </a:solidFill>
                <a:latin typeface="Palatino Linotype"/>
              </a:rPr>
              <a:t>Ejemplo</a:t>
            </a:r>
            <a:r>
              <a:rPr b="1" lang="en-US" sz="2400" spc="-1" strike="noStrike">
                <a:solidFill>
                  <a:srgbClr val="990000"/>
                </a:solidFill>
                <a:latin typeface="Palatino Linotyp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09480" y="787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65160"/>
            <a:ext cx="64771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ritical Path Method (CPM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590920" y="1397160"/>
            <a:ext cx="3267000" cy="21492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77080" y="838080"/>
            <a:ext cx="53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Palatino Linotype"/>
              </a:rPr>
              <a:t>Ejemplo: FCN Securities Demo 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295280" y="4191120"/>
            <a:ext cx="7010640" cy="2063520"/>
            <a:chOff x="1295280" y="4191120"/>
            <a:chExt cx="7010640" cy="2063520"/>
          </a:xfrm>
        </p:grpSpPr>
        <p:sp>
          <p:nvSpPr>
            <p:cNvPr id="248" name=""/>
            <p:cNvSpPr/>
            <p:nvPr/>
          </p:nvSpPr>
          <p:spPr>
            <a:xfrm>
              <a:off x="1295280" y="494028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A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2760" y="419112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B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09880" y="419112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C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14600" y="493380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E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14600" y="577836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H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73480" y="419112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D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9880" y="4952880"/>
              <a:ext cx="5331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F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59360" y="579744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I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72200" y="495288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G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43800" y="4927680"/>
              <a:ext cx="7621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58960" y="4489560"/>
              <a:ext cx="806400" cy="514080"/>
            </a:xfrm>
            <a:custGeom>
              <a:avLst/>
              <a:gdLst/>
              <a:ahLst/>
              <a:rect l="l" t="t" r="r" b="b"/>
              <a:pathLst>
                <a:path w="508" h="324">
                  <a:moveTo>
                    <a:pt x="0" y="324"/>
                  </a:moveTo>
                  <a:lnTo>
                    <a:pt x="50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28800" y="5181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52480" y="5334120"/>
              <a:ext cx="787680" cy="583920"/>
            </a:xfrm>
            <a:custGeom>
              <a:avLst/>
              <a:gdLst/>
              <a:ahLst/>
              <a:rect l="l" t="t" r="r" b="b"/>
              <a:pathLst>
                <a:path w="496" h="368">
                  <a:moveTo>
                    <a:pt x="0" y="0"/>
                  </a:moveTo>
                  <a:lnTo>
                    <a:pt x="496" y="3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86280" y="4419720"/>
              <a:ext cx="723600" cy="1440"/>
            </a:xfrm>
            <a:custGeom>
              <a:avLst/>
              <a:gdLst/>
              <a:ahLst/>
              <a:rect l="l" t="t" r="r" b="b"/>
              <a:pathLst>
                <a:path w="456" h="1">
                  <a:moveTo>
                    <a:pt x="0" y="0"/>
                  </a:moveTo>
                  <a:lnTo>
                    <a:pt x="456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3400" y="4419720"/>
              <a:ext cx="723960" cy="1440"/>
            </a:xfrm>
            <a:custGeom>
              <a:avLst/>
              <a:gdLst/>
              <a:ahLst/>
              <a:rect l="l" t="t" r="r" b="b"/>
              <a:pathLst>
                <a:path w="456" h="1">
                  <a:moveTo>
                    <a:pt x="0" y="0"/>
                  </a:moveTo>
                  <a:lnTo>
                    <a:pt x="456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48120" y="5181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76920" y="5181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48120" y="602604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68840" y="4527720"/>
              <a:ext cx="679680" cy="501480"/>
            </a:xfrm>
            <a:custGeom>
              <a:avLst/>
              <a:gdLst/>
              <a:ahLst/>
              <a:rect l="l" t="t" r="r" b="b"/>
              <a:pathLst>
                <a:path w="428" h="316">
                  <a:moveTo>
                    <a:pt x="0" y="0"/>
                  </a:moveTo>
                  <a:lnTo>
                    <a:pt x="428" y="3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05720" y="51944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486400" y="5333760"/>
              <a:ext cx="2133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353960" y="3760920"/>
            <a:ext cx="5334120" cy="2617560"/>
            <a:chOff x="1353960" y="3760920"/>
            <a:chExt cx="5334120" cy="2617560"/>
          </a:xfrm>
        </p:grpSpPr>
        <p:sp>
          <p:nvSpPr>
            <p:cNvPr id="270" name=""/>
            <p:cNvSpPr/>
            <p:nvPr/>
          </p:nvSpPr>
          <p:spPr>
            <a:xfrm>
              <a:off x="2814480" y="3773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95600" y="397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73200" y="4473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53960" y="4673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87800" y="3760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68560" y="396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07120" y="3760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87880" y="396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49720" y="470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30480" y="4902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78520" y="470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59280" y="4902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25680" y="5589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06800" y="5789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40280" y="5997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21400" y="6197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50120" y="4473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30880" y="4673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279080" y="3870360"/>
            <a:ext cx="5553000" cy="2608200"/>
            <a:chOff x="1279080" y="3870360"/>
            <a:chExt cx="5553000" cy="2608200"/>
          </a:xfrm>
        </p:grpSpPr>
        <p:sp>
          <p:nvSpPr>
            <p:cNvPr id="289" name=""/>
            <p:cNvSpPr/>
            <p:nvPr/>
          </p:nvSpPr>
          <p:spPr>
            <a:xfrm>
              <a:off x="2520720" y="38829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9840" y="38862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79080" y="45831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28560" y="45864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93680" y="3870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43160" y="38736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13000" y="3870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52400" y="38736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55600" y="48117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04720" y="4815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84400" y="48117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23800" y="48150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31920" y="56991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70960" y="57024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488920" y="61070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85560" y="611028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06320" y="45831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95400" y="45864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274400" y="3657600"/>
            <a:ext cx="7856640" cy="2608200"/>
            <a:chOff x="1274400" y="3657600"/>
            <a:chExt cx="7856640" cy="2608200"/>
          </a:xfrm>
        </p:grpSpPr>
        <p:sp>
          <p:nvSpPr>
            <p:cNvPr id="308" name=""/>
            <p:cNvSpPr/>
            <p:nvPr/>
          </p:nvSpPr>
          <p:spPr>
            <a:xfrm>
              <a:off x="2515680" y="36702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65160" y="3673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74400" y="43704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23520" y="43736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789000" y="36576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038120" y="36608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08320" y="36576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47360" y="36608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50920" y="4599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00040" y="46022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79720" y="4599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18760" y="46022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26880" y="54864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76360" y="54896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41480" y="58942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790960" y="589752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103080" y="43704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90360" y="43736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196400" y="4484520"/>
              <a:ext cx="193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8000"/>
                  </a:solidFill>
                  <a:latin typeface="Garamond"/>
                </a:rPr>
                <a:t>Duración</a:t>
              </a:r>
              <a:r>
                <a:rPr b="1" lang="en-US" sz="2000" spc="-1" strike="noStrike">
                  <a:solidFill>
                    <a:srgbClr val="008000"/>
                  </a:solidFill>
                  <a:latin typeface="Garamond"/>
                </a:rPr>
                <a:t> = 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295280" y="4191120"/>
            <a:ext cx="7010640" cy="2063520"/>
            <a:chOff x="1295280" y="4191120"/>
            <a:chExt cx="7010640" cy="2063520"/>
          </a:xfrm>
        </p:grpSpPr>
        <p:sp>
          <p:nvSpPr>
            <p:cNvPr id="328" name=""/>
            <p:cNvSpPr/>
            <p:nvPr/>
          </p:nvSpPr>
          <p:spPr>
            <a:xfrm>
              <a:off x="1295280" y="4940280"/>
              <a:ext cx="53352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A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52760" y="4191120"/>
              <a:ext cx="53352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B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09880" y="4191120"/>
              <a:ext cx="53352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C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14600" y="4933800"/>
              <a:ext cx="53352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E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14600" y="577836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H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73480" y="4191120"/>
              <a:ext cx="53352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D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49880" y="495288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F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59360" y="579744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I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72200" y="4952880"/>
              <a:ext cx="53352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G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43800" y="4927680"/>
              <a:ext cx="762120" cy="5331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58960" y="4489560"/>
              <a:ext cx="806400" cy="514080"/>
            </a:xfrm>
            <a:custGeom>
              <a:avLst/>
              <a:gdLst/>
              <a:ahLst/>
              <a:rect l="l" t="t" r="r" b="b"/>
              <a:pathLst>
                <a:path w="508" h="324">
                  <a:moveTo>
                    <a:pt x="0" y="324"/>
                  </a:moveTo>
                  <a:lnTo>
                    <a:pt x="508" y="0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28800" y="5181480"/>
              <a:ext cx="6858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52480" y="5334120"/>
              <a:ext cx="787680" cy="583920"/>
            </a:xfrm>
            <a:custGeom>
              <a:avLst/>
              <a:gdLst/>
              <a:ahLst/>
              <a:rect l="l" t="t" r="r" b="b"/>
              <a:pathLst>
                <a:path w="496" h="368">
                  <a:moveTo>
                    <a:pt x="0" y="0"/>
                  </a:moveTo>
                  <a:lnTo>
                    <a:pt x="496" y="3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86280" y="4419720"/>
              <a:ext cx="723600" cy="1440"/>
            </a:xfrm>
            <a:custGeom>
              <a:avLst/>
              <a:gdLst/>
              <a:ahLst/>
              <a:rect l="l" t="t" r="r" b="b"/>
              <a:pathLst>
                <a:path w="456" h="1">
                  <a:moveTo>
                    <a:pt x="0" y="0"/>
                  </a:moveTo>
                  <a:lnTo>
                    <a:pt x="456" y="1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3400" y="4419720"/>
              <a:ext cx="723960" cy="1440"/>
            </a:xfrm>
            <a:custGeom>
              <a:avLst/>
              <a:gdLst/>
              <a:ahLst/>
              <a:rect l="l" t="t" r="r" b="b"/>
              <a:pathLst>
                <a:path w="456" h="1">
                  <a:moveTo>
                    <a:pt x="0" y="0"/>
                  </a:moveTo>
                  <a:lnTo>
                    <a:pt x="456" y="1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48120" y="5181480"/>
              <a:ext cx="129528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5181480"/>
              <a:ext cx="129528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8120" y="602604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68840" y="4527720"/>
              <a:ext cx="679680" cy="501480"/>
            </a:xfrm>
            <a:custGeom>
              <a:avLst/>
              <a:gdLst/>
              <a:ahLst/>
              <a:rect l="l" t="t" r="r" b="b"/>
              <a:pathLst>
                <a:path w="428" h="316">
                  <a:moveTo>
                    <a:pt x="0" y="0"/>
                  </a:moveTo>
                  <a:lnTo>
                    <a:pt x="428" y="316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5720" y="5194440"/>
              <a:ext cx="83808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5486400" y="5333760"/>
              <a:ext cx="2133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44440" y="152280"/>
            <a:ext cx="859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Grafo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838080"/>
            <a:ext cx="838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5680" y="152280"/>
            <a:ext cx="2463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287360"/>
            <a:ext cx="8076960" cy="53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Técnicas de Gestión de Proy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finición de 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ritical Path Method (C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Frontera Eficiente: Costo vs.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Evaluación de Proy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Gestión de 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V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Control de Incertidu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Garamond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erformance Evaluation Review Technique (PE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96720" y="19080"/>
            <a:ext cx="75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 de Método CP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4040" y="704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801720"/>
            <a:ext cx="7772400" cy="64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Seis </a:t>
            </a:r>
            <a:r>
              <a:rPr b="1" i="1" lang="es-CL" sz="2800" spc="-1" strike="noStrike">
                <a:solidFill>
                  <a:srgbClr val="990033"/>
                </a:solidFill>
                <a:latin typeface="Garamond"/>
              </a:rPr>
              <a:t>tiempos</a:t>
            </a: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 importantes para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, EF: Inicio y Término mas tempr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S, LF: Inicio y Término mas ta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T: Holg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Garamond"/>
              </a:rPr>
              <a:t>Paso “Forwar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876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Garamond"/>
              </a:rPr>
              <a:t>Paso “Backwar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Actividades Criticas y Caminos Cri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Holgura: ST = LF-EF =LS-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T es cero para las actividades crit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838080" y="3133800"/>
                <a:ext cx="76201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 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para </m:t>
                              </m:r>
                              <m:r>
                                <m:t xml:space="preserve">Nodo</m:t>
                              </m:r>
                              <m:r>
                                <m:t xml:space="preserve">Inicio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,  sino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F para todas actividades predecesoras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&amp;   EF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ES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914400" y="4495680"/>
                <a:ext cx="6859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F 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F    for </m:t>
                              </m:r>
                              <m:r>
                                <m:t xml:space="preserve">Nodo</m:t>
                              </m:r>
                              <m:r>
                                <m:t xml:space="preserve">F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,   sino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S de todas las actividades sucesoras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&amp;   LS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LF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228600"/>
            <a:ext cx="777240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rontera Eficiente:</a:t>
            </a:r>
            <a:br>
              <a:rPr sz="4400"/>
            </a:b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Costos versus Du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560600" y="1987560"/>
            <a:ext cx="583092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533520" y="1143000"/>
            <a:ext cx="81532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33"/>
                </a:solidFill>
                <a:latin typeface="Garamond"/>
              </a:rPr>
              <a:t>“</a:t>
            </a:r>
            <a:r>
              <a:rPr b="1" lang="es-CL" sz="2800" spc="-1" strike="noStrike">
                <a:solidFill>
                  <a:srgbClr val="990033"/>
                </a:solidFill>
                <a:latin typeface="Garamond"/>
              </a:rPr>
              <a:t>Crashing”:</a:t>
            </a: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Reducir la duración del proyecto asignando más recursos a una o mas actividades cri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33"/>
                </a:solidFill>
                <a:latin typeface="Garamond"/>
              </a:rPr>
              <a:t>Información</a:t>
            </a: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Requerida para análisis Tiempo/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Estimación de Duración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Estimación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uración Normal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    Costo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uración Mínima (Crash)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    Costo Máximo (Cra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990720" y="5245200"/>
          <a:ext cx="74674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245200"/>
                    <a:ext cx="74674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762120" y="5105520"/>
            <a:ext cx="7848360" cy="1066680"/>
          </a:xfrm>
          <a:prstGeom prst="rect">
            <a:avLst/>
          </a:pr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22860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Relación Tiempo/Costo en un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676600" y="2225520"/>
            <a:ext cx="3476520" cy="2425680"/>
          </a:xfrm>
          <a:custGeom>
            <a:avLst/>
            <a:gdLst/>
            <a:ahLst/>
            <a:rect l="l" t="t" r="r" b="b"/>
            <a:pathLst>
              <a:path w="2190" h="1528">
                <a:moveTo>
                  <a:pt x="0" y="0"/>
                </a:moveTo>
                <a:lnTo>
                  <a:pt x="2190" y="1528"/>
                </a:ln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30400" y="5168880"/>
            <a:ext cx="13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79840" y="5048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03680" y="5172120"/>
            <a:ext cx="13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53120" y="5051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40320" y="51814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ur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19880" y="11620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sto de la 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81280" y="5124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85724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81280" y="4648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0480" y="4419720"/>
            <a:ext cx="116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81280" y="222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07840" y="1996920"/>
            <a:ext cx="92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76600" y="2222640"/>
            <a:ext cx="1440" cy="2806560"/>
          </a:xfrm>
          <a:custGeom>
            <a:avLst/>
            <a:gdLst/>
            <a:ahLst/>
            <a:rect l="l" t="t" r="r" b="b"/>
            <a:pathLst>
              <a:path w="1" h="1768">
                <a:moveTo>
                  <a:pt x="0" y="1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33560" y="2225520"/>
            <a:ext cx="739800" cy="180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lnTo>
                  <a:pt x="46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641680" y="21906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33560" y="4648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1531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14960" y="46195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22860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Relación Tiempo/Costo en un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 flipH="1" flipV="1">
            <a:off x="5285880" y="4495680"/>
            <a:ext cx="685800" cy="1526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4142880" y="4038480"/>
            <a:ext cx="1143000" cy="4572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3228840" y="3428640"/>
            <a:ext cx="914400" cy="60948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29000" y="2224080"/>
            <a:ext cx="285480" cy="747720"/>
          </a:xfrm>
          <a:custGeom>
            <a:avLst/>
            <a:gdLst/>
            <a:ahLst/>
            <a:rect l="l" t="t" r="r" b="b"/>
            <a:pathLst>
              <a:path w="180" h="471">
                <a:moveTo>
                  <a:pt x="180" y="4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78120" y="5168880"/>
            <a:ext cx="13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27200" y="5048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51400" y="5172120"/>
            <a:ext cx="13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00840" y="5051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69680" y="5170320"/>
            <a:ext cx="14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D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080" y="123192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Garamond"/>
              </a:rPr>
              <a:t>Costo de la 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28640" y="5124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170496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28640" y="4648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8200" y="4419720"/>
            <a:ext cx="116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28640" y="222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5560" y="1996920"/>
            <a:ext cx="92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23960" y="2222640"/>
            <a:ext cx="1800" cy="2806560"/>
          </a:xfrm>
          <a:custGeom>
            <a:avLst/>
            <a:gdLst/>
            <a:ahLst/>
            <a:rect l="l" t="t" r="r" b="b"/>
            <a:pathLst>
              <a:path w="1" h="1768">
                <a:moveTo>
                  <a:pt x="0" y="1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81280" y="2225520"/>
            <a:ext cx="739800" cy="180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lnTo>
                  <a:pt x="46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89040" y="2190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81280" y="464832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00084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62680" y="46195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73480" y="2057400"/>
            <a:ext cx="264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8000"/>
                </a:solidFill>
                <a:latin typeface="Palatino Linotype"/>
              </a:rPr>
              <a:t>Front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8000"/>
                </a:solidFill>
                <a:latin typeface="Palatino Linotype"/>
              </a:rPr>
              <a:t>Pareto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402000" y="2514600"/>
            <a:ext cx="838080" cy="99072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528" y="0"/>
                </a:moveTo>
                <a:cubicBezTo>
                  <a:pt x="320" y="36"/>
                  <a:pt x="112" y="72"/>
                  <a:pt x="96" y="144"/>
                </a:cubicBezTo>
                <a:cubicBezTo>
                  <a:pt x="80" y="216"/>
                  <a:pt x="448" y="352"/>
                  <a:pt x="432" y="432"/>
                </a:cubicBezTo>
                <a:cubicBezTo>
                  <a:pt x="416" y="512"/>
                  <a:pt x="72" y="592"/>
                  <a:pt x="0" y="624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09800" y="2962440"/>
            <a:ext cx="419040" cy="466560"/>
          </a:xfrm>
          <a:custGeom>
            <a:avLst/>
            <a:gdLst/>
            <a:ahLst/>
            <a:rect l="l" t="t" r="r" b="b"/>
            <a:pathLst>
              <a:path w="264" h="294">
                <a:moveTo>
                  <a:pt x="0" y="0"/>
                </a:moveTo>
                <a:lnTo>
                  <a:pt x="264" y="294"/>
                </a:ln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22860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Relación Tiempo/Costo en un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52280" y="26676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imes New Roman"/>
              </a:rPr>
              <a:t>Estimación de Tiempos y Costos – Proyecto Mountain B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609480" y="1143000"/>
          <a:ext cx="7925040" cy="5027760"/>
        </p:xfrm>
        <a:graphic>
          <a:graphicData uri="http://schemas.openxmlformats.org/drawingml/2006/table">
            <a:tbl>
              <a:tblPr/>
              <a:tblGrid>
                <a:gridCol w="881280"/>
                <a:gridCol w="1027080"/>
                <a:gridCol w="1027080"/>
                <a:gridCol w="806400"/>
                <a:gridCol w="1174680"/>
                <a:gridCol w="1687680"/>
                <a:gridCol w="1320840"/>
              </a:tblGrid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Normal Time (mont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Normal Cost (‘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Crash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Crash Co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(‘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Maximum Months Avai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Cost/Month (‘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>
            <a:off x="1824120" y="610092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Total = 26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04920" y="21826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19320" y="1801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19320" y="26398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0" y="2182680"/>
            <a:ext cx="53352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33920" y="11923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95560" y="21686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33920" y="288144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G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43600" y="293364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10080" y="2182680"/>
            <a:ext cx="68580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(1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81680" y="2182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81680" y="28814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077320" y="24112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848720" y="1258920"/>
            <a:ext cx="761760" cy="4665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62120" y="2054160"/>
            <a:ext cx="44748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2639880"/>
            <a:ext cx="452160" cy="25740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752480" y="2639880"/>
            <a:ext cx="60984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62200" y="204948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43200" y="1501920"/>
            <a:ext cx="976320" cy="757080"/>
          </a:xfrm>
          <a:custGeom>
            <a:avLst/>
            <a:gdLst/>
            <a:ahLst/>
            <a:rect l="l" t="t" r="r" b="b"/>
            <a:pathLst>
              <a:path w="615" h="477">
                <a:moveTo>
                  <a:pt x="0" y="477"/>
                </a:moveTo>
                <a:lnTo>
                  <a:pt x="6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2406600"/>
            <a:ext cx="1057320" cy="4680"/>
          </a:xfrm>
          <a:custGeom>
            <a:avLst/>
            <a:gdLst/>
            <a:ahLst/>
            <a:rect l="l" t="t" r="r" b="b"/>
            <a:pathLst>
              <a:path w="666" h="3">
                <a:moveTo>
                  <a:pt x="0" y="3"/>
                </a:moveTo>
                <a:lnTo>
                  <a:pt x="66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43200" y="2639880"/>
            <a:ext cx="984240" cy="489240"/>
          </a:xfrm>
          <a:custGeom>
            <a:avLst/>
            <a:gdLst/>
            <a:ahLst/>
            <a:rect l="l" t="t" r="r" b="b"/>
            <a:pathLst>
              <a:path w="620" h="308">
                <a:moveTo>
                  <a:pt x="0" y="0"/>
                </a:moveTo>
                <a:lnTo>
                  <a:pt x="620" y="30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76800" y="3170160"/>
            <a:ext cx="758880" cy="3168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42120" y="271620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48160" y="2411280"/>
            <a:ext cx="961920" cy="180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1200" y="2411280"/>
            <a:ext cx="690480" cy="180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15160" y="267804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18440" y="280188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238880" y="165420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305920" y="1730520"/>
            <a:ext cx="1440" cy="68076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67080" y="145404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71440" y="2716200"/>
            <a:ext cx="490680" cy="523800"/>
            <a:chOff x="271440" y="2716200"/>
            <a:chExt cx="490680" cy="523800"/>
          </a:xfrm>
        </p:grpSpPr>
        <p:sp>
          <p:nvSpPr>
            <p:cNvPr id="446" name=""/>
            <p:cNvSpPr/>
            <p:nvPr/>
          </p:nvSpPr>
          <p:spPr>
            <a:xfrm>
              <a:off x="516960" y="27162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1440" y="29779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54040" y="74916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58720" y="8892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392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9536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239840" y="1273320"/>
            <a:ext cx="490680" cy="523800"/>
            <a:chOff x="1239840" y="1273320"/>
            <a:chExt cx="490680" cy="523800"/>
          </a:xfrm>
        </p:grpSpPr>
        <p:sp>
          <p:nvSpPr>
            <p:cNvPr id="453" name=""/>
            <p:cNvSpPr/>
            <p:nvPr/>
          </p:nvSpPr>
          <p:spPr>
            <a:xfrm>
              <a:off x="1485360" y="1273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39840" y="153504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19232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46376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690560" y="2976480"/>
            <a:ext cx="490680" cy="523800"/>
            <a:chOff x="1690560" y="2976480"/>
            <a:chExt cx="490680" cy="523800"/>
          </a:xfrm>
        </p:grpSpPr>
        <p:sp>
          <p:nvSpPr>
            <p:cNvPr id="458" name=""/>
            <p:cNvSpPr/>
            <p:nvPr/>
          </p:nvSpPr>
          <p:spPr>
            <a:xfrm>
              <a:off x="1936080" y="29764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690560" y="32382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64304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144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324160" y="1649520"/>
            <a:ext cx="490320" cy="523800"/>
            <a:chOff x="2324160" y="1649520"/>
            <a:chExt cx="490320" cy="523800"/>
          </a:xfrm>
        </p:grpSpPr>
        <p:sp>
          <p:nvSpPr>
            <p:cNvPr id="463" name=""/>
            <p:cNvSpPr/>
            <p:nvPr/>
          </p:nvSpPr>
          <p:spPr>
            <a:xfrm>
              <a:off x="2569320" y="16495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324160" y="1911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227664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4808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4343400" y="1801800"/>
            <a:ext cx="490680" cy="523800"/>
            <a:chOff x="4343400" y="1801800"/>
            <a:chExt cx="490680" cy="523800"/>
          </a:xfrm>
        </p:grpSpPr>
        <p:sp>
          <p:nvSpPr>
            <p:cNvPr id="468" name=""/>
            <p:cNvSpPr/>
            <p:nvPr/>
          </p:nvSpPr>
          <p:spPr>
            <a:xfrm>
              <a:off x="4588920" y="1801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43400" y="20635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429588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4411800" y="887400"/>
            <a:ext cx="490320" cy="523800"/>
            <a:chOff x="4411800" y="887400"/>
            <a:chExt cx="490320" cy="523800"/>
          </a:xfrm>
        </p:grpSpPr>
        <p:sp>
          <p:nvSpPr>
            <p:cNvPr id="473" name=""/>
            <p:cNvSpPr/>
            <p:nvPr/>
          </p:nvSpPr>
          <p:spPr>
            <a:xfrm>
              <a:off x="4656960" y="8874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11800" y="1149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436428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3572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754440" y="3425760"/>
            <a:ext cx="490680" cy="523800"/>
            <a:chOff x="3754440" y="3425760"/>
            <a:chExt cx="490680" cy="523800"/>
          </a:xfrm>
        </p:grpSpPr>
        <p:sp>
          <p:nvSpPr>
            <p:cNvPr id="478" name=""/>
            <p:cNvSpPr/>
            <p:nvPr/>
          </p:nvSpPr>
          <p:spPr>
            <a:xfrm>
              <a:off x="3999960" y="3425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54440" y="368748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370692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7836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5064120" y="3459240"/>
            <a:ext cx="490680" cy="523800"/>
            <a:chOff x="5064120" y="3459240"/>
            <a:chExt cx="490680" cy="523800"/>
          </a:xfrm>
        </p:grpSpPr>
        <p:sp>
          <p:nvSpPr>
            <p:cNvPr id="483" name=""/>
            <p:cNvSpPr/>
            <p:nvPr/>
          </p:nvSpPr>
          <p:spPr>
            <a:xfrm>
              <a:off x="5309640" y="34592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64120" y="37209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01660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8804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5459400" y="1668600"/>
            <a:ext cx="490680" cy="523800"/>
            <a:chOff x="5459400" y="1668600"/>
            <a:chExt cx="490680" cy="523800"/>
          </a:xfrm>
        </p:grpSpPr>
        <p:sp>
          <p:nvSpPr>
            <p:cNvPr id="488" name=""/>
            <p:cNvSpPr/>
            <p:nvPr/>
          </p:nvSpPr>
          <p:spPr>
            <a:xfrm>
              <a:off x="570492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459400" y="19303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541188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38680" y="1639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6705720" y="1668600"/>
            <a:ext cx="490320" cy="523800"/>
            <a:chOff x="6705720" y="1668600"/>
            <a:chExt cx="490320" cy="523800"/>
          </a:xfrm>
        </p:grpSpPr>
        <p:sp>
          <p:nvSpPr>
            <p:cNvPr id="493" name=""/>
            <p:cNvSpPr/>
            <p:nvPr/>
          </p:nvSpPr>
          <p:spPr>
            <a:xfrm>
              <a:off x="695088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705720" y="19303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6402960" y="16635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91840" y="165744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800760" y="3421080"/>
            <a:ext cx="490680" cy="523800"/>
            <a:chOff x="6800760" y="3421080"/>
            <a:chExt cx="490680" cy="523800"/>
          </a:xfrm>
        </p:grpSpPr>
        <p:sp>
          <p:nvSpPr>
            <p:cNvPr id="498" name=""/>
            <p:cNvSpPr/>
            <p:nvPr/>
          </p:nvSpPr>
          <p:spPr>
            <a:xfrm>
              <a:off x="7046280" y="34210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00760" y="36828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478920" y="3416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93360" y="3416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8115480" y="3025800"/>
            <a:ext cx="490320" cy="523800"/>
            <a:chOff x="8115480" y="3025800"/>
            <a:chExt cx="490320" cy="523800"/>
          </a:xfrm>
        </p:grpSpPr>
        <p:sp>
          <p:nvSpPr>
            <p:cNvPr id="503" name=""/>
            <p:cNvSpPr/>
            <p:nvPr/>
          </p:nvSpPr>
          <p:spPr>
            <a:xfrm>
              <a:off x="8360640" y="3025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115480" y="32875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779328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30772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20320" y="32464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812360" y="32590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604040" y="1130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154760" y="11286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97960" y="18813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78920" y="36259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993360" y="36133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402960" y="18795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1880" y="1887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38680" y="1882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024520" y="366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295960" y="366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1016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98160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294440" y="1987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565880" y="1987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8132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55276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8908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46052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3836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0980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040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0184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913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771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273240" y="3505320"/>
            <a:ext cx="7917120" cy="3100320"/>
            <a:chOff x="273240" y="3505320"/>
            <a:chExt cx="7917120" cy="3100320"/>
          </a:xfrm>
        </p:grpSpPr>
        <p:sp>
          <p:nvSpPr>
            <p:cNvPr id="534" name=""/>
            <p:cNvSpPr/>
            <p:nvPr/>
          </p:nvSpPr>
          <p:spPr>
            <a:xfrm>
              <a:off x="6192720" y="5703840"/>
              <a:ext cx="152640" cy="152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269040" y="58561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544400" y="578016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1523880" y="3556080"/>
              <a:ext cx="20880" cy="268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544760" y="6237360"/>
              <a:ext cx="53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11920" y="5851440"/>
              <a:ext cx="137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33"/>
                  </a:solidFill>
                  <a:latin typeface="Garamond"/>
                </a:rPr>
                <a:t>Dur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33"/>
                  </a:solidFill>
                  <a:latin typeface="Garamond"/>
                </a:rPr>
                <a:t>Proye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73240" y="3505320"/>
              <a:ext cx="1317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33"/>
                  </a:solidFill>
                  <a:latin typeface="Garamond"/>
                </a:rPr>
                <a:t>Cos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33"/>
                  </a:solidFill>
                  <a:latin typeface="Garamond"/>
                </a:rPr>
                <a:t>Proye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33400" y="556272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26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64840" y="6237360"/>
              <a:ext cx="69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5680440" y="4114800"/>
            <a:ext cx="336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Garamond"/>
              </a:rPr>
              <a:t>Camino Crít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-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7300440" y="4444920"/>
            <a:ext cx="1637640" cy="1348560"/>
            <a:chOff x="7300440" y="4444920"/>
            <a:chExt cx="1637640" cy="1348560"/>
          </a:xfrm>
        </p:grpSpPr>
        <p:sp>
          <p:nvSpPr>
            <p:cNvPr id="545" name=""/>
            <p:cNvSpPr/>
            <p:nvPr/>
          </p:nvSpPr>
          <p:spPr>
            <a:xfrm>
              <a:off x="7466040" y="4444920"/>
              <a:ext cx="380880" cy="381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7686000" y="4800600"/>
              <a:ext cx="484200" cy="368280"/>
            </a:xfrm>
            <a:custGeom>
              <a:avLst/>
              <a:gdLst/>
              <a:ahLst/>
              <a:rect l="l" t="t" r="r" b="b"/>
              <a:pathLst>
                <a:path w="305" h="232">
                  <a:moveTo>
                    <a:pt x="0" y="232"/>
                  </a:moveTo>
                  <a:cubicBezTo>
                    <a:pt x="16" y="203"/>
                    <a:pt x="62" y="64"/>
                    <a:pt x="99" y="55"/>
                  </a:cubicBezTo>
                  <a:cubicBezTo>
                    <a:pt x="136" y="46"/>
                    <a:pt x="190" y="189"/>
                    <a:pt x="224" y="180"/>
                  </a:cubicBezTo>
                  <a:cubicBezTo>
                    <a:pt x="258" y="171"/>
                    <a:pt x="288" y="37"/>
                    <a:pt x="30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300440" y="5089680"/>
              <a:ext cx="163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Garamond"/>
                </a:rPr>
                <a:t>Activida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Garamond"/>
                </a:rPr>
                <a:t>más Bar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6356160" y="888840"/>
            <a:ext cx="29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Garamond"/>
              </a:rPr>
              <a:t>Duración Proyecto= 1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04920" y="21826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19320" y="1801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19320" y="26398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286000" y="2182680"/>
            <a:ext cx="53352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733920" y="11923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95560" y="21686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733920" y="288144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G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043600" y="293364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H(0.5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410080" y="2182680"/>
            <a:ext cx="68580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(1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781680" y="2182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781680" y="28814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077320" y="24112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848720" y="1258920"/>
            <a:ext cx="761760" cy="4665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2120" y="2054160"/>
            <a:ext cx="44748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2120" y="2639880"/>
            <a:ext cx="452160" cy="25740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752480" y="2639880"/>
            <a:ext cx="60984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762200" y="204948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1501920"/>
            <a:ext cx="976320" cy="757080"/>
          </a:xfrm>
          <a:custGeom>
            <a:avLst/>
            <a:gdLst/>
            <a:ahLst/>
            <a:rect l="l" t="t" r="r" b="b"/>
            <a:pathLst>
              <a:path w="615" h="477">
                <a:moveTo>
                  <a:pt x="0" y="477"/>
                </a:moveTo>
                <a:lnTo>
                  <a:pt x="6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19520" y="2406600"/>
            <a:ext cx="1057320" cy="4680"/>
          </a:xfrm>
          <a:custGeom>
            <a:avLst/>
            <a:gdLst/>
            <a:ahLst/>
            <a:rect l="l" t="t" r="r" b="b"/>
            <a:pathLst>
              <a:path w="666" h="3">
                <a:moveTo>
                  <a:pt x="0" y="3"/>
                </a:moveTo>
                <a:lnTo>
                  <a:pt x="66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639880"/>
            <a:ext cx="984240" cy="489240"/>
          </a:xfrm>
          <a:custGeom>
            <a:avLst/>
            <a:gdLst/>
            <a:ahLst/>
            <a:rect l="l" t="t" r="r" b="b"/>
            <a:pathLst>
              <a:path w="620" h="308">
                <a:moveTo>
                  <a:pt x="0" y="0"/>
                </a:moveTo>
                <a:lnTo>
                  <a:pt x="620" y="30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276800" y="3170160"/>
            <a:ext cx="758880" cy="3168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42120" y="271620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48160" y="2411280"/>
            <a:ext cx="961920" cy="180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1200" y="2411280"/>
            <a:ext cx="690480" cy="180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915160" y="267804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318440" y="280188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238880" y="165420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305920" y="1730520"/>
            <a:ext cx="1440" cy="68076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7080" y="145404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271440" y="2716200"/>
            <a:ext cx="490680" cy="523800"/>
            <a:chOff x="271440" y="2716200"/>
            <a:chExt cx="490680" cy="523800"/>
          </a:xfrm>
        </p:grpSpPr>
        <p:sp>
          <p:nvSpPr>
            <p:cNvPr id="579" name=""/>
            <p:cNvSpPr/>
            <p:nvPr/>
          </p:nvSpPr>
          <p:spPr>
            <a:xfrm>
              <a:off x="516960" y="27162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1440" y="29779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554040" y="74916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392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536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239840" y="1273320"/>
            <a:ext cx="490680" cy="523800"/>
            <a:chOff x="1239840" y="1273320"/>
            <a:chExt cx="490680" cy="523800"/>
          </a:xfrm>
        </p:grpSpPr>
        <p:sp>
          <p:nvSpPr>
            <p:cNvPr id="585" name=""/>
            <p:cNvSpPr/>
            <p:nvPr/>
          </p:nvSpPr>
          <p:spPr>
            <a:xfrm>
              <a:off x="1485360" y="1273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39840" y="153504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119232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46376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1690560" y="2976480"/>
            <a:ext cx="490680" cy="523800"/>
            <a:chOff x="1690560" y="2976480"/>
            <a:chExt cx="490680" cy="523800"/>
          </a:xfrm>
        </p:grpSpPr>
        <p:sp>
          <p:nvSpPr>
            <p:cNvPr id="590" name=""/>
            <p:cNvSpPr/>
            <p:nvPr/>
          </p:nvSpPr>
          <p:spPr>
            <a:xfrm>
              <a:off x="1936080" y="29764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90560" y="32382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64304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144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2324160" y="1649520"/>
            <a:ext cx="490320" cy="523800"/>
            <a:chOff x="2324160" y="1649520"/>
            <a:chExt cx="490320" cy="523800"/>
          </a:xfrm>
        </p:grpSpPr>
        <p:sp>
          <p:nvSpPr>
            <p:cNvPr id="595" name=""/>
            <p:cNvSpPr/>
            <p:nvPr/>
          </p:nvSpPr>
          <p:spPr>
            <a:xfrm>
              <a:off x="2569320" y="16495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24160" y="1911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227664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4808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343400" y="1801800"/>
            <a:ext cx="490680" cy="523800"/>
            <a:chOff x="4343400" y="1801800"/>
            <a:chExt cx="490680" cy="523800"/>
          </a:xfrm>
        </p:grpSpPr>
        <p:sp>
          <p:nvSpPr>
            <p:cNvPr id="600" name=""/>
            <p:cNvSpPr/>
            <p:nvPr/>
          </p:nvSpPr>
          <p:spPr>
            <a:xfrm>
              <a:off x="4588920" y="1801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43400" y="20635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429588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6732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4411800" y="887400"/>
            <a:ext cx="490320" cy="523800"/>
            <a:chOff x="4411800" y="887400"/>
            <a:chExt cx="490320" cy="523800"/>
          </a:xfrm>
        </p:grpSpPr>
        <p:sp>
          <p:nvSpPr>
            <p:cNvPr id="605" name=""/>
            <p:cNvSpPr/>
            <p:nvPr/>
          </p:nvSpPr>
          <p:spPr>
            <a:xfrm>
              <a:off x="4656960" y="8874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411800" y="1149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36428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63572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3754440" y="3425760"/>
            <a:ext cx="490680" cy="523800"/>
            <a:chOff x="3754440" y="3425760"/>
            <a:chExt cx="490680" cy="523800"/>
          </a:xfrm>
        </p:grpSpPr>
        <p:sp>
          <p:nvSpPr>
            <p:cNvPr id="610" name=""/>
            <p:cNvSpPr/>
            <p:nvPr/>
          </p:nvSpPr>
          <p:spPr>
            <a:xfrm>
              <a:off x="3999960" y="3425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54440" y="368748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70692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7836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5064120" y="3459240"/>
            <a:ext cx="490680" cy="523800"/>
            <a:chOff x="5064120" y="3459240"/>
            <a:chExt cx="490680" cy="523800"/>
          </a:xfrm>
        </p:grpSpPr>
        <p:sp>
          <p:nvSpPr>
            <p:cNvPr id="615" name=""/>
            <p:cNvSpPr/>
            <p:nvPr/>
          </p:nvSpPr>
          <p:spPr>
            <a:xfrm>
              <a:off x="5309640" y="34592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64120" y="37209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501660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288400" y="3454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459400" y="1668600"/>
            <a:ext cx="490680" cy="523800"/>
            <a:chOff x="5459400" y="1668600"/>
            <a:chExt cx="490680" cy="523800"/>
          </a:xfrm>
        </p:grpSpPr>
        <p:sp>
          <p:nvSpPr>
            <p:cNvPr id="620" name=""/>
            <p:cNvSpPr/>
            <p:nvPr/>
          </p:nvSpPr>
          <p:spPr>
            <a:xfrm>
              <a:off x="570492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59400" y="19303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5301000" y="1644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681520" y="1639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6705720" y="1668600"/>
            <a:ext cx="490320" cy="523800"/>
            <a:chOff x="6705720" y="1668600"/>
            <a:chExt cx="490320" cy="523800"/>
          </a:xfrm>
        </p:grpSpPr>
        <p:sp>
          <p:nvSpPr>
            <p:cNvPr id="625" name=""/>
            <p:cNvSpPr/>
            <p:nvPr/>
          </p:nvSpPr>
          <p:spPr>
            <a:xfrm>
              <a:off x="695088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705720" y="19303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6602400" y="16635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891120" y="16574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6800760" y="3421080"/>
            <a:ext cx="490680" cy="523800"/>
            <a:chOff x="6800760" y="3421080"/>
            <a:chExt cx="490680" cy="523800"/>
          </a:xfrm>
        </p:grpSpPr>
        <p:sp>
          <p:nvSpPr>
            <p:cNvPr id="630" name=""/>
            <p:cNvSpPr/>
            <p:nvPr/>
          </p:nvSpPr>
          <p:spPr>
            <a:xfrm>
              <a:off x="7046280" y="34210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00760" y="36828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6681600" y="3416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992640" y="3416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8115480" y="3025800"/>
            <a:ext cx="490320" cy="523800"/>
            <a:chOff x="8115480" y="3025800"/>
            <a:chExt cx="490320" cy="523800"/>
          </a:xfrm>
        </p:grpSpPr>
        <p:sp>
          <p:nvSpPr>
            <p:cNvPr id="635" name=""/>
            <p:cNvSpPr/>
            <p:nvPr/>
          </p:nvSpPr>
          <p:spPr>
            <a:xfrm>
              <a:off x="8360640" y="3025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115480" y="32875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7920000" y="302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307360" y="302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319960" y="3246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939080" y="3259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603680" y="1130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294080" y="1128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97600" y="1881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81600" y="3625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992640" y="3638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602400" y="18795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23320" y="1887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689440" y="1882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024520" y="366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296320" y="3664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71016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8160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208760" y="2000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65880" y="1987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8132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55276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908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46052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63836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0980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3040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0184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7913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4771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192720" y="570384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269040" y="5856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544400" y="578016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1523880" y="3556080"/>
            <a:ext cx="20880" cy="26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44760" y="623736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879960" y="587520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D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74760" y="352908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946080" y="56530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965560" y="6237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15000" y="553716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608800" y="6235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91320" y="5683320"/>
            <a:ext cx="1440" cy="565200"/>
          </a:xfrm>
          <a:custGeom>
            <a:avLst/>
            <a:gdLst/>
            <a:ahLst/>
            <a:rect l="l" t="t" r="r" b="b"/>
            <a:pathLst>
              <a:path w="1" h="356">
                <a:moveTo>
                  <a:pt x="0" y="0"/>
                </a:moveTo>
                <a:lnTo>
                  <a:pt x="1" y="3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1523880" y="5613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52560" y="54118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510520" y="4114800"/>
            <a:ext cx="3363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Camino Crítico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-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445440" y="88884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Garamond"/>
              </a:rPr>
              <a:t>Duración Proyecto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Garamond"/>
              </a:rPr>
              <a:t>=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4495680"/>
            <a:ext cx="380880" cy="381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58720" y="8892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549440" y="5411880"/>
            <a:ext cx="3774960" cy="1440"/>
          </a:xfrm>
          <a:custGeom>
            <a:avLst/>
            <a:gdLst/>
            <a:ahLst/>
            <a:rect l="l" t="t" r="r" b="b"/>
            <a:pathLst>
              <a:path w="2378" h="1">
                <a:moveTo>
                  <a:pt x="2378" y="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04920" y="21826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219320" y="1801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219320" y="26398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286000" y="2182680"/>
            <a:ext cx="53352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733920" y="11923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95560" y="21686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733920" y="288144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G(2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043600" y="293364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H(0.5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410080" y="2182680"/>
            <a:ext cx="68580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(1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781680" y="2182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81680" y="28814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077320" y="24112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848720" y="1258920"/>
            <a:ext cx="761760" cy="4665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62120" y="2054160"/>
            <a:ext cx="44748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62120" y="2639880"/>
            <a:ext cx="452160" cy="25740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752480" y="2639880"/>
            <a:ext cx="60984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762200" y="204948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43200" y="1501920"/>
            <a:ext cx="976320" cy="757080"/>
          </a:xfrm>
          <a:custGeom>
            <a:avLst/>
            <a:gdLst/>
            <a:ahLst/>
            <a:rect l="l" t="t" r="r" b="b"/>
            <a:pathLst>
              <a:path w="615" h="477">
                <a:moveTo>
                  <a:pt x="0" y="477"/>
                </a:moveTo>
                <a:lnTo>
                  <a:pt x="6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2406600"/>
            <a:ext cx="1057320" cy="4680"/>
          </a:xfrm>
          <a:custGeom>
            <a:avLst/>
            <a:gdLst/>
            <a:ahLst/>
            <a:rect l="l" t="t" r="r" b="b"/>
            <a:pathLst>
              <a:path w="666" h="3">
                <a:moveTo>
                  <a:pt x="0" y="3"/>
                </a:moveTo>
                <a:lnTo>
                  <a:pt x="666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743200" y="2639880"/>
            <a:ext cx="984240" cy="489240"/>
          </a:xfrm>
          <a:custGeom>
            <a:avLst/>
            <a:gdLst/>
            <a:ahLst/>
            <a:rect l="l" t="t" r="r" b="b"/>
            <a:pathLst>
              <a:path w="620" h="308">
                <a:moveTo>
                  <a:pt x="0" y="0"/>
                </a:moveTo>
                <a:lnTo>
                  <a:pt x="620" y="30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276800" y="3170160"/>
            <a:ext cx="758880" cy="3168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42120" y="271620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448160" y="2411280"/>
            <a:ext cx="961920" cy="180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91200" y="2411280"/>
            <a:ext cx="690480" cy="180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915160" y="267804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318440" y="280188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238880" y="165420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305920" y="1730520"/>
            <a:ext cx="1440" cy="68076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267080" y="145404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271440" y="2716200"/>
            <a:ext cx="490680" cy="523800"/>
            <a:chOff x="271440" y="2716200"/>
            <a:chExt cx="490680" cy="523800"/>
          </a:xfrm>
        </p:grpSpPr>
        <p:sp>
          <p:nvSpPr>
            <p:cNvPr id="714" name=""/>
            <p:cNvSpPr/>
            <p:nvPr/>
          </p:nvSpPr>
          <p:spPr>
            <a:xfrm>
              <a:off x="516960" y="27162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1440" y="29779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554040" y="74916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2392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9536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39840" y="1273320"/>
            <a:ext cx="490680" cy="523800"/>
            <a:chOff x="1239840" y="1273320"/>
            <a:chExt cx="490680" cy="523800"/>
          </a:xfrm>
        </p:grpSpPr>
        <p:sp>
          <p:nvSpPr>
            <p:cNvPr id="720" name=""/>
            <p:cNvSpPr/>
            <p:nvPr/>
          </p:nvSpPr>
          <p:spPr>
            <a:xfrm>
              <a:off x="1485360" y="1273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39840" y="153504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119232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46376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690560" y="2976480"/>
            <a:ext cx="490680" cy="523800"/>
            <a:chOff x="1690560" y="2976480"/>
            <a:chExt cx="490680" cy="523800"/>
          </a:xfrm>
        </p:grpSpPr>
        <p:sp>
          <p:nvSpPr>
            <p:cNvPr id="725" name=""/>
            <p:cNvSpPr/>
            <p:nvPr/>
          </p:nvSpPr>
          <p:spPr>
            <a:xfrm>
              <a:off x="1936080" y="29764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90560" y="32382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64304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9144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324160" y="1649520"/>
            <a:ext cx="490320" cy="523800"/>
            <a:chOff x="2324160" y="1649520"/>
            <a:chExt cx="490320" cy="523800"/>
          </a:xfrm>
        </p:grpSpPr>
        <p:sp>
          <p:nvSpPr>
            <p:cNvPr id="730" name=""/>
            <p:cNvSpPr/>
            <p:nvPr/>
          </p:nvSpPr>
          <p:spPr>
            <a:xfrm>
              <a:off x="2569320" y="16495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324160" y="1911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27664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54808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4343400" y="1801800"/>
            <a:ext cx="490680" cy="523800"/>
            <a:chOff x="4343400" y="1801800"/>
            <a:chExt cx="490680" cy="523800"/>
          </a:xfrm>
        </p:grpSpPr>
        <p:sp>
          <p:nvSpPr>
            <p:cNvPr id="735" name=""/>
            <p:cNvSpPr/>
            <p:nvPr/>
          </p:nvSpPr>
          <p:spPr>
            <a:xfrm>
              <a:off x="4588920" y="1801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343400" y="20635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429588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56732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4411800" y="887400"/>
            <a:ext cx="490320" cy="523800"/>
            <a:chOff x="4411800" y="887400"/>
            <a:chExt cx="490320" cy="523800"/>
          </a:xfrm>
        </p:grpSpPr>
        <p:sp>
          <p:nvSpPr>
            <p:cNvPr id="740" name=""/>
            <p:cNvSpPr/>
            <p:nvPr/>
          </p:nvSpPr>
          <p:spPr>
            <a:xfrm>
              <a:off x="4656960" y="8874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11800" y="1149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436428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63572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3754440" y="3425760"/>
            <a:ext cx="490680" cy="523800"/>
            <a:chOff x="3754440" y="3425760"/>
            <a:chExt cx="490680" cy="523800"/>
          </a:xfrm>
        </p:grpSpPr>
        <p:sp>
          <p:nvSpPr>
            <p:cNvPr id="745" name=""/>
            <p:cNvSpPr/>
            <p:nvPr/>
          </p:nvSpPr>
          <p:spPr>
            <a:xfrm>
              <a:off x="3999960" y="3425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754440" y="368748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370692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78720" y="3421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5064120" y="3459240"/>
            <a:ext cx="490680" cy="523800"/>
            <a:chOff x="5064120" y="3459240"/>
            <a:chExt cx="490680" cy="523800"/>
          </a:xfrm>
        </p:grpSpPr>
        <p:sp>
          <p:nvSpPr>
            <p:cNvPr id="750" name=""/>
            <p:cNvSpPr/>
            <p:nvPr/>
          </p:nvSpPr>
          <p:spPr>
            <a:xfrm>
              <a:off x="5309640" y="34592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64120" y="37209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4920120" y="3454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28804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5459400" y="1668600"/>
            <a:ext cx="490680" cy="523800"/>
            <a:chOff x="5459400" y="1668600"/>
            <a:chExt cx="490680" cy="523800"/>
          </a:xfrm>
        </p:grpSpPr>
        <p:sp>
          <p:nvSpPr>
            <p:cNvPr id="755" name=""/>
            <p:cNvSpPr/>
            <p:nvPr/>
          </p:nvSpPr>
          <p:spPr>
            <a:xfrm>
              <a:off x="570492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59400" y="19303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537696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81520" y="1639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6705720" y="1668600"/>
            <a:ext cx="490320" cy="523800"/>
            <a:chOff x="6705720" y="1668600"/>
            <a:chExt cx="490320" cy="523800"/>
          </a:xfrm>
        </p:grpSpPr>
        <p:sp>
          <p:nvSpPr>
            <p:cNvPr id="760" name=""/>
            <p:cNvSpPr/>
            <p:nvPr/>
          </p:nvSpPr>
          <p:spPr>
            <a:xfrm>
              <a:off x="695088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05720" y="19303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6555240" y="1663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91840" y="165744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6800760" y="3421080"/>
            <a:ext cx="490680" cy="523800"/>
            <a:chOff x="6800760" y="3421080"/>
            <a:chExt cx="490680" cy="523800"/>
          </a:xfrm>
        </p:grpSpPr>
        <p:sp>
          <p:nvSpPr>
            <p:cNvPr id="765" name=""/>
            <p:cNvSpPr/>
            <p:nvPr/>
          </p:nvSpPr>
          <p:spPr>
            <a:xfrm>
              <a:off x="7046280" y="34210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00760" y="36828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6631200" y="3416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993360" y="3416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8115480" y="3025800"/>
            <a:ext cx="490320" cy="523800"/>
            <a:chOff x="8115480" y="3025800"/>
            <a:chExt cx="490320" cy="523800"/>
          </a:xfrm>
        </p:grpSpPr>
        <p:sp>
          <p:nvSpPr>
            <p:cNvPr id="770" name=""/>
            <p:cNvSpPr/>
            <p:nvPr/>
          </p:nvSpPr>
          <p:spPr>
            <a:xfrm>
              <a:off x="8360640" y="3025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115480" y="32875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785700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30772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04040" y="1130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54760" y="11286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897960" y="18813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475680" y="1892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399280" y="1887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89440" y="1882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20120" y="3676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295960" y="366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71016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981960" y="3630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310280" y="2000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565880" y="1987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8132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55276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8908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46052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63836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0980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3040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0184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7913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4771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192720" y="570384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269040" y="5856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1544400" y="578016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 flipV="1">
            <a:off x="1523880" y="3556080"/>
            <a:ext cx="20880" cy="26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544760" y="623736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79960" y="587520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D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14360" y="352908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946080" y="56530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965560" y="6237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715000" y="553716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608800" y="6235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791320" y="5683320"/>
            <a:ext cx="1440" cy="565200"/>
          </a:xfrm>
          <a:custGeom>
            <a:avLst/>
            <a:gdLst/>
            <a:ahLst/>
            <a:rect l="l" t="t" r="r" b="b"/>
            <a:pathLst>
              <a:path w="1" h="356">
                <a:moveTo>
                  <a:pt x="0" y="0"/>
                </a:moveTo>
                <a:lnTo>
                  <a:pt x="1" y="3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23880" y="5613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952560" y="54118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656760" y="3638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018920" y="36385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857000" y="3224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07720" y="3224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248440" y="532116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119560" y="6235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321160" y="54831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949320" y="52196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289120" y="3949560"/>
            <a:ext cx="3431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Caminos Crítico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   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F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493040" y="4292640"/>
            <a:ext cx="380880" cy="762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278760" y="88884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Garamond"/>
              </a:rPr>
              <a:t>Duración Proyecto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Garamond"/>
              </a:rPr>
              <a:t>= 1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58720" y="8892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1549440" y="5411880"/>
            <a:ext cx="3774960" cy="1440"/>
          </a:xfrm>
          <a:custGeom>
            <a:avLst/>
            <a:gdLst/>
            <a:ahLst/>
            <a:rect l="l" t="t" r="r" b="b"/>
            <a:pathLst>
              <a:path w="2378" h="1">
                <a:moveTo>
                  <a:pt x="2378" y="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04920" y="21826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219320" y="1801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19320" y="26398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286000" y="2182680"/>
            <a:ext cx="53352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733920" y="11923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95560" y="21686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733920" y="288144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G(2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043600" y="293364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H(0.5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410080" y="2182680"/>
            <a:ext cx="68580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(0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781680" y="2182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781680" y="28814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077320" y="24112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848720" y="1258920"/>
            <a:ext cx="761760" cy="4665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62120" y="2054160"/>
            <a:ext cx="44748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62120" y="2639880"/>
            <a:ext cx="452160" cy="25740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752480" y="2639880"/>
            <a:ext cx="60984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762200" y="204948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43200" y="1501920"/>
            <a:ext cx="976320" cy="757080"/>
          </a:xfrm>
          <a:custGeom>
            <a:avLst/>
            <a:gdLst/>
            <a:ahLst/>
            <a:rect l="l" t="t" r="r" b="b"/>
            <a:pathLst>
              <a:path w="615" h="477">
                <a:moveTo>
                  <a:pt x="0" y="477"/>
                </a:moveTo>
                <a:lnTo>
                  <a:pt x="6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819520" y="2406600"/>
            <a:ext cx="1057320" cy="4680"/>
          </a:xfrm>
          <a:custGeom>
            <a:avLst/>
            <a:gdLst/>
            <a:ahLst/>
            <a:rect l="l" t="t" r="r" b="b"/>
            <a:pathLst>
              <a:path w="666" h="3">
                <a:moveTo>
                  <a:pt x="0" y="3"/>
                </a:moveTo>
                <a:lnTo>
                  <a:pt x="666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743200" y="2639880"/>
            <a:ext cx="984240" cy="489240"/>
          </a:xfrm>
          <a:custGeom>
            <a:avLst/>
            <a:gdLst/>
            <a:ahLst/>
            <a:rect l="l" t="t" r="r" b="b"/>
            <a:pathLst>
              <a:path w="620" h="308">
                <a:moveTo>
                  <a:pt x="0" y="0"/>
                </a:moveTo>
                <a:lnTo>
                  <a:pt x="620" y="30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276800" y="3170160"/>
            <a:ext cx="758880" cy="3168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442120" y="271620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448160" y="2411280"/>
            <a:ext cx="961920" cy="180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091200" y="2411280"/>
            <a:ext cx="690480" cy="180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915160" y="267804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318440" y="280188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238880" y="165420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305920" y="1730520"/>
            <a:ext cx="1440" cy="68076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267080" y="145404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71440" y="2716200"/>
            <a:ext cx="490680" cy="523800"/>
            <a:chOff x="271440" y="2716200"/>
            <a:chExt cx="490680" cy="523800"/>
          </a:xfrm>
        </p:grpSpPr>
        <p:sp>
          <p:nvSpPr>
            <p:cNvPr id="853" name=""/>
            <p:cNvSpPr/>
            <p:nvPr/>
          </p:nvSpPr>
          <p:spPr>
            <a:xfrm>
              <a:off x="516960" y="27162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1440" y="29779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554040" y="74916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392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9536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1239840" y="1273320"/>
            <a:ext cx="490680" cy="523800"/>
            <a:chOff x="1239840" y="1273320"/>
            <a:chExt cx="490680" cy="523800"/>
          </a:xfrm>
        </p:grpSpPr>
        <p:sp>
          <p:nvSpPr>
            <p:cNvPr id="859" name=""/>
            <p:cNvSpPr/>
            <p:nvPr/>
          </p:nvSpPr>
          <p:spPr>
            <a:xfrm>
              <a:off x="1485360" y="1273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239840" y="153504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119232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46376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690560" y="2976480"/>
            <a:ext cx="490680" cy="523800"/>
            <a:chOff x="1690560" y="2976480"/>
            <a:chExt cx="490680" cy="523800"/>
          </a:xfrm>
        </p:grpSpPr>
        <p:sp>
          <p:nvSpPr>
            <p:cNvPr id="864" name=""/>
            <p:cNvSpPr/>
            <p:nvPr/>
          </p:nvSpPr>
          <p:spPr>
            <a:xfrm>
              <a:off x="1936080" y="29764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690560" y="32382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164304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9144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2324160" y="1649520"/>
            <a:ext cx="490320" cy="523800"/>
            <a:chOff x="2324160" y="1649520"/>
            <a:chExt cx="490320" cy="523800"/>
          </a:xfrm>
        </p:grpSpPr>
        <p:sp>
          <p:nvSpPr>
            <p:cNvPr id="869" name=""/>
            <p:cNvSpPr/>
            <p:nvPr/>
          </p:nvSpPr>
          <p:spPr>
            <a:xfrm>
              <a:off x="2569320" y="16495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324160" y="1911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227664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54808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343400" y="1801800"/>
            <a:ext cx="490680" cy="523800"/>
            <a:chOff x="4343400" y="1801800"/>
            <a:chExt cx="490680" cy="523800"/>
          </a:xfrm>
        </p:grpSpPr>
        <p:sp>
          <p:nvSpPr>
            <p:cNvPr id="874" name=""/>
            <p:cNvSpPr/>
            <p:nvPr/>
          </p:nvSpPr>
          <p:spPr>
            <a:xfrm>
              <a:off x="4588920" y="1801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343400" y="20635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429588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6732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4411800" y="887400"/>
            <a:ext cx="490320" cy="523800"/>
            <a:chOff x="4411800" y="887400"/>
            <a:chExt cx="490320" cy="523800"/>
          </a:xfrm>
        </p:grpSpPr>
        <p:sp>
          <p:nvSpPr>
            <p:cNvPr id="879" name=""/>
            <p:cNvSpPr/>
            <p:nvPr/>
          </p:nvSpPr>
          <p:spPr>
            <a:xfrm>
              <a:off x="4656960" y="8874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411800" y="1149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436428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63572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754440" y="3425760"/>
            <a:ext cx="490680" cy="523800"/>
            <a:chOff x="3754440" y="3425760"/>
            <a:chExt cx="490680" cy="523800"/>
          </a:xfrm>
        </p:grpSpPr>
        <p:sp>
          <p:nvSpPr>
            <p:cNvPr id="884" name=""/>
            <p:cNvSpPr/>
            <p:nvPr/>
          </p:nvSpPr>
          <p:spPr>
            <a:xfrm>
              <a:off x="3999960" y="3425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754440" y="368748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370692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978720" y="3421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5064120" y="3459240"/>
            <a:ext cx="490680" cy="523800"/>
            <a:chOff x="5064120" y="3459240"/>
            <a:chExt cx="490680" cy="523800"/>
          </a:xfrm>
        </p:grpSpPr>
        <p:sp>
          <p:nvSpPr>
            <p:cNvPr id="889" name=""/>
            <p:cNvSpPr/>
            <p:nvPr/>
          </p:nvSpPr>
          <p:spPr>
            <a:xfrm>
              <a:off x="5309640" y="34592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064120" y="37209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4920120" y="3454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28804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5459400" y="1668600"/>
            <a:ext cx="490680" cy="523800"/>
            <a:chOff x="5459400" y="1668600"/>
            <a:chExt cx="490680" cy="523800"/>
          </a:xfrm>
        </p:grpSpPr>
        <p:sp>
          <p:nvSpPr>
            <p:cNvPr id="894" name=""/>
            <p:cNvSpPr/>
            <p:nvPr/>
          </p:nvSpPr>
          <p:spPr>
            <a:xfrm>
              <a:off x="570492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459400" y="19303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537696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681520" y="1639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705720" y="1668600"/>
            <a:ext cx="490320" cy="523800"/>
            <a:chOff x="6705720" y="1668600"/>
            <a:chExt cx="490320" cy="523800"/>
          </a:xfrm>
        </p:grpSpPr>
        <p:sp>
          <p:nvSpPr>
            <p:cNvPr id="899" name=""/>
            <p:cNvSpPr/>
            <p:nvPr/>
          </p:nvSpPr>
          <p:spPr>
            <a:xfrm>
              <a:off x="695088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05720" y="19303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6555240" y="1663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91840" y="16574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800760" y="3421080"/>
            <a:ext cx="490680" cy="523800"/>
            <a:chOff x="6800760" y="3421080"/>
            <a:chExt cx="490680" cy="523800"/>
          </a:xfrm>
        </p:grpSpPr>
        <p:sp>
          <p:nvSpPr>
            <p:cNvPr id="904" name=""/>
            <p:cNvSpPr/>
            <p:nvPr/>
          </p:nvSpPr>
          <p:spPr>
            <a:xfrm>
              <a:off x="7046280" y="34210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00760" y="36828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6631200" y="3416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993360" y="3416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8115480" y="3025800"/>
            <a:ext cx="490320" cy="523800"/>
            <a:chOff x="8115480" y="3025800"/>
            <a:chExt cx="490320" cy="523800"/>
          </a:xfrm>
        </p:grpSpPr>
        <p:sp>
          <p:nvSpPr>
            <p:cNvPr id="909" name=""/>
            <p:cNvSpPr/>
            <p:nvPr/>
          </p:nvSpPr>
          <p:spPr>
            <a:xfrm>
              <a:off x="8360640" y="3025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115480" y="32875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785700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30772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604040" y="1130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54760" y="11286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897960" y="18813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5680" y="1892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399280" y="1887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689440" y="1882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20120" y="3676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295960" y="366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71016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81960" y="3630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310280" y="2000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65880" y="1987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28132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55276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18908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46052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3836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90980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3040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0184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913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4771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192720" y="570384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269040" y="5856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1544400" y="578016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1523880" y="3556080"/>
            <a:ext cx="20880" cy="26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44760" y="623736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879960" y="587520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D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46160" y="365760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946080" y="56530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965560" y="6237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15000" y="553716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608800" y="6235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791320" y="5683320"/>
            <a:ext cx="1440" cy="565200"/>
          </a:xfrm>
          <a:custGeom>
            <a:avLst/>
            <a:gdLst/>
            <a:ahLst/>
            <a:rect l="l" t="t" r="r" b="b"/>
            <a:pathLst>
              <a:path w="1" h="356">
                <a:moveTo>
                  <a:pt x="0" y="0"/>
                </a:moveTo>
                <a:lnTo>
                  <a:pt x="1" y="3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1523880" y="5613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952560" y="54118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656760" y="3638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018920" y="36385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857000" y="3224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307720" y="3224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248440" y="532116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119560" y="6235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21160" y="54831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949320" y="52196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419720" y="482616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268520" y="6222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495680" y="49528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523880" y="48769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936720" y="46864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7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278760" y="88884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Garamond"/>
              </a:rPr>
              <a:t>Duración Proyecto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Garamond"/>
              </a:rPr>
              <a:t>= 1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604840" y="4038480"/>
            <a:ext cx="3431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Caminos Crítico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   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F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049800" y="4379760"/>
            <a:ext cx="381240" cy="762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58720" y="8892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1455840"/>
            <a:ext cx="7772400" cy="66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Una unidad, mediano-largo plazo (meses o añ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No es repetitivos como procesos de p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Muchas actividades interrelacio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Difícil de planificar y contr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quipos de us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unque alto grado de especialización en algunas á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5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Alto grado de especialización en e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80" y="152280"/>
            <a:ext cx="5664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Qué es un Proyect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549440" y="5411880"/>
            <a:ext cx="3774960" cy="1440"/>
          </a:xfrm>
          <a:custGeom>
            <a:avLst/>
            <a:gdLst/>
            <a:ahLst/>
            <a:rect l="l" t="t" r="r" b="b"/>
            <a:pathLst>
              <a:path w="2378" h="1">
                <a:moveTo>
                  <a:pt x="2378" y="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04920" y="21826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19320" y="180180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219320" y="2639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286000" y="2182680"/>
            <a:ext cx="53352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733920" y="11923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895560" y="21686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733920" y="288144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G(2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43600" y="293364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H(0.5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410080" y="2182680"/>
            <a:ext cx="68580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(0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781680" y="2182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781680" y="28814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8077320" y="24112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848720" y="1258920"/>
            <a:ext cx="761760" cy="4665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62120" y="2054160"/>
            <a:ext cx="44748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62120" y="2639880"/>
            <a:ext cx="452160" cy="25740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752480" y="2639880"/>
            <a:ext cx="60984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762200" y="204948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743200" y="1501920"/>
            <a:ext cx="976320" cy="757080"/>
          </a:xfrm>
          <a:custGeom>
            <a:avLst/>
            <a:gdLst/>
            <a:ahLst/>
            <a:rect l="l" t="t" r="r" b="b"/>
            <a:pathLst>
              <a:path w="615" h="477">
                <a:moveTo>
                  <a:pt x="0" y="477"/>
                </a:moveTo>
                <a:lnTo>
                  <a:pt x="6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819520" y="2406600"/>
            <a:ext cx="1057320" cy="4680"/>
          </a:xfrm>
          <a:custGeom>
            <a:avLst/>
            <a:gdLst/>
            <a:ahLst/>
            <a:rect l="l" t="t" r="r" b="b"/>
            <a:pathLst>
              <a:path w="666" h="3">
                <a:moveTo>
                  <a:pt x="0" y="3"/>
                </a:moveTo>
                <a:lnTo>
                  <a:pt x="666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743200" y="2639880"/>
            <a:ext cx="984240" cy="489240"/>
          </a:xfrm>
          <a:custGeom>
            <a:avLst/>
            <a:gdLst/>
            <a:ahLst/>
            <a:rect l="l" t="t" r="r" b="b"/>
            <a:pathLst>
              <a:path w="620" h="308">
                <a:moveTo>
                  <a:pt x="0" y="0"/>
                </a:moveTo>
                <a:lnTo>
                  <a:pt x="620" y="30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276800" y="3170160"/>
            <a:ext cx="758880" cy="3168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442120" y="271620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448160" y="2411280"/>
            <a:ext cx="961920" cy="180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1200" y="2411280"/>
            <a:ext cx="690480" cy="180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915160" y="267804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318440" y="280188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238880" y="165420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305920" y="1730520"/>
            <a:ext cx="1440" cy="68076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7080" y="145404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271440" y="2716200"/>
            <a:ext cx="490680" cy="523800"/>
            <a:chOff x="271440" y="2716200"/>
            <a:chExt cx="490680" cy="523800"/>
          </a:xfrm>
        </p:grpSpPr>
        <p:sp>
          <p:nvSpPr>
            <p:cNvPr id="997" name=""/>
            <p:cNvSpPr/>
            <p:nvPr/>
          </p:nvSpPr>
          <p:spPr>
            <a:xfrm>
              <a:off x="516960" y="27162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71440" y="29779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554040" y="74916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2392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9536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1239840" y="1273320"/>
            <a:ext cx="490680" cy="523800"/>
            <a:chOff x="1239840" y="1273320"/>
            <a:chExt cx="490680" cy="523800"/>
          </a:xfrm>
        </p:grpSpPr>
        <p:sp>
          <p:nvSpPr>
            <p:cNvPr id="1003" name=""/>
            <p:cNvSpPr/>
            <p:nvPr/>
          </p:nvSpPr>
          <p:spPr>
            <a:xfrm>
              <a:off x="1485360" y="1273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239840" y="153504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19232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46376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690560" y="2976480"/>
            <a:ext cx="490680" cy="523800"/>
            <a:chOff x="1690560" y="2976480"/>
            <a:chExt cx="490680" cy="523800"/>
          </a:xfrm>
        </p:grpSpPr>
        <p:sp>
          <p:nvSpPr>
            <p:cNvPr id="1008" name=""/>
            <p:cNvSpPr/>
            <p:nvPr/>
          </p:nvSpPr>
          <p:spPr>
            <a:xfrm>
              <a:off x="1936080" y="29764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690560" y="32382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164304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9144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2324160" y="1649520"/>
            <a:ext cx="490320" cy="523800"/>
            <a:chOff x="2324160" y="1649520"/>
            <a:chExt cx="490320" cy="523800"/>
          </a:xfrm>
        </p:grpSpPr>
        <p:sp>
          <p:nvSpPr>
            <p:cNvPr id="1013" name=""/>
            <p:cNvSpPr/>
            <p:nvPr/>
          </p:nvSpPr>
          <p:spPr>
            <a:xfrm>
              <a:off x="2569320" y="16495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24160" y="1911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227664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54808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4343400" y="1801800"/>
            <a:ext cx="490680" cy="523800"/>
            <a:chOff x="4343400" y="1801800"/>
            <a:chExt cx="490680" cy="523800"/>
          </a:xfrm>
        </p:grpSpPr>
        <p:sp>
          <p:nvSpPr>
            <p:cNvPr id="1018" name=""/>
            <p:cNvSpPr/>
            <p:nvPr/>
          </p:nvSpPr>
          <p:spPr>
            <a:xfrm>
              <a:off x="4588920" y="1801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20635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429588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56732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4411800" y="887400"/>
            <a:ext cx="490320" cy="523800"/>
            <a:chOff x="4411800" y="887400"/>
            <a:chExt cx="490320" cy="523800"/>
          </a:xfrm>
        </p:grpSpPr>
        <p:sp>
          <p:nvSpPr>
            <p:cNvPr id="1023" name=""/>
            <p:cNvSpPr/>
            <p:nvPr/>
          </p:nvSpPr>
          <p:spPr>
            <a:xfrm>
              <a:off x="4656960" y="8874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411800" y="1149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436428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63572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3754440" y="3425760"/>
            <a:ext cx="490680" cy="523800"/>
            <a:chOff x="3754440" y="3425760"/>
            <a:chExt cx="490680" cy="523800"/>
          </a:xfrm>
        </p:grpSpPr>
        <p:sp>
          <p:nvSpPr>
            <p:cNvPr id="1028" name=""/>
            <p:cNvSpPr/>
            <p:nvPr/>
          </p:nvSpPr>
          <p:spPr>
            <a:xfrm>
              <a:off x="3999960" y="3425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754440" y="368748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"/>
          <p:cNvSpPr/>
          <p:nvPr/>
        </p:nvSpPr>
        <p:spPr>
          <a:xfrm>
            <a:off x="370692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978720" y="3421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5064120" y="3459240"/>
            <a:ext cx="490680" cy="523800"/>
            <a:chOff x="5064120" y="3459240"/>
            <a:chExt cx="490680" cy="523800"/>
          </a:xfrm>
        </p:grpSpPr>
        <p:sp>
          <p:nvSpPr>
            <p:cNvPr id="1033" name=""/>
            <p:cNvSpPr/>
            <p:nvPr/>
          </p:nvSpPr>
          <p:spPr>
            <a:xfrm>
              <a:off x="5309640" y="34592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64120" y="37209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4920120" y="3454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28804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5459400" y="1668600"/>
            <a:ext cx="490680" cy="523800"/>
            <a:chOff x="5459400" y="1668600"/>
            <a:chExt cx="490680" cy="523800"/>
          </a:xfrm>
        </p:grpSpPr>
        <p:sp>
          <p:nvSpPr>
            <p:cNvPr id="1038" name=""/>
            <p:cNvSpPr/>
            <p:nvPr/>
          </p:nvSpPr>
          <p:spPr>
            <a:xfrm>
              <a:off x="570492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59400" y="19303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0" name=""/>
          <p:cNvSpPr/>
          <p:nvPr/>
        </p:nvSpPr>
        <p:spPr>
          <a:xfrm>
            <a:off x="537696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681520" y="1639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6705720" y="1668600"/>
            <a:ext cx="490320" cy="523800"/>
            <a:chOff x="6705720" y="1668600"/>
            <a:chExt cx="490320" cy="523800"/>
          </a:xfrm>
        </p:grpSpPr>
        <p:sp>
          <p:nvSpPr>
            <p:cNvPr id="1043" name=""/>
            <p:cNvSpPr/>
            <p:nvPr/>
          </p:nvSpPr>
          <p:spPr>
            <a:xfrm>
              <a:off x="695088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705720" y="19303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6555240" y="1663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91840" y="16574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6800760" y="3421080"/>
            <a:ext cx="490680" cy="523800"/>
            <a:chOff x="6800760" y="3421080"/>
            <a:chExt cx="490680" cy="523800"/>
          </a:xfrm>
        </p:grpSpPr>
        <p:sp>
          <p:nvSpPr>
            <p:cNvPr id="1048" name=""/>
            <p:cNvSpPr/>
            <p:nvPr/>
          </p:nvSpPr>
          <p:spPr>
            <a:xfrm>
              <a:off x="7046280" y="34210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800760" y="36828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6631200" y="3416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993360" y="3416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8115480" y="3025800"/>
            <a:ext cx="490320" cy="523800"/>
            <a:chOff x="8115480" y="3025800"/>
            <a:chExt cx="490320" cy="523800"/>
          </a:xfrm>
        </p:grpSpPr>
        <p:sp>
          <p:nvSpPr>
            <p:cNvPr id="1053" name=""/>
            <p:cNvSpPr/>
            <p:nvPr/>
          </p:nvSpPr>
          <p:spPr>
            <a:xfrm>
              <a:off x="8360640" y="3025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115480" y="32875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7857000" y="3021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30772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604040" y="1130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154760" y="11286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897960" y="18813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475680" y="1892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399280" y="1887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689440" y="1882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920120" y="3676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95960" y="366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71016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981960" y="3630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310280" y="2000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65880" y="1987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28132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55276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18908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46052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63836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90980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3040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0184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7913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4771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192720" y="570384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69040" y="5856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1544400" y="578016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523880" y="3556080"/>
            <a:ext cx="20880" cy="26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544760" y="623736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879960" y="587520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D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-30240" y="413856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946080" y="56530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965560" y="6237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715000" y="553716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608800" y="6235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791320" y="5683320"/>
            <a:ext cx="1440" cy="565200"/>
          </a:xfrm>
          <a:custGeom>
            <a:avLst/>
            <a:gdLst/>
            <a:ahLst/>
            <a:rect l="l" t="t" r="r" b="b"/>
            <a:pathLst>
              <a:path w="1" h="356">
                <a:moveTo>
                  <a:pt x="0" y="0"/>
                </a:moveTo>
                <a:lnTo>
                  <a:pt x="1" y="3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1523880" y="5613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952560" y="54118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656760" y="3638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018560" y="3638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857000" y="3224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307720" y="3224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248440" y="532116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119560" y="6235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321160" y="54831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949320" y="52196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19720" y="482616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268520" y="6222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495680" y="49528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1523880" y="48769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936720" y="46864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7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328920" y="6224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505320" y="380988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581280" y="3962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914400" y="370836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8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1523880" y="38862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517360" y="3886200"/>
            <a:ext cx="346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Garamond"/>
              </a:rPr>
              <a:t>Caminos Crítico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B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    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F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    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    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    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F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549760" y="4157640"/>
            <a:ext cx="349560" cy="127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270120" y="88884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Garamond"/>
              </a:rPr>
              <a:t>Duración Proyecto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Garamond"/>
              </a:rPr>
              <a:t>= 1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58720" y="8892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4038480" y="3763800"/>
            <a:ext cx="4953240" cy="2713320"/>
          </a:xfrm>
          <a:prstGeom prst="rect">
            <a:avLst/>
          </a:prstGeom>
          <a:ln w="0">
            <a:noFill/>
          </a:ln>
        </p:spPr>
      </p:pic>
      <p:sp>
        <p:nvSpPr>
          <p:cNvPr id="1116" name=""/>
          <p:cNvSpPr/>
          <p:nvPr/>
        </p:nvSpPr>
        <p:spPr>
          <a:xfrm>
            <a:off x="304920" y="218268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A(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219320" y="180180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219320" y="2639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286000" y="2182680"/>
            <a:ext cx="53352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733920" y="11923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895560" y="2168640"/>
            <a:ext cx="533520" cy="5331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733920" y="288144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G(1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043600" y="293364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H(0.5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410080" y="2182680"/>
            <a:ext cx="68580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(0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781680" y="2182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781680" y="2881440"/>
            <a:ext cx="533520" cy="5331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K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8077320" y="241128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(1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848720" y="1258920"/>
            <a:ext cx="761760" cy="4665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62120" y="2054160"/>
            <a:ext cx="44748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639880"/>
            <a:ext cx="452160" cy="25740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752480" y="2639880"/>
            <a:ext cx="60984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762200" y="204948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743200" y="1501920"/>
            <a:ext cx="976320" cy="757080"/>
          </a:xfrm>
          <a:custGeom>
            <a:avLst/>
            <a:gdLst/>
            <a:ahLst/>
            <a:rect l="l" t="t" r="r" b="b"/>
            <a:pathLst>
              <a:path w="615" h="477">
                <a:moveTo>
                  <a:pt x="0" y="477"/>
                </a:moveTo>
                <a:lnTo>
                  <a:pt x="6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819520" y="2406600"/>
            <a:ext cx="1057320" cy="4680"/>
          </a:xfrm>
          <a:custGeom>
            <a:avLst/>
            <a:gdLst/>
            <a:ahLst/>
            <a:rect l="l" t="t" r="r" b="b"/>
            <a:pathLst>
              <a:path w="666" h="3">
                <a:moveTo>
                  <a:pt x="0" y="3"/>
                </a:moveTo>
                <a:lnTo>
                  <a:pt x="666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743200" y="2639880"/>
            <a:ext cx="984240" cy="489240"/>
          </a:xfrm>
          <a:custGeom>
            <a:avLst/>
            <a:gdLst/>
            <a:ahLst/>
            <a:rect l="l" t="t" r="r" b="b"/>
            <a:pathLst>
              <a:path w="620" h="308">
                <a:moveTo>
                  <a:pt x="0" y="0"/>
                </a:moveTo>
                <a:lnTo>
                  <a:pt x="620" y="30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276800" y="3170160"/>
            <a:ext cx="758880" cy="3168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442120" y="271620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448160" y="2411280"/>
            <a:ext cx="961920" cy="180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091200" y="2411280"/>
            <a:ext cx="690480" cy="180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915160" y="267804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318440" y="280188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238880" y="165420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8305920" y="1730520"/>
            <a:ext cx="1440" cy="68076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267080" y="145404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271440" y="2716200"/>
            <a:ext cx="490680" cy="523800"/>
            <a:chOff x="271440" y="2716200"/>
            <a:chExt cx="490680" cy="523800"/>
          </a:xfrm>
        </p:grpSpPr>
        <p:sp>
          <p:nvSpPr>
            <p:cNvPr id="1146" name=""/>
            <p:cNvSpPr/>
            <p:nvPr/>
          </p:nvSpPr>
          <p:spPr>
            <a:xfrm>
              <a:off x="516960" y="27162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71440" y="29779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554040" y="74916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2392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95720" y="2711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1239840" y="1273320"/>
            <a:ext cx="490680" cy="523800"/>
            <a:chOff x="1239840" y="1273320"/>
            <a:chExt cx="490680" cy="523800"/>
          </a:xfrm>
        </p:grpSpPr>
        <p:sp>
          <p:nvSpPr>
            <p:cNvPr id="1152" name=""/>
            <p:cNvSpPr/>
            <p:nvPr/>
          </p:nvSpPr>
          <p:spPr>
            <a:xfrm>
              <a:off x="1485360" y="1273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239840" y="153504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103760" y="1255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451520" y="1243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90560" y="2976480"/>
            <a:ext cx="490680" cy="523800"/>
            <a:chOff x="1690560" y="2976480"/>
            <a:chExt cx="490680" cy="523800"/>
          </a:xfrm>
        </p:grpSpPr>
        <p:sp>
          <p:nvSpPr>
            <p:cNvPr id="1157" name=""/>
            <p:cNvSpPr/>
            <p:nvPr/>
          </p:nvSpPr>
          <p:spPr>
            <a:xfrm>
              <a:off x="1936080" y="29764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690560" y="32382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9" name=""/>
          <p:cNvSpPr/>
          <p:nvPr/>
        </p:nvSpPr>
        <p:spPr>
          <a:xfrm>
            <a:off x="1554480" y="29718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914840" y="29718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2324160" y="1649520"/>
            <a:ext cx="490320" cy="523800"/>
            <a:chOff x="2324160" y="1649520"/>
            <a:chExt cx="490320" cy="523800"/>
          </a:xfrm>
        </p:grpSpPr>
        <p:sp>
          <p:nvSpPr>
            <p:cNvPr id="1162" name=""/>
            <p:cNvSpPr/>
            <p:nvPr/>
          </p:nvSpPr>
          <p:spPr>
            <a:xfrm>
              <a:off x="2569320" y="16495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324160" y="1911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2200680" y="1644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48440" y="1644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4343400" y="1801800"/>
            <a:ext cx="490680" cy="523800"/>
            <a:chOff x="4343400" y="1801800"/>
            <a:chExt cx="490680" cy="523800"/>
          </a:xfrm>
        </p:grpSpPr>
        <p:sp>
          <p:nvSpPr>
            <p:cNvPr id="1167" name=""/>
            <p:cNvSpPr/>
            <p:nvPr/>
          </p:nvSpPr>
          <p:spPr>
            <a:xfrm>
              <a:off x="4588920" y="1801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343400" y="20635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4218480" y="1797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567680" y="1797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4411800" y="887400"/>
            <a:ext cx="490320" cy="523800"/>
            <a:chOff x="4411800" y="887400"/>
            <a:chExt cx="490320" cy="523800"/>
          </a:xfrm>
        </p:grpSpPr>
        <p:sp>
          <p:nvSpPr>
            <p:cNvPr id="1172" name=""/>
            <p:cNvSpPr/>
            <p:nvPr/>
          </p:nvSpPr>
          <p:spPr>
            <a:xfrm>
              <a:off x="4656960" y="8874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411800" y="1149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4259520" y="8827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635720" y="8827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3754440" y="3425760"/>
            <a:ext cx="490680" cy="523800"/>
            <a:chOff x="3754440" y="3425760"/>
            <a:chExt cx="490680" cy="523800"/>
          </a:xfrm>
        </p:grpSpPr>
        <p:sp>
          <p:nvSpPr>
            <p:cNvPr id="1177" name=""/>
            <p:cNvSpPr/>
            <p:nvPr/>
          </p:nvSpPr>
          <p:spPr>
            <a:xfrm>
              <a:off x="3999960" y="3425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754440" y="368748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3611880" y="3421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7836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5064120" y="3459240"/>
            <a:ext cx="490680" cy="523800"/>
            <a:chOff x="5064120" y="3459240"/>
            <a:chExt cx="490680" cy="523800"/>
          </a:xfrm>
        </p:grpSpPr>
        <p:sp>
          <p:nvSpPr>
            <p:cNvPr id="1182" name=""/>
            <p:cNvSpPr/>
            <p:nvPr/>
          </p:nvSpPr>
          <p:spPr>
            <a:xfrm>
              <a:off x="5309640" y="34592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064120" y="37209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503388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250240" y="3454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5459400" y="1668600"/>
            <a:ext cx="490680" cy="523800"/>
            <a:chOff x="5459400" y="1668600"/>
            <a:chExt cx="490680" cy="523800"/>
          </a:xfrm>
        </p:grpSpPr>
        <p:sp>
          <p:nvSpPr>
            <p:cNvPr id="1187" name=""/>
            <p:cNvSpPr/>
            <p:nvPr/>
          </p:nvSpPr>
          <p:spPr>
            <a:xfrm>
              <a:off x="570492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459400" y="19303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5326560" y="1644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681520" y="1639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6705720" y="1668600"/>
            <a:ext cx="490320" cy="523800"/>
            <a:chOff x="6705720" y="1668600"/>
            <a:chExt cx="490320" cy="523800"/>
          </a:xfrm>
        </p:grpSpPr>
        <p:sp>
          <p:nvSpPr>
            <p:cNvPr id="1192" name=""/>
            <p:cNvSpPr/>
            <p:nvPr/>
          </p:nvSpPr>
          <p:spPr>
            <a:xfrm>
              <a:off x="695088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705720" y="19303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4" name=""/>
          <p:cNvSpPr/>
          <p:nvPr/>
        </p:nvSpPr>
        <p:spPr>
          <a:xfrm>
            <a:off x="6631200" y="1663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929640" y="1657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6800760" y="3421080"/>
            <a:ext cx="490680" cy="523800"/>
            <a:chOff x="6800760" y="3421080"/>
            <a:chExt cx="490680" cy="523800"/>
          </a:xfrm>
        </p:grpSpPr>
        <p:sp>
          <p:nvSpPr>
            <p:cNvPr id="1197" name=""/>
            <p:cNvSpPr/>
            <p:nvPr/>
          </p:nvSpPr>
          <p:spPr>
            <a:xfrm>
              <a:off x="7046280" y="34210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800760" y="36828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9" name=""/>
          <p:cNvSpPr/>
          <p:nvPr/>
        </p:nvSpPr>
        <p:spPr>
          <a:xfrm>
            <a:off x="6783480" y="3416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993000" y="3416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8115480" y="3025800"/>
            <a:ext cx="490320" cy="523800"/>
            <a:chOff x="8115480" y="3025800"/>
            <a:chExt cx="490320" cy="523800"/>
          </a:xfrm>
        </p:grpSpPr>
        <p:sp>
          <p:nvSpPr>
            <p:cNvPr id="1202" name=""/>
            <p:cNvSpPr/>
            <p:nvPr/>
          </p:nvSpPr>
          <p:spPr>
            <a:xfrm>
              <a:off x="8360640" y="3025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115480" y="32875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4" name=""/>
          <p:cNvSpPr/>
          <p:nvPr/>
        </p:nvSpPr>
        <p:spPr>
          <a:xfrm>
            <a:off x="8059680" y="302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8307720" y="3021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604040" y="1130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243680" y="1128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97960" y="18813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539400" y="189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335920" y="1887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689440" y="1882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046840" y="3676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258160" y="3664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634200" y="3630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98160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218480" y="2000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565880" y="1987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192760" y="18558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553120" y="18432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100520" y="14619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460880" y="14619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562400" y="31892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910160" y="31892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3040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2200" y="29084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7913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770880" y="3638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018560" y="3638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8059680" y="3224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8307720" y="3224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373440" y="819000"/>
            <a:ext cx="29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Garamond"/>
              </a:rPr>
              <a:t>Duración Proyecto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Garamond"/>
              </a:rPr>
              <a:t>= 8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2"/>
          <a:stretch/>
        </p:blipFill>
        <p:spPr>
          <a:xfrm>
            <a:off x="291960" y="3851280"/>
            <a:ext cx="3289320" cy="232092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558720" y="8892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609480" y="787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52280" y="152280"/>
            <a:ext cx="8991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Resumen Construcción Frontera Eficiente (Cras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0880" y="990720"/>
            <a:ext cx="8534520" cy="67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ara cada actividad cal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Usando CPM identific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5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Duración del proyecto, holguras, </a:t>
            </a:r>
            <a:r>
              <a:rPr b="1" lang="es-CL" sz="1800" spc="-1" strike="noStrike" u="sng">
                <a:solidFill>
                  <a:srgbClr val="3333cc"/>
                </a:solidFill>
                <a:uFillTx/>
                <a:latin typeface="Garamond"/>
              </a:rPr>
              <a:t>Todos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los Caminos Crít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5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ncontrar el  </a:t>
            </a:r>
            <a:r>
              <a:rPr b="1" lang="es-CL" sz="2000" spc="-1" strike="noStrike">
                <a:solidFill>
                  <a:srgbClr val="800000"/>
                </a:solidFill>
                <a:latin typeface="Garamond"/>
              </a:rPr>
              <a:t>“conjunto mas barato”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e Actividades Criticas que al ser reducidas su duración se reduce la duración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Garamond"/>
              </a:rPr>
              <a:t>TODOS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los Caminos Crítico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eterminar lo máximo que se puede reducir la duración de las actividades del punto 3. Tenga present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5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La Holgura de actividades que no son criticas puede reducirse mientras reduce la duración de actividades crít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5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No puede reducir la duración de una actividad por debajo de su duración míni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6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epetir los pasos 2-3-4 hasta que encuentre un Camino Critico para el cual todas las actividades estén en su duración mín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5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1168560" y="1467000"/>
                <a:ext cx="629892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t por Unidad de Tiemp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to Crash - Costo Norm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empo Normal - Tiempo Cras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1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459720" y="228600"/>
            <a:ext cx="39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jemplo: FCN (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0" name=""/>
          <p:cNvGraphicFramePr/>
          <p:nvPr/>
        </p:nvGraphicFramePr>
        <p:xfrm>
          <a:off x="457200" y="3827520"/>
          <a:ext cx="4038480" cy="196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27520"/>
                    <a:ext cx="403848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2" name=""/>
          <p:cNvSpPr/>
          <p:nvPr/>
        </p:nvSpPr>
        <p:spPr>
          <a:xfrm>
            <a:off x="4708440" y="3836880"/>
            <a:ext cx="42069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uponga que A termino con tres semans de retraso &amp; que la penalidad por cada semana de retraso es de $9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Palatino Linotype"/>
              </a:rPr>
              <a:t>Cuál es la estrategia optima que minimiza los costos de ejecución del proyecto + penalidades?</a:t>
            </a: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533520" y="1295280"/>
            <a:ext cx="7009920" cy="2063520"/>
            <a:chOff x="533520" y="1295280"/>
            <a:chExt cx="7009920" cy="2063520"/>
          </a:xfrm>
        </p:grpSpPr>
        <p:sp>
          <p:nvSpPr>
            <p:cNvPr id="1245" name=""/>
            <p:cNvSpPr/>
            <p:nvPr/>
          </p:nvSpPr>
          <p:spPr>
            <a:xfrm>
              <a:off x="533520" y="204444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A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790640" y="129528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B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047760" y="129528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C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752480" y="203796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E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752480" y="2882520"/>
              <a:ext cx="5331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H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311360" y="129528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D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587760" y="2057040"/>
              <a:ext cx="53280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F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197240" y="2901600"/>
              <a:ext cx="5331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I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10080" y="205704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G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781680" y="2031840"/>
              <a:ext cx="761760" cy="5331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996840" y="1593720"/>
              <a:ext cx="806040" cy="514080"/>
            </a:xfrm>
            <a:custGeom>
              <a:avLst/>
              <a:gdLst/>
              <a:ahLst/>
              <a:rect l="l" t="t" r="r" b="b"/>
              <a:pathLst>
                <a:path w="508" h="324">
                  <a:moveTo>
                    <a:pt x="0" y="324"/>
                  </a:moveTo>
                  <a:lnTo>
                    <a:pt x="508" y="0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066680" y="2285640"/>
              <a:ext cx="68544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990360" y="2438280"/>
              <a:ext cx="787320" cy="583920"/>
            </a:xfrm>
            <a:custGeom>
              <a:avLst/>
              <a:gdLst/>
              <a:ahLst/>
              <a:rect l="l" t="t" r="r" b="b"/>
              <a:pathLst>
                <a:path w="496" h="368">
                  <a:moveTo>
                    <a:pt x="0" y="0"/>
                  </a:moveTo>
                  <a:lnTo>
                    <a:pt x="496" y="3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324160" y="1523880"/>
              <a:ext cx="723240" cy="1440"/>
            </a:xfrm>
            <a:custGeom>
              <a:avLst/>
              <a:gdLst/>
              <a:ahLst/>
              <a:rect l="l" t="t" r="r" b="b"/>
              <a:pathLst>
                <a:path w="456" h="1">
                  <a:moveTo>
                    <a:pt x="0" y="0"/>
                  </a:moveTo>
                  <a:lnTo>
                    <a:pt x="456" y="1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581280" y="1523880"/>
              <a:ext cx="723600" cy="1440"/>
            </a:xfrm>
            <a:custGeom>
              <a:avLst/>
              <a:gdLst/>
              <a:ahLst/>
              <a:rect l="l" t="t" r="r" b="b"/>
              <a:pathLst>
                <a:path w="456" h="1">
                  <a:moveTo>
                    <a:pt x="0" y="0"/>
                  </a:moveTo>
                  <a:lnTo>
                    <a:pt x="456" y="1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286000" y="2285640"/>
              <a:ext cx="12949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114800" y="2285640"/>
              <a:ext cx="12949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286000" y="3130200"/>
              <a:ext cx="190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806720" y="1631880"/>
              <a:ext cx="679320" cy="501480"/>
            </a:xfrm>
            <a:custGeom>
              <a:avLst/>
              <a:gdLst/>
              <a:ahLst/>
              <a:rect l="l" t="t" r="r" b="b"/>
              <a:pathLst>
                <a:path w="428" h="316">
                  <a:moveTo>
                    <a:pt x="0" y="0"/>
                  </a:moveTo>
                  <a:lnTo>
                    <a:pt x="428" y="316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943600" y="2298600"/>
              <a:ext cx="8377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4724280" y="2437920"/>
              <a:ext cx="2133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7133040" y="100476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9933"/>
                </a:solidFill>
                <a:latin typeface="Garamond"/>
              </a:rPr>
              <a:t>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9933"/>
                </a:solidFill>
                <a:latin typeface="Garamond"/>
              </a:rPr>
              <a:t>Progra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9933"/>
                </a:solidFill>
                <a:latin typeface="Garamond"/>
              </a:rPr>
              <a:t>12 sem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554040" y="74304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82760" y="34920"/>
            <a:ext cx="523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sos Patológ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2057400" y="1066680"/>
          <a:ext cx="5229000" cy="2317680"/>
        </p:xfrm>
        <a:graphic>
          <a:graphicData uri="http://schemas.openxmlformats.org/drawingml/2006/table">
            <a:tbl>
              <a:tblPr/>
              <a:tblGrid>
                <a:gridCol w="936720"/>
                <a:gridCol w="1247760"/>
                <a:gridCol w="1015560"/>
                <a:gridCol w="1013760"/>
                <a:gridCol w="101520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e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ing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$/d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0" name=""/>
          <p:cNvSpPr/>
          <p:nvPr/>
        </p:nvSpPr>
        <p:spPr>
          <a:xfrm>
            <a:off x="12952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362320" y="39625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438280" y="56386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657600" y="45720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648320" y="3962520"/>
            <a:ext cx="5331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029200" y="4876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781680" y="4876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1676520" y="4267080"/>
            <a:ext cx="685800" cy="5335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52578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895480" y="41911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819520" y="4419720"/>
            <a:ext cx="838080" cy="38088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191120" y="4952880"/>
            <a:ext cx="838080" cy="15264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2971800" y="525744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181480" y="426708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562720" y="5181480"/>
            <a:ext cx="121896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833440" y="5472000"/>
            <a:ext cx="28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8000"/>
                </a:solidFill>
                <a:latin typeface="Palatino Linotype"/>
              </a:rPr>
              <a:t>Duración: 7 sem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/>
          <p:nvPr/>
        </p:nvSpPr>
        <p:spPr>
          <a:xfrm>
            <a:off x="554040" y="74304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7" name=""/>
          <p:cNvGraphicFramePr/>
          <p:nvPr/>
        </p:nvGraphicFramePr>
        <p:xfrm>
          <a:off x="2057400" y="914400"/>
          <a:ext cx="5229000" cy="2317680"/>
        </p:xfrm>
        <a:graphic>
          <a:graphicData uri="http://schemas.openxmlformats.org/drawingml/2006/table">
            <a:tbl>
              <a:tblPr/>
              <a:tblGrid>
                <a:gridCol w="936720"/>
                <a:gridCol w="1247760"/>
                <a:gridCol w="1015560"/>
                <a:gridCol w="1013760"/>
                <a:gridCol w="101520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e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ing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$/d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8" name=""/>
          <p:cNvSpPr/>
          <p:nvPr/>
        </p:nvSpPr>
        <p:spPr>
          <a:xfrm>
            <a:off x="12952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362320" y="39625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4382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657600" y="45720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648320" y="39625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029200" y="4876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781680" y="4876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1676520" y="4267080"/>
            <a:ext cx="685800" cy="5335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752480" y="5257800"/>
            <a:ext cx="685800" cy="5335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895480" y="4191120"/>
            <a:ext cx="175284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819520" y="4419720"/>
            <a:ext cx="838080" cy="38088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191120" y="4952880"/>
            <a:ext cx="838080" cy="15264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2971800" y="5257440"/>
            <a:ext cx="2057400" cy="6858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181480" y="4267080"/>
            <a:ext cx="1600200" cy="7621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562720" y="5181480"/>
            <a:ext cx="121896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565240" y="542916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8000"/>
                </a:solidFill>
                <a:latin typeface="Garamond"/>
              </a:rPr>
              <a:t>Duración: 6 sem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91520" y="3352680"/>
            <a:ext cx="46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800000"/>
                </a:solidFill>
                <a:latin typeface="Palatino Linotype"/>
              </a:rPr>
              <a:t>Primera Semana: Reducir 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82760" y="34920"/>
            <a:ext cx="523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sos Patológ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554040" y="74304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7" name=""/>
          <p:cNvGraphicFramePr/>
          <p:nvPr/>
        </p:nvGraphicFramePr>
        <p:xfrm>
          <a:off x="2057400" y="914400"/>
          <a:ext cx="5229000" cy="2317680"/>
        </p:xfrm>
        <a:graphic>
          <a:graphicData uri="http://schemas.openxmlformats.org/drawingml/2006/table">
            <a:tbl>
              <a:tblPr/>
              <a:tblGrid>
                <a:gridCol w="936720"/>
                <a:gridCol w="1247760"/>
                <a:gridCol w="1015560"/>
                <a:gridCol w="1013760"/>
                <a:gridCol w="101520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e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ing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$/d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8" name=""/>
          <p:cNvSpPr/>
          <p:nvPr/>
        </p:nvSpPr>
        <p:spPr>
          <a:xfrm>
            <a:off x="12952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362320" y="39625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4382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657600" y="45720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648320" y="39625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029200" y="4876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781680" y="4876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1676520" y="4267080"/>
            <a:ext cx="685800" cy="5335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52480" y="5257800"/>
            <a:ext cx="685800" cy="5335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895480" y="4191120"/>
            <a:ext cx="175284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819520" y="4419720"/>
            <a:ext cx="8380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191120" y="4952880"/>
            <a:ext cx="8380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2971800" y="5257440"/>
            <a:ext cx="2057400" cy="6858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181480" y="4267080"/>
            <a:ext cx="1600200" cy="7621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562720" y="5181480"/>
            <a:ext cx="121896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565240" y="542916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8000"/>
                </a:solidFill>
                <a:latin typeface="Garamond"/>
              </a:rPr>
              <a:t>Duración: 5 sem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93320" y="335268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800000"/>
                </a:solidFill>
                <a:latin typeface="Palatino Linotype"/>
              </a:rPr>
              <a:t>Segunda Semana: Reducir A &amp; 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82760" y="34920"/>
            <a:ext cx="523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sos Patológ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533520" y="70344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0880" y="4284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Crashing Usando Programacion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-510840" y="974880"/>
            <a:ext cx="8903520" cy="53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Variables de Decisión:</a:t>
            </a: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ara cada actividad defini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Tiempo de inicio de l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Duración de l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Duración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Restri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 baseline="30000">
                <a:solidFill>
                  <a:srgbClr val="000000"/>
                </a:solidFill>
                <a:latin typeface="Garamond"/>
              </a:rPr>
              <a:t>crash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 baseline="30000">
                <a:solidFill>
                  <a:srgbClr val="000000"/>
                </a:solidFill>
                <a:latin typeface="Garamond"/>
              </a:rPr>
              <a:t>normal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Para cad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max{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+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: para toda actividad k que precede a actividad i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max{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+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: para toda actividad k que NO tiene sucesor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uración Requer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o negativ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Función Obje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efimos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 baseline="30000">
                <a:solidFill>
                  <a:srgbClr val="000000"/>
                </a:solidFill>
                <a:latin typeface="Garamond"/>
              </a:rPr>
              <a:t>normal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el costo normal de ejecucion de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61240" y="5257800"/>
            <a:ext cx="7413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aramond"/>
              </a:rPr>
              <a:t>normal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+ (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aramond"/>
              </a:rPr>
              <a:t>normal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–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Costo por Unidad de Tiem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1371600" y="5638680"/>
                <a:ext cx="60199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imize Project Excution Cost: Min Z 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554040" y="7840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2" name=""/>
          <p:cNvGraphicFramePr/>
          <p:nvPr/>
        </p:nvGraphicFramePr>
        <p:xfrm>
          <a:off x="2057400" y="955800"/>
          <a:ext cx="5229000" cy="2317680"/>
        </p:xfrm>
        <a:graphic>
          <a:graphicData uri="http://schemas.openxmlformats.org/drawingml/2006/table">
            <a:tbl>
              <a:tblPr/>
              <a:tblGrid>
                <a:gridCol w="936720"/>
                <a:gridCol w="1247760"/>
                <a:gridCol w="1015560"/>
                <a:gridCol w="1013760"/>
                <a:gridCol w="101520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e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ing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$/d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3" name=""/>
          <p:cNvSpPr/>
          <p:nvPr/>
        </p:nvSpPr>
        <p:spPr>
          <a:xfrm>
            <a:off x="482760" y="34920"/>
            <a:ext cx="843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sos Patológicos: Solución Usando P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7840" y="25416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uál es el VPN de un Proyect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09480" y="936720"/>
            <a:ext cx="8305920" cy="60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A cada actividad del proyecto le podemos asociar un costo de ejecución y un beneficio al completar l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La holgura de las actividad que no son criticas ofrece flexibilidad en su ejecución. Cuándo comenzar esta actividades y qué duración deben tener afecta el VPN del proy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osponer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celerar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Además, Crashing ofrece flexibilidad en el ejecución del proy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5680" y="152280"/>
            <a:ext cx="6959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jemplos de Proyectos: Becht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143000"/>
            <a:ext cx="8077320" cy="58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onstrucción y puesta en marcha del sistema de ferroviario entre Londres y el Channel Tunnel (US$4.6 mil mill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onstrucción de oleoductos entre el mar Caspio y Rusia (US$850 mill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xpansión del aeropuerto de Dubai en los EAU (US$600 millones), y del aeropuerto de Miami en Florida (US$2 mil mill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onstrucción de plantas de procesamiento de gas en Yemen y Trin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57200" y="25416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Calculando el VPN de un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-384480" y="990720"/>
            <a:ext cx="10122840" cy="62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Variables de Decision:</a:t>
            </a: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Tiempo de inicio de l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Duración de l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Restri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 baseline="30000">
                <a:solidFill>
                  <a:srgbClr val="000000"/>
                </a:solidFill>
                <a:latin typeface="Garamond"/>
              </a:rPr>
              <a:t>crash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 baseline="30000">
                <a:solidFill>
                  <a:srgbClr val="000000"/>
                </a:solidFill>
                <a:latin typeface="Garamond"/>
              </a:rPr>
              <a:t>normal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para l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max{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+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: para todas las actividades k que preceden a la actividad i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on negativ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Función Obje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: Beneficio de completar l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 :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osto normal de ejecución de la activida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: Ingreso neto de completar la actividad  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–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– (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 baseline="30000">
                <a:solidFill>
                  <a:srgbClr val="000000"/>
                </a:solidFill>
                <a:latin typeface="Garamond"/>
              </a:rPr>
              <a:t>normal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–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Crashing Rate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l VPN del proyect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3424320" y="5621400"/>
                <a:ext cx="31338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tivities</m:t>
                        </m:r>
                      </m:sub>
                      <m:sup/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20560" y="216000"/>
            <a:ext cx="786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Flujos y Presupuesto d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3" name="" descr=""/>
          <p:cNvPicPr/>
          <p:nvPr/>
        </p:nvPicPr>
        <p:blipFill>
          <a:blip r:embed="rId1"/>
          <a:stretch/>
        </p:blipFill>
        <p:spPr>
          <a:xfrm>
            <a:off x="380880" y="1224000"/>
            <a:ext cx="83059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685800" y="228600"/>
            <a:ext cx="777240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RT</a:t>
            </a:r>
            <a:br>
              <a:rPr sz="4400"/>
            </a:b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estión de Proyecto Bajo Incertidu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5" name="" descr=""/>
          <p:cNvPicPr/>
          <p:nvPr/>
        </p:nvPicPr>
        <p:blipFill>
          <a:blip r:embed="rId1"/>
          <a:stretch/>
        </p:blipFill>
        <p:spPr>
          <a:xfrm>
            <a:off x="1041480" y="2438280"/>
            <a:ext cx="704844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/>
          <p:nvPr/>
        </p:nvSpPr>
        <p:spPr>
          <a:xfrm>
            <a:off x="241200" y="2746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gram Evaluation and Review Technique (PE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44600" y="11430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80880" y="1523880"/>
            <a:ext cx="815364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Método </a:t>
            </a: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aproximado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para incorporar la incertidumbre en la estimación de la duración de las activ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Supuestos fuertes en el comportamiento de la incertidum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Tratamiento simple de la vari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Proporciona una visión probilistica de la duración d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533520" y="228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Secuencia de Paso en PE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33520" y="1406520"/>
            <a:ext cx="82296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lcular </a:t>
            </a:r>
            <a:r>
              <a:rPr b="1" i="1" lang="es-CL" sz="2400" spc="-1" strike="noStrike">
                <a:solidFill>
                  <a:srgbClr val="990033"/>
                </a:solidFill>
                <a:latin typeface="Garamond"/>
              </a:rPr>
              <a:t>Duración Esperada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ara cada ac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lcular la varianza de la duración de cada actividad.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Usar CPM para determinar el camino critico y la </a:t>
            </a:r>
            <a:r>
              <a:rPr b="1" i="1" lang="es-CL" sz="2400" spc="-1" strike="noStrike">
                <a:solidFill>
                  <a:srgbClr val="990033"/>
                </a:solidFill>
                <a:latin typeface="Garamond"/>
              </a:rPr>
              <a:t>Duracion Rsperada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del proyecto.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umar las varianzas de la ruta critica para determinar la varianza de la duracion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proximar la duración del proyecto como una variable aleatoria Normal con media y varianza según lo calculado en los pasos 3 y 4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863640" y="228600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11360" y="452772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1625760" y="2793960"/>
            <a:ext cx="2971800" cy="1701720"/>
            <a:chOff x="1625760" y="2793960"/>
            <a:chExt cx="2971800" cy="1701720"/>
          </a:xfrm>
        </p:grpSpPr>
        <p:sp>
          <p:nvSpPr>
            <p:cNvPr id="1355" name=""/>
            <p:cNvSpPr/>
            <p:nvPr/>
          </p:nvSpPr>
          <p:spPr>
            <a:xfrm>
              <a:off x="1625760" y="2793960"/>
              <a:ext cx="2971800" cy="1625760"/>
            </a:xfrm>
            <a:custGeom>
              <a:avLst/>
              <a:gdLst/>
              <a:ahLst/>
              <a:rect l="l" t="t" r="r" b="b"/>
              <a:pathLst>
                <a:path w="1872" h="1024">
                  <a:moveTo>
                    <a:pt x="0" y="1024"/>
                  </a:moveTo>
                  <a:cubicBezTo>
                    <a:pt x="76" y="1020"/>
                    <a:pt x="152" y="1016"/>
                    <a:pt x="240" y="880"/>
                  </a:cubicBezTo>
                  <a:cubicBezTo>
                    <a:pt x="328" y="744"/>
                    <a:pt x="448" y="352"/>
                    <a:pt x="528" y="208"/>
                  </a:cubicBezTo>
                  <a:cubicBezTo>
                    <a:pt x="608" y="64"/>
                    <a:pt x="664" y="32"/>
                    <a:pt x="720" y="16"/>
                  </a:cubicBezTo>
                  <a:cubicBezTo>
                    <a:pt x="776" y="0"/>
                    <a:pt x="808" y="48"/>
                    <a:pt x="864" y="112"/>
                  </a:cubicBezTo>
                  <a:cubicBezTo>
                    <a:pt x="920" y="176"/>
                    <a:pt x="984" y="304"/>
                    <a:pt x="1056" y="400"/>
                  </a:cubicBezTo>
                  <a:cubicBezTo>
                    <a:pt x="1128" y="496"/>
                    <a:pt x="1208" y="608"/>
                    <a:pt x="1296" y="688"/>
                  </a:cubicBezTo>
                  <a:cubicBezTo>
                    <a:pt x="1384" y="768"/>
                    <a:pt x="1488" y="832"/>
                    <a:pt x="1584" y="880"/>
                  </a:cubicBezTo>
                  <a:cubicBezTo>
                    <a:pt x="1680" y="928"/>
                    <a:pt x="1776" y="952"/>
                    <a:pt x="1872" y="976"/>
                  </a:cubicBezTo>
                </a:path>
              </a:pathLst>
            </a:custGeom>
            <a:noFill/>
            <a:ln w="284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625760" y="4419720"/>
              <a:ext cx="0" cy="759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597560" y="4343400"/>
              <a:ext cx="0" cy="1522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8" name=""/>
          <p:cNvSpPr/>
          <p:nvPr/>
        </p:nvSpPr>
        <p:spPr>
          <a:xfrm>
            <a:off x="939960" y="4495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stic Ti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064040" y="4495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simistic Ti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235240" y="44956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Likely Ti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76876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971800" y="56516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Expected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22596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3225960" y="44953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962520" y="1828800"/>
            <a:ext cx="4800600" cy="1600200"/>
          </a:xfrm>
          <a:prstGeom prst="rect">
            <a:avLst/>
          </a:prstGeom>
          <a:solidFill>
            <a:srgbClr val="d5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6" name=""/>
          <p:cNvGraphicFramePr/>
          <p:nvPr/>
        </p:nvGraphicFramePr>
        <p:xfrm>
          <a:off x="4038480" y="1905120"/>
          <a:ext cx="4496040" cy="14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905120"/>
                    <a:ext cx="449604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8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04920" y="22860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ERT: Pasos 1 &amp;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28600" y="9907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990033"/>
                </a:solidFill>
                <a:latin typeface="Garamond"/>
              </a:rPr>
              <a:t>Duración Esperada y Desviación Estándar para cada activ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199840" y="3429000"/>
            <a:ext cx="3400920" cy="3682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Palatino Linotype"/>
              </a:rPr>
              <a:t>Supuesto: Distribución B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533520" y="100332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65240" y="304920"/>
            <a:ext cx="8292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s 1 &amp; 2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4" name="" descr=""/>
          <p:cNvPicPr/>
          <p:nvPr/>
        </p:nvPicPr>
        <p:blipFill>
          <a:blip r:embed="rId1"/>
          <a:stretch/>
        </p:blipFill>
        <p:spPr>
          <a:xfrm>
            <a:off x="76320" y="1252440"/>
            <a:ext cx="899136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228600" y="1828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143000" y="1447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14300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209680" y="1828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733920" y="138276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895560" y="23590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733920" y="3071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G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043600" y="31240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410080" y="2373480"/>
            <a:ext cx="68580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(1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81680" y="237348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781680" y="3071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8077320" y="2602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848720" y="1449360"/>
            <a:ext cx="761760" cy="466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85800" y="1700280"/>
            <a:ext cx="44784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85800" y="2286000"/>
            <a:ext cx="452520" cy="25704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676520" y="2286000"/>
            <a:ext cx="60948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685880" y="169560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705040" y="1692360"/>
            <a:ext cx="1014480" cy="250920"/>
          </a:xfrm>
          <a:custGeom>
            <a:avLst/>
            <a:gdLst/>
            <a:ahLst/>
            <a:rect l="l" t="t" r="r" b="b"/>
            <a:pathLst>
              <a:path w="639" h="158">
                <a:moveTo>
                  <a:pt x="0" y="158"/>
                </a:moveTo>
                <a:lnTo>
                  <a:pt x="63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743200" y="2133720"/>
            <a:ext cx="1133640" cy="463320"/>
          </a:xfrm>
          <a:custGeom>
            <a:avLst/>
            <a:gdLst/>
            <a:ahLst/>
            <a:rect l="l" t="t" r="r" b="b"/>
            <a:pathLst>
              <a:path w="714" h="292">
                <a:moveTo>
                  <a:pt x="0" y="0"/>
                </a:moveTo>
                <a:lnTo>
                  <a:pt x="714" y="2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692440" y="2260440"/>
            <a:ext cx="1035000" cy="1059120"/>
          </a:xfrm>
          <a:custGeom>
            <a:avLst/>
            <a:gdLst/>
            <a:ahLst/>
            <a:rect l="l" t="t" r="r" b="b"/>
            <a:pathLst>
              <a:path w="652" h="667">
                <a:moveTo>
                  <a:pt x="0" y="0"/>
                </a:moveTo>
                <a:lnTo>
                  <a:pt x="652" y="667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276800" y="3360600"/>
            <a:ext cx="758880" cy="3204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442120" y="290664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448160" y="2602080"/>
            <a:ext cx="961920" cy="144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091200" y="2602080"/>
            <a:ext cx="690480" cy="144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5915160" y="286848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318440" y="299232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238880" y="184464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8305920" y="192096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267080" y="164448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791320" y="306864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477120" y="306864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934320" y="846000"/>
            <a:ext cx="24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8000"/>
                </a:solidFill>
                <a:latin typeface="Garamond"/>
              </a:rPr>
              <a:t>Duración Espera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8000"/>
                </a:solidFill>
                <a:latin typeface="Garamond"/>
              </a:rPr>
              <a:t>15.5 m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95360" y="8254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27080" y="127080"/>
            <a:ext cx="8217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s 3 &amp; 4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1"/>
          <a:stretch/>
        </p:blipFill>
        <p:spPr>
          <a:xfrm>
            <a:off x="330120" y="2933640"/>
            <a:ext cx="2774880" cy="3581640"/>
          </a:xfrm>
          <a:prstGeom prst="rect">
            <a:avLst/>
          </a:prstGeom>
          <a:ln w="0">
            <a:noFill/>
          </a:ln>
        </p:spPr>
      </p:pic>
      <p:sp>
        <p:nvSpPr>
          <p:cNvPr id="1410" name=""/>
          <p:cNvSpPr/>
          <p:nvPr/>
        </p:nvSpPr>
        <p:spPr>
          <a:xfrm>
            <a:off x="3588120" y="3794040"/>
            <a:ext cx="530460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Duración Esperada del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=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A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B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D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G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H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L 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= 1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Varianza del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P 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=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A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B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D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G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H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         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= 2.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Desviación Estándar del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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65240" y="216000"/>
            <a:ext cx="745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 5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04920" y="1143000"/>
            <a:ext cx="845820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uál es la 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Probabilidad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que el proyecto sea completado en menos de 14 me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- Cuál es la 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Probabilidad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que el proyecto sea completado entre 13 y 16 me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80880" y="2895480"/>
            <a:ext cx="845820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Supuesto: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a duración del proyecto tiene una duración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edia = 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T</a:t>
            </a:r>
            <a:r>
              <a:rPr b="0" lang="es-CL" sz="24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&amp;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Varianza = </a:t>
            </a:r>
            <a:r>
              <a:rPr b="0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4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762120" y="4295880"/>
            <a:ext cx="8355960" cy="2457360"/>
            <a:chOff x="762120" y="4295880"/>
            <a:chExt cx="8355960" cy="2457360"/>
          </a:xfrm>
        </p:grpSpPr>
        <p:grpSp>
          <p:nvGrpSpPr>
            <p:cNvPr id="1416" name=""/>
            <p:cNvGrpSpPr/>
            <p:nvPr/>
          </p:nvGrpSpPr>
          <p:grpSpPr>
            <a:xfrm>
              <a:off x="990720" y="4419720"/>
              <a:ext cx="6247440" cy="1744560"/>
              <a:chOff x="990720" y="4419720"/>
              <a:chExt cx="6247440" cy="1744560"/>
            </a:xfrm>
          </p:grpSpPr>
          <p:sp>
            <p:nvSpPr>
              <p:cNvPr id="1417" name=""/>
              <p:cNvSpPr/>
              <p:nvPr/>
            </p:nvSpPr>
            <p:spPr>
              <a:xfrm>
                <a:off x="990720" y="4419720"/>
                <a:ext cx="3124080" cy="1744560"/>
              </a:xfrm>
              <a:custGeom>
                <a:avLst/>
                <a:gdLst/>
                <a:ahLst/>
                <a:rect l="l" t="t" r="r" b="b"/>
                <a:pathLst>
                  <a:path w="2256" h="2352">
                    <a:moveTo>
                      <a:pt x="0" y="2352"/>
                    </a:moveTo>
                    <a:cubicBezTo>
                      <a:pt x="140" y="2348"/>
                      <a:pt x="280" y="2344"/>
                      <a:pt x="432" y="2304"/>
                    </a:cubicBezTo>
                    <a:cubicBezTo>
                      <a:pt x="584" y="2264"/>
                      <a:pt x="768" y="2248"/>
                      <a:pt x="912" y="2112"/>
                    </a:cubicBezTo>
                    <a:cubicBezTo>
                      <a:pt x="1056" y="1976"/>
                      <a:pt x="1176" y="1728"/>
                      <a:pt x="1296" y="1488"/>
                    </a:cubicBezTo>
                    <a:cubicBezTo>
                      <a:pt x="1416" y="1248"/>
                      <a:pt x="1544" y="872"/>
                      <a:pt x="1632" y="672"/>
                    </a:cubicBezTo>
                    <a:cubicBezTo>
                      <a:pt x="1720" y="472"/>
                      <a:pt x="1760" y="392"/>
                      <a:pt x="1824" y="288"/>
                    </a:cubicBezTo>
                    <a:cubicBezTo>
                      <a:pt x="1888" y="184"/>
                      <a:pt x="1944" y="96"/>
                      <a:pt x="2016" y="48"/>
                    </a:cubicBezTo>
                    <a:cubicBezTo>
                      <a:pt x="2088" y="0"/>
                      <a:pt x="2172" y="0"/>
                      <a:pt x="2256" y="0"/>
                    </a:cubicBezTo>
                  </a:path>
                </a:pathLst>
              </a:custGeom>
              <a:noFill/>
              <a:ln w="3816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4114080" y="4419720"/>
                <a:ext cx="3123720" cy="1744560"/>
              </a:xfrm>
              <a:custGeom>
                <a:avLst/>
                <a:gdLst/>
                <a:ahLst/>
                <a:rect l="l" t="t" r="r" b="b"/>
                <a:pathLst>
                  <a:path w="2256" h="2352">
                    <a:moveTo>
                      <a:pt x="0" y="2352"/>
                    </a:moveTo>
                    <a:cubicBezTo>
                      <a:pt x="140" y="2348"/>
                      <a:pt x="280" y="2344"/>
                      <a:pt x="432" y="2304"/>
                    </a:cubicBezTo>
                    <a:cubicBezTo>
                      <a:pt x="584" y="2264"/>
                      <a:pt x="768" y="2248"/>
                      <a:pt x="912" y="2112"/>
                    </a:cubicBezTo>
                    <a:cubicBezTo>
                      <a:pt x="1056" y="1976"/>
                      <a:pt x="1176" y="1728"/>
                      <a:pt x="1296" y="1488"/>
                    </a:cubicBezTo>
                    <a:cubicBezTo>
                      <a:pt x="1416" y="1248"/>
                      <a:pt x="1544" y="872"/>
                      <a:pt x="1632" y="672"/>
                    </a:cubicBezTo>
                    <a:cubicBezTo>
                      <a:pt x="1720" y="472"/>
                      <a:pt x="1760" y="392"/>
                      <a:pt x="1824" y="288"/>
                    </a:cubicBezTo>
                    <a:cubicBezTo>
                      <a:pt x="1888" y="184"/>
                      <a:pt x="1944" y="96"/>
                      <a:pt x="2016" y="48"/>
                    </a:cubicBezTo>
                    <a:cubicBezTo>
                      <a:pt x="2088" y="0"/>
                      <a:pt x="2172" y="0"/>
                      <a:pt x="2256" y="0"/>
                    </a:cubicBezTo>
                  </a:path>
                </a:pathLst>
              </a:custGeom>
              <a:noFill/>
              <a:ln w="3816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9" name=""/>
            <p:cNvSpPr/>
            <p:nvPr/>
          </p:nvSpPr>
          <p:spPr>
            <a:xfrm>
              <a:off x="5002200" y="4511520"/>
              <a:ext cx="636480" cy="390600"/>
            </a:xfrm>
            <a:custGeom>
              <a:avLst/>
              <a:gdLst/>
              <a:ahLst/>
              <a:rect l="l" t="t" r="r" b="b"/>
              <a:pathLst>
                <a:path w="768" h="528">
                  <a:moveTo>
                    <a:pt x="768" y="0"/>
                  </a:moveTo>
                  <a:cubicBezTo>
                    <a:pt x="568" y="40"/>
                    <a:pt x="368" y="80"/>
                    <a:pt x="336" y="144"/>
                  </a:cubicBezTo>
                  <a:cubicBezTo>
                    <a:pt x="304" y="208"/>
                    <a:pt x="632" y="320"/>
                    <a:pt x="576" y="384"/>
                  </a:cubicBezTo>
                  <a:cubicBezTo>
                    <a:pt x="520" y="448"/>
                    <a:pt x="260" y="488"/>
                    <a:pt x="0" y="528"/>
                  </a:cubicBezTo>
                </a:path>
              </a:pathLst>
            </a:custGeom>
            <a:noFill/>
            <a:ln w="9360">
              <a:solidFill>
                <a:srgbClr val="99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419800" y="4295880"/>
              <a:ext cx="143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990033"/>
                  </a:solidFill>
                  <a:latin typeface="Garamond"/>
                </a:rPr>
                <a:t>Distribu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990033"/>
                  </a:solidFill>
                  <a:latin typeface="Garamond"/>
                </a:rPr>
                <a:t>Norm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213680" y="5867280"/>
              <a:ext cx="190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Duración Proy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919680" y="6173640"/>
              <a:ext cx="523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Garamond"/>
                </a:rPr>
                <a:t>T</a:t>
              </a:r>
              <a:r>
                <a:rPr b="0" lang="en-US" sz="2800" spc="-1" strike="noStrike" baseline="-25000">
                  <a:solidFill>
                    <a:srgbClr val="3333cc"/>
                  </a:solidFill>
                  <a:latin typeface="Garamond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089240" y="4421160"/>
              <a:ext cx="25560" cy="1827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971800" y="52578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821760" y="5043600"/>
              <a:ext cx="56016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Garamond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62120" y="6248520"/>
              <a:ext cx="739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762120" y="2232000"/>
            <a:ext cx="2819160" cy="1666800"/>
          </a:xfrm>
          <a:custGeom>
            <a:avLst/>
            <a:gdLst/>
            <a:ahLst/>
            <a:rect l="l" t="t" r="r" b="b"/>
            <a:pathLst>
              <a:path w="1776" h="1050">
                <a:moveTo>
                  <a:pt x="1774" y="1050"/>
                </a:moveTo>
                <a:lnTo>
                  <a:pt x="1776" y="0"/>
                </a:lnTo>
                <a:lnTo>
                  <a:pt x="1632" y="130"/>
                </a:lnTo>
                <a:lnTo>
                  <a:pt x="1488" y="322"/>
                </a:lnTo>
                <a:lnTo>
                  <a:pt x="1344" y="514"/>
                </a:lnTo>
                <a:lnTo>
                  <a:pt x="1170" y="712"/>
                </a:lnTo>
                <a:lnTo>
                  <a:pt x="972" y="880"/>
                </a:lnTo>
                <a:lnTo>
                  <a:pt x="718" y="952"/>
                </a:lnTo>
                <a:lnTo>
                  <a:pt x="336" y="994"/>
                </a:lnTo>
                <a:lnTo>
                  <a:pt x="144" y="994"/>
                </a:lnTo>
                <a:lnTo>
                  <a:pt x="48" y="994"/>
                </a:lnTo>
                <a:lnTo>
                  <a:pt x="0" y="994"/>
                </a:lnTo>
                <a:lnTo>
                  <a:pt x="0" y="1050"/>
                </a:lnTo>
                <a:lnTo>
                  <a:pt x="1774" y="105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1128600" y="4611600"/>
                <a:ext cx="674532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9" name=""/>
          <p:cNvSpPr/>
          <p:nvPr/>
        </p:nvSpPr>
        <p:spPr>
          <a:xfrm>
            <a:off x="838080" y="5791320"/>
            <a:ext cx="7239240" cy="703800"/>
          </a:xfrm>
          <a:prstGeom prst="rect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ob(Dur ≤ 14) =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NORMDIST(14,15.5,1.54,TRUE)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= 16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33520" y="1158840"/>
            <a:ext cx="808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uál es la 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Probabilidad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que el proyecto sea completado en menos de 14 mes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990720" y="2070000"/>
            <a:ext cx="6247440" cy="1744920"/>
            <a:chOff x="990720" y="2070000"/>
            <a:chExt cx="6247440" cy="1744920"/>
          </a:xfrm>
        </p:grpSpPr>
        <p:sp>
          <p:nvSpPr>
            <p:cNvPr id="1433" name=""/>
            <p:cNvSpPr/>
            <p:nvPr/>
          </p:nvSpPr>
          <p:spPr>
            <a:xfrm>
              <a:off x="990720" y="2070000"/>
              <a:ext cx="3124080" cy="1744920"/>
            </a:xfrm>
            <a:custGeom>
              <a:avLst/>
              <a:gdLst/>
              <a:ahLst/>
              <a:rect l="l" t="t" r="r" b="b"/>
              <a:pathLst>
                <a:path w="2256" h="2352">
                  <a:moveTo>
                    <a:pt x="0" y="2352"/>
                  </a:moveTo>
                  <a:cubicBezTo>
                    <a:pt x="140" y="2348"/>
                    <a:pt x="280" y="2344"/>
                    <a:pt x="432" y="2304"/>
                  </a:cubicBezTo>
                  <a:cubicBezTo>
                    <a:pt x="584" y="2264"/>
                    <a:pt x="768" y="2248"/>
                    <a:pt x="912" y="2112"/>
                  </a:cubicBezTo>
                  <a:cubicBezTo>
                    <a:pt x="1056" y="1976"/>
                    <a:pt x="1176" y="1728"/>
                    <a:pt x="1296" y="1488"/>
                  </a:cubicBezTo>
                  <a:cubicBezTo>
                    <a:pt x="1416" y="1248"/>
                    <a:pt x="1544" y="872"/>
                    <a:pt x="1632" y="672"/>
                  </a:cubicBezTo>
                  <a:cubicBezTo>
                    <a:pt x="1720" y="472"/>
                    <a:pt x="1760" y="392"/>
                    <a:pt x="1824" y="288"/>
                  </a:cubicBezTo>
                  <a:cubicBezTo>
                    <a:pt x="1888" y="184"/>
                    <a:pt x="1944" y="96"/>
                    <a:pt x="2016" y="48"/>
                  </a:cubicBezTo>
                  <a:cubicBezTo>
                    <a:pt x="2088" y="0"/>
                    <a:pt x="2172" y="0"/>
                    <a:pt x="2256" y="0"/>
                  </a:cubicBezTo>
                </a:path>
              </a:pathLst>
            </a:custGeom>
            <a:noFill/>
            <a:ln w="3816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114080" y="2070000"/>
              <a:ext cx="3123720" cy="1744920"/>
            </a:xfrm>
            <a:custGeom>
              <a:avLst/>
              <a:gdLst/>
              <a:ahLst/>
              <a:rect l="l" t="t" r="r" b="b"/>
              <a:pathLst>
                <a:path w="2256" h="2352">
                  <a:moveTo>
                    <a:pt x="0" y="2352"/>
                  </a:moveTo>
                  <a:cubicBezTo>
                    <a:pt x="140" y="2348"/>
                    <a:pt x="280" y="2344"/>
                    <a:pt x="432" y="2304"/>
                  </a:cubicBezTo>
                  <a:cubicBezTo>
                    <a:pt x="584" y="2264"/>
                    <a:pt x="768" y="2248"/>
                    <a:pt x="912" y="2112"/>
                  </a:cubicBezTo>
                  <a:cubicBezTo>
                    <a:pt x="1056" y="1976"/>
                    <a:pt x="1176" y="1728"/>
                    <a:pt x="1296" y="1488"/>
                  </a:cubicBezTo>
                  <a:cubicBezTo>
                    <a:pt x="1416" y="1248"/>
                    <a:pt x="1544" y="872"/>
                    <a:pt x="1632" y="672"/>
                  </a:cubicBezTo>
                  <a:cubicBezTo>
                    <a:pt x="1720" y="472"/>
                    <a:pt x="1760" y="392"/>
                    <a:pt x="1824" y="288"/>
                  </a:cubicBezTo>
                  <a:cubicBezTo>
                    <a:pt x="1888" y="184"/>
                    <a:pt x="1944" y="96"/>
                    <a:pt x="2016" y="48"/>
                  </a:cubicBezTo>
                  <a:cubicBezTo>
                    <a:pt x="2088" y="0"/>
                    <a:pt x="2172" y="0"/>
                    <a:pt x="2256" y="0"/>
                  </a:cubicBezTo>
                </a:path>
              </a:pathLst>
            </a:custGeom>
            <a:noFill/>
            <a:ln w="3816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" name=""/>
          <p:cNvSpPr/>
          <p:nvPr/>
        </p:nvSpPr>
        <p:spPr>
          <a:xfrm>
            <a:off x="5002200" y="2162160"/>
            <a:ext cx="636480" cy="390600"/>
          </a:xfrm>
          <a:custGeom>
            <a:avLst/>
            <a:gdLst/>
            <a:ahLst/>
            <a:rect l="l" t="t" r="r" b="b"/>
            <a:pathLst>
              <a:path w="768" h="528">
                <a:moveTo>
                  <a:pt x="768" y="0"/>
                </a:moveTo>
                <a:cubicBezTo>
                  <a:pt x="568" y="40"/>
                  <a:pt x="368" y="80"/>
                  <a:pt x="336" y="144"/>
                </a:cubicBezTo>
                <a:cubicBezTo>
                  <a:pt x="304" y="208"/>
                  <a:pt x="632" y="320"/>
                  <a:pt x="576" y="384"/>
                </a:cubicBezTo>
                <a:cubicBezTo>
                  <a:pt x="520" y="448"/>
                  <a:pt x="260" y="488"/>
                  <a:pt x="0" y="528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476320" y="1924200"/>
            <a:ext cx="159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Distribu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042680" y="35290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Duración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0440" y="3871800"/>
            <a:ext cx="123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=1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089240" y="2071800"/>
            <a:ext cx="25560" cy="18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909840" y="2297160"/>
            <a:ext cx="1230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=1.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62120" y="38988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3581280" y="22093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314160" y="3873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65240" y="216000"/>
            <a:ext cx="745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 5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8160"/>
            <a:ext cx="91440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Ejemplo: Desarrollo de Nuevos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33520" y="1066680"/>
            <a:ext cx="8172000" cy="2557800"/>
            <a:chOff x="533520" y="1066680"/>
            <a:chExt cx="8172000" cy="2557800"/>
          </a:xfrm>
        </p:grpSpPr>
        <p:sp>
          <p:nvSpPr>
            <p:cNvPr id="63" name=""/>
            <p:cNvSpPr/>
            <p:nvPr/>
          </p:nvSpPr>
          <p:spPr>
            <a:xfrm>
              <a:off x="533520" y="1219320"/>
              <a:ext cx="2361960" cy="457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ccff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Georgia"/>
                </a:rPr>
                <a:t>Product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2286000" cy="457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ccff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Georgia"/>
                </a:rPr>
                <a:t>Process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81480" y="2286000"/>
              <a:ext cx="3200400" cy="457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ccff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Georgia"/>
                </a:rPr>
                <a:t>Prototype &amp; Start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10080" y="1066680"/>
              <a:ext cx="2571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aramond"/>
                </a:rPr>
                <a:t>Engineering Chang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838080" y="2971440"/>
              <a:ext cx="7867440" cy="653040"/>
              <a:chOff x="838080" y="2971440"/>
              <a:chExt cx="7867440" cy="653040"/>
            </a:xfrm>
          </p:grpSpPr>
          <p:sp>
            <p:nvSpPr>
              <p:cNvPr id="68" name=""/>
              <p:cNvSpPr/>
              <p:nvPr/>
            </p:nvSpPr>
            <p:spPr>
              <a:xfrm>
                <a:off x="856800" y="3238560"/>
                <a:ext cx="7848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838080" y="299052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8686440" y="3009600"/>
                <a:ext cx="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752640" y="3257640"/>
                <a:ext cx="1981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ONTH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125712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171432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224748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278100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337140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394308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60068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459072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514332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579096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643860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701028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815328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533520" y="4133880"/>
            <a:ext cx="8172360" cy="2405160"/>
            <a:chOff x="533520" y="4133880"/>
            <a:chExt cx="8172360" cy="2405160"/>
          </a:xfrm>
        </p:grpSpPr>
        <p:sp>
          <p:nvSpPr>
            <p:cNvPr id="86" name=""/>
            <p:cNvSpPr/>
            <p:nvPr/>
          </p:nvSpPr>
          <p:spPr>
            <a:xfrm>
              <a:off x="533520" y="4133880"/>
              <a:ext cx="2362320" cy="457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ccff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Georgia"/>
                </a:rPr>
                <a:t>Product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19320" y="4667400"/>
              <a:ext cx="2286000" cy="457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ccff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Georgia"/>
                </a:rPr>
                <a:t>Process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62320" y="5191200"/>
              <a:ext cx="3200400" cy="457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ccff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Georgia"/>
                </a:rPr>
                <a:t>Prototype &amp; Start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43600" y="4191120"/>
              <a:ext cx="2571840" cy="15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Garamond"/>
                </a:rPr>
                <a:t>Concurrent Engineer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838440" y="5886000"/>
              <a:ext cx="7867440" cy="653040"/>
              <a:chOff x="838440" y="5886000"/>
              <a:chExt cx="7867440" cy="653040"/>
            </a:xfrm>
          </p:grpSpPr>
          <p:sp>
            <p:nvSpPr>
              <p:cNvPr id="91" name=""/>
              <p:cNvSpPr/>
              <p:nvPr/>
            </p:nvSpPr>
            <p:spPr>
              <a:xfrm>
                <a:off x="857160" y="6153120"/>
                <a:ext cx="7848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838440" y="590508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8686800" y="5924160"/>
                <a:ext cx="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53000" y="6172200"/>
                <a:ext cx="1981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ONTH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125748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171468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224784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278136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337176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394344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760104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459108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514368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579132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643896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701064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815364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3193920" y="2070000"/>
            <a:ext cx="1301760" cy="1825560"/>
          </a:xfrm>
          <a:custGeom>
            <a:avLst/>
            <a:gdLst/>
            <a:ahLst/>
            <a:rect l="l" t="t" r="r" b="b"/>
            <a:pathLst>
              <a:path w="820" h="1150">
                <a:moveTo>
                  <a:pt x="0" y="1150"/>
                </a:moveTo>
                <a:lnTo>
                  <a:pt x="4" y="376"/>
                </a:lnTo>
                <a:lnTo>
                  <a:pt x="106" y="230"/>
                </a:lnTo>
                <a:lnTo>
                  <a:pt x="196" y="136"/>
                </a:lnTo>
                <a:lnTo>
                  <a:pt x="340" y="40"/>
                </a:lnTo>
                <a:lnTo>
                  <a:pt x="434" y="2"/>
                </a:lnTo>
                <a:lnTo>
                  <a:pt x="578" y="0"/>
                </a:lnTo>
                <a:lnTo>
                  <a:pt x="720" y="2"/>
                </a:lnTo>
                <a:lnTo>
                  <a:pt x="820" y="40"/>
                </a:lnTo>
                <a:lnTo>
                  <a:pt x="820" y="1150"/>
                </a:lnTo>
                <a:lnTo>
                  <a:pt x="0" y="115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62120" y="4876920"/>
            <a:ext cx="7924680" cy="1008720"/>
          </a:xfrm>
          <a:prstGeom prst="rect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rob(13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≤ </a:t>
            </a: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Duración Proyecto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≤ 16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NORMDIST(</a:t>
            </a:r>
            <a:r>
              <a:rPr b="1" lang="en-US" sz="2000" spc="-1" strike="noStrike">
                <a:solidFill>
                  <a:srgbClr val="800000"/>
                </a:solidFill>
                <a:latin typeface="Palatino Linotype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,15.5,1.54,TRUE)  - NORMDIST(</a:t>
            </a:r>
            <a:r>
              <a:rPr b="1" lang="en-US" sz="2000" spc="-1" strike="noStrike">
                <a:solidFill>
                  <a:srgbClr val="800000"/>
                </a:solidFill>
                <a:latin typeface="Palatino Linotype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,15.5,1.54,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= 57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33520" y="1158840"/>
            <a:ext cx="808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uál es la 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Probabilidad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que el proyecto sea completado entre 13 y 16 mes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990720" y="2070000"/>
            <a:ext cx="6247440" cy="1744920"/>
            <a:chOff x="990720" y="2070000"/>
            <a:chExt cx="6247440" cy="1744920"/>
          </a:xfrm>
        </p:grpSpPr>
        <p:sp>
          <p:nvSpPr>
            <p:cNvPr id="1450" name=""/>
            <p:cNvSpPr/>
            <p:nvPr/>
          </p:nvSpPr>
          <p:spPr>
            <a:xfrm>
              <a:off x="990720" y="2070000"/>
              <a:ext cx="3124080" cy="1744920"/>
            </a:xfrm>
            <a:custGeom>
              <a:avLst/>
              <a:gdLst/>
              <a:ahLst/>
              <a:rect l="l" t="t" r="r" b="b"/>
              <a:pathLst>
                <a:path w="2256" h="2352">
                  <a:moveTo>
                    <a:pt x="0" y="2352"/>
                  </a:moveTo>
                  <a:cubicBezTo>
                    <a:pt x="140" y="2348"/>
                    <a:pt x="280" y="2344"/>
                    <a:pt x="432" y="2304"/>
                  </a:cubicBezTo>
                  <a:cubicBezTo>
                    <a:pt x="584" y="2264"/>
                    <a:pt x="768" y="2248"/>
                    <a:pt x="912" y="2112"/>
                  </a:cubicBezTo>
                  <a:cubicBezTo>
                    <a:pt x="1056" y="1976"/>
                    <a:pt x="1176" y="1728"/>
                    <a:pt x="1296" y="1488"/>
                  </a:cubicBezTo>
                  <a:cubicBezTo>
                    <a:pt x="1416" y="1248"/>
                    <a:pt x="1544" y="872"/>
                    <a:pt x="1632" y="672"/>
                  </a:cubicBezTo>
                  <a:cubicBezTo>
                    <a:pt x="1720" y="472"/>
                    <a:pt x="1760" y="392"/>
                    <a:pt x="1824" y="288"/>
                  </a:cubicBezTo>
                  <a:cubicBezTo>
                    <a:pt x="1888" y="184"/>
                    <a:pt x="1944" y="96"/>
                    <a:pt x="2016" y="48"/>
                  </a:cubicBezTo>
                  <a:cubicBezTo>
                    <a:pt x="2088" y="0"/>
                    <a:pt x="2172" y="0"/>
                    <a:pt x="2256" y="0"/>
                  </a:cubicBezTo>
                </a:path>
              </a:pathLst>
            </a:custGeom>
            <a:noFill/>
            <a:ln w="3816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4114080" y="2070000"/>
              <a:ext cx="3123720" cy="1744920"/>
            </a:xfrm>
            <a:custGeom>
              <a:avLst/>
              <a:gdLst/>
              <a:ahLst/>
              <a:rect l="l" t="t" r="r" b="b"/>
              <a:pathLst>
                <a:path w="2256" h="2352">
                  <a:moveTo>
                    <a:pt x="0" y="2352"/>
                  </a:moveTo>
                  <a:cubicBezTo>
                    <a:pt x="140" y="2348"/>
                    <a:pt x="280" y="2344"/>
                    <a:pt x="432" y="2304"/>
                  </a:cubicBezTo>
                  <a:cubicBezTo>
                    <a:pt x="584" y="2264"/>
                    <a:pt x="768" y="2248"/>
                    <a:pt x="912" y="2112"/>
                  </a:cubicBezTo>
                  <a:cubicBezTo>
                    <a:pt x="1056" y="1976"/>
                    <a:pt x="1176" y="1728"/>
                    <a:pt x="1296" y="1488"/>
                  </a:cubicBezTo>
                  <a:cubicBezTo>
                    <a:pt x="1416" y="1248"/>
                    <a:pt x="1544" y="872"/>
                    <a:pt x="1632" y="672"/>
                  </a:cubicBezTo>
                  <a:cubicBezTo>
                    <a:pt x="1720" y="472"/>
                    <a:pt x="1760" y="392"/>
                    <a:pt x="1824" y="288"/>
                  </a:cubicBezTo>
                  <a:cubicBezTo>
                    <a:pt x="1888" y="184"/>
                    <a:pt x="1944" y="96"/>
                    <a:pt x="2016" y="48"/>
                  </a:cubicBezTo>
                  <a:cubicBezTo>
                    <a:pt x="2088" y="0"/>
                    <a:pt x="2172" y="0"/>
                    <a:pt x="2256" y="0"/>
                  </a:cubicBezTo>
                </a:path>
              </a:pathLst>
            </a:custGeom>
            <a:noFill/>
            <a:ln w="3816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2" name=""/>
          <p:cNvSpPr/>
          <p:nvPr/>
        </p:nvSpPr>
        <p:spPr>
          <a:xfrm>
            <a:off x="5002200" y="2162160"/>
            <a:ext cx="636480" cy="390600"/>
          </a:xfrm>
          <a:custGeom>
            <a:avLst/>
            <a:gdLst/>
            <a:ahLst/>
            <a:rect l="l" t="t" r="r" b="b"/>
            <a:pathLst>
              <a:path w="768" h="528">
                <a:moveTo>
                  <a:pt x="768" y="0"/>
                </a:moveTo>
                <a:cubicBezTo>
                  <a:pt x="568" y="40"/>
                  <a:pt x="368" y="80"/>
                  <a:pt x="336" y="144"/>
                </a:cubicBezTo>
                <a:cubicBezTo>
                  <a:pt x="304" y="208"/>
                  <a:pt x="632" y="320"/>
                  <a:pt x="576" y="384"/>
                </a:cubicBezTo>
                <a:cubicBezTo>
                  <a:pt x="520" y="448"/>
                  <a:pt x="260" y="488"/>
                  <a:pt x="0" y="528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5452560" y="194616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Garamond"/>
              </a:rPr>
              <a:t>Norm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Garamond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042680" y="35290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Duración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910680" y="3871800"/>
            <a:ext cx="47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089240" y="2071800"/>
            <a:ext cx="25560" cy="18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909840" y="2297160"/>
            <a:ext cx="1230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=1.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762120" y="38988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3200400" y="26665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945880" y="38862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92800" y="2124000"/>
            <a:ext cx="6120" cy="1762200"/>
          </a:xfrm>
          <a:custGeom>
            <a:avLst/>
            <a:gdLst/>
            <a:ahLst/>
            <a:rect l="l" t="t" r="r" b="b"/>
            <a:pathLst>
              <a:path w="4" h="1110">
                <a:moveTo>
                  <a:pt x="4" y="111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228560" y="38862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65240" y="216000"/>
            <a:ext cx="745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 5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04920" y="1143000"/>
            <a:ext cx="8686800" cy="39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uponga que una cadena retail importante esta interesada en comp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u prototipo de la bicicleta Mountain Bike. El precio al que u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uede vender el proyecto depende de la fecha de entrega como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a siguiente tabla. En caso de retrasos usted deberá pagara una mult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$300 por mes de retraso. Los costos de ejecución del proyecto so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$26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983120" y="3809880"/>
            <a:ext cx="37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uál es la fecha de entrega óptima que usted debe ofre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7" name="" descr=""/>
          <p:cNvPicPr/>
          <p:nvPr/>
        </p:nvPicPr>
        <p:blipFill>
          <a:blip r:embed="rId1"/>
          <a:stretch/>
        </p:blipFill>
        <p:spPr>
          <a:xfrm>
            <a:off x="2349360" y="3209760"/>
            <a:ext cx="2525760" cy="3013200"/>
          </a:xfrm>
          <a:prstGeom prst="rect">
            <a:avLst/>
          </a:prstGeom>
          <a:ln w="0">
            <a:noFill/>
          </a:ln>
        </p:spPr>
      </p:pic>
      <p:sp>
        <p:nvSpPr>
          <p:cNvPr id="1468" name=""/>
          <p:cNvSpPr/>
          <p:nvPr/>
        </p:nvSpPr>
        <p:spPr>
          <a:xfrm>
            <a:off x="165240" y="216000"/>
            <a:ext cx="745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 5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" descr=""/>
          <p:cNvPicPr/>
          <p:nvPr/>
        </p:nvPicPr>
        <p:blipFill>
          <a:blip r:embed="rId1"/>
          <a:stretch/>
        </p:blipFill>
        <p:spPr>
          <a:xfrm>
            <a:off x="1463760" y="2971800"/>
            <a:ext cx="2422440" cy="3581280"/>
          </a:xfrm>
          <a:prstGeom prst="rect">
            <a:avLst/>
          </a:prstGeom>
          <a:ln w="0">
            <a:noFill/>
          </a:ln>
        </p:spPr>
      </p:pic>
      <p:sp>
        <p:nvSpPr>
          <p:cNvPr id="1470" name=""/>
          <p:cNvSpPr/>
          <p:nvPr/>
        </p:nvSpPr>
        <p:spPr>
          <a:xfrm>
            <a:off x="228600" y="698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-614520" y="762120"/>
            <a:ext cx="105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uponga que usted ofrece  el proyecto en 16 mese a un precio de $38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uál es la </a:t>
            </a:r>
            <a:r>
              <a:rPr b="0" i="1" lang="es-CL" sz="2400" spc="-1" strike="noStrike">
                <a:solidFill>
                  <a:srgbClr val="800000"/>
                </a:solidFill>
                <a:latin typeface="Garamond"/>
              </a:rPr>
              <a:t>Penalidad Esperada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por retrasar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380880" y="1600200"/>
            <a:ext cx="8686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0000"/>
                </a:solidFill>
                <a:latin typeface="Palatino Linotype"/>
              </a:rPr>
              <a:t>Penalidad Esperada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  <a:ea typeface="Arial"/>
              </a:rPr>
              <a:t>300×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20.8%+600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  <a:ea typeface="Arial"/>
              </a:rPr>
              <a:t>×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1.3%+900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  <a:ea typeface="Arial"/>
              </a:rPr>
              <a:t>×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4.1%+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  <a:ea typeface="Arial"/>
              </a:rPr>
              <a:t>1200×1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%+1500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  <a:ea typeface="Arial"/>
              </a:rPr>
              <a:t>×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0.2% = $180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0000"/>
                </a:solidFill>
                <a:latin typeface="Palatino Linotype"/>
              </a:rPr>
              <a:t>Margen Neto =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$3800 - $2620 - $180.71 = $99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790640" y="4140360"/>
            <a:ext cx="533520" cy="380880"/>
          </a:xfrm>
          <a:prstGeom prst="ellipse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4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3733560" cy="3286080"/>
          </a:xfrm>
          <a:prstGeom prst="rect">
            <a:avLst/>
          </a:prstGeom>
          <a:ln w="0">
            <a:noFill/>
          </a:ln>
        </p:spPr>
      </p:pic>
      <p:sp>
        <p:nvSpPr>
          <p:cNvPr id="1475" name=""/>
          <p:cNvSpPr/>
          <p:nvPr/>
        </p:nvSpPr>
        <p:spPr>
          <a:xfrm>
            <a:off x="6794640" y="4152960"/>
            <a:ext cx="914400" cy="380880"/>
          </a:xfrm>
          <a:prstGeom prst="ellipse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0" y="76320"/>
            <a:ext cx="745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 5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2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"/>
          <p:cNvSpPr/>
          <p:nvPr/>
        </p:nvSpPr>
        <p:spPr>
          <a:xfrm>
            <a:off x="304920" y="216000"/>
            <a:ext cx="8762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Supuestos y Limitaciones de PE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85800" y="1193760"/>
            <a:ext cx="8153280" cy="59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Actividades tiene una distribución Be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Duración de la actividades son independien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Hay un único camino crít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El Camino Crítico tiene una duración que es significativamente mas larga que cualquier otro camino del proyec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La duración del proyecto tiene una distribución Norm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Usar simulación si estos supuestos no se satisfac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0796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"/>
          <p:cNvSpPr/>
          <p:nvPr/>
        </p:nvSpPr>
        <p:spPr>
          <a:xfrm>
            <a:off x="304920" y="228600"/>
            <a:ext cx="2819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0796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57200" y="1206360"/>
            <a:ext cx="8247240" cy="62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Critical Path Method (C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o hay incertidu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etermina la Duración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aminos Críticos, Actividades Criticas y Holgu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étodo simple (algoritmo “goloso”) para definir la frontera eficiente Tiempo/C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gram Evaluation and Review Technique (</a:t>
            </a: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PE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Incertidumbre en la duración de las activ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Basado en muchos supuestos y aproxim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ima la duración media y varianza de la duración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sume la duración del proyecto está Normalmente distribu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Simulación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étodo muy preciso y flexible para manejar incertidu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uy útil en la prác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1308240"/>
            <a:ext cx="4800600" cy="3600360"/>
          </a:xfrm>
          <a:prstGeom prst="rect">
            <a:avLst/>
          </a:prstGeom>
          <a:ln w="9360">
            <a:solidFill>
              <a:srgbClr val="99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9" name=""/>
          <p:cNvSpPr/>
          <p:nvPr/>
        </p:nvSpPr>
        <p:spPr>
          <a:xfrm>
            <a:off x="1066680" y="5318280"/>
            <a:ext cx="762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rash of super-luxury vehicles launched recently - including the Rolls, the Maybach and Volkswagen's new Bentley - were all planned at the peak of the dotcom boom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b Lutz, GM Vice-Chairm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20480" y="838080"/>
            <a:ext cx="61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Palatino Linotype"/>
              </a:rPr>
              <a:t>The 1,000 horsepower Cadillac Sixteen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952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 Motors is unlikely to build the super-luxury Cadillac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7621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152280" y="-152280"/>
            <a:ext cx="91440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Ejemplo: Desarrollo de Nuevos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2240" y="1143000"/>
            <a:ext cx="4608360" cy="541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10160" y="1736640"/>
            <a:ext cx="4343400" cy="46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April 14, 2002: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Tiger Woods wins Augusta wearing a a Nike Golf polo shirt with a collar spoiled by southern humid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April 22, 2002</a:t>
            </a:r>
            <a:r>
              <a:rPr b="0" lang="en-US" sz="1800" spc="-1" strike="noStrike">
                <a:solidFill>
                  <a:srgbClr val="990033"/>
                </a:solidFill>
                <a:latin typeface="Garamond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S.I. cover 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Next day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Nike calls Esquel Apparel (Hong Kong) to design a polo-shirt to withstand wea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Immediately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Esquel’s research begins developing the new fabr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By May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the Gaoming factory is shipping prototypes to Flor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44640" y="120960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Times New Roman"/>
              </a:rPr>
              <a:t>Sequence of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77320" y="6324480"/>
            <a:ext cx="220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Full story: W.S.J. 3/26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228600" y="38160"/>
            <a:ext cx="91440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Ejemplo: Desarrollo de Nuevos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84280" y="139680"/>
            <a:ext cx="855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jemplos: Microsoft &amp; F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86080"/>
            <a:ext cx="8458200" cy="43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Microsoft Windows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ientos de Program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illones de Líneas de Cód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illones de Dólares en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Rediseño del Ford Musta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450 personas en el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sto US$ 700 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25% mas rápido y 30% mas barato que otros proyectos de similares características en  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2360" y="110808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1.  </a:t>
            </a:r>
            <a:r>
              <a:rPr b="1" lang="es-CL" sz="2800" spc="-1" strike="noStrike">
                <a:solidFill>
                  <a:srgbClr val="990033"/>
                </a:solidFill>
                <a:latin typeface="Times New Roman"/>
              </a:rPr>
              <a:t>Antes que el Proyecto Com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758960"/>
            <a:ext cx="846756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Plan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finir objetivos, definición del proyecto y equipo de trabaj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escomposición en actividad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Grafo de precedencia y estimación de costos y du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Programación (Schedul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elacionar gente, dinero, y recursos a actividades especificas y entre 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CPM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Tiempo versus Costos (“Estimaciones Perfectas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ctividades Cri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Frontera Eficiente: Tiempo versus Costos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PERT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(tomar en cuenta la incertidumb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Gestión de Ries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760" y="139680"/>
            <a:ext cx="855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ctividades de Gestión en un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14:41:27Z</dcterms:created>
  <dc:creator>Rene Caldentey</dc:creator>
  <dc:description/>
  <dc:language>en-US</dc:language>
  <cp:lastModifiedBy>Rene Caldentey</cp:lastModifiedBy>
  <dcterms:modified xsi:type="dcterms:W3CDTF">2008-04-24T03:22:24Z</dcterms:modified>
  <cp:revision>130</cp:revision>
  <dc:subject/>
  <dc:title>Competitive Advantage from Operations (B01.1234.U2)</dc:title>
</cp:coreProperties>
</file>