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84FDD-6845-4F76-A1EC-8328774685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2999E-500A-4338-9B28-B01DC9D467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9BB19-1A74-4C32-8578-FF0C0ADD3A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CEFC7-86F9-4BD9-A415-8FEBAD85AC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8676B-880E-4802-BB25-E0148653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18CFE-A133-4EA4-987C-1C95D0A5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6A8925-8873-4BBA-BA85-0C10F0DA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89817-B434-4191-AB31-5EED798B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3EAE3-5DAA-43B5-885C-D1DDE0C6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B8F75-48F9-412E-B070-07381125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549DC-5DD2-4A99-A02E-4B6EC0C2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DF358-CD6C-40F2-8B1D-C55A6ABC21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6C04E-56F4-4003-8AAC-7A958122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895BB-612F-4645-B98C-0B6FF91E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4ED64-D731-45AC-A826-9294D624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9B782-2CAE-40B2-86E0-062C6883E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628CA-EE87-4D78-9867-887D89C9C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4B994-D04B-4877-B7FA-AF55851BCA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B324A-E864-42E7-A7EB-85FE036486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4C1BF-B9E5-4FCA-8F5A-EC0CA2062D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74952-5654-4D59-949E-B395D08279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FADA4-A9CC-4FD0-B6BD-022EBAA769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81F4E-22F4-4AE7-923A-3505429AB0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951CF-A55B-40CA-9712-0BD52ED367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74912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307E-245C-4A72-A301-8C32BBFC7A0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4987-AA09-4ACB-9B2A-F7286A1235D4}" type="slidenum"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609480" y="37339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itulo : Selección del Proceso Product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1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2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BF09-94FA-4DC4-837E-C9813E3A151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23840" y="1341360"/>
            <a:ext cx="90201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1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2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93E1-9A20-4435-A3A7-0311F6450EB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964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1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2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6DEE-CBE5-4A99-BCF3-8F5754311DB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85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1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2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C68D-38DC-439F-B0DF-94C497448BE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165240" y="1125360"/>
            <a:ext cx="851040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712F-79D6-4BED-BB7E-DF65AA9F774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A Pedi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elaborados de acuerdo a especificaciones del cliente (fecha, precio, etc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das de efici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mplimiento de plaz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mplimiento de especific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taura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ast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ren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fombras Tejid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D032-E771-4E0C-ADB8-42F43D95F91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Para Inventari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son elaborados para venta por stock contr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das de efici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rvicio (ventas no cumplid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u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V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c Donal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opa en Tie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D51C-ADCE-4F7B-A610-73D56292C90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ede ser convenien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binar pedidos e inventar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osponer el ensamble del producto fi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macenar inventario de producto genér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Caso Benett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0491-7957-4C89-9641-9A24946BF32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ctore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Requerimientos de capital y costos de oper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en línea requiere mayor costo de capital, pero menor costo operaci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Condiciones de merc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olumen alto lleva a un proceso en lín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competencia puede exigir flexi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Disponibilidad, costo y habilidades de la mano de obr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slado de industrias a países en desarrol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ECBA-0510-4738-B1EE-C760CB4B0DF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ctore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Capacidad administrativ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bcontratación de algunos procesos (ejemplo: transport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Disponibilidad y precio de la materia pri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ujo en línea necesita suministro continuo de insum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6.- Estado de la tecnologí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ujo en línea tiene mayor riesgo frente a factores de camb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4DB4-7277-4E7C-A303-EA330F3CCAB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ategia Producto-Proc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ctualmente se busca la producción masiva pero flexible (FMS: Sistemas de Manufactura Flexib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icicletas en Jap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31D9-BE1B-4B3F-9F51-8174F1C9B5F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selección del proceso productivo corresponde a una decisión de nivel estratégic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relaciona fuertemente con el diseño del producto, los volúmenes de producción y las tecnologías utiliza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F021-1948-4C06-9273-5FFFFE399E6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Ver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Hacia Atrás (a la materia prima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ntaj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fiabilidad en el suminist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ta celulos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bosqu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dena de supermercado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amp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ta pesquer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bar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CEC5-8395-4B34-B0BB-7994E632515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Ver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Hacia Adelante (a los mercado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ntaj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rol de merc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acto con el cli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ábrica textil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negocios de vent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operativa de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plant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distribución.                                     productores de leche   =&gt; Col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B308-8178-4A54-A3F9-60EAEB06C47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Ver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tegración Vertical a Nivel Globa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tes se hacen en Estados Unidos, son ensambladas en México y se distribuyen desde Estados Uni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s de la Integr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stos de capital elev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bilidades gerenciales requeri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4DDC-9D5E-47DD-B385-47F985F78F6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Horizo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siste en aprovechar las ventajas comparativas para expandirse a áreas simila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us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estigio en el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ristian Dior: perfume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ropa, joyas y reloj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cnolog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ead: sk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ten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nda de rop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multitienda (Falabell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ultitiend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financie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FF23-6218-4FED-9701-6DEB2E6E45F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Horizo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Ventaj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pertura de nuevos merc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perfilarse hacia negocios en los cuales se tiene baja experi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395280" y="2421000"/>
            <a:ext cx="2016000" cy="93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684360" y="27082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3057480" y="2421000"/>
            <a:ext cx="2016000" cy="93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3059280" y="270828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TERMIT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6299280" y="2421000"/>
            <a:ext cx="2016000" cy="93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6372360" y="27082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LUJO LINE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7"/>
          <p:cNvSpPr/>
          <p:nvPr/>
        </p:nvSpPr>
        <p:spPr>
          <a:xfrm>
            <a:off x="2411280" y="3860640"/>
            <a:ext cx="1297080" cy="936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2484360" y="4149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9"/>
          <p:cNvSpPr/>
          <p:nvPr/>
        </p:nvSpPr>
        <p:spPr>
          <a:xfrm>
            <a:off x="4140360" y="3860640"/>
            <a:ext cx="1368360" cy="936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4427640" y="4149720"/>
            <a:ext cx="12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O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Line 21"/>
          <p:cNvSpPr/>
          <p:nvPr/>
        </p:nvSpPr>
        <p:spPr>
          <a:xfrm flipH="1">
            <a:off x="3203280" y="335772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Line 22"/>
          <p:cNvSpPr/>
          <p:nvPr/>
        </p:nvSpPr>
        <p:spPr>
          <a:xfrm>
            <a:off x="3851280" y="3357720"/>
            <a:ext cx="6494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23"/>
          <p:cNvSpPr/>
          <p:nvPr/>
        </p:nvSpPr>
        <p:spPr>
          <a:xfrm>
            <a:off x="5857920" y="3860640"/>
            <a:ext cx="1297080" cy="9367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24"/>
          <p:cNvSpPr/>
          <p:nvPr/>
        </p:nvSpPr>
        <p:spPr>
          <a:xfrm>
            <a:off x="5867280" y="393372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ÍNEAS DE ENSAM-BLAJ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25"/>
          <p:cNvSpPr/>
          <p:nvPr/>
        </p:nvSpPr>
        <p:spPr>
          <a:xfrm>
            <a:off x="7586640" y="3860640"/>
            <a:ext cx="1368360" cy="9367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7572240" y="4149720"/>
            <a:ext cx="14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NTINU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Line 27"/>
          <p:cNvSpPr/>
          <p:nvPr/>
        </p:nvSpPr>
        <p:spPr>
          <a:xfrm flipH="1">
            <a:off x="6649560" y="335772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Line 28"/>
          <p:cNvSpPr/>
          <p:nvPr/>
        </p:nvSpPr>
        <p:spPr>
          <a:xfrm>
            <a:off x="7297560" y="3357720"/>
            <a:ext cx="6494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755640" y="5589720"/>
            <a:ext cx="8137440" cy="934920"/>
          </a:xfrm>
          <a:prstGeom prst="leftRightArrow">
            <a:avLst>
              <a:gd name="adj1" fmla="val 50000"/>
              <a:gd name="adj2" fmla="val 17327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30"/>
          <p:cNvSpPr/>
          <p:nvPr/>
        </p:nvSpPr>
        <p:spPr>
          <a:xfrm>
            <a:off x="3132000" y="587700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Volúmenes de produc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31"/>
          <p:cNvSpPr/>
          <p:nvPr/>
        </p:nvSpPr>
        <p:spPr>
          <a:xfrm>
            <a:off x="1476360" y="587700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32"/>
          <p:cNvSpPr/>
          <p:nvPr/>
        </p:nvSpPr>
        <p:spPr>
          <a:xfrm>
            <a:off x="1476360" y="58770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Baj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33"/>
          <p:cNvSpPr/>
          <p:nvPr/>
        </p:nvSpPr>
        <p:spPr>
          <a:xfrm>
            <a:off x="7380360" y="5877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l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642960" y="285840"/>
            <a:ext cx="7772400" cy="857160"/>
          </a:xfrm>
          <a:prstGeom prst="rect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Tipos Procesos Productiv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25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68B9-DEC5-4175-BDFA-30543F460E7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27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4997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Tahoma"/>
              </a:rPr>
              <a:t>Proyec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abricación de productos únicos o exclusiv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a o muy pocas unid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ctividades que deben llevarse a  cabo en un lapso de tiempo  y en secu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trol: técnicas de administración y proyectos (PERT – CP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eríodos de fabricación largos y altos cos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jemplo: Construcción casas, bar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483920"/>
            <a:ext cx="44956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Tahoma"/>
              </a:rPr>
              <a:t>Procesos intermite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oca cantidad de productos con mucha varie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tiliza las mismas instalaciones para la producción de distintos produ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quipos y trabajos similares se agrupan en centros de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 producto pasa por distintos centros de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dividen en dos tipos: talleres y lo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642960" y="285840"/>
            <a:ext cx="7772400" cy="857160"/>
          </a:xfrm>
          <a:prstGeom prst="rect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Tipos Procesos Productiv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216D-494C-4093-98BF-439E1162450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6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836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Tahoma"/>
              </a:rPr>
              <a:t>Procesos intermitentes tipo ta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fabrica una cantidad pequeña de un product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racterísticas del producto se ajustan a las exigencias del cli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on procesos muy flexi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 lote de producto puede hacerse una sola vez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8320" y="1557360"/>
            <a:ext cx="44956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Tahoma"/>
              </a:rPr>
              <a:t>Procesos intermitentes por lo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producen lotes de productos una y otra vez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cliente elige entre una amplia variedad de productos, pero no es a medi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or lo general los lotes son más grandes que en los talle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 lote pasa por distintos centros de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539640" y="5013360"/>
            <a:ext cx="838836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c1c1c"/>
                </a:solidFill>
                <a:latin typeface="Tahoma"/>
              </a:rPr>
              <a:t>En ambos casos la programación de la producción es complej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c1c1c"/>
                </a:solidFill>
                <a:latin typeface="Tahoma"/>
              </a:rPr>
              <a:t>Indicados en donde hay poca estandarización y volúmenes de producción  no muy alt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c1c1c"/>
                </a:solidFill>
                <a:latin typeface="Tahoma"/>
              </a:rPr>
              <a:t>Requiere especialización de operari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c1c1c"/>
                </a:solidFill>
                <a:latin typeface="Tahoma"/>
              </a:rPr>
              <a:t>Ejemplos: Garaje, Imprent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42960" y="285840"/>
            <a:ext cx="7772400" cy="857160"/>
          </a:xfrm>
          <a:prstGeom prst="rect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Tipos Procesos Productiv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5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47E5-EACD-41AA-BC67-CD544EC0DA3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7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468360" y="1628640"/>
            <a:ext cx="770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3300"/>
                </a:solidFill>
                <a:latin typeface="Tahoma"/>
              </a:rPr>
              <a:t>Procesos de flujo line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cuencia de operaciones line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abricación de grandes volúme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oco productos diferentes (procesos poco flexi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lto grado de automatización (los empleados sólo tienen que aprender un número reducido de operaciones sencill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Hay dos tipos: líneas de ensamblaje y procesos continu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6" descr="j0336844"/>
          <p:cNvPicPr/>
          <p:nvPr/>
        </p:nvPicPr>
        <p:blipFill>
          <a:blip r:embed="rId1"/>
          <a:stretch/>
        </p:blipFill>
        <p:spPr>
          <a:xfrm>
            <a:off x="1692360" y="4653000"/>
            <a:ext cx="1944720" cy="1876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j0281149"/>
          <p:cNvPicPr/>
          <p:nvPr/>
        </p:nvPicPr>
        <p:blipFill>
          <a:blip r:embed="rId2"/>
          <a:stretch/>
        </p:blipFill>
        <p:spPr>
          <a:xfrm>
            <a:off x="5003640" y="4581360"/>
            <a:ext cx="2267280" cy="176544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2"/>
          <p:cNvSpPr/>
          <p:nvPr/>
        </p:nvSpPr>
        <p:spPr>
          <a:xfrm>
            <a:off x="642960" y="357120"/>
            <a:ext cx="7772400" cy="857160"/>
          </a:xfrm>
          <a:prstGeom prst="rect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Tipos Procesos Productiv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6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8CB7-FC40-4F5E-924A-5B064BACA4C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7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468360" y="1600200"/>
            <a:ext cx="40384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Tahoma"/>
              </a:rPr>
              <a:t>Líneas de ensamblaj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e fabrican productos discreto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Fabricación en ser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on más eficientes que los procesos intermiten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oductos técnicamente homogéne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oca variedad de productos. El cliente participa poc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j.: Juguetes, circuitos impres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4648320" y="1557360"/>
            <a:ext cx="449568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Tahoma"/>
              </a:rPr>
              <a:t>Procesos continu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iempre se ejecutan las mismas operaciones, en las mismas máquinas, para la obtención del mismo produc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ay estandarización y controles de calidad efectivo. Fácil contro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veces los productos no son discret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j.: Petróleo, cerveza, productos químicos a grane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468360" y="4941720"/>
            <a:ext cx="867564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1c1c1c"/>
                </a:solidFill>
                <a:latin typeface="Tahoma"/>
              </a:rPr>
              <a:t>En ambos casos las máquinas se disponen en línea, una tras otra. Equipo especializados, poca flexibilidad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1c1c1c"/>
                </a:solidFill>
                <a:latin typeface="Tahoma"/>
              </a:rPr>
              <a:t>Productos Masivo, estandarizado, barato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1c1c1c"/>
                </a:solidFill>
                <a:latin typeface="Tahoma"/>
              </a:rPr>
              <a:t>Alta inversión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1c1c1c"/>
                </a:solidFill>
                <a:latin typeface="Tahoma"/>
              </a:rPr>
              <a:t>Costo Operacional bajo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642960" y="285840"/>
            <a:ext cx="7772400" cy="857160"/>
          </a:xfrm>
          <a:prstGeom prst="rect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Tipos Procesos Productiv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5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36BC-B471-4DC4-ACB9-F9547BF96BC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7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4"/>
          <p:cNvSpPr/>
          <p:nvPr/>
        </p:nvSpPr>
        <p:spPr>
          <a:xfrm>
            <a:off x="1332000" y="836640"/>
            <a:ext cx="72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ydian BT"/>
              </a:rPr>
              <a:t>PRODUCT-PROCESS MATRIX </a:t>
            </a:r>
            <a:r>
              <a:rPr b="1" lang="en-US" sz="2000" spc="-1" strike="noStrike">
                <a:solidFill>
                  <a:srgbClr val="000000"/>
                </a:solidFill>
                <a:latin typeface="Lydian BT"/>
              </a:rPr>
              <a:t>(Figure 4.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2209680" y="2298600"/>
            <a:ext cx="6153120" cy="437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3505320" y="1536840"/>
            <a:ext cx="1295280" cy="75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Low volume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low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standardiz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Oval 13"/>
          <p:cNvSpPr/>
          <p:nvPr/>
        </p:nvSpPr>
        <p:spPr>
          <a:xfrm>
            <a:off x="3657600" y="3137040"/>
            <a:ext cx="990720" cy="955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Print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Oval 14"/>
          <p:cNvSpPr/>
          <p:nvPr/>
        </p:nvSpPr>
        <p:spPr>
          <a:xfrm>
            <a:off x="4800600" y="3975120"/>
            <a:ext cx="1066680" cy="957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Heav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Equip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Oval 15"/>
          <p:cNvSpPr/>
          <p:nvPr/>
        </p:nvSpPr>
        <p:spPr>
          <a:xfrm>
            <a:off x="6019920" y="4660920"/>
            <a:ext cx="1035000" cy="955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Aut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assembl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Oval 16"/>
          <p:cNvSpPr/>
          <p:nvPr/>
        </p:nvSpPr>
        <p:spPr>
          <a:xfrm>
            <a:off x="7162920" y="5575320"/>
            <a:ext cx="990360" cy="955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Sug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Refine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21"/>
          <p:cNvSpPr/>
          <p:nvPr/>
        </p:nvSpPr>
        <p:spPr>
          <a:xfrm>
            <a:off x="4800600" y="1536840"/>
            <a:ext cx="1066680" cy="75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ow volume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Multi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22"/>
          <p:cNvSpPr/>
          <p:nvPr/>
        </p:nvSpPr>
        <p:spPr>
          <a:xfrm>
            <a:off x="5867280" y="1536840"/>
            <a:ext cx="1206720" cy="75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igher volu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few maj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23"/>
          <p:cNvSpPr/>
          <p:nvPr/>
        </p:nvSpPr>
        <p:spPr>
          <a:xfrm>
            <a:off x="7086600" y="1536840"/>
            <a:ext cx="144792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High volume, hig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standardization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commodity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25"/>
          <p:cNvSpPr/>
          <p:nvPr/>
        </p:nvSpPr>
        <p:spPr>
          <a:xfrm>
            <a:off x="4572000" y="3898800"/>
            <a:ext cx="414360" cy="273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26"/>
          <p:cNvSpPr/>
          <p:nvPr/>
        </p:nvSpPr>
        <p:spPr>
          <a:xfrm>
            <a:off x="5791320" y="4660920"/>
            <a:ext cx="338040" cy="272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27"/>
          <p:cNvSpPr/>
          <p:nvPr/>
        </p:nvSpPr>
        <p:spPr>
          <a:xfrm>
            <a:off x="6934320" y="5499000"/>
            <a:ext cx="360360" cy="279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6" name="Group 47"/>
          <p:cNvGrpSpPr/>
          <p:nvPr/>
        </p:nvGrpSpPr>
        <p:grpSpPr>
          <a:xfrm>
            <a:off x="914400" y="3137040"/>
            <a:ext cx="1314000" cy="3504600"/>
            <a:chOff x="914400" y="3137040"/>
            <a:chExt cx="1314000" cy="3504600"/>
          </a:xfrm>
        </p:grpSpPr>
        <p:sp>
          <p:nvSpPr>
            <p:cNvPr id="167" name="Rectangle 30"/>
            <p:cNvSpPr/>
            <p:nvPr/>
          </p:nvSpPr>
          <p:spPr>
            <a:xfrm>
              <a:off x="914400" y="3137040"/>
              <a:ext cx="1314000" cy="87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ydian BT"/>
                </a:rPr>
                <a:t>Job Shop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Rectangle 41"/>
            <p:cNvSpPr/>
            <p:nvPr/>
          </p:nvSpPr>
          <p:spPr>
            <a:xfrm>
              <a:off x="914400" y="4012920"/>
              <a:ext cx="1314000" cy="876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ydian BT"/>
                </a:rPr>
                <a:t>Batch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Rectangle 42"/>
            <p:cNvSpPr/>
            <p:nvPr/>
          </p:nvSpPr>
          <p:spPr>
            <a:xfrm>
              <a:off x="914400" y="4889880"/>
              <a:ext cx="1314000" cy="87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ydian BT"/>
                </a:rPr>
                <a:t>Assembl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ydian BT"/>
                </a:rPr>
                <a:t>lin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" name="Rectangle 43"/>
            <p:cNvSpPr/>
            <p:nvPr/>
          </p:nvSpPr>
          <p:spPr>
            <a:xfrm>
              <a:off x="914400" y="5765760"/>
              <a:ext cx="1314000" cy="87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ydian BT"/>
                </a:rPr>
                <a:t>Continuou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1" name="AutoShape 44"/>
          <p:cNvSpPr/>
          <p:nvPr/>
        </p:nvSpPr>
        <p:spPr>
          <a:xfrm>
            <a:off x="2228760" y="5003640"/>
            <a:ext cx="2138400" cy="1638360"/>
          </a:xfrm>
          <a:prstGeom prst="rtTriangl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 BT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Construi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Sobre capac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45"/>
          <p:cNvSpPr/>
          <p:nvPr/>
        </p:nvSpPr>
        <p:spPr>
          <a:xfrm flipH="1" flipV="1">
            <a:off x="6161040" y="2408400"/>
            <a:ext cx="2139840" cy="1776240"/>
          </a:xfrm>
          <a:prstGeom prst="rtTriangl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 BT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Empresa pequeñ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que cre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48"/>
          <p:cNvSpPr/>
          <p:nvPr/>
        </p:nvSpPr>
        <p:spPr>
          <a:xfrm>
            <a:off x="2209680" y="1536840"/>
            <a:ext cx="1295640" cy="75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Unique, one o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a kind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49"/>
          <p:cNvSpPr/>
          <p:nvPr/>
        </p:nvSpPr>
        <p:spPr>
          <a:xfrm>
            <a:off x="914400" y="2298600"/>
            <a:ext cx="1295280" cy="83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Oval 50"/>
          <p:cNvSpPr/>
          <p:nvPr/>
        </p:nvSpPr>
        <p:spPr>
          <a:xfrm>
            <a:off x="2362320" y="2451240"/>
            <a:ext cx="990360" cy="8794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Build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Line 51"/>
          <p:cNvSpPr/>
          <p:nvPr/>
        </p:nvSpPr>
        <p:spPr>
          <a:xfrm>
            <a:off x="3276720" y="3060720"/>
            <a:ext cx="414360" cy="272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77" name="28 Conector recto de flecha"/>
          <p:cNvCxnSpPr/>
          <p:nvPr/>
        </p:nvCxnSpPr>
        <p:spPr>
          <a:xfrm>
            <a:off x="3492000" y="6021360"/>
            <a:ext cx="8643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8" name="30 Conector recto de flecha"/>
          <p:cNvCxnSpPr/>
          <p:nvPr/>
        </p:nvCxnSpPr>
        <p:spPr>
          <a:xfrm flipH="1">
            <a:off x="7380000" y="2709720"/>
            <a:ext cx="21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5944-7314-46AC-8AA4-D45FEF5E1AA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ategia Producto-Proc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terpret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 masiv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tandarizació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proceso en lín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 cambio de producto esta ligado a un cambio de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atrasa el avance en los procesos aumentan los costos, si se adelanta se pierde flexi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conveniente moverse sobre la diag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Wolf</cp:lastModifiedBy>
  <cp:lastPrinted>2001-04-12T20:51:56Z</cp:lastPrinted>
  <dcterms:modified xsi:type="dcterms:W3CDTF">2010-08-17T13:14:14Z</dcterms:modified>
  <cp:revision>195</cp:revision>
  <dc:subject/>
  <dc:title>Comercio Electrónico</dc:title>
</cp:coreProperties>
</file>