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1792-2C4C-4E55-BEB9-217DE26DE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052F-7A2E-433A-804A-4FAD72BE5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22D6-F9EA-4549-9076-69BB39A23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62C6-E481-4153-8A27-F9F4E5C20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F133B-1FCC-4DDD-8CDC-C4B0734B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B5DAC-42B1-4686-88EC-16F94D2B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0DD4F-82C4-4FAD-A950-DF1B1FF8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EEF02-738B-45E1-A0C1-38C736B9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17AE8-0627-4165-B302-2C61D1F5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0F8C4-7864-4B34-A3CE-BC9FDCAA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AB78E-32B4-44E0-AB2E-A7735CF7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5644-6309-4B7A-88E4-F9B99C1FD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3A81-721A-4C2E-BAB9-5710142F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EC902-7C21-4DA6-A4D7-C20D8CA3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4DA15-C6B2-482A-9492-B018DF29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FD4B-25B4-48D1-AE4D-A8574DA2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C4B10-26EE-418D-9C35-20EC0BBE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04DD-5F08-4B91-9FEE-820C1F918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6994-8A48-4D02-A534-32153D408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4865-0C74-44DE-96F2-A25132307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3375-AB1E-4541-A329-5BD514A36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3F8C-056F-466C-9201-35BF82FC6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4855-6EDE-4B94-9044-94C7AF302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6E6D-E50E-4E51-8C3E-284AB49F0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5F12-9330-4677-8DC5-73CC0A03153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9FA6-A765-46A7-AF10-A0C4D4BE4903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3733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itulo : Selección del Proceso Produ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1BAC-95E6-40EF-B615-3FAC3166F49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3840" y="1341360"/>
            <a:ext cx="9020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A00-64C0-4BF5-B4AA-553D68272E2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41AA-BBF4-4C1B-8433-BF329D294FC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E34-865C-411E-B80E-A2910E09A98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5240" y="1125360"/>
            <a:ext cx="85104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004B-BEF2-4B61-B719-3DBA6749E4C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2E5-D972-4DED-B940-6AE82DCFFC2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BE3B-1F7A-4560-A329-08DD69FD761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1CAE-EAA0-427E-B92B-D41ABBB477B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EABB-ACB6-49A0-A9A6-F43C2B99580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96CE-D429-4810-A78A-41BA5017B44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D1BA-DC30-4767-8DEA-1702E60183F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31E5-1C20-4CF1-84B1-FC7D7921787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8684-874D-4716-A440-9AD51961908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   =&gt; Col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36AE-EC51-45D0-8F31-ACBE5860A57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8CAB-89CD-4A2C-835A-67B93448404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82E7-3E51-4FDC-8AC7-14E14587175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95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4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574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59280" y="2708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MI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99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372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LUJO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411280" y="3860640"/>
            <a:ext cx="129708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484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4140360" y="3860640"/>
            <a:ext cx="136836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427640" y="414972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21"/>
          <p:cNvSpPr/>
          <p:nvPr/>
        </p:nvSpPr>
        <p:spPr>
          <a:xfrm flipH="1">
            <a:off x="320328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385128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5857920" y="3860640"/>
            <a:ext cx="12970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867280" y="393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ÍNEAS DE ENSAM-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86640" y="3860640"/>
            <a:ext cx="136836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7572240" y="41497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7"/>
          <p:cNvSpPr/>
          <p:nvPr/>
        </p:nvSpPr>
        <p:spPr>
          <a:xfrm flipH="1">
            <a:off x="664956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29756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5589720"/>
            <a:ext cx="8137440" cy="934920"/>
          </a:xfrm>
          <a:prstGeom prst="leftRightArrow">
            <a:avLst>
              <a:gd name="adj1" fmla="val 50000"/>
              <a:gd name="adj2" fmla="val 1732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olúmenes de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476360" y="587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1476360" y="587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738036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2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C62A-BE93-42B3-8DB0-A91F5D3473E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2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y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productos únicos o exclu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o muy pocas un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idades que deben llevarse a  cabo en un lapso de tiempo  y en secu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: técnicas de administración y proyectos (PERT – CP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íodos de fabricación largos y altos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: Construcción casas,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cesos intermit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a cantidad de productos con mucha var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za las mismas instalaciones para la producción de distint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pos y trabajos similares se agrupan en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producto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ividen en dos tipos: talleres y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94EB-17B8-48CE-BCE6-67FC5365F4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6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tipo ta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fabrica una cantidad pequeña de un produc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racterísticas del producto se ajustan a las exigencias d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 procesos muy flex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de producto puede hacerse una sol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por lo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roducen lotes de productos una y otr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liente elige entre una amplia variedad de productos, pero no es a med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lo general los lotes son más grandes que en los tall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9640" y="5013360"/>
            <a:ext cx="8388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n ambos casos la programación de la producción es complej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Indicados en donde hay poca estandarización y volúmenes de producción  no muy al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Requiere especialización de ope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jemplos: Garaje, Impren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772F-20C4-4173-99A9-33BD06FAD3C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68360" y="1628640"/>
            <a:ext cx="77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ahoma"/>
              </a:rPr>
              <a:t>Procesos de fluj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encia de operaciones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grandes volúm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o productos diferentes (procesos poco flexi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o grado de automatización (los empleados sólo tienen que aprender un número reducido de operaciones sencil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y dos tipos: líneas de ensamblaje y procesos continu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j0336844"/>
          <p:cNvPicPr/>
          <p:nvPr/>
        </p:nvPicPr>
        <p:blipFill>
          <a:blip r:embed="rId1"/>
          <a:stretch/>
        </p:blipFill>
        <p:spPr>
          <a:xfrm>
            <a:off x="1692360" y="465300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j0281149"/>
          <p:cNvPicPr/>
          <p:nvPr/>
        </p:nvPicPr>
        <p:blipFill>
          <a:blip r:embed="rId2"/>
          <a:stretch/>
        </p:blipFill>
        <p:spPr>
          <a:xfrm>
            <a:off x="5003640" y="4581360"/>
            <a:ext cx="2267280" cy="176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6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E402-B3EE-43D3-92E4-11C5F0589C9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6836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Líneas de ensam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fabrican productos discre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bricación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n más eficientes que los procesos intermit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uctos técnicamente homogé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ca variedad de productos. El cliente participa po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Juguetes, circuitos imp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Procesos continu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se ejecutan las mismas operaciones, en las mismas máquinas, para la obtención del mismo produ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y estandarización y controles de calidad efectivo.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veces los productos no son discre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Petróleo, cerveza, productos químicos a gr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941720"/>
            <a:ext cx="86756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En ambos casos las máquinas se disponen en línea, una tras otra. Equipo especializados, poca flexibili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Productos Masivo, estandarizado, barat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Alta inversió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Costo Operacional baj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8547-1CAF-48F6-A747-9B97BA70B46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4"/>
          <p:cNvSpPr/>
          <p:nvPr/>
        </p:nvSpPr>
        <p:spPr>
          <a:xfrm>
            <a:off x="1332000" y="836640"/>
            <a:ext cx="72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 BT"/>
              </a:rPr>
              <a:t>PRODUCT-PROCESS MATRIX </a:t>
            </a:r>
            <a:r>
              <a:rPr b="1" lang="en-US" sz="2000" spc="-1" strike="noStrike">
                <a:solidFill>
                  <a:srgbClr val="000000"/>
                </a:solidFill>
                <a:latin typeface="Lydian BT"/>
              </a:rPr>
              <a:t>(Figure 4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09680" y="2298600"/>
            <a:ext cx="6153120" cy="43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505320" y="1536840"/>
            <a:ext cx="12952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volume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3657600" y="3137040"/>
            <a:ext cx="990720" cy="955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4800600" y="3975120"/>
            <a:ext cx="1066680" cy="957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Hea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6019920" y="4660920"/>
            <a:ext cx="103500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u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7162920" y="5575320"/>
            <a:ext cx="99036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Refin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800600" y="1536840"/>
            <a:ext cx="10666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w volum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5867280" y="1536840"/>
            <a:ext cx="120672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few maj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086600" y="1536840"/>
            <a:ext cx="1447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High volume, hig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commodit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4572000" y="3898800"/>
            <a:ext cx="414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91320" y="4660920"/>
            <a:ext cx="33804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6934320" y="5499000"/>
            <a:ext cx="36036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47"/>
          <p:cNvGrpSpPr/>
          <p:nvPr/>
        </p:nvGrpSpPr>
        <p:grpSpPr>
          <a:xfrm>
            <a:off x="914400" y="3137040"/>
            <a:ext cx="1314000" cy="3504600"/>
            <a:chOff x="914400" y="3137040"/>
            <a:chExt cx="1314000" cy="3504600"/>
          </a:xfrm>
        </p:grpSpPr>
        <p:sp>
          <p:nvSpPr>
            <p:cNvPr id="167" name="Rectangle 30"/>
            <p:cNvSpPr/>
            <p:nvPr/>
          </p:nvSpPr>
          <p:spPr>
            <a:xfrm>
              <a:off x="914400" y="313704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Job Sho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914400" y="4012920"/>
              <a:ext cx="1314000" cy="8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Batch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914400" y="488988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li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914400" y="576576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AutoShape 44"/>
          <p:cNvSpPr/>
          <p:nvPr/>
        </p:nvSpPr>
        <p:spPr>
          <a:xfrm>
            <a:off x="2228760" y="5003640"/>
            <a:ext cx="2138400" cy="163836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Constru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obre capac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45"/>
          <p:cNvSpPr/>
          <p:nvPr/>
        </p:nvSpPr>
        <p:spPr>
          <a:xfrm flipH="1" flipV="1">
            <a:off x="6161040" y="2408400"/>
            <a:ext cx="2139840" cy="177624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mpresa pequeñ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que cre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8"/>
          <p:cNvSpPr/>
          <p:nvPr/>
        </p:nvSpPr>
        <p:spPr>
          <a:xfrm>
            <a:off x="2209680" y="1536840"/>
            <a:ext cx="129564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Unique, one 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a ki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9"/>
          <p:cNvSpPr/>
          <p:nvPr/>
        </p:nvSpPr>
        <p:spPr>
          <a:xfrm>
            <a:off x="914400" y="2298600"/>
            <a:ext cx="129528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2362320" y="2451240"/>
            <a:ext cx="990360" cy="87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3276720" y="3060720"/>
            <a:ext cx="41436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28 Conector recto de flecha"/>
          <p:cNvCxnSpPr/>
          <p:nvPr/>
        </p:nvCxnSpPr>
        <p:spPr>
          <a:xfrm>
            <a:off x="3492000" y="6021360"/>
            <a:ext cx="864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30 Conector recto de flecha"/>
          <p:cNvCxnSpPr/>
          <p:nvPr/>
        </p:nvCxnSpPr>
        <p:spPr>
          <a:xfrm flipH="1">
            <a:off x="7380000" y="2709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D749-82EB-4B0E-9A31-4600DD5723D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Wolf</cp:lastModifiedBy>
  <cp:lastPrinted>2001-04-12T20:51:56Z</cp:lastPrinted>
  <dcterms:modified xsi:type="dcterms:W3CDTF">2010-08-17T13:14:14Z</dcterms:modified>
  <cp:revision>195</cp:revision>
  <dc:subject/>
  <dc:title>Comercio Electrónico</dc:title>
</cp:coreProperties>
</file>