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6FAAC-AFE7-4738-942A-FA6446FDD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3EDAB-1FE3-4489-8A2F-BB7F05E08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B64C1-D4CA-4C31-AE94-0502F1F20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24E60-B946-47CF-B630-D73C6A595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B4AA2-AC6F-4E74-BC7C-B58CB6B56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06863-3EAA-4A48-9BBE-50388EEEF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2568D-4C27-4446-A33A-375E7E359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138E2-AAE1-480B-AD5C-41164087C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755F8-4B13-4638-AB0B-418413AD5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4CF3C-3958-4DD6-A252-B9EC3914B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8D3D5-7A9B-4793-9D5B-939835F75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5EBB3-1945-410C-AC54-F5939466A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4CC2B38-62BC-4AFA-9610-A0BE3F62E66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Costos y Decisiones de Operación</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Michael Jorrat De Luis</cp:lastModifiedBy>
  <cp:lastPrinted>1999-04-29T23:00:25Z</cp:lastPrinted>
  <dcterms:modified xsi:type="dcterms:W3CDTF">2005-04-29T13:01:39Z</dcterms:modified>
  <cp:revision>11</cp:revision>
  <dc:subject/>
  <dc:title>2. Costos y Decisiones de Operación</dc:title>
</cp:coreProperties>
</file>