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7.wmf" ContentType="image/x-wmf"/>
  <Override PartName="/ppt/media/image12.png" ContentType="image/png"/>
  <Override PartName="/ppt/media/image11.wmf" ContentType="image/x-wmf"/>
  <Override PartName="/ppt/media/image6.wmf" ContentType="image/x-wmf"/>
  <Override PartName="/ppt/media/image10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5.wmf" ContentType="image/x-wmf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4B9EC-8152-4152-8500-90DB5C4E0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EC95C-3C73-4CFC-B7C0-CC3EAB8B1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43CBB-B248-4EB8-BC25-8AE8A3BAC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00C80-AD6B-4CCC-8102-EA0361386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EC05E-25BA-4A63-96F3-06AE8BE62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877B6-4071-4EF4-B8C3-A5FD2FDC6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C1AFD-B7B7-42EF-B98A-8561FB115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86F1D-C78D-4BF6-8D44-60474DE4A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49D20-D1A1-45FD-9278-CCB4E4648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0B4B3-B4CC-4A4B-AA19-4CA81900C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2171B-36BE-4D9C-A090-00043EFAD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F5D68-A940-4778-886B-4CDD35D5D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898FC-7AF8-401E-A40A-CEA23D4A36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" Target="slide62.xml"/><Relationship Id="rId2" Type="http://schemas.openxmlformats.org/officeDocument/2006/relationships/slide" Target="slide63.xml"/><Relationship Id="rId3" Type="http://schemas.openxmlformats.org/officeDocument/2006/relationships/slide" Target="slide64.xml"/><Relationship Id="rId4" Type="http://schemas.openxmlformats.org/officeDocument/2006/relationships/slide" Target="slide66.xml"/><Relationship Id="rId5" Type="http://schemas.openxmlformats.org/officeDocument/2006/relationships/slide" Target="slide67.xml"/><Relationship Id="rId6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" Target="slide61.xml"/><Relationship Id="rId4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" Target="slide61.xml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" Target="slide61.xml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" Target="slide61.xml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unda Parte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048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tabilidad Gerenci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685440" y="114300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) Otras clasificaciones important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o relevante: Costo futuro que será afectado por una decisión actu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o hundido: Costo inamovible porque ya se produjo o porque una decisión ya tomada lo hace irremedi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o incremental: Mayor costo derivado de la producción de un conjunto adicional de unidad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o marginal:  Costo de producir una unidad adic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o controlable: Costo que puede ser modificado por el responsable de un departamento o sec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o histórico: El que ya se produj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o estándar: Costo preestablecido o futur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ii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asificación de los Costo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v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terminación del Costo de Produc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n este caso, el objetivo de costo es el </a:t>
            </a: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producto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stos de Producción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: Aquellos que se incurren en el proceso productivo, y que generalmente se asignan al producto (inventariabl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stos no Productivo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: Aquellos que se incurren fuera del proceso de producción (gastos de administración y ventas). Generalmente se consideran gastos del período (no inventariabl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asificación de los costos de producció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65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os Direct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5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5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ateria Prima Direct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Costo de los materiales que forman parte de los productos terminad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5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5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ano de Obra Direct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Salarios de los trabajadores que participan directamente en la fabricación de los produc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5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asificación de los costos de producció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61048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55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s Indirect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55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2.1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Materia Prima Indirecta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: Materiales que no forman parte de los productos o que no son medibles en forma económicamente factible. Ej: Repuestos, lubricantes, pegamentos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55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2.2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Mano de Obra Indirecta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: Salarios de trabajadores tales como capataces, personal de mantención, guardias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55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2.3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Gastos Generales de Fabricación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: Otros costos, tales como depreciación, arriendos, seguros, energía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228600" y="9144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D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 directo del producto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P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ateria prima j usada en el producto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ano de obra directa j usada en el producto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D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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P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Times New Roman"/>
              </a:rPr>
              <a:t>ij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+  </a:t>
            </a:r>
            <a:r>
              <a:rPr b="0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 de Producción de la Empresa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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D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+ 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 del Producto i = CD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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*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lujo de Existenci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terias Prima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od. en Proceso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od. Termin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.I.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Consumo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.I.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. Prod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.I.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C. Ven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mpra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P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. Pro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.F.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O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.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.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no de Obra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sto de Ven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ueldos  Distrib.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.Ven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stos Indire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I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Distri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447920" y="1830240"/>
            <a:ext cx="0" cy="1446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30040" y="2819520"/>
            <a:ext cx="2284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906560"/>
            <a:ext cx="0" cy="205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049560" y="3733920"/>
            <a:ext cx="205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010280" y="1906560"/>
            <a:ext cx="0" cy="1293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945040" y="2819520"/>
            <a:ext cx="2208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295280" y="4497480"/>
            <a:ext cx="0" cy="684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5869080"/>
            <a:ext cx="0" cy="684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010280" y="4497480"/>
            <a:ext cx="0" cy="1217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744640" y="2211480"/>
            <a:ext cx="379440" cy="379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363760" y="4800600"/>
            <a:ext cx="22716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2590920" y="3049560"/>
            <a:ext cx="0" cy="17510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592360" y="3048120"/>
            <a:ext cx="45576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440080" y="6019920"/>
            <a:ext cx="30312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743200" y="3506400"/>
            <a:ext cx="0" cy="25131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744640" y="3581280"/>
            <a:ext cx="303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06960" y="2211480"/>
            <a:ext cx="912960" cy="379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307360" y="2209680"/>
            <a:ext cx="45576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763120" y="2211480"/>
            <a:ext cx="0" cy="15224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5640480" y="3657600"/>
            <a:ext cx="312264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638680" y="3659040"/>
            <a:ext cx="0" cy="10652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40480" y="4724280"/>
            <a:ext cx="303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jercici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91440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ara el año recién terminado se obtuvieron los siguientes dat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Gastos de administración y vent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25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aterias primas directas comprad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22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ano de obra directa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18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Vent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150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xistencias iniciales de materias primas direct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3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xistencias finales de materias primas direct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2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xistencias iniciales de productos en proceso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14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xistencias finales de productos en proceso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13.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epreciación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27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Otros costos indirecto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14.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xistencias iniciales de productos terminado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6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xistencias finales de productos terminado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4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Gastos financiero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10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Tasa de impuesto a la renta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   4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304920" y="380520"/>
            <a:ext cx="8534160" cy="617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eterminar el costo de producción y de ventas para el año recién termin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ostrar los flujos de existencias en las cuentas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nfeccionar el Estado de Resultados para el a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Solución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xistencias iniciales de materias prim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irectas 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3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aterias primas directas comprad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 22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aterias primas directas disponible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25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xistencias finales de materias primas direct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2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ateria prima directa utilizada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23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304920" y="380520"/>
            <a:ext cx="8534160" cy="617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572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xistencias iniciales de productos en proceso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14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ateria prima directa utilizada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23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ano de obra directa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18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stos indirecto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41.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xistencias finales de productos en proceso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 13.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sto de producción total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83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xistencias iniciales de productos terminado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 6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sto de producción total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 83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roductos terminados disponibles para la venta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89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-572760"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xistencias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finale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de productos terminado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</a:t>
            </a: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4</a:t>
            </a:r>
            <a:r>
              <a:rPr b="0" lang="es-ES" sz="2400" spc="-1" strike="noStrike" u="sng">
                <a:solidFill>
                  <a:srgbClr val="000000"/>
                </a:solidFill>
                <a:uFillTx/>
                <a:latin typeface="Times New Roman"/>
              </a:rPr>
              <a:t>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sto de vent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85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304920" y="60912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stado de Result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Ingresos por vent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150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stos de vent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(85.0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argen de vent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65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Gastos de administración y vent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(25.0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Resultado operacional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40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Gastos financiero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(10.0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Resultado antes de impuesto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30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Impuesto a la Renta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(12.0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Utilidad del ejercicio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 18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533520" y="533520"/>
          <a:ext cx="8229600" cy="586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533520"/>
                    <a:ext cx="8229600" cy="58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i)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stemas de Cálculo de Cost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egún la parte del costo que se imputa al product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eo Absorbente (o completo o funciona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eo Variable (o directo o contribuciona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egún dónde se imputan los cos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s por órdenes de trabaj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s por proces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egún el origen de los da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s histór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s estánd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étodos de Costeo: Absorbente y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ari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¿Qué costos se deben incluir como costos del product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osteo Absorbente (o completo o funciona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osteo Variable (o directo o contribuciona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Ambos métodos difieren en la forma de tratar los costos indirectos fij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osteo Absorbe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 producto absorbe la totalidad de los costos de producción (fijos y variables), en tanto los costos no  productivos se consideran gastos del perío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ndamento: Tanto los costos variables como los fijos son necesarios para producir bien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e método es el único aceptado para fines exter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osteo Vari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os costos indirectos de producción fijos no son inventariables, es decir, se consideran gastos del período, al igual que los costos no productiv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Fundamento: Los costos indirectos fijos se relacionan con la capacidad de producción, que es función de un período determin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ste método es de uso interno y presta mucha utilidad a la toma de decis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quema del Estado de Resultados con ambos método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steo Absorbente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ngresos por ven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 Costo de ven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= Margen de ven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 Gastos de Adm. y V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= Resultado Operac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495680" y="2071800"/>
            <a:ext cx="4114800" cy="43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655560"/>
                <a:tab algn="l" pos="1311120"/>
                <a:tab algn="l" pos="1967040"/>
                <a:tab algn="l" pos="2622600"/>
                <a:tab algn="l" pos="3278160"/>
                <a:tab algn="l" pos="3933720"/>
                <a:tab algn="l" pos="4589640"/>
                <a:tab algn="l" pos="5245200"/>
                <a:tab algn="l" pos="5900760"/>
                <a:tab algn="l" pos="6556320"/>
                <a:tab algn="l" pos="7211880"/>
                <a:tab algn="l" pos="7867800"/>
                <a:tab algn="l" pos="8523360"/>
                <a:tab algn="l" pos="9178920"/>
                <a:tab algn="l" pos="9834480"/>
                <a:tab algn="l" pos="1049004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steo Variable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55560"/>
                <a:tab algn="l" pos="1311120"/>
                <a:tab algn="l" pos="1967040"/>
                <a:tab algn="l" pos="2622600"/>
                <a:tab algn="l" pos="3278160"/>
                <a:tab algn="l" pos="3933720"/>
                <a:tab algn="l" pos="4589640"/>
                <a:tab algn="l" pos="5245200"/>
                <a:tab algn="l" pos="5900760"/>
                <a:tab algn="l" pos="6556320"/>
                <a:tab algn="l" pos="7211880"/>
                <a:tab algn="l" pos="7867800"/>
                <a:tab algn="l" pos="8523360"/>
                <a:tab algn="l" pos="9178920"/>
                <a:tab algn="l" pos="9834480"/>
                <a:tab algn="l" pos="1049004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ngresos por ven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55560"/>
                <a:tab algn="l" pos="1311120"/>
                <a:tab algn="l" pos="1967040"/>
                <a:tab algn="l" pos="2622600"/>
                <a:tab algn="l" pos="3278160"/>
                <a:tab algn="l" pos="3933720"/>
                <a:tab algn="l" pos="4589640"/>
                <a:tab algn="l" pos="5245200"/>
                <a:tab algn="l" pos="5900760"/>
                <a:tab algn="l" pos="6556320"/>
                <a:tab algn="l" pos="7211880"/>
                <a:tab algn="l" pos="7867800"/>
                <a:tab algn="l" pos="8523360"/>
                <a:tab algn="l" pos="9178920"/>
                <a:tab algn="l" pos="9834480"/>
                <a:tab algn="l" pos="1049004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 Costos. variab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55560"/>
                <a:tab algn="l" pos="1311120"/>
                <a:tab algn="l" pos="1967040"/>
                <a:tab algn="l" pos="2622600"/>
                <a:tab algn="l" pos="3278160"/>
                <a:tab algn="l" pos="3933720"/>
                <a:tab algn="l" pos="4589640"/>
                <a:tab algn="l" pos="5245200"/>
                <a:tab algn="l" pos="5900760"/>
                <a:tab algn="l" pos="6556320"/>
                <a:tab algn="l" pos="7211880"/>
                <a:tab algn="l" pos="7867800"/>
                <a:tab algn="l" pos="8523360"/>
                <a:tab algn="l" pos="9178920"/>
                <a:tab algn="l" pos="9834480"/>
                <a:tab algn="l" pos="1049004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 de produc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55560"/>
                <a:tab algn="l" pos="1311120"/>
                <a:tab algn="l" pos="1967040"/>
                <a:tab algn="l" pos="2622600"/>
                <a:tab algn="l" pos="3278160"/>
                <a:tab algn="l" pos="3933720"/>
                <a:tab algn="l" pos="4589640"/>
                <a:tab algn="l" pos="5245200"/>
                <a:tab algn="l" pos="5900760"/>
                <a:tab algn="l" pos="6556320"/>
                <a:tab algn="l" pos="7211880"/>
                <a:tab algn="l" pos="7867800"/>
                <a:tab algn="l" pos="8523360"/>
                <a:tab algn="l" pos="9178920"/>
                <a:tab algn="l" pos="9834480"/>
                <a:tab algn="l" pos="1049004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 de adm. y v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55560"/>
                <a:tab algn="l" pos="1311120"/>
                <a:tab algn="l" pos="1967040"/>
                <a:tab algn="l" pos="2622600"/>
                <a:tab algn="l" pos="3278160"/>
                <a:tab algn="l" pos="3933720"/>
                <a:tab algn="l" pos="4589640"/>
                <a:tab algn="l" pos="5245200"/>
                <a:tab algn="l" pos="5900760"/>
                <a:tab algn="l" pos="6556320"/>
                <a:tab algn="l" pos="7211880"/>
                <a:tab algn="l" pos="7867800"/>
                <a:tab algn="l" pos="8523360"/>
                <a:tab algn="l" pos="9178920"/>
                <a:tab algn="l" pos="9834480"/>
                <a:tab algn="l" pos="1049004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= Margen de contribu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55560"/>
                <a:tab algn="l" pos="1311120"/>
                <a:tab algn="l" pos="1967040"/>
                <a:tab algn="l" pos="2622600"/>
                <a:tab algn="l" pos="3278160"/>
                <a:tab algn="l" pos="3933720"/>
                <a:tab algn="l" pos="4589640"/>
                <a:tab algn="l" pos="5245200"/>
                <a:tab algn="l" pos="5900760"/>
                <a:tab algn="l" pos="6556320"/>
                <a:tab algn="l" pos="7211880"/>
                <a:tab algn="l" pos="7867800"/>
                <a:tab algn="l" pos="8523360"/>
                <a:tab algn="l" pos="9178920"/>
                <a:tab algn="l" pos="9834480"/>
                <a:tab algn="l" pos="1049004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 Costos fij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55560"/>
                <a:tab algn="l" pos="1311120"/>
                <a:tab algn="l" pos="1967040"/>
                <a:tab algn="l" pos="2622600"/>
                <a:tab algn="l" pos="3278160"/>
                <a:tab algn="l" pos="3933720"/>
                <a:tab algn="l" pos="4589640"/>
                <a:tab algn="l" pos="5245200"/>
                <a:tab algn="l" pos="5900760"/>
                <a:tab algn="l" pos="6556320"/>
                <a:tab algn="l" pos="7211880"/>
                <a:tab algn="l" pos="7867800"/>
                <a:tab algn="l" pos="8523360"/>
                <a:tab algn="l" pos="9178920"/>
                <a:tab algn="l" pos="9834480"/>
                <a:tab algn="l" pos="1049004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 de produc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55560"/>
                <a:tab algn="l" pos="1311120"/>
                <a:tab algn="l" pos="1967040"/>
                <a:tab algn="l" pos="2622600"/>
                <a:tab algn="l" pos="3278160"/>
                <a:tab algn="l" pos="3933720"/>
                <a:tab algn="l" pos="4589640"/>
                <a:tab algn="l" pos="5245200"/>
                <a:tab algn="l" pos="5900760"/>
                <a:tab algn="l" pos="6556320"/>
                <a:tab algn="l" pos="7211880"/>
                <a:tab algn="l" pos="7867800"/>
                <a:tab algn="l" pos="8523360"/>
                <a:tab algn="l" pos="9178920"/>
                <a:tab algn="l" pos="9834480"/>
                <a:tab algn="l" pos="1049004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 de adm. y v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55560"/>
                <a:tab algn="l" pos="1311120"/>
                <a:tab algn="l" pos="1967040"/>
                <a:tab algn="l" pos="2622600"/>
                <a:tab algn="l" pos="3278160"/>
                <a:tab algn="l" pos="3933720"/>
                <a:tab algn="l" pos="4589640"/>
                <a:tab algn="l" pos="5245200"/>
                <a:tab algn="l" pos="5900760"/>
                <a:tab algn="l" pos="6556320"/>
                <a:tab algn="l" pos="7211880"/>
                <a:tab algn="l" pos="7867800"/>
                <a:tab algn="l" pos="8523360"/>
                <a:tab algn="l" pos="9178920"/>
                <a:tab algn="l" pos="9834480"/>
                <a:tab algn="l" pos="1049004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= Resultado Operac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Ejemplo: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Costeo absorbente vs vari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07732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os unitarios de producción ($/unida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651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P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651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651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 variabl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651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 fijo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2.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651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U. tot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.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880" y="4114800"/>
            <a:ext cx="8458200" cy="22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476280" indent="-476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oducción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6.000 uni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Venta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5.000 uni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ecio de venta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7.500 $/un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Gasto variable de adm. y vtas.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$1.700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Gasto Fijo de adm. y vtas.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$4.800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o hay inventario ini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Por costeo absorbent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7616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Ventas (5000*7500)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37.50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nv. Inicial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  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 prod. (6000*5500)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33.00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nv. Final (1000*5500)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5.50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 de Venta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27.50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argen de Venta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10.00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Gastos de Adm. y Venta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6.50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esultado Operacional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3.50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Por costeo variabl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Ventas (5000*7500)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37.50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s variable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e producción (3000*5000)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15.00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e adm. y venta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1.70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argen de Contribución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20.80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Gastos fijos de producción (2500*6000)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15.00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Gastos fijos de Adm. y Venta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4.80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esultado Operacional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1.00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30592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Valor de los inventario fina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Por costeo absorbente: 1.000*5.500 = 5.500.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Por costeo variable: 1.000*3.000 = 3.000.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.3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stemas de Cost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Definició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junto de registros, procedimientos y equipos utilizados para recopilar, en forma rutinaria, la información de los costos de una empre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esa medir los costos por objetivo de costos (no en un saco). Típicamente: departamentos y produc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abilidad Gerenc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abilidad de Cos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ceptos prev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étodos de coste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ignación de costos indirectos: método conven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ignación de costos indirectos: método AB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os y Decisiones de Oper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álisis costo-volumen-utili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os variables y margen de contrib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os relevantes y problemas de deci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abilidad para la planificación y el control de gest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upues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os estándar y análisis de desvia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stemas de 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514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pósitos de un Sistema de Cos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080" indent="-514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steo de los produc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080" indent="-514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laneación y Contr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tapas de un Sistema de Cos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ª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umulación de los costos en los centros de responsabilidad (propósito de contro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ª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licación de los costos a los productos (propósito de costeo de producto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299960" indent="-259920">
              <a:spcBef>
                <a:spcPts val="700"/>
              </a:spcBef>
              <a:buClr>
                <a:srgbClr val="000000"/>
              </a:buClr>
              <a:buFont typeface="Times New Roman"/>
              <a:buChar char="*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eo por Órdenes de Trabaj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299960" indent="-259920">
              <a:spcBef>
                <a:spcPts val="700"/>
              </a:spcBef>
              <a:buClr>
                <a:srgbClr val="000000"/>
              </a:buClr>
              <a:buFont typeface="Times New Roman"/>
              <a:buChar char="*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eo por Proces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STEO POR ÓRDENES DE TRABAJ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Objetivo de Costo: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Orden de Trabajo o L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e usa en empresas que producen a pedido o cuando hay centros de producción que fabrican muchos productos (ej: imprentas, constructoras, et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a hoja de costos acompaña al lote de producción, y en ella se registran los costos incurridos en cada departamento (MPD, MOD, C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 Unitario Lote i:    MPDi + MODi + CI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Tamaño Lote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268880" y="5943600"/>
            <a:ext cx="342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steo por Proces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534520" cy="541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bjetivo de Costo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s procesos, que fabrican un sólo producto en grandes cantidad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 usa en empresas con producción en grandes cantidades y en forma continua (Ej.:Productos químicos, textiles, acero, minería, etc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 cada proceso se miden los costos de MPD, MOD, CI incurridos en un perío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uego se determina el costo promedio de pasar una unidad de producto a través del proce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o Unitario Proceso i:          MPD + MOD + 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º de unidades procesa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963960" y="6248520"/>
            <a:ext cx="373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685800" y="304560"/>
            <a:ext cx="7772400" cy="617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Insumos de un Proces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nventario inicial con un grado de terminación </a:t>
            </a: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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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valorado a P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Times New Roman"/>
              </a:rPr>
              <a:t>I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($/u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Unidades provenientes del proceso anterior, valoradas en P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Times New Roman"/>
              </a:rPr>
              <a:t>u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($/u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 de conversión = MOD + C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roductos del Proces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nventario Final, con grado de terminación </a:t>
            </a: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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y valorado en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($/u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Unidades terminadas y enviadas al proceso siguiente, valoradas en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($/u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 u="sng">
                <a:solidFill>
                  <a:srgbClr val="000000"/>
                </a:solidFill>
                <a:uFillTx/>
                <a:latin typeface="Times New Roman"/>
              </a:rPr>
              <a:t>Ejemplo de Costeo por Órdenes de Trabajo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Una fábrica recibe durante un determinado período dos órdenes de trabajo, para fabricar 5.000 unidades del producto X y 1.000 unidades del producto Y, respectivamente. Las hojas de costos muestran la siguiente informació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152280" y="152280"/>
            <a:ext cx="8839440" cy="655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rden de Fabricación Producto X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epto. A: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ateria Prima Directa: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50 kg de PVC (300$/k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ano de Obra Directa: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200 hrs (200$/hr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epto. B: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ateria Prima Directa: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0 kg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e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átex (1.000$/k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ano de Obra Directa: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00 hrs (400$/hr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rden de Fabricación Producto 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epto. A: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ateria Prima Directa: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200 kg de PVC (300$/k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ano de Obra Directa: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500 hrs (200$/hr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epto. B: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ateria Prima Directa: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5 kg de látex (1.000$/k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ano de Obra Directa: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50 hrs (400$/hr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demás, los costos indirectos de los departamentos A y B son de $200 mil y $250 mil, respectivame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e pide determinar el costo unitario de los productos X e 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304920" y="456840"/>
            <a:ext cx="8534160" cy="609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olución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ara distribuir los costos indirectos usaremos como base de asignación las horas de mano de ob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istribución de los Costos Indirectos del Depto. 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Horas de MOD utilizada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7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uota de Costos Indirecto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I / Base   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200.000 / 700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285,71 $/h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I asignados a X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285,71*200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57.1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I asignados a Y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285,71*500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42.8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304920" y="456840"/>
            <a:ext cx="8534160" cy="609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b)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istribución de los Costos Indirectos del Depto. B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Horas de MOD utilizada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uota de Costos Indirecto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I / Base   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250.000 / 150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.666,7 $/h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I asignados a X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.666,7*100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66.66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I asignados a Y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.666,7*50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83.33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304920" y="456840"/>
            <a:ext cx="8534160" cy="609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)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Resumen de costos del producto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PD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50*300 + 10*1.000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25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OD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200*200 + 100*400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80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I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57.143 + 166.667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 u="sng">
                <a:solidFill>
                  <a:srgbClr val="000000"/>
                </a:solidFill>
                <a:uFillTx/>
                <a:latin typeface="Times New Roman"/>
              </a:rPr>
              <a:t>223.810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Total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328.8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Unidade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5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osto Unitario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65,76 $/un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304920" y="456840"/>
            <a:ext cx="8534160" cy="609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)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Resumen de costos del producto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PD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200*300 + 5*1.000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65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OD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500*200 + 50*400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20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I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42.857 + 83.333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226.190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Total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411.19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Unidade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osto Unitario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411,19 $/un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5345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76280"/>
                <a:tab algn="l" pos="952560"/>
                <a:tab algn="l" pos="1428840"/>
                <a:tab algn="l" pos="1905120"/>
                <a:tab algn="l" pos="2381400"/>
                <a:tab algn="l" pos="2857680"/>
                <a:tab algn="l" pos="3333600"/>
                <a:tab algn="l" pos="3809880"/>
                <a:tab algn="l" pos="4286160"/>
                <a:tab algn="l" pos="4762440"/>
                <a:tab algn="l" pos="5238720"/>
                <a:tab algn="l" pos="5715000"/>
                <a:tab algn="l" pos="6191280"/>
                <a:tab algn="l" pos="6667560"/>
                <a:tab algn="l" pos="7143840"/>
                <a:tab algn="l" pos="7620120"/>
                <a:tab algn="l" pos="8096400"/>
                <a:tab algn="l" pos="8572680"/>
                <a:tab algn="l" pos="9048600"/>
                <a:tab algn="l" pos="9524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tabilidad de Cos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ceptos Prev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tivos de la Contabilidad Gerencial y de la Contabilidad de Cos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ntabilidad Gerencia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eer de información para apoyar la toma de decis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eer información para la planificación y el control de las operac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ntabilidad de Cost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ificar, acumular, controlar y asignar los cost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eer información para la elaboración de los estados financieros (valorizar existencias y determinar costo de vent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380520" y="1219320"/>
            <a:ext cx="8534520" cy="533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Una empresa se dedica a la fabricación de pernos, a través de dos procesos. En el primer departamento se fabrica la cabeza del perno, a partir de un cilindro metálico que es la materia prima. En el segundo proceso o departamento, se toman las unidades provenientes del proceso anterior y se les fabrica el “hilo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e sabe que los costos de conversión del primer departamento son de $600.000 por concepto de mano de obra directa y $300.000 por concepto de costos indirectos. El costo de la materia prima es de $40 la unidad y durante el período se procesaron y terminaron 30.000 unidad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uponiendo que no hay inventarios de productos en proceso, determine el valor del producto a la salida del primer proces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 u="sng">
                <a:solidFill>
                  <a:srgbClr val="000000"/>
                </a:solidFill>
                <a:uFillTx/>
                <a:latin typeface="Times New Roman"/>
              </a:rPr>
              <a:t>Ejemplo de Costeo por Procesos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380520" y="6094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olución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osto de Conversión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600.000 + 300.000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900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osto de Conversión Unitario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900.000 / 30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30 $/un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Valor del Producto al salir del primer proceso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$40 + $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70 $/un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4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ignación de Costos Indirectos: Método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venc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bjetivo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signar todos los costos indirectos incurridos en el período a los productos fabricados. Para ello se debe seleccionar un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ase de Asignació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a Base de Asignación es un método sistemático de relacionar un determinado costo o grupo de costos con un objetivo de costos. La selección de la base de asignación debe ser guiada po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 propósito persegui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 costo o esfuerzo necesario para la asign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as bases de asignación más utilizadas s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Horas de mano de obra direc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 de la  mano de obra direc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Horas máqui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 de la materia prima o costo prim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uperficie o espacio utiliz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6840" y="609480"/>
            <a:ext cx="8381880" cy="601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En una fábrica hay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58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epartamentos Productiv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58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epartamentos de Servic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Además hay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58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I de Plan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58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I de Departamentos de Servic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58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I de Departamentos de Produc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s conveniente departamentalizar los CI, puesto que un determinado producto no necesariamente requiere de la participación de todos los departament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533520" y="685800"/>
            <a:ext cx="8153280" cy="586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Departamento (Centro de Costo)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dad que realiza una función específica, que es responsable de determinados costos y que ocupa un espacio físico determin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cedimien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ignar CI a Departamentos de Produc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2292480" indent="0" algn="just"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tribución Prima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2292480" indent="0" algn="just"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tribución Secunda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ignar CI de los Departamentos de Producción a los produc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228600" y="1096920"/>
            <a:ext cx="8763120" cy="454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8763120" cy="259092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457200" y="2998800"/>
            <a:ext cx="7848720" cy="36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304920" y="825480"/>
            <a:ext cx="8534160" cy="520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228600" y="782640"/>
            <a:ext cx="8610480" cy="52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i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Gast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Reducción del patrimonio. Concepto de la contabilidad financiera vinculado a los principios contables o legislación contab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ost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Sacrificio de recursos que se hace con la esperanza de obtener algún beneficio futuro. Concepto de la contabilidad de cost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j. Costos que no son gasto: Costo de oportun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stos que no son costo: Impuesto a la ren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304920" y="2055960"/>
            <a:ext cx="8534160" cy="27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228600" y="1677960"/>
            <a:ext cx="8610480" cy="34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228600" y="1312920"/>
            <a:ext cx="8534520" cy="41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380880" y="1305000"/>
            <a:ext cx="8610840" cy="43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228600" y="1244520"/>
            <a:ext cx="8763120" cy="440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1.5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Asignación de Costos Indirectos: Método 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ABC (Activity-Based Cost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1143000" y="1866960"/>
          <a:ext cx="6888240" cy="4991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866960"/>
                    <a:ext cx="6888240" cy="499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76212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deas claves del ABC - Cost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os productos no consumen costos, sino activida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as actividades son las que consumen recurs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nsecuenci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Una adecuada gestión de costos debe actuar sobre las actividades (mejora continua; ABM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 mayor consumo de actividades por parte de un producto mayor asignación de costos indirect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ABC - Cos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144080" y="2743200"/>
            <a:ext cx="1299240" cy="4597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urs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9520" y="2743200"/>
            <a:ext cx="163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vi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143000" y="2590920"/>
            <a:ext cx="1295280" cy="761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733920" y="2590920"/>
            <a:ext cx="1828800" cy="761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842160" y="2556000"/>
            <a:ext cx="138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to de Cos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0" y="2590920"/>
            <a:ext cx="1523880" cy="761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438280" y="297180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562720" y="29718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209680" y="3962520"/>
            <a:ext cx="190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dores de uso de recurs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638680" y="3962520"/>
            <a:ext cx="1676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dores de activ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981080" y="3886200"/>
            <a:ext cx="2133720" cy="990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334120" y="3886200"/>
            <a:ext cx="2057400" cy="990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2971800" y="304812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6324480" y="304812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i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ualquier trabajo realizado al interior de una organización. (Ej: Emisión de facturas, preparar pedidos, mantención de equipos, etc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ctividades a nivel unitar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ctividades a nivel de l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ctividades a nivel de lín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ctividades a nivel de empre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Generadores de uso de recursos </a:t>
            </a: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(Driver de recurso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a medida de la cantidad de recursos utilizados (consumidos) por una activid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54200" y="3047040"/>
            <a:ext cx="474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jemplo: Almacén de materia pri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62480" y="3655800"/>
            <a:ext cx="1265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curs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l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818440" y="3655800"/>
            <a:ext cx="172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Driver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% de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018120" y="3654360"/>
            <a:ext cx="2445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ctividad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p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car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ipul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porte inter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b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pach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648320" y="4648320"/>
            <a:ext cx="1066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715000" y="4267080"/>
            <a:ext cx="0" cy="2210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715000" y="42670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46483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715000" y="5029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715000" y="53341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715000" y="57150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715000" y="60958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715000" y="64771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i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000000"/>
                </a:solidFill>
                <a:uFillTx/>
                <a:latin typeface="Times New Roman"/>
              </a:rPr>
              <a:t>Objetivo de Costo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ropósito o actividad para la cual se miden en forma separada los costos. Ej: productos, departamentos, territorio,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e eligen en función de las decisiones que se desean tom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Generadores de actividad </a:t>
            </a: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(Drivers de activida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a medida de la intensidad y frecuencia de la demanda de actividades por parte de los objetos de costos. Es utilizada para asignar los costos de las actividades a los objetos de costos. Identifican una relación de causa-efecto entre amb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78240" y="4266000"/>
            <a:ext cx="510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jemplo: Planificación de la produ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32800" y="4645800"/>
            <a:ext cx="2392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ctividad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am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nzamiento O.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963240" y="4645800"/>
            <a:ext cx="1742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Driver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° de O.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° de carg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552360" y="4645800"/>
            <a:ext cx="2181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bjeto de cos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o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o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638680" y="55627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095880" y="5562720"/>
            <a:ext cx="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095880" y="55627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095880" y="63244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715000" y="64008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248520" y="571464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248520" y="57150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248520" y="64008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Fases y Etapas del Proceso de Asignación ABC - Cos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33520" y="1751400"/>
            <a:ext cx="175248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33520" y="2405520"/>
            <a:ext cx="1752480" cy="1923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etermina-ción del costo de las actividades de cada centr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33520" y="4416480"/>
            <a:ext cx="1752480" cy="2228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etermina-ción del costo de los produc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819520" y="1757520"/>
            <a:ext cx="594360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ap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743200" y="2443680"/>
            <a:ext cx="601992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1" action="ppaction://hlinksldjump"/>
              </a:rPr>
              <a:t>1°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Asignación de los costos indirectos a los cent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743200" y="2900880"/>
            <a:ext cx="601992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2°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Identificación de las activ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743200" y="3358080"/>
            <a:ext cx="601992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° Elección de los generadores de recurs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743200" y="3891600"/>
            <a:ext cx="601992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° Asignación de los costos a las activ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4424760"/>
            <a:ext cx="601992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3" action="ppaction://hlinksldjump"/>
              </a:rPr>
              <a:t>5°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Elección de los generadores de activ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4958280"/>
            <a:ext cx="601992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4" action="ppaction://hlinksldjump"/>
              </a:rPr>
              <a:t>6°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Reclasificación de las activ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736000" y="5415480"/>
            <a:ext cx="607248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5" action="ppaction://hlinksldjump"/>
              </a:rPr>
              <a:t>7°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Cálculo del costo unitario del generador de activ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735640" y="5872680"/>
            <a:ext cx="608148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° Asignación del costo de las actividades a los produc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743200" y="6329880"/>
            <a:ext cx="601992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° Asignación de los costos directos a los produc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286000" y="25909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286000" y="31240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51814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286000" y="56386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286000" y="60958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286000" y="64771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86000" y="35812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286000" y="41148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286000" y="4648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6104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) Asignación de los costos indirectos a los centr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8040" y="2294280"/>
            <a:ext cx="563868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os Indire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253200" y="2294280"/>
            <a:ext cx="212220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os Dire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08040" y="3589200"/>
            <a:ext cx="17524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entro de Compr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360520" y="3589200"/>
            <a:ext cx="167652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entro de Cort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037040" y="3589200"/>
            <a:ext cx="22096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entro de Monta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351240" y="274644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351240" y="312732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H="1">
            <a:off x="1522440" y="312732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522440" y="31273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1240" y="31273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180040" y="31273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>
            <a:hlinkClick r:id="" action="ppaction://hlinkshowjump?jump=previousslide"/>
          </p:cNvPr>
          <p:cNvSpPr/>
          <p:nvPr/>
        </p:nvSpPr>
        <p:spPr>
          <a:xfrm>
            <a:off x="7238880" y="5867280"/>
            <a:ext cx="609840" cy="68580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289">
                <a:moveTo>
                  <a:pt x="0" y="0"/>
                </a:moveTo>
                <a:lnTo>
                  <a:pt x="21600" y="0"/>
                </a:lnTo>
                <a:lnTo>
                  <a:pt x="21600" y="24289"/>
                </a:lnTo>
                <a:lnTo>
                  <a:pt x="0" y="24289"/>
                </a:lnTo>
                <a:close/>
              </a:path>
              <a:path fill="lightenLess" w="21600" h="242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89">
                <a:moveTo>
                  <a:pt x="21600" y="0"/>
                </a:moveTo>
                <a:lnTo>
                  <a:pt x="21600" y="24289"/>
                </a:lnTo>
                <a:lnTo>
                  <a:pt x="20200" y="22889"/>
                </a:lnTo>
                <a:lnTo>
                  <a:pt x="20200" y="1400"/>
                </a:lnTo>
                <a:close/>
              </a:path>
              <a:path fill="darkenLess" w="21600" h="24289">
                <a:moveTo>
                  <a:pt x="21600" y="24289"/>
                </a:moveTo>
                <a:lnTo>
                  <a:pt x="0" y="24289"/>
                </a:lnTo>
                <a:lnTo>
                  <a:pt x="1400" y="22889"/>
                </a:lnTo>
                <a:lnTo>
                  <a:pt x="20200" y="22889"/>
                </a:lnTo>
                <a:close/>
              </a:path>
              <a:path fill="lighten" w="21600" h="24289">
                <a:moveTo>
                  <a:pt x="0" y="242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89"/>
                </a:lnTo>
                <a:close/>
              </a:path>
              <a:path fill="darken" w="21600" h="24289">
                <a:moveTo>
                  <a:pt x="3794" y="8837"/>
                </a:moveTo>
                <a:lnTo>
                  <a:pt x="7301" y="8837"/>
                </a:lnTo>
                <a:lnTo>
                  <a:pt x="7301" y="14172"/>
                </a:lnTo>
                <a:cubicBezTo>
                  <a:pt x="7301" y="15095"/>
                  <a:pt x="8102" y="15826"/>
                  <a:pt x="9138" y="15826"/>
                </a:cubicBezTo>
                <a:lnTo>
                  <a:pt x="10800" y="15826"/>
                </a:lnTo>
                <a:cubicBezTo>
                  <a:pt x="11836" y="15826"/>
                  <a:pt x="12636" y="15095"/>
                  <a:pt x="12636" y="14172"/>
                </a:cubicBezTo>
                <a:lnTo>
                  <a:pt x="12636" y="8837"/>
                </a:lnTo>
                <a:lnTo>
                  <a:pt x="10800" y="8837"/>
                </a:lnTo>
                <a:lnTo>
                  <a:pt x="14308" y="5329"/>
                </a:lnTo>
                <a:lnTo>
                  <a:pt x="17981" y="8837"/>
                </a:lnTo>
                <a:lnTo>
                  <a:pt x="16144" y="8837"/>
                </a:lnTo>
                <a:lnTo>
                  <a:pt x="16144" y="14172"/>
                </a:lnTo>
                <a:cubicBezTo>
                  <a:pt x="16144" y="16940"/>
                  <a:pt x="13568" y="19499"/>
                  <a:pt x="10800" y="19499"/>
                </a:cubicBezTo>
                <a:lnTo>
                  <a:pt x="9138" y="19499"/>
                </a:lnTo>
                <a:cubicBezTo>
                  <a:pt x="6370" y="19499"/>
                  <a:pt x="3794" y="16940"/>
                  <a:pt x="3794" y="14172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) Identificación de las activida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380880" y="2362320"/>
          <a:ext cx="8763120" cy="3200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362320"/>
                    <a:ext cx="8763120" cy="32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0" name="">
            <a:hlinkClick r:id="rId3" action="ppaction://hlinksldjump"/>
          </p:cNvPr>
          <p:cNvSpPr/>
          <p:nvPr/>
        </p:nvSpPr>
        <p:spPr>
          <a:xfrm>
            <a:off x="7238880" y="5867280"/>
            <a:ext cx="609840" cy="68580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289">
                <a:moveTo>
                  <a:pt x="0" y="0"/>
                </a:moveTo>
                <a:lnTo>
                  <a:pt x="21600" y="0"/>
                </a:lnTo>
                <a:lnTo>
                  <a:pt x="21600" y="24289"/>
                </a:lnTo>
                <a:lnTo>
                  <a:pt x="0" y="24289"/>
                </a:lnTo>
                <a:close/>
              </a:path>
              <a:path fill="lightenLess" w="21600" h="242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89">
                <a:moveTo>
                  <a:pt x="21600" y="0"/>
                </a:moveTo>
                <a:lnTo>
                  <a:pt x="21600" y="24289"/>
                </a:lnTo>
                <a:lnTo>
                  <a:pt x="20200" y="22889"/>
                </a:lnTo>
                <a:lnTo>
                  <a:pt x="20200" y="1400"/>
                </a:lnTo>
                <a:close/>
              </a:path>
              <a:path fill="darkenLess" w="21600" h="24289">
                <a:moveTo>
                  <a:pt x="21600" y="24289"/>
                </a:moveTo>
                <a:lnTo>
                  <a:pt x="0" y="24289"/>
                </a:lnTo>
                <a:lnTo>
                  <a:pt x="1400" y="22889"/>
                </a:lnTo>
                <a:lnTo>
                  <a:pt x="20200" y="22889"/>
                </a:lnTo>
                <a:close/>
              </a:path>
              <a:path fill="lighten" w="21600" h="24289">
                <a:moveTo>
                  <a:pt x="0" y="242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89"/>
                </a:lnTo>
                <a:close/>
              </a:path>
              <a:path fill="darken" w="21600" h="24289">
                <a:moveTo>
                  <a:pt x="3794" y="8837"/>
                </a:moveTo>
                <a:lnTo>
                  <a:pt x="7301" y="8837"/>
                </a:lnTo>
                <a:lnTo>
                  <a:pt x="7301" y="14172"/>
                </a:lnTo>
                <a:cubicBezTo>
                  <a:pt x="7301" y="15095"/>
                  <a:pt x="8102" y="15826"/>
                  <a:pt x="9138" y="15826"/>
                </a:cubicBezTo>
                <a:lnTo>
                  <a:pt x="10800" y="15826"/>
                </a:lnTo>
                <a:cubicBezTo>
                  <a:pt x="11836" y="15826"/>
                  <a:pt x="12636" y="15095"/>
                  <a:pt x="12636" y="14172"/>
                </a:cubicBezTo>
                <a:lnTo>
                  <a:pt x="12636" y="8837"/>
                </a:lnTo>
                <a:lnTo>
                  <a:pt x="10800" y="8837"/>
                </a:lnTo>
                <a:lnTo>
                  <a:pt x="14308" y="5329"/>
                </a:lnTo>
                <a:lnTo>
                  <a:pt x="17981" y="8837"/>
                </a:lnTo>
                <a:lnTo>
                  <a:pt x="16144" y="8837"/>
                </a:lnTo>
                <a:lnTo>
                  <a:pt x="16144" y="14172"/>
                </a:lnTo>
                <a:cubicBezTo>
                  <a:pt x="16144" y="16940"/>
                  <a:pt x="13568" y="19499"/>
                  <a:pt x="10800" y="19499"/>
                </a:cubicBezTo>
                <a:lnTo>
                  <a:pt x="9138" y="19499"/>
                </a:lnTo>
                <a:cubicBezTo>
                  <a:pt x="6370" y="19499"/>
                  <a:pt x="3794" y="16940"/>
                  <a:pt x="3794" y="14172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) Elección de los generadores de activida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62120" y="1958040"/>
            <a:ext cx="289548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62120" y="2391120"/>
            <a:ext cx="2895480" cy="1008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nivel unita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62120" y="3437280"/>
            <a:ext cx="2895480" cy="1313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nivel de lo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62120" y="4729320"/>
            <a:ext cx="2895480" cy="1008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nivel de lín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62120" y="5744160"/>
            <a:ext cx="289548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nivel de empre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657600" y="1958040"/>
            <a:ext cx="472428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dores de activ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657600" y="2391120"/>
            <a:ext cx="4724280" cy="1008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teria prima consumi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o de obra directa (h/h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ras-máqui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652920" y="3405600"/>
            <a:ext cx="4749840" cy="1313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úmeros de puestas a punto de las máquin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denes de comp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vimientos de materi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úmero de órdenes de ven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657600" y="4729320"/>
            <a:ext cx="4724280" cy="1008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iempos empleados en cambios de ingenierí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specificaciones requeridas por el produc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657600" y="5720400"/>
            <a:ext cx="472428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e usan o se asignan arbitrariam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) Elección de los generadores de activida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796680" y="1982880"/>
            <a:ext cx="801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Centro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099600" y="1982880"/>
            <a:ext cx="11131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Actividad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671440" y="1982880"/>
            <a:ext cx="29253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Generadores de actividad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57200" y="20480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7200" y="20480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63680" y="2048040"/>
            <a:ext cx="132372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787400" y="20480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793880" y="2048040"/>
            <a:ext cx="35733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367240" y="20480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373720" y="2048040"/>
            <a:ext cx="32986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672400" y="20480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8672400" y="20480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57200" y="2054160"/>
            <a:ext cx="6480" cy="309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787400" y="1978200"/>
            <a:ext cx="6480" cy="309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67240" y="2054160"/>
            <a:ext cx="6480" cy="309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8672400" y="1978200"/>
            <a:ext cx="6480" cy="309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1240" y="2300400"/>
            <a:ext cx="9655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Compra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899000" y="2300400"/>
            <a:ext cx="33001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Emisión de órdenes de compra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895760" y="2610000"/>
            <a:ext cx="1998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Transporte Interno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479200" y="2300400"/>
            <a:ext cx="2978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Número de órdenes cursada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478120" y="2610000"/>
            <a:ext cx="24361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Número de transport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57200" y="236376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3680" y="2287440"/>
            <a:ext cx="13237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787400" y="2287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793880" y="2287440"/>
            <a:ext cx="35733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367240" y="236376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373720" y="2287440"/>
            <a:ext cx="32986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672400" y="2287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57200" y="2370240"/>
            <a:ext cx="6480" cy="617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787400" y="2293920"/>
            <a:ext cx="6480" cy="617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367240" y="2370240"/>
            <a:ext cx="6480" cy="617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8672400" y="2293920"/>
            <a:ext cx="6480" cy="617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60520" y="2924280"/>
            <a:ext cx="863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Cortado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895040" y="2924280"/>
            <a:ext cx="2734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Corte de la materia prima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896120" y="3233880"/>
            <a:ext cx="3518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Puestas a punto de la maquinaria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895400" y="3543480"/>
            <a:ext cx="19850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Transporte interno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894680" y="3851280"/>
            <a:ext cx="24102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Cambios de ingeniería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475960" y="2924280"/>
            <a:ext cx="16480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Horas-máquina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477760" y="3233880"/>
            <a:ext cx="29145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Número de puestas a punto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478120" y="3543480"/>
            <a:ext cx="24361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Número de transport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475240" y="3851280"/>
            <a:ext cx="21481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Tiempos empleado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57200" y="2989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63680" y="2989440"/>
            <a:ext cx="132372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787400" y="2989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793880" y="2989440"/>
            <a:ext cx="35733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367240" y="2989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373720" y="2989440"/>
            <a:ext cx="32986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8672400" y="2989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57200" y="2995560"/>
            <a:ext cx="6480" cy="1236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787400" y="2919240"/>
            <a:ext cx="6480" cy="1236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367240" y="2995560"/>
            <a:ext cx="6480" cy="1236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672400" y="2919240"/>
            <a:ext cx="6480" cy="1236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58720" y="4167360"/>
            <a:ext cx="8938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Montaj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892880" y="4167360"/>
            <a:ext cx="19195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Montaje de part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896120" y="4476600"/>
            <a:ext cx="3518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Puestas a punto de la maquinaria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895400" y="4784760"/>
            <a:ext cx="19850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Transporte interno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475960" y="4167360"/>
            <a:ext cx="16480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Horas-máquina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477760" y="4476600"/>
            <a:ext cx="29145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Número de puestas a punto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478120" y="4784760"/>
            <a:ext cx="24361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Número de transport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57200" y="42307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63680" y="4230720"/>
            <a:ext cx="13237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87400" y="42307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793880" y="4230720"/>
            <a:ext cx="35733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367240" y="42307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373720" y="4230720"/>
            <a:ext cx="32986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8672400" y="42307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57200" y="4237200"/>
            <a:ext cx="6480" cy="927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57200" y="516420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57200" y="516420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63680" y="5087880"/>
            <a:ext cx="13237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787400" y="4160880"/>
            <a:ext cx="6480" cy="927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87400" y="508788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793880" y="5087880"/>
            <a:ext cx="35733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367240" y="4237200"/>
            <a:ext cx="6480" cy="927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367240" y="516420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373720" y="5087880"/>
            <a:ext cx="32986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8672400" y="4160880"/>
            <a:ext cx="6480" cy="927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8672400" y="508788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672400" y="508788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flipV="1">
            <a:off x="457200" y="1980720"/>
            <a:ext cx="0" cy="3124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 flipV="1">
            <a:off x="5410080" y="1980720"/>
            <a:ext cx="0" cy="3124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57200" y="1981080"/>
            <a:ext cx="8229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57200" y="2286000"/>
            <a:ext cx="8229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57200" y="2895480"/>
            <a:ext cx="8229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57200" y="4191120"/>
            <a:ext cx="8229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>
            <a:hlinkClick r:id="rId1" action="ppaction://hlinksldjump"/>
          </p:cNvPr>
          <p:cNvSpPr/>
          <p:nvPr/>
        </p:nvSpPr>
        <p:spPr>
          <a:xfrm>
            <a:off x="7238880" y="5867280"/>
            <a:ext cx="609840" cy="68580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289">
                <a:moveTo>
                  <a:pt x="0" y="0"/>
                </a:moveTo>
                <a:lnTo>
                  <a:pt x="21600" y="0"/>
                </a:lnTo>
                <a:lnTo>
                  <a:pt x="21600" y="24289"/>
                </a:lnTo>
                <a:lnTo>
                  <a:pt x="0" y="24289"/>
                </a:lnTo>
                <a:close/>
              </a:path>
              <a:path fill="lightenLess" w="21600" h="242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89">
                <a:moveTo>
                  <a:pt x="21600" y="0"/>
                </a:moveTo>
                <a:lnTo>
                  <a:pt x="21600" y="24289"/>
                </a:lnTo>
                <a:lnTo>
                  <a:pt x="20200" y="22889"/>
                </a:lnTo>
                <a:lnTo>
                  <a:pt x="20200" y="1400"/>
                </a:lnTo>
                <a:close/>
              </a:path>
              <a:path fill="darkenLess" w="21600" h="24289">
                <a:moveTo>
                  <a:pt x="21600" y="24289"/>
                </a:moveTo>
                <a:lnTo>
                  <a:pt x="0" y="24289"/>
                </a:lnTo>
                <a:lnTo>
                  <a:pt x="1400" y="22889"/>
                </a:lnTo>
                <a:lnTo>
                  <a:pt x="20200" y="22889"/>
                </a:lnTo>
                <a:close/>
              </a:path>
              <a:path fill="lighten" w="21600" h="24289">
                <a:moveTo>
                  <a:pt x="0" y="242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89"/>
                </a:lnTo>
                <a:close/>
              </a:path>
              <a:path fill="darken" w="21600" h="24289">
                <a:moveTo>
                  <a:pt x="3794" y="8837"/>
                </a:moveTo>
                <a:lnTo>
                  <a:pt x="7301" y="8837"/>
                </a:lnTo>
                <a:lnTo>
                  <a:pt x="7301" y="14172"/>
                </a:lnTo>
                <a:cubicBezTo>
                  <a:pt x="7301" y="15095"/>
                  <a:pt x="8102" y="15826"/>
                  <a:pt x="9138" y="15826"/>
                </a:cubicBezTo>
                <a:lnTo>
                  <a:pt x="10800" y="15826"/>
                </a:lnTo>
                <a:cubicBezTo>
                  <a:pt x="11836" y="15826"/>
                  <a:pt x="12636" y="15095"/>
                  <a:pt x="12636" y="14172"/>
                </a:cubicBezTo>
                <a:lnTo>
                  <a:pt x="12636" y="8837"/>
                </a:lnTo>
                <a:lnTo>
                  <a:pt x="10800" y="8837"/>
                </a:lnTo>
                <a:lnTo>
                  <a:pt x="14308" y="5329"/>
                </a:lnTo>
                <a:lnTo>
                  <a:pt x="17981" y="8837"/>
                </a:lnTo>
                <a:lnTo>
                  <a:pt x="16144" y="8837"/>
                </a:lnTo>
                <a:lnTo>
                  <a:pt x="16144" y="14172"/>
                </a:lnTo>
                <a:cubicBezTo>
                  <a:pt x="16144" y="16940"/>
                  <a:pt x="13568" y="19499"/>
                  <a:pt x="10800" y="19499"/>
                </a:cubicBezTo>
                <a:lnTo>
                  <a:pt x="9138" y="19499"/>
                </a:lnTo>
                <a:cubicBezTo>
                  <a:pt x="6370" y="19499"/>
                  <a:pt x="3794" y="16940"/>
                  <a:pt x="3794" y="14172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) Reclasificación de Activida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ctivida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nera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isión de órdenes de compr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úmero de órdenes cursa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porte intern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úmero de transpor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te de materia prim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ras-máqu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estas a punto de las máquina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úmero de puestas a pu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mbios de ingenierí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empos emple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ntaje de part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ras máqu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>
            <a:hlinkClick r:id="rId1" action="ppaction://hlinksldjump"/>
          </p:cNvPr>
          <p:cNvSpPr/>
          <p:nvPr/>
        </p:nvSpPr>
        <p:spPr>
          <a:xfrm>
            <a:off x="7238880" y="5867280"/>
            <a:ext cx="609840" cy="68580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289">
                <a:moveTo>
                  <a:pt x="0" y="0"/>
                </a:moveTo>
                <a:lnTo>
                  <a:pt x="21600" y="0"/>
                </a:lnTo>
                <a:lnTo>
                  <a:pt x="21600" y="24289"/>
                </a:lnTo>
                <a:lnTo>
                  <a:pt x="0" y="24289"/>
                </a:lnTo>
                <a:close/>
              </a:path>
              <a:path fill="lightenLess" w="21600" h="242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89">
                <a:moveTo>
                  <a:pt x="21600" y="0"/>
                </a:moveTo>
                <a:lnTo>
                  <a:pt x="21600" y="24289"/>
                </a:lnTo>
                <a:lnTo>
                  <a:pt x="20200" y="22889"/>
                </a:lnTo>
                <a:lnTo>
                  <a:pt x="20200" y="1400"/>
                </a:lnTo>
                <a:close/>
              </a:path>
              <a:path fill="darkenLess" w="21600" h="24289">
                <a:moveTo>
                  <a:pt x="21600" y="24289"/>
                </a:moveTo>
                <a:lnTo>
                  <a:pt x="0" y="24289"/>
                </a:lnTo>
                <a:lnTo>
                  <a:pt x="1400" y="22889"/>
                </a:lnTo>
                <a:lnTo>
                  <a:pt x="20200" y="22889"/>
                </a:lnTo>
                <a:close/>
              </a:path>
              <a:path fill="lighten" w="21600" h="24289">
                <a:moveTo>
                  <a:pt x="0" y="242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89"/>
                </a:lnTo>
                <a:close/>
              </a:path>
              <a:path fill="darken" w="21600" h="24289">
                <a:moveTo>
                  <a:pt x="3794" y="8837"/>
                </a:moveTo>
                <a:lnTo>
                  <a:pt x="7301" y="8837"/>
                </a:lnTo>
                <a:lnTo>
                  <a:pt x="7301" y="14172"/>
                </a:lnTo>
                <a:cubicBezTo>
                  <a:pt x="7301" y="15095"/>
                  <a:pt x="8102" y="15826"/>
                  <a:pt x="9138" y="15826"/>
                </a:cubicBezTo>
                <a:lnTo>
                  <a:pt x="10800" y="15826"/>
                </a:lnTo>
                <a:cubicBezTo>
                  <a:pt x="11836" y="15826"/>
                  <a:pt x="12636" y="15095"/>
                  <a:pt x="12636" y="14172"/>
                </a:cubicBezTo>
                <a:lnTo>
                  <a:pt x="12636" y="8837"/>
                </a:lnTo>
                <a:lnTo>
                  <a:pt x="10800" y="8837"/>
                </a:lnTo>
                <a:lnTo>
                  <a:pt x="14308" y="5329"/>
                </a:lnTo>
                <a:lnTo>
                  <a:pt x="17981" y="8837"/>
                </a:lnTo>
                <a:lnTo>
                  <a:pt x="16144" y="8837"/>
                </a:lnTo>
                <a:lnTo>
                  <a:pt x="16144" y="14172"/>
                </a:lnTo>
                <a:cubicBezTo>
                  <a:pt x="16144" y="16940"/>
                  <a:pt x="13568" y="19499"/>
                  <a:pt x="10800" y="19499"/>
                </a:cubicBezTo>
                <a:lnTo>
                  <a:pt x="9138" y="19499"/>
                </a:lnTo>
                <a:cubicBezTo>
                  <a:pt x="6370" y="19499"/>
                  <a:pt x="3794" y="16940"/>
                  <a:pt x="3794" y="14172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) Cálculo del costo unitario del generador de Activida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o Unitario = Costo actividad / número d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generado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) Asignación del costo de las actividades a los product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o de la actividad * N° de generadores de cada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produc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>
            <a:hlinkClick r:id="rId1" action="ppaction://hlinksldjump"/>
          </p:cNvPr>
          <p:cNvSpPr/>
          <p:nvPr/>
        </p:nvSpPr>
        <p:spPr>
          <a:xfrm>
            <a:off x="7238880" y="5867280"/>
            <a:ext cx="609840" cy="68580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289">
                <a:moveTo>
                  <a:pt x="0" y="0"/>
                </a:moveTo>
                <a:lnTo>
                  <a:pt x="21600" y="0"/>
                </a:lnTo>
                <a:lnTo>
                  <a:pt x="21600" y="24289"/>
                </a:lnTo>
                <a:lnTo>
                  <a:pt x="0" y="24289"/>
                </a:lnTo>
                <a:close/>
              </a:path>
              <a:path fill="lightenLess" w="21600" h="242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89">
                <a:moveTo>
                  <a:pt x="21600" y="0"/>
                </a:moveTo>
                <a:lnTo>
                  <a:pt x="21600" y="24289"/>
                </a:lnTo>
                <a:lnTo>
                  <a:pt x="20200" y="22889"/>
                </a:lnTo>
                <a:lnTo>
                  <a:pt x="20200" y="1400"/>
                </a:lnTo>
                <a:close/>
              </a:path>
              <a:path fill="darkenLess" w="21600" h="24289">
                <a:moveTo>
                  <a:pt x="21600" y="24289"/>
                </a:moveTo>
                <a:lnTo>
                  <a:pt x="0" y="24289"/>
                </a:lnTo>
                <a:lnTo>
                  <a:pt x="1400" y="22889"/>
                </a:lnTo>
                <a:lnTo>
                  <a:pt x="20200" y="22889"/>
                </a:lnTo>
                <a:close/>
              </a:path>
              <a:path fill="lighten" w="21600" h="24289">
                <a:moveTo>
                  <a:pt x="0" y="242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89"/>
                </a:lnTo>
                <a:close/>
              </a:path>
              <a:path fill="darken" w="21600" h="24289">
                <a:moveTo>
                  <a:pt x="3794" y="8837"/>
                </a:moveTo>
                <a:lnTo>
                  <a:pt x="7301" y="8837"/>
                </a:lnTo>
                <a:lnTo>
                  <a:pt x="7301" y="14172"/>
                </a:lnTo>
                <a:cubicBezTo>
                  <a:pt x="7301" y="15095"/>
                  <a:pt x="8102" y="15826"/>
                  <a:pt x="9138" y="15826"/>
                </a:cubicBezTo>
                <a:lnTo>
                  <a:pt x="10800" y="15826"/>
                </a:lnTo>
                <a:cubicBezTo>
                  <a:pt x="11836" y="15826"/>
                  <a:pt x="12636" y="15095"/>
                  <a:pt x="12636" y="14172"/>
                </a:cubicBezTo>
                <a:lnTo>
                  <a:pt x="12636" y="8837"/>
                </a:lnTo>
                <a:lnTo>
                  <a:pt x="10800" y="8837"/>
                </a:lnTo>
                <a:lnTo>
                  <a:pt x="14308" y="5329"/>
                </a:lnTo>
                <a:lnTo>
                  <a:pt x="17981" y="8837"/>
                </a:lnTo>
                <a:lnTo>
                  <a:pt x="16144" y="8837"/>
                </a:lnTo>
                <a:lnTo>
                  <a:pt x="16144" y="14172"/>
                </a:lnTo>
                <a:cubicBezTo>
                  <a:pt x="16144" y="16940"/>
                  <a:pt x="13568" y="19499"/>
                  <a:pt x="10800" y="19499"/>
                </a:cubicBezTo>
                <a:lnTo>
                  <a:pt x="9138" y="19499"/>
                </a:lnTo>
                <a:cubicBezTo>
                  <a:pt x="6370" y="19499"/>
                  <a:pt x="3794" y="16940"/>
                  <a:pt x="3794" y="14172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 u="sng">
                <a:solidFill>
                  <a:srgbClr val="000000"/>
                </a:solidFill>
                <a:uFillTx/>
                <a:latin typeface="Times New Roman"/>
              </a:rPr>
              <a:t>Ejemplo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059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ntecedentes</a:t>
            </a:r>
            <a:r>
              <a:rPr b="0" i="1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Una empresa fabrica dos productos, X e Y, para los cuales se tienen los siguientes dat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6" name="" descr=""/>
          <p:cNvPicPr/>
          <p:nvPr/>
        </p:nvPicPr>
        <p:blipFill>
          <a:blip r:embed="rId1"/>
          <a:stretch/>
        </p:blipFill>
        <p:spPr>
          <a:xfrm>
            <a:off x="914400" y="2813040"/>
            <a:ext cx="7543800" cy="153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/>
          </p:nvPr>
        </p:nvSpPr>
        <p:spPr>
          <a:xfrm>
            <a:off x="380520" y="38088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ara la producción la empresa cuenta con cuatro departamento, para los que se conocen los siguientes dat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8" name="" descr=""/>
          <p:cNvPicPr/>
          <p:nvPr/>
        </p:nvPicPr>
        <p:blipFill>
          <a:blip r:embed="rId1"/>
          <a:stretch/>
        </p:blipFill>
        <p:spPr>
          <a:xfrm>
            <a:off x="1219320" y="1295280"/>
            <a:ext cx="6933960" cy="259560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/>
          <p:nvPr/>
        </p:nvSpPr>
        <p:spPr>
          <a:xfrm>
            <a:off x="457200" y="41911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onsumo unitario de horas de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ano de obra direc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2"/>
          <a:stretch/>
        </p:blipFill>
        <p:spPr>
          <a:xfrm>
            <a:off x="1981080" y="4987800"/>
            <a:ext cx="5334120" cy="110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i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cumulación de costos y sistemas de costo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umulación de costos es la recopilación de información de costos en una forma organizada mediante un sistema de contabilida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stema significa “regularidad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ctividades por departa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2" name="" descr=""/>
          <p:cNvPicPr/>
          <p:nvPr/>
        </p:nvPicPr>
        <p:blipFill>
          <a:blip r:embed="rId1"/>
          <a:stretch/>
        </p:blipFill>
        <p:spPr>
          <a:xfrm>
            <a:off x="838080" y="1181160"/>
            <a:ext cx="7239240" cy="1630440"/>
          </a:xfrm>
          <a:prstGeom prst="rect">
            <a:avLst/>
          </a:prstGeom>
          <a:ln w="0">
            <a:noFill/>
          </a:ln>
        </p:spPr>
      </p:pic>
      <p:pic>
        <p:nvPicPr>
          <p:cNvPr id="353" name="" descr=""/>
          <p:cNvPicPr/>
          <p:nvPr/>
        </p:nvPicPr>
        <p:blipFill>
          <a:blip r:embed="rId2"/>
          <a:stretch/>
        </p:blipFill>
        <p:spPr>
          <a:xfrm>
            <a:off x="914400" y="4114800"/>
            <a:ext cx="7162920" cy="1916280"/>
          </a:xfrm>
          <a:prstGeom prst="rect">
            <a:avLst/>
          </a:prstGeom>
          <a:ln w="0">
            <a:noFill/>
          </a:ln>
        </p:spPr>
      </p:pic>
      <p:sp>
        <p:nvSpPr>
          <p:cNvPr id="354" name=""/>
          <p:cNvSpPr/>
          <p:nvPr/>
        </p:nvSpPr>
        <p:spPr>
          <a:xfrm>
            <a:off x="838080" y="327672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Otros anteced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osteo A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07696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Supongamos que la empresa realizó la primera etapa, es decir, eligió los drivers de recursos y asignó los costos indirectos a las actividades, llegando a los siguientes costos por activida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steo de las Actividade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Actividades de maquinaria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1.6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Gestión de pedido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3.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Gestión de Cliente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1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Otro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  3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ostos totale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6.4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30592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hora entonces corresponde elegir para cada actividad el generador (driver) de actividades, para luego asignar el costo de las actividades a los product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304920" y="2868480"/>
            <a:ext cx="8534160" cy="17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" descr=""/>
          <p:cNvPicPr/>
          <p:nvPr/>
        </p:nvPicPr>
        <p:blipFill>
          <a:blip r:embed="rId1"/>
          <a:stretch/>
        </p:blipFill>
        <p:spPr>
          <a:xfrm>
            <a:off x="304920" y="1935000"/>
            <a:ext cx="8610480" cy="27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609480" y="1965240"/>
            <a:ext cx="7848720" cy="2897280"/>
          </a:xfrm>
          <a:prstGeom prst="rect">
            <a:avLst/>
          </a:prstGeom>
          <a:ln w="0">
            <a:noFill/>
          </a:ln>
        </p:spPr>
      </p:pic>
      <p:sp>
        <p:nvSpPr>
          <p:cNvPr id="361" name=""/>
          <p:cNvSpPr/>
          <p:nvPr/>
        </p:nvSpPr>
        <p:spPr>
          <a:xfrm>
            <a:off x="457200" y="762120"/>
            <a:ext cx="8305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n resumen, los costos de cada producto son los siguiente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ii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asificación de los Costo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acuerdo a su identificación con el objetivo de cos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stos Directo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Aquellos que se pueden identificar específicamente con un solo objetivo de costo, en forma económicamente facti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stos Indirecto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Aquellos que no pueden ser identificados con un solo objetivo de costo, en forma económicamente facti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ii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asificación de los Costo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b)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e acuerdo a su variabilidad con el nivel de producció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stos Fijo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: Aquellos que son independientes, en un cierto rango, del nivel de activ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stos Variable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: Aquellos que varían en proporción directa con el nivel de activid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stos semifijo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: Crecen a saltos según se alcanzan ciertos volúmenes de activid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stos semivariable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: Fijos hasta un cierto nivel y luego variab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Monica Mena Valderas</dc:creator>
  <dc:description/>
  <dc:language>en-US</dc:language>
  <cp:lastModifiedBy>Michael Jorrat De Luis</cp:lastModifiedBy>
  <cp:lastPrinted>2000-06-08T22:31:45Z</cp:lastPrinted>
  <dcterms:modified xsi:type="dcterms:W3CDTF">2004-10-22T01:04:35Z</dcterms:modified>
  <cp:revision>28</cp:revision>
  <dc:subject/>
  <dc:title>Contabilidad Administrativa</dc:title>
</cp:coreProperties>
</file>