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178-50EF-4682-B6DB-88100373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13D-DAAF-4E92-83F7-4F997EBE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35E-A8C4-4010-A1BD-35B6715A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C66-4C2D-49E6-8E9A-DC7D66D0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4FEA-EBE0-4C34-8D96-EA3AE3A1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C0B0-E559-42C4-9229-B71257D8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291F-CF33-44A6-8466-C5ED204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8EE6-6E2C-403E-9332-3D52AD61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9994-5EFC-4BFB-9A26-307C4517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63AE-B8DE-44EB-AA4B-674BF8AC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3A9B-440A-46B0-98CB-6E03B14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9D9-C02B-4E10-9026-E1D7A962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0FB8-71FF-4E21-87D9-504EC54E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BBE5-EFBE-45D7-8381-6993160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8C70-B008-48E5-9BAB-74EA336F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B027-07FE-4382-812D-9C3D6CAB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83D8-9B1E-4FFC-9257-36D9C032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302-B410-4AC1-BCD0-DA60FAA2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186-459D-424C-9177-E9794D34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90E-7465-4787-95BE-8042C274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4EF-7880-4BDA-8BAB-59D28E46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939-C3BF-436D-87B6-F04E3EE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DDB-EF24-4478-996F-1742F6B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C13-8B02-4273-979A-CCC49A11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8232-5DA4-4D7E-98A6-001C715A385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6CF-F863-464D-8D07-3009AA39717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hay impuesto a la renta, la definición más correcta de la rentabilidad sobre activos es la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. + Intereses x (1-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8364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0864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2280" y="1098720"/>
            <a:ext cx="8839440" cy="553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11. Análisis Financi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 + Inter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ivan.alvarez</cp:lastModifiedBy>
  <cp:lastPrinted>1999-03-18T21:04:13Z</cp:lastPrinted>
  <dcterms:modified xsi:type="dcterms:W3CDTF">2006-04-24T12:13:18Z</dcterms:modified>
  <cp:revision>10</cp:revision>
  <dc:subject/>
  <dc:title>Análisis Financiero</dc:title>
</cp:coreProperties>
</file>