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2A34-9CFF-4A8D-BADF-25EAC1EA8295}" type="slidenum">
              <a:rPr b="0" lang="es-MX"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0A4F-403D-4C7E-9DD8-78E66E1BF9F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F6FC-1B7E-48E1-A45E-2923477BDA9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F858-16EB-407F-8EAA-A5FFFDCEBC9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2F6B-533D-4B5D-8E78-066E1B63E48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499CF-3FB1-4A73-A246-972A6DF0BCB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6C0B-697C-440A-8C55-76FC7D804BC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1B268-732B-482F-90FB-50A57D0881A5}"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F89F-1C75-4F6D-88AC-DBB4BA3BFA4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FF76-FC9C-46B4-88DE-FCE4D9AAE5F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D5D6-1F2F-447D-B245-59525B51A4A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D3D9-37FE-4571-862F-F0EFCCE09E0A}"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4A09-E43C-4F8A-89D5-C2064EADB07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2922-496C-419D-93A2-C18203AF0CF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8B3D-C579-468A-810D-0EBB37D80F1C}"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80E6-494F-47E9-89C3-35710F1BF94E}"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9EE4-9D40-46EB-A1A3-1E9966684A3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06ED-835A-4982-8ACB-89359B544C5F}"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5AB7-4292-4832-95C9-6ABB7CF7080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2273-7023-4BA3-A4DF-5E4C49AD386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7557F-B051-441C-AB78-BCB8F1B5D524}"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2DF8-E373-4A79-8045-2F97235C00A8}"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9448-79B7-4888-BF3A-AA672160508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C2DC-6870-49B6-B884-7008ECBCA1D2}"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D4F7-4D3E-406A-8820-F282036F83A3}"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41CC-DBED-492E-9BE2-D809DD2E7A47}"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B6F2-8A39-4C61-BEA4-8E2C0C5FAC0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683D-A66F-4F2E-BC08-B2601E3F25A9}"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8935-4661-4D7C-9924-4B2F60C92056}" type="slidenum">
              <a:rPr b="0" lang="es-MX"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65D784-91D0-4CDF-881C-62E682EF2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1BA4FC-9639-4EA9-A7B8-4EE2807E6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30818E2-CF7F-4F9A-89DA-4C642AC0C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A3F3CC4-45D7-45A1-9384-A3531E558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D54F8-FAB2-4805-A5BD-89E4C8ADD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1E476-D247-402F-9B56-18B9665BB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D628A-60CA-407F-96FB-F9E161615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5195E-D87F-4AF3-86DA-4845E16EE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4B99B-C8D9-4B08-9787-85D9A170C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657B9-43EE-4BF7-860C-EFB3D08E8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4F228-CEF0-4631-80F3-5A89C1B95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8B2802-A475-4CA0-916E-0F38EE8C1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293ED-3105-4AE8-B165-C7E189BE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77A3B-99FF-4CD3-9DB3-72A872DDF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10241-BB79-4B3E-BE0F-72798E4AC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9AFCF-C1B3-471E-8C16-70BFD33E7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3B51E-7197-45C6-B23B-63301B854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E9BC02-C478-4C39-A89B-75214B56A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3E1FFC-5828-49B9-AEC9-D3A84939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A45E8D-F83B-48BA-86DF-C8F87AE8E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572473-CB06-42D0-B68B-B6BC56CA4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13D97C-445B-429F-BCAC-2845FD0BD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2001DF-D677-45F5-B5D3-C7B88DE1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E0830D-2D25-4A94-8DE1-072708D89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81FE-FC5C-4181-8335-B67D27FE3F80}"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CDC6-5878-4B6E-875C-45D960CCA1DB}"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1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7"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8"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9"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40"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41"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42"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43"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44"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45"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46" name="13 Conector recto de flecha"/>
          <p:cNvCxnSpPr>
            <a:stCxn id="137" idx="3"/>
            <a:endCxn id="138"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7" name="16 Conector recto de flecha"/>
          <p:cNvCxnSpPr>
            <a:stCxn id="138" idx="3"/>
            <a:endCxn id="139"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8" name="19 Conector recto de flecha"/>
          <p:cNvCxnSpPr>
            <a:stCxn id="138" idx="3"/>
            <a:endCxn id="140"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9" name="21 Conector recto de flecha"/>
          <p:cNvCxnSpPr>
            <a:stCxn id="138" idx="3"/>
            <a:endCxn id="141"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50" name="23 Conector recto de flecha"/>
          <p:cNvCxnSpPr>
            <a:stCxn id="140" idx="3"/>
            <a:endCxn id="142"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51" name="25 Conector recto de flecha"/>
          <p:cNvCxnSpPr>
            <a:stCxn id="140" idx="3"/>
            <a:endCxn id="143"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52" name="27 Conector recto de flecha"/>
          <p:cNvCxnSpPr>
            <a:stCxn id="141" idx="3"/>
            <a:endCxn id="144"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53" name="29 Conector recto de flecha"/>
          <p:cNvCxnSpPr>
            <a:stCxn id="141" idx="3"/>
            <a:endCxn id="145" idx="1"/>
          </p:cNvCxnSpPr>
          <p:nvPr/>
        </p:nvCxnSpPr>
        <p:spPr>
          <a:xfrm>
            <a:off x="6289200" y="3462120"/>
            <a:ext cx="367560" cy="433800"/>
          </a:xfrm>
          <a:prstGeom prst="straightConnector1">
            <a:avLst/>
          </a:prstGeom>
          <a:ln w="9360">
            <a:solidFill>
              <a:srgbClr val="0098cc"/>
            </a:solidFill>
            <a:miter/>
            <a:tailEnd len="med" type="arrow" w="med"/>
          </a:ln>
        </p:spPr>
      </p:cxnSp>
      <p:sp>
        <p:nvSpPr>
          <p:cNvPr id="154"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55"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56" name="33 Conector recto de flecha"/>
          <p:cNvCxnSpPr>
            <a:stCxn id="137" idx="3"/>
            <a:endCxn id="154"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7" name="35 Conector recto de flecha"/>
          <p:cNvCxnSpPr>
            <a:stCxn id="154" idx="3"/>
            <a:endCxn id="155" idx="1"/>
          </p:cNvCxnSpPr>
          <p:nvPr/>
        </p:nvCxnSpPr>
        <p:spPr>
          <a:xfrm>
            <a:off x="3987720" y="4168440"/>
            <a:ext cx="527760" cy="5400"/>
          </a:xfrm>
          <a:prstGeom prst="straightConnector1">
            <a:avLst/>
          </a:prstGeom>
          <a:ln w="9360">
            <a:solidFill>
              <a:srgbClr val="0098cc"/>
            </a:solidFill>
            <a:miter/>
            <a:tailEnd len="med" type="arrow" w="med"/>
          </a:ln>
        </p:spPr>
      </p:cxnSp>
      <p:sp>
        <p:nvSpPr>
          <p:cNvPr id="158"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9"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60"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61"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62" name="41 Conector recto de flecha"/>
          <p:cNvCxnSpPr>
            <a:stCxn id="137" idx="3"/>
            <a:endCxn id="158"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63" name="43 Conector recto de flecha"/>
          <p:cNvCxnSpPr>
            <a:stCxn id="158" idx="3"/>
            <a:endCxn id="161"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64" name="45 Conector recto de flecha"/>
          <p:cNvCxnSpPr>
            <a:stCxn id="158" idx="3"/>
            <a:endCxn id="160"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65" name="47 Conector recto de flecha"/>
          <p:cNvCxnSpPr>
            <a:stCxn id="158" idx="3"/>
            <a:endCxn id="159"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9"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13"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10-05-03T11:58:21Z</dcterms:modified>
  <cp:revision>37</cp:revision>
  <dc:subject/>
  <dc:title>Diapositiva 1</dc:title>
</cp:coreProperties>
</file>