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7AA8-48DD-46F0-8E74-CBB72DEE3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E6D0-E719-4789-BCA3-0C1BB99D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1A87-F448-4668-A997-E80DF81C1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A11C-2CF7-4354-8A80-EAA748D7D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4FE9-202D-4B82-9CA2-F3F3A91CE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1CB2-FE83-41CC-AA21-87F821F9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5FFE-5838-46A1-AADD-9DBD0CD1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CF4D-361B-4E9B-87A1-04FB9836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8C12-6A73-45F1-896B-84BDF3CF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C3EB-F9A7-4103-8FF0-887F5BFE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EFDA-FB61-41B4-B500-F6E51B72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AFAA-D329-4569-A717-3DD61B58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1D9A-48AB-4C36-A2F5-B6505729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9D87-D8A6-444D-A2B1-63CDA549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4E9D-8409-42CE-B068-64A2ED67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8B55-F25D-4D32-ADD6-287CAC719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223A-9C3C-45A3-A193-94FC464F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3147-FEB5-48C8-8908-1FEC77B8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52D8-D6BB-4E79-8B39-44C02634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6FBE-87E3-4917-9243-1F0E7439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E9CE-45AB-44AF-BEF2-F56C6949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A367-A1C2-4F75-8549-23921AA8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6896-C8B6-468A-889C-9CAE07A1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6432-84E5-4691-83F4-2F148EC5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11ED-383E-48AD-9E01-9E5D98ECE053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3D1F-24B4-4988-9033-A9595CD6C80F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80629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Flujo Neto Originado por Actividades de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Variación Neta del Efectivo y Efectivo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quival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477720" indent="0">
              <a:buNone/>
              <a:tabLst>
                <a:tab algn="l" pos="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  <a:tab algn="l" pos="10034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que no son flujo de efectivo (depreciación, provisione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activos circulantes (clientes, existencia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pasivos circulantes (proveedores, retencione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Fluj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207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jemplo de E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9080" y="1092240"/>
            <a:ext cx="85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alance Inicial (en M$)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1773360"/>
          <a:ext cx="86868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6868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urante los tres meses siguientes realiza las siguientes transac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vende mercadería por un monto de M$ 1.200, pagándose 50% a plazo y el resto al contado. El costo de la mercadería fue de M$ 9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lientes pagan M$ 500 que adeudaban a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400 que se adeudaba a los provee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ntrega el 50% de los bienes pagados por anticipado, obteniendo un margen de ganancia, sobre ingresos, del 4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200 por concepto de remuner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mite acciones de pago por M$ 7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ide un préstamo bancario por M$ 800, a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compra activo fijo por M$ 2000, pagando al con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amortiza el 10% de las obligaciones con bancos vigentes a fines del ejercicio anterior y se cancelan los intereses devengados en el trimest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4978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NOTA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deuda inicial se contrajo a un tasa de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l activo fijo le resta una vida útil de 20 años y su valor residual es c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seguro tiene una duración de 1 año y fue contratado hace 2 m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5543640" cy="5976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24000" y="189000"/>
            <a:ext cx="256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ibro Di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08000" y="1611360"/>
            <a:ext cx="8964720" cy="37098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Balance F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87280" y="1781280"/>
            <a:ext cx="6337440" cy="42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78000" y="677880"/>
            <a:ext cx="838800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Operac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1.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a proveedo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uneracion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2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1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Operació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316,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Financiamient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7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éstamos obteni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3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Financiamiento      1.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Invers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a de activo fij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Negativo por Actividades de Inversión  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Total Negativ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(4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85720" y="1057320"/>
            <a:ext cx="8307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iliación entre el flujo neto originado por actividades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ración y el resultado ne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érdida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71,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reciación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37,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mento deudores por ven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(1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existenci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1.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segur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cuentas por pagar                     (4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ingresos anticipados                 (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ujo Neto Operacion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316,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generación de flujos de efectivo es un objetivo relevante dentro del contexto de la administración financiera de las empre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apacidad para producirlos es materia de constante atención por parte de quienes se interesan por la marcha financiera de la entidad, tales como inversionistas, acreedores y otros entes involucr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l situación hace necesario incorporar un estado financiero que de cuenta de e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stado de Flujo de Efectivo (EFE) es un estado financie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yo  objetivo es proveer información relevante sobre l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Egresos de Efectivo de una entidad producid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ante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5084640"/>
            <a:ext cx="8699400" cy="130932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ibliografía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eigs &amp; Meigs: “Contabilidad, la base para las decisiones gerenciales”, capítulo 19 (“Medición del Flujo de Efectiv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oletín Técnico N° 50 del Colegio de Conta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ircular N° 1312 de la Superintendencia de Valores y Segu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EFE ayuda a los inversionistas, acreedores y otros 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generar flujos de efectivo netos positiv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cumplir con sus obligaciones y repartir utilidades en efectiv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ar sus necesidades de financiamiento ext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icar las causas que explican la diferencia entre el Resultado del Ejercicio y el flujo de efectivo neto operac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ocer los efectos que producen, en la posición financiera de la empresa, las actividades de financiamiento e inversiones que involucran efectivo y aquellas que no lo involucr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concepto de Efectivo incluye dos elementos: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Saldos disponibles en caja y bancos</a:t>
            </a:r>
            <a:br>
              <a:rPr sz="2400"/>
            </a:br>
            <a:br>
              <a:rPr sz="2400"/>
            </a:b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 equivalente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Inversiones de corto plazo que cumplen los siguientes requisitos: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pueden convertir rápidamente en efectivo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intención de convertirlos en efectivo ant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 días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riesgo mínimo de pérdida significativa de va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ducto de la conversión, (Ej: depósitos a plazo 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eriores a 90 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52280" y="691920"/>
            <a:ext cx="8839440" cy="51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FE tiene dos part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jo neto total del periodo, o flujo clasificado por activ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B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4200" y="1052280"/>
            <a:ext cx="7489800" cy="56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la 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y otros repart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a proveedores y pers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 pagado, IVA y ot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gastos pagados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260360" y="260280"/>
            <a:ext cx="763272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2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tención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as fuent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dividen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t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por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588680" y="333000"/>
            <a:ext cx="7015320" cy="62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3"/>
              <a:tabLst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 activo fi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 de 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Venta de otras inver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rporación de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instrumen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5T18:02:10Z</dcterms:created>
  <dc:creator>I. D. I. E. M.</dc:creator>
  <dc:description/>
  <dc:language>en-US</dc:language>
  <cp:lastModifiedBy>ivan.alvarez</cp:lastModifiedBy>
  <cp:lastPrinted>1999-03-18T21:04:38Z</cp:lastPrinted>
  <dcterms:modified xsi:type="dcterms:W3CDTF">2006-04-24T12:13:23Z</dcterms:modified>
  <cp:revision>24</cp:revision>
  <dc:subject/>
  <dc:title>ESTADISTICAS DE POLIMEROS</dc:title>
</cp:coreProperties>
</file>