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5EE2-2BE1-49F3-BCAC-450E5643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9F37-D37E-403D-9C38-19CC3E2F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3CCC-2382-4A3A-8288-7286CE0BA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D369-CEA0-4ABD-A557-36AC023E1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F41C-F09D-428F-9FC6-00F334BD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44A1-1FD1-46EB-B9FF-D01B9C0E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7B17-38C9-4E28-904D-0BE36F40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3370-A11D-4D09-99C7-3BE6132E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346F-DAB4-4825-8133-9558C764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4B9E-6FF7-4248-A308-366D9FC0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73D8-660B-47F8-8181-7BE1F017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8A7C-C29A-41F7-82AC-DA3BC6F9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9B2F-1229-4859-9A5C-9CECD942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92CF-2164-47AA-9D8D-9E4609F7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FD9F-461F-44C0-AC89-9A489AE6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F4D5-C88F-4E7E-83BE-FDCA8402A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1C82-2FC7-4E9B-9EF7-9A6BD5B3D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4849-9621-4DF4-A0AC-CC5B6E20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605A-A0EE-45E4-92BA-416DAC46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FC3A-EAF5-4999-9252-E9F65BFD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469A-7A64-4179-9E07-FE2D38B9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70CB-5337-469A-88CB-36112EFB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6AB3-7AE9-4757-8804-F3E85175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8EAD-0B58-42A9-B616-B722998A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1F97-F0E7-4751-8E6C-6E9D472C69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8494-A9F4-4537-92A4-CCCEACC02E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301560"/>
            <a:ext cx="7772400" cy="27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6: Patrimo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2</a:t>
            </a:r>
            <a:r>
              <a:rPr b="0" i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638360"/>
            <a:ext cx="8915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cide pagar dividendos de $1.5 por acción a un accionista mayoritario que posee el 40% del capital (200.000) con acciones suscritas y pagadas. El pago se efectúa con $1 en efectivo y $0.5 en acciones en cartera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.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3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760" y="1523880"/>
            <a:ext cx="90662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n 500.000 acciones de pagos a un valor libro de $1.2 por acción. Se colocan obteniendo $650.000. El costo de la Operación de Colocación es de $15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3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bre Precio Vta. Acciones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151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9066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Juan Pérez y Oscar González crean un sociedad Ltda., cada uno se compromete a aportar $1.000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aporte por Enterar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aporte por Enterar (A) 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762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ES ANONIM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istingue entre capital Autorizado, Suscrito y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rizado: Aquel que figura en el estatuto y que se estima suficiente para el desenvolvimiento de la soc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crito: Parte del capital autorizado que los accionistas se comprometen a apor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do: Monto de las suscripciones efectivamente pag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475920"/>
            <a:ext cx="8762760" cy="592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constituye una  S.A. por un capital de MM$ 10, el que se divide en 100.000 acciones a $100 c/a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icial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68536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los accionistas suscriben 80.000 accion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se pagan las acciones suscrit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MM$ 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 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134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2 Distribución de Utilidad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 : Cada miembro tiene una cuenta particular, que se carga con los retiros a cuenta de la utilidad del ejercicio y se abona con las utilidades distribu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l Sr. Pérez retira $10.000 a cuenta de la Utilidad d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 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2280" y="875880"/>
            <a:ext cx="8839440" cy="500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al final del Ejercicio se tienen utilidades $300.000 y se decide capitalizar el 50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(Patrimoni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1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la Cuenta Particular tiene saldo deudor, representa un activo de la empresa. En caso contrario, refleja un pasiv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609480"/>
            <a:ext cx="813420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ciedades Anónim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revalorización de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breprecio en venta de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mayor valor retasación técnica Activo F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Reten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futuros divide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dida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(Pérdida) del Ejerc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rovisorios (men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1</a:t>
            </a:r>
            <a:r>
              <a:rPr b="0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gistro de acuerdo a la junta de accionistas en virtud del cual, con cargo a las utilidades del ejercicio de $90.000 se distribuirán dividendos por $40.000, capitalizándose el r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videndos por Pagar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Acumulada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6T18:48:24Z</dcterms:created>
  <dc:creator>Michael Jorratt</dc:creator>
  <dc:description/>
  <dc:language>en-US</dc:language>
  <cp:lastModifiedBy>IVAN ALVAREZ VALDES</cp:lastModifiedBy>
  <cp:lastPrinted>1999-03-18T21:00:01Z</cp:lastPrinted>
  <dcterms:modified xsi:type="dcterms:W3CDTF">2006-04-17T03:19:12Z</dcterms:modified>
  <cp:revision>11</cp:revision>
  <dc:subject/>
  <dc:title>Patrimonio CONTABILIDAD Y CONTROL DE GESTION</dc:title>
</cp:coreProperties>
</file>