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209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E53B0-3879-492B-A7C3-C2E93CB12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BAF71-1607-424D-AA62-32077ADC1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34988-39EE-49DD-922A-B1BE755BD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8450E-0E99-42DF-A4E6-B95D93A53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7D3EE-E508-424F-BEA5-E24A2D849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4A38B-4E7F-4E58-B528-1A213709B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E4F00-A3A7-4C03-BF85-F707FE51C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6469A-7303-4184-B008-72E280289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E84C8-7982-4C1A-B732-A5407AD03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6FE74-B089-4CB4-9637-CC938833A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B3A8E-A1C1-415C-8744-46626EAEA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9B185-E2D3-4FCE-B970-E7E9F526F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841FC-4D48-415E-9ADA-59DF05443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E2960-7EBF-4445-A2F8-1020D3CEC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7BEF3-1593-4E11-818E-0E0935803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7D3B9-D4A0-40F8-8A0A-68BF18CCF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82AAE-D10D-4575-84D2-D53EEF5AC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655F1-BAA7-4836-B7FB-0729B4E83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20DFD-677F-4A21-8986-8CEAE7167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8FDCA-62A4-45CB-9B56-F129C030E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146D3-C7A4-43FB-B57C-A374771E3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1F932-7769-4B39-884A-42A6F00F2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2E973-D8FD-42DE-8101-FB6315E2F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D0CFE-F69A-4CDA-9854-BE7910158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EA2DB-754F-445C-87A1-A8F80377FE77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0616D-8516-4396-B76B-500DB67A677C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71240" y="990360"/>
            <a:ext cx="7086600" cy="19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rimera Parte: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ntabilidad Financiera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773440"/>
            <a:ext cx="8229600" cy="335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pítulo 5: Pasiv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3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80880" y="16761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compra una camioneta vía leasing. El contrato establece 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go de 6 cuotas iguales de m$ 1.000, las que incluyen u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és mensual del 1%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P =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.0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.0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.0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.0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.0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.000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1.01)    (1.01)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(1.01)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(1.01)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(1.01)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(1.01)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P = 5.795,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és Diferido = 6.000 - 5.795,5 = 204,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3 (cont.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81532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Registro Inici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Debe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Hab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 Fijo en leasing (A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.795,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és Diferido (CP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204,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ligaciones por Leasing (P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l primer m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ligaciones por leasi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onib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1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tos Financiero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57,9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és Diferid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57,9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3 (cont.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50920" y="1676520"/>
            <a:ext cx="864216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¿Qué parte de la cuota mensual corresponde a interés 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ánto a capital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Mes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apital por amortizar   Interés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api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.795,48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57,9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42,0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.853,4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48,5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51,4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.901,97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39,0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60,9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.940,99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29,4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70,5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970,4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19,7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80,3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990,1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9,9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90,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0,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3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as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7627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tabilización Tributari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 cuota del leasing es un gasto. Sólo se registra como activ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 última cuota (opción), la cual se depreci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Debe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Hab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ota contrato de leasi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gasto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onib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39640" y="5589720"/>
            <a:ext cx="7920000" cy="4582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 ventaja fundamental del leasing es tributari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siv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incipales rubros del pasiv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ligaciones con el públic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as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incipales Rubros del Pasiv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53452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ligaciones con bancos e instituciones financier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ligaciones con el públic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videndos por pag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entas por pagar, Documentos por pagar y Acreedores vari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vision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tencio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puesto a la ren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s percibidos por adelantad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puestos diferi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68000" y="475920"/>
            <a:ext cx="859932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bligaciones con el Público (Bono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Valor de emisió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Monto que se pagará al tenedor del bon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Tasa de emisió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tasa de interés que se devengará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Valor Pa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capital no amortizado más intereses devengados y no paga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Valor de mercad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precio al que se transa el bono (en función de la tasa de interés de mercado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Cupó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pago parcial del bono, que puede incluir amortización del capital y/o interes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33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1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e emite una serie de bonos a 5 años plazo con valor de emisión de MM$ 700 y tasa de emisión de 6,5%. Anualmente se amortizará la quinta parte del valor de emisión y se pagarán los intereses devengados.  Como la tasa de interés de mercado es de 7,2%, el bono se transó en MM$ 687,46. Los gastos de colocación alcanzaron a MM$ 5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isponible (A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682,4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Gastos financieros (G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5,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Interés diferido (CP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     12,5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Obligación con el público (P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7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33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1 (cont.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imer cupón (pago de capital e intereses)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ligación con el público (P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40,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tos financieros (G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45,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tos financieros (G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2,5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onible (A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85,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és diferido (CP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2,5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79135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2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52280" y="1371240"/>
            <a:ext cx="883944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e emite una serie de bonos a 5 años plazo con valor de emisión de MM$ 700 y tasa de emisión de 7,5%. Anualmente se amortizará la quinta parte del valor de emisión y se pagarán los intereses devengados. Como la tasa de interés de mercado era de 6,8%, el bono se transó en MM$ 712,65. Los gastos de colocación alcanzaron a MM$ 5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isponible (A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707,6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Gastos financieros (G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5,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Ingreso Financiero (I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12,6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Obligación con el público (P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700,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3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as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762760" cy="518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 un contrato de arrendamiento con opción de compr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a empresa solicita a otra (la empresa de leasing) que adquiera un determinado bien para dárselo simultáneamente en arrendamient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 contrato establece el pago de una cuota de arrendamiento por un cierto laps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 final de ese lapso el arrendatario tiene 3 opcion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volver el bi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guir arrendándol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gar la opción y quedarse con el bi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3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as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51920" y="1980720"/>
            <a:ext cx="89154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tabilización Financier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ctivo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Pasiv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 Fijo en leasing (1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ligaciones en Leasing 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eses Diferido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or Presente de las cuotas de arrendamien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2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matoria de las cuot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3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és que generará el contrato durante su vigencia, es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cir (2) - 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11T21:18:56Z</dcterms:created>
  <dc:creator>Michael Jorratt</dc:creator>
  <dc:description/>
  <dc:language>en-US</dc:language>
  <cp:lastModifiedBy>IVAN ALVAREZ VALDES</cp:lastModifiedBy>
  <cp:lastPrinted>1999-03-18T20:56:04Z</cp:lastPrinted>
  <dcterms:modified xsi:type="dcterms:W3CDTF">2006-04-10T04:49:51Z</dcterms:modified>
  <cp:revision>12</cp:revision>
  <dc:subject/>
  <dc:title>Primera Parte: Contabilidad Financiera</dc:title>
</cp:coreProperties>
</file>