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4EDE-3C7D-4928-9498-7337FF7A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E939-0150-4B57-AC26-A29FEE5A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D729-A3C6-4761-B9CF-3E209349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9D47-6E99-4A60-9EEF-12E0B0BFB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D352-A25C-41BA-BDE7-AF895D0C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7655-6584-49DE-9E43-BBE73B7F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9973-0173-4BEC-B7EC-9FA6A472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F404-31B8-402C-91A8-D12E7CBB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DAD2-5138-47BF-9771-B18C2FD7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CBB5-56B3-4C95-9495-38A4DB47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1E09-1F38-4EA9-B984-049DC39E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10B6-4ED3-46FB-B5F4-626B5D1F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53CD-EE5B-4B5F-9D87-92312008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093F-3015-442F-ABFC-7094EE15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7265-91FF-439F-9718-E8E38557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8BD4-60C5-4B19-B682-56681677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081D-41A8-42B9-8AE8-FDC57CE6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80E8-D86A-4CB4-AED2-6CE215C1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4B12-5C3B-4AA5-A8BE-F423F9AC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30E3-35AE-42A1-A963-13276D0F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B246-9FF1-42A0-9723-D8A19CC7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5B88-DCF7-4D72-9D88-90FC43F7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C156-88A4-4EFD-AFC8-DDFE3AFA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709B-CA8C-442E-A803-1ADBF524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BEA6-E9D4-4379-9790-3736E3398BD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0004-BBFC-4E67-82DD-5D396ED21F9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Vicente Astorga Pizarro</cp:lastModifiedBy>
  <cp:lastPrinted>1999-03-18T20:54:39Z</cp:lastPrinted>
  <dcterms:modified xsi:type="dcterms:W3CDTF">2007-03-26T02:34:28Z</dcterms:modified>
  <cp:revision>23</cp:revision>
  <dc:subject/>
  <dc:title>Primera Parte: Contabilidad Financiera</dc:title>
</cp:coreProperties>
</file>