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4FDE-8794-438E-83EF-4521DFD8C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3331-6DBC-46FE-A2F3-2C32636A9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522A-F87A-400E-AD7E-CB850AE72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5B7C-B3FB-4ED7-A1FC-257CEFE54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52972-175B-4C3C-A0B9-2AD5DBE24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7D88D-34EB-4036-8D17-110165198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366DE-88EB-409A-83DF-7643B40EF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26A8D-AE2D-434E-8C5F-A9C09F662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8C264-D808-463E-B0A8-0D7CAC663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00E10-7859-4D8B-8727-03F610484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5A92E-FC7A-42B0-BF13-C7502733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6010-AC61-4FF0-AAFE-0F5C66712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453C3-6B48-48D7-A2CD-F62E055D3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0861C-F402-4D75-A2C4-7F0679777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C7E00-CCE7-4752-ADE7-32D6504F0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9F89A-3DF9-4C24-AC3A-39F4B9872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16AE3-8B98-494C-A892-1CACE5C05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48C1-6681-4DD4-A2B8-DE67A0D8E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C5A0-61B0-43E6-A3BF-CBDE2460E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39CC-B784-4270-8563-F71FA47A8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8C2F-FB80-4410-B0D8-DC241F3C9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8C05-F4E9-4A8B-9518-073AC2887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3AD7-DB91-4E2F-823D-A7DF549A0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EE6D-D9CC-4FF2-ABFA-EA0095C4B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1FE2E-1261-4782-83DD-62B3B328F633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A0931-96B2-4BCD-B25B-AF17BBC62076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990360"/>
            <a:ext cx="70866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774880"/>
            <a:ext cx="8229600" cy="335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ítulo 4: Acti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04560" y="175248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uenta Complementaria del Activo (CA): Cuenta que se comporta como un pasivo pero que se presenta en el balance general como un activo negativo, rebajando al activo que complem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22240" y="3962520"/>
            <a:ext cx="794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por venta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44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rovisione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(2.0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por ventas (neto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42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304560" y="17524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upóngase que se logran recuperar $1.000 de la deuda previamente castig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27432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Ingresos fuera de la explotación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1360" y="4700520"/>
            <a:ext cx="816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as normas tributarias permiten rebajar como gasto los castigos, pero no las provision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7999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ación de Existenci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2741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 PERIODICO : Se cierra el negocio cada cierto tiempo, se cuentan las unidades físicas y se valoriz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 PERPETU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La cuenta existencias se mantiene permanentemente al dí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62120" y="1752480"/>
            <a:ext cx="800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s de Inventari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stema Perió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74880" y="2057400"/>
            <a:ext cx="7788240" cy="41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ntario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mpras del Período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3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rcadería 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ventario Final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80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Explot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6d1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tiliza una cuenta transitori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ercaderí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que se carga con el inventario inicial y las compras (al costo) y se abona con la ventas (a precio de vent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6d1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6d1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e detectan robos ni mermas de mercaderí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stema 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vender mercadería se reduce la cuent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ercaderí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y se aumenta la cuent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sto de V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reconoce el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sto de Ven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ada vez que ocurre una v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quiere poder asociar cada venta con la mercaderí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ongamos que una empresa ha realizado las siguientes compras de mercaderí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.0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unidades a $10 cada u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8.0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 unidades a $11 cada u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el 10.04 vende dos unid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Cuál es el costo de venta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$20, $22, el promedio ponderado, ...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 de la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Unidades Específic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istro Permanente que permite Identificar cuál es el Costo de Adquisición de Cada Unidad Vendi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sa con volúmenes de venta pequeñ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sa para activos de alto valor unitar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10920" y="228600"/>
            <a:ext cx="78469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600" y="1700280"/>
            <a:ext cx="8610480" cy="447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 del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sto Promedio Ponder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valor del Inventario se calcula aplicando a cada artículo en existencias el costo de adquisición promedio ponderado, incluyendo el costo de adquisición de las existencias inici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da vez que ocurre una compra se calcula un nuevo promed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3*10  +5*11)/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0,6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&gt;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*10,62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,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*10,62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3,75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) Método FIFO (o PEP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UESTO : La mercadería que primero entra al inventario es la que primero se ven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mercadería vendida se valora al costo más antiguo, y el inventario queda valorado al costo de adquisición más reci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2*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 + 5*1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0920" y="22824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 LIFO (o UEP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UESTO: La mercadería que ingresó al último es la primera que se ven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mercadería vendida se valora al costo de adquisición más reciente, y las existencias se valoran al costo más antigu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*1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*11 + 3*10  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7360" y="6026040"/>
            <a:ext cx="8064360" cy="8240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IBUTARIAMENTE SE ACEPTA FIFO Y CP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s de Valoración de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nancie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3818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tiene un Inventario Inicial de 300 unidades a $0,95 c/u. El Inventario Final es de 330 uni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116000" y="2276640"/>
            <a:ext cx="3978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RAS DEL PERIOD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050840" y="2743200"/>
            <a:ext cx="771228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í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dad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sto ($/u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Costo Total ($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1,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1,0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3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1,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5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1,12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2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5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116000" y="5029200"/>
            <a:ext cx="67327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S DEL PERIOD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í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4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MEN 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iódic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petu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4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ntario Fina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iódic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4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petu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56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9640" y="2492280"/>
            <a:ext cx="739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9640" y="4653000"/>
            <a:ext cx="7315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9640" y="3645000"/>
            <a:ext cx="7417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IO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FI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= 250*1,12+80*1,1 = 36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 = 300*0,95=2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ras = 1.0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 para la venta = 285 + 1.015 = 1.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 = 1300 - 368 = 9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IO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LI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= 300*0,95+30*1,0 = 3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 para venta no varía = 1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s = 1300- 315 = 9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1280" y="486900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ar que al usar LIFO da un costo de venta mayor 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 FIF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IO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OR CP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PP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300*0,95+101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= 1,04 $/un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300+9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 IF = 330*1,04 = 343,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 para la venta = 1.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sto de Venta = 1300 – 343,2=  956,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S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21880" y="2498760"/>
            <a:ext cx="38426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UNI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09480" y="2895480"/>
            <a:ext cx="4800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438280" y="2590920"/>
            <a:ext cx="0" cy="1218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45676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FIF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sto Venta = 300*0,95+200*1= 4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 = 300*1,05 = 3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23 : Costo Venta = 300*1,05+120*1,1=44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 = 315 +200*1,1-447=8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22000" y="3809880"/>
            <a:ext cx="8550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COSTO VTA.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*0,95+200*1=48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85+300*1,05=8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4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0-485=3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15+200*1,1=53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44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35-447=8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8+250*1,12=36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93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4920" y="4191120"/>
            <a:ext cx="8837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600200" y="4038480"/>
            <a:ext cx="0" cy="2818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724280" y="4038480"/>
            <a:ext cx="0" cy="2818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LIF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sto Venta = 300*1,05+200*1= 5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sto Venta = 200*1,1+220*0,95= 42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7200" y="3352680"/>
            <a:ext cx="822960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COSTO VTA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*0,95+200*1=48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85+300*1,05=8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5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0-515=28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85+200*1,1=5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42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5-429=7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6+250*1,12=35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94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3733920"/>
            <a:ext cx="8534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00200" y="3352680"/>
            <a:ext cx="0" cy="3124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191120" y="3352680"/>
            <a:ext cx="0" cy="3124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R CP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2639880"/>
            <a:ext cx="899172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V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CP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300*0,95+200*1=485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85/500 = 0,9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485+300*1,05=8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0/800 =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5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800-500=3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300+200*1,1=5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20/500 = 1,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   420*1,04=436,8   520-436,8 = 83,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1,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83,2+250*1,12=363,2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3,2/330 = 1,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6.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28600" y="2971800"/>
            <a:ext cx="8686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48120" y="2743200"/>
            <a:ext cx="0" cy="2514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9480" y="2666880"/>
            <a:ext cx="0" cy="2667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477120" y="2666880"/>
            <a:ext cx="0" cy="2590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520" y="475920"/>
            <a:ext cx="82947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S FIJOS (o de Largo Plaz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Todo bien o derecho obtenido con el propósito de emplearlo en la explotación, representativo de un potencial de servicio utilizable durante un período, que en general trasciende un ejercicio con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Activos Físicos (o tangibles):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errenos, construcciones y obras de ingeniería, maquinarias y equipo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Activos Intangibles: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entes, marcas comerciales, derechos de llave, licencias o franquicia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 3 métodos para valorar activ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ación al Cos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Información objetiva y verific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ventaja: No necesariamente coincide con valor de merc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de Mercado (o de Reemplaz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Es el Valor Real del A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ventaja: No siempre es objetivo, no es único y no todos los activos se transan en el merc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792468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s Físic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4920" y="1676520"/>
            <a:ext cx="86868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ación: Al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costo de adquisició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, que comprende el precio del activo más los gastos conexo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Conexos: Transporte, instalaciones, comisiones, gastos notariale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lgunos activos de bajo valor relativo se registran directamente como gastos (ej: repuestos, materiales de oficina, libros, etc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396360"/>
            <a:ext cx="8229600" cy="75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joras y Repara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joras: Cambios Estructurales del activo (ampliación a adición de elementos). So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apitalizab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es decir, incrementan en activo fij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araciones y mantenimiento: Dejan al activo en condiciones normales de funcionamiento. No son  capitalizables, es decir, se consideran u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as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1752480"/>
            <a:ext cx="91425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0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 Compra de 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6320" y="1371600"/>
            <a:ext cx="8991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dquiere una propiedad que costó $50.000.000. Una tasación técnica indica lo siguien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$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da Ut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rren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rucció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3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alacion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emás se incurrió en los siguientes gast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norarios del abog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$ 0,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de Transferenc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$ 0,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notaria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$ 0,0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 Compra de 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8915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Total = mm$50 + mm$0.15 = $50.15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siento Conta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rren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15*0.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rucció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15*0.58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alacione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15*0.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086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 Venta de 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vende una máquina en $60.000, cuyo valor contable neto es el siguien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 Bru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5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Acumulada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(10.0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ne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4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6160" y="3956040"/>
            <a:ext cx="8775720" cy="23479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Acumulad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Bru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 Fuera de Explot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reciació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Distribución del costo del activo como gasto en los períodos en que presta sus servic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depreciación es consecuencia del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deterior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u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obsolescenci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del act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depreciación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no es un flujo de efe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n varios métodos de depreciación. Nosotros estudiaremos tre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 line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 acelerada (suma de los dígitos de los años y saldos decrecient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 lineal acelerada (tributari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reciación Line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AN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 : Costo de Adquisi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r: Valor Resid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 : Vida Ut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31640" y="3632040"/>
            <a:ext cx="3937320" cy="187992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ON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P-V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943600" y="2362320"/>
            <a:ext cx="0" cy="281916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943600" y="5181480"/>
            <a:ext cx="30481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746200" y="5318280"/>
            <a:ext cx="27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943600" y="4495680"/>
            <a:ext cx="22860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943600" y="2971800"/>
            <a:ext cx="2286000" cy="1523880"/>
          </a:xfrm>
          <a:prstGeom prst="line">
            <a:avLst/>
          </a:prstGeom>
          <a:ln w="507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546880" y="272880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317920" y="4253040"/>
            <a:ext cx="48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985160" y="53182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229600" y="449568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699160" y="1967040"/>
            <a:ext cx="1539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A.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étodo de la Suma de los Dígitos de los Añ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800280" y="1333440"/>
            <a:ext cx="7467480" cy="1905120"/>
          </a:xfrm>
          <a:prstGeom prst="rect">
            <a:avLst/>
          </a:prstGeom>
          <a:noFill/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ON t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n -t + 1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(P - V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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708800" y="2803680"/>
            <a:ext cx="59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=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514600" y="3809880"/>
            <a:ext cx="0" cy="228600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6095880"/>
            <a:ext cx="35053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812960" y="410040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307560" y="5853240"/>
            <a:ext cx="27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6040" y="2438640"/>
            <a:ext cx="4267080" cy="350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889280" y="3413160"/>
            <a:ext cx="1539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A.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23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Método de los saldos decrecien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 = Tasa anual de depreci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n = años de vida út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VR = valor resid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A = Depreciación acumul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042920" y="3645000"/>
            <a:ext cx="6384960" cy="187956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(P –DA)* 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saldo no depreciado - V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reciación Lineal Aceler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ste en depreciar el activo linealmente, considerando una vida útil igual a [1/3] de la vida útil normal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un método aceptado por el SI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ene como objetivo incentivar la inversión en activo fijo, a través de la postergación del impuesto a la r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7543800" cy="99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Presente : Valor del activo es función de los flujos futu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Es una buena estimación del precio de merc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ventaja: Se debe estimar flujos futuros, tasa de descuento y período de madurez del act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99640" y="18900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414360" y="2590920"/>
          <a:ext cx="8577360" cy="388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360" y="2590920"/>
                    <a:ext cx="857736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" name=""/>
          <p:cNvSpPr/>
          <p:nvPr/>
        </p:nvSpPr>
        <p:spPr>
          <a:xfrm>
            <a:off x="1203480" y="1203480"/>
            <a:ext cx="616104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95280" y="1125360"/>
            <a:ext cx="8153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tiene un AF por $100.000, vida útil 5 años y Vr = 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93400" y="1766880"/>
            <a:ext cx="2941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preciación Linea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6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642960" y="2590920"/>
          <a:ext cx="8312040" cy="33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2590920"/>
                    <a:ext cx="8312040" cy="33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"/>
          <p:cNvSpPr/>
          <p:nvPr/>
        </p:nvSpPr>
        <p:spPr>
          <a:xfrm>
            <a:off x="756000" y="1484280"/>
            <a:ext cx="747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preciación Acelerada (suma de los dígitos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6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641520" y="2589120"/>
          <a:ext cx="8288280" cy="395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1520" y="2589120"/>
                    <a:ext cx="8288280" cy="39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1285560" y="1538280"/>
            <a:ext cx="6482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preciación Acelerada (saldos decrecientes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45760" y="328680"/>
            <a:ext cx="8140680" cy="61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887480" y="2347920"/>
            <a:ext cx="2105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´= [5/3] =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0440" y="3238560"/>
            <a:ext cx="8913960" cy="2362320"/>
          </a:xfrm>
          <a:prstGeom prst="rect">
            <a:avLst/>
          </a:prstGeom>
          <a:noFill/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ñ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.Acumulad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.F.Ne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%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433520" y="1386000"/>
            <a:ext cx="5115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preciación Lineal Acelerad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99640" y="404640"/>
            <a:ext cx="75438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 Qué Ocurre con la Utilida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SO CON DEPRECIACION LINE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07960" y="2489040"/>
            <a:ext cx="8508960" cy="248940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Ñ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3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4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0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75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3911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 Qué Ocurre con la Utilida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SO CON DEPRECIACION  LINEAL ACELER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84280" y="3098880"/>
            <a:ext cx="7899480" cy="279396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ñ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3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8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8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8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8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7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1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Intangi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on activos no físicos que presentan un potencial de serv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registran contablemente sólo cuando son adquiridos de terceros (al costo de adquisición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mortizació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Proceso a través del cual el valor de adquisición del intangible se convierte parcial y periódicamente en gas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étodo: Línea recta con VR =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ida Util: Mín {Plazo del Contrato; Plazo estimado razonab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Intangi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tent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ncesión del gobierno en favor de un inventor, mediante la cual le otorga el derecho exclusivo para producir y explotar su inve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arcas Comercia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Privilegio obtenido para el uso exclusivo de identificaciones distintivas de un producto o serv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recho de llav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Exceso de costo de un activo o empresa por sobre el valor comercial de las partes que lo compon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Licencia o franquic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Privilegio obtenido por una firma para la comercialización de un producto bajo condiciones específic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FINANCIE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ón en un instrumento constitutivo de una obligación y emitido por un banco, empresa, o institución financie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jemplo: Bonos, Depósitos a Plazo, Pagarés, accione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nancieros de corto plazo: Su objetivo es obtener rentabilidad de los excedentes de caj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nancieros de largo plazo: Inversiones permanentes en otras socied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FINANCIE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37160" y="2727360"/>
            <a:ext cx="226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ANCIER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2514600" y="1676520"/>
            <a:ext cx="1447920" cy="1371600"/>
          </a:xfrm>
          <a:prstGeom prst="line">
            <a:avLst/>
          </a:prstGeom>
          <a:ln w="1015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514600" y="3048120"/>
            <a:ext cx="1523880" cy="1523880"/>
          </a:xfrm>
          <a:prstGeom prst="line">
            <a:avLst/>
          </a:prstGeom>
          <a:ln w="1015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096440" y="1355760"/>
            <a:ext cx="48484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to Plazo (Activo Circulante) 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Disponi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Depósitos a plaz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Valores Negociables (accione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fectos de comercio, bonos, et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253040" y="4251240"/>
            <a:ext cx="46731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rgo Plazo (Otros Activos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 Inv. en Empresas Relacion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 Inv. en Otras Socie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 Valor Pres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4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hoy se depositan $100 al 10%, en el próximo período se tendrán $11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45920" y="4098960"/>
            <a:ext cx="69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940360" y="2637000"/>
            <a:ext cx="69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143000" y="37339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6324480" y="327672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43000" y="373392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811880" y="4481640"/>
            <a:ext cx="2126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P  =  110/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15960" y="5187960"/>
            <a:ext cx="7378560" cy="12826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CTUALIZAN LOS MONTOS A UNA TAS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RMINA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pósito a Plaz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ón de Fondos a un Plazo Fijo (30, 60 o 90 días). Hay una tasa de Interés Involucra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a de Interés Simple : Se aplica sobre el Capital Inici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a de Interés Compuesta : Se aplica sobre el Capital Inicial y sobre el Interés Deveng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010640" cy="99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Interés Si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invierten $100 a una tasa del 10% anu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152360" y="2209680"/>
          <a:ext cx="6834240" cy="304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52360" y="2209680"/>
                    <a:ext cx="683424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0" name=""/>
          <p:cNvSpPr/>
          <p:nvPr/>
        </p:nvSpPr>
        <p:spPr>
          <a:xfrm>
            <a:off x="25560" y="5511960"/>
            <a:ext cx="9016920" cy="1091880"/>
          </a:xfrm>
          <a:prstGeom prst="rect">
            <a:avLst/>
          </a:prstGeom>
          <a:noFill/>
          <a:ln w="507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acumulado al = N * i * 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:Ta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ño 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: Capital Ini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Interés Compues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1076400" y="2057400"/>
          <a:ext cx="6834240" cy="297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2057400"/>
                    <a:ext cx="683424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25560" y="5207040"/>
            <a:ext cx="9091440" cy="1549440"/>
          </a:xfrm>
          <a:prstGeom prst="rect">
            <a:avLst/>
          </a:prstGeom>
          <a:noFill/>
          <a:ln w="507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acumulado = C * [(1+i)^n - 1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período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AR:Interés Total Simple=100, Interés Total Compuesto=159.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sas de inter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762120" y="26668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a de Interés Nominal : Porcentaje que se paga sobre lo adeud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a de Interés Real : Aumento del Poder Adquisitivo del que Presta el Dine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Tasa de Inflación : (1+in) = (1+ir) * (1+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346040" y="1650960"/>
            <a:ext cx="4165920" cy="58428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(1+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anu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) = (1+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mensu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)^1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10920" y="476280"/>
            <a:ext cx="693396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1532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dispone de $1MM. Se hará un depósito a plazo a 5 meses y se tiene las siguientes alternativ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ósito no reajustable al 1.5% mens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ósito en UF (reajustable) al 0.6% mensu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ósito en US$ al 0.8% mensu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tiene además las siguientes expectativa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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= 1% mens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c=0.7% mensu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¿Cuál alternativa convien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51920" y="1752120"/>
            <a:ext cx="89902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 del depósito al quinto mes =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.000.000*(1+in)^5 = 1.000.000*(1+0.015)^5 = 1.077.28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 del depósito al quinto mes =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.000.000*(1+in)^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.000.000*[(1+ir)*(1+ </a:t>
            </a:r>
            <a:r>
              <a:rPr b="0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)] ^5 = 1.000.000*[(1+0.006)*(1+0.01)] ^5 = $1.082.9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 del depósito al quinto mes =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.000.000*(1+in)^5 = 1.000.000*[(1+ir)*(1+</a:t>
            </a:r>
            <a:r>
              <a:rPr b="0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Tc)] ^5 = 1.000.000*[(1+0.008)*(1+0.007)] ^5 = 1.077.58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empresa hace un depósito a plazo a 90 días por m$400 al 1.2% mensual. El cierre es a 60 días de hecho el depósi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ósito a Plazo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00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los 60 días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ósito a Plazo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400*(1.012)^2-4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Financieros (I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400*(1.012)^2-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ORES NEGOCI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registran bajo este concepto las inversiones en acciones, bonos, efectos de comercio, fondos mutuos y otros títulos de oferta públic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c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Título que otorga a su poseedor la participación en la propiedad de una sociedad anóni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Bon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Título de deuda, emitido por una empresa o por el gobierno, que promete a su poseedor el pago de una cantidad cierta de dinero, en un plazo determinado. Duración mayor a 1 añ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fectos de Comerci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Idéntico al bono, pero su duración es inferior a 1 añ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Fondo Mutu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Fondo formado por el aporte de muchas persona y cuyo destino es la inversión en acciones o instrumento de renta fij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dquiere un efecto de comercio que paga al vencimiento $1.200.000. Se adquiere faltando 4 meses para su vencimiento, en $960.000. El cierre del ejercicio ocurre 3 meses después de efectuada la oper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93840" y="3365640"/>
            <a:ext cx="8584920" cy="325116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=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fec. de Comercio (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6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tereses No Devengados (C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24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=9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tereses No Devengados (C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greso Financiero (I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 Inversión en Ac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debe distinguir si el objetivo de la inversión es de corto o largo plaz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inversión en acciones será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Valor Negocia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“Activo Circulante”) s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acción se cotiza en bol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monto invertido representa menos del 10% del capital de la empresa emiso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monto invertido representa menos del 5% de los activos del inversionis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 general, la Contabilidad Financiera usa l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valoración al cost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Principio Contabl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gunas veces se usa el valor de mercado (acciones en calidad de valores negociabl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 otras se usa el valor presente (activos en leasing o inversiones en bon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 Inversión en Ac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inversión en acciones será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versión en Empresa Relacionad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“Otros Activos”) s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monto invertido representa más del 10 % del capital de la empresa emiso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interesa si la acción tiene o no cotización bursáti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inversión en acciones será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versión en Otras Sociedade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“Otros Activos”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se cotiza en bolsa, representa menos del 10% del capital de la emisora y más del 5% de los activos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 bien, si no se cotiza en bolsa y representa menos del 10 % del capital de la Empresa Emiso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 Inversión en Ac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98440" y="1676520"/>
            <a:ext cx="8699400" cy="3765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90520" indent="-290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Cómo se valoran contablement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Negociable: Mín. {Costo Adquisición.; Valor de Mercado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ón Empresas Relacionadas: Valor Patrimonial Propor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ón en Otras Sociedade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se cotiza en bolsa: Mín. {Costo Adquisición; Valor de Mercado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no se cotiza en bolsa: Costo de Adquisi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de Valor Negoc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61048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dquieren acciones de una S.A en $4.500.000. Al momento de preparar los estados financieros su valor de mercado era de $4.000.000. Posteriormente, se venden en $4.200.0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80880" y="2666880"/>
            <a:ext cx="8597880" cy="419112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Al momento de la compr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eb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lores negociables (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isponible (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Al cierr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tros egresos fuera de la explotación (G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visión menor valor acciones (C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Al momento de la vent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isponibl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visión menor valor acciones (C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lores negociables (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tros ingresos fuera de la explot. (I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61048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dquiere en MM$600 el 20% de las acciones de una compañía, cuyo patrimonio contable es de MM$2.5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80880" y="2362320"/>
            <a:ext cx="8597880" cy="419076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Registro de la compra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(VPP = 2.500 x 0,2 = 5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Inversión en empresas relacionadas (A)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enor valor inversiones (A)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6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a cuenta “Menor valor inversiones” se debe amortizar en un plaz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áximo de 5 añ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rech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a exigir de un tercero un pago, o la entrega de bienes y servicios, por un cierto monto, a una fecha futu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Tienen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su origen en la venta de bienes o prestación de servicios a crédito, o en la cesión de un bien del activo a un tercero bajo compromiso de pago a futu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n el balance general normalmente se presentan rebajadas por las estimaciones (provisiones) de deudores incobrables y por los intereses no deveng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52280" y="1676520"/>
            <a:ext cx="8839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e clasifican en las siguientes partid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por ventas: Provenientes de las operaciones comerciales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ocumentos por cobrar: Provenientes de las operaciones comerciales y documentadas a través de letras, pagares u ot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varios: Las que no provienen de las operaciones comerciales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ocumentos y cuentas por cobrar a empresas relaciona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a largo plazo: Vencimiento superior a un añ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04560" y="17524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Una empresa tiene cuentas por cobrar de $50.000. Por quiebra de un cliente no será posible recaudar $6.0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69960" y="2743200"/>
            <a:ext cx="794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astigo incobrables (G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6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por venta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6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" y="4038480"/>
            <a:ext cx="8458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Al momento de preparar los estados financieros, se estima que $2.000 podrían no recuperar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22240" y="5105520"/>
            <a:ext cx="794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rovisión incobrables (G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2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rovisiones (CA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2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02T21:47:36Z</dcterms:created>
  <dc:creator>DPTO. INFORMATICA</dc:creator>
  <dc:description/>
  <dc:language>en-US</dc:language>
  <cp:lastModifiedBy>Vicente Astorga Pizarro</cp:lastModifiedBy>
  <cp:lastPrinted>1999-03-18T20:54:39Z</cp:lastPrinted>
  <dcterms:modified xsi:type="dcterms:W3CDTF">2007-03-26T02:34:28Z</dcterms:modified>
  <cp:revision>23</cp:revision>
  <dc:subject/>
  <dc:title>Primera Parte: Contabilidad Financiera</dc:title>
</cp:coreProperties>
</file>