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FCB7-F303-4C0C-B57E-6850D1D7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57C-FD6D-4465-864E-F933139D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418-76CB-4053-A525-C71FFBFB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A9EA-BABA-4CD1-A6E4-3D22F591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B27-F08C-4BF7-9EA5-FB796605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0E2-D69D-4A15-8D3C-0E71645F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CFD-1D5E-481C-AAC8-C94A4C9D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63B-FD2F-40AA-BBC4-E86BAF7A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26D-52C5-43DB-A321-A4969319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4D7-D851-4A77-A05A-B1EBAE93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E97-09A0-4161-AD47-A6283589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84C-EA8F-41F5-A642-45B1C273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1B8D-1015-455D-88B8-9CF130D0960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 de Estados Financier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080" y="1092240"/>
            <a:ext cx="855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erta empresa muestra el siguiente balance al comenzar el ejercicio (en M$)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2200" y="2205000"/>
          <a:ext cx="8659800" cy="35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2205000"/>
                    <a:ext cx="8659800" cy="35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608200"/>
          <a:ext cx="8283600" cy="28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08200"/>
                    <a:ext cx="828360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4840" y="4302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066680"/>
            <a:ext cx="816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so de las cuentas de gastos de administración y ventas a una cuenta resumen, denominada gastos de administración y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1708200"/>
          <a:ext cx="8217000" cy="470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8200"/>
                    <a:ext cx="82170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3440" y="928800"/>
            <a:ext cx="34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BALANCE GENERA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5200" y="43020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14400" y="1116000"/>
          <a:ext cx="7435800" cy="391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16000"/>
                    <a:ext cx="743580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nte los dos meses siguientes realiza las siguientes trans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2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de mercadería por un monto de M$ 1.200, pagándose 50% a plazo y el resto al contado. El costo de la mercadería fue de M$ 9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4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ientes pagan M$ 500 que adeudaban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5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su vez la empresa paga M$ 400 que adeudaba a sus provee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rega el 50% de los bienes pagados por anticipado, obteniendo un margen de ganancia, sobre ingresos, del 4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06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ga M$ 200 por concepto de remun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28/0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compran muebles por M$ 100, pagando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uda se contrajo a un tasa del 2% mensual (lineal) y se debe pagar al cabo de 1 año junto con los inter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 activo fijo le resta una vida útil de 20 años y su valor residual es c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seguro tiene una duración de 1 año y fue contratado hace 2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e pide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ci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7600" y="1130400"/>
          <a:ext cx="883440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00" y="1130400"/>
                    <a:ext cx="88344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96640" y="35388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28600" y="1251000"/>
          <a:ext cx="8647200" cy="395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1000"/>
                    <a:ext cx="864720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90880" y="303120"/>
            <a:ext cx="838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6200" y="1425600"/>
          <a:ext cx="8472600" cy="349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1425600"/>
                    <a:ext cx="847260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291960" y="30312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se al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68360" y="620640"/>
          <a:ext cx="8242200" cy="495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242200" cy="49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469800" y="1130400"/>
          <a:ext cx="831060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130400"/>
                    <a:ext cx="831060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9080" y="35388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lance de Comprobación y Sal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1600200"/>
          <a:ext cx="7140600" cy="246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40600" cy="24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08200" y="30492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entos de Aju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4508640"/>
            <a:ext cx="748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paso siguiente sería traspasar estos asientos al libro may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01:00:00Z</dcterms:created>
  <dc:creator>Mjorrat</dc:creator>
  <dc:description/>
  <dc:language>en-US</dc:language>
  <cp:lastModifiedBy>Vicente Astorga Pizarro</cp:lastModifiedBy>
  <dcterms:modified xsi:type="dcterms:W3CDTF">2007-03-26T02:23:13Z</dcterms:modified>
  <cp:revision>11</cp:revision>
  <dc:subject/>
  <dc:title>Ejemplo de Estados Financieros</dc:title>
</cp:coreProperties>
</file>