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FE96-44B0-4B25-A573-C5721A59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7CFA-2B2E-4CFA-95F9-BBAA0C7B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68B4-5703-4016-A6DA-3863834B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F8BC-9E65-4AB0-B93B-73F1CB20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E9AE-016C-42D9-9FD5-0621F5C5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A3BB-03C4-4D48-8A60-459643BC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9D6C-AEFD-4E0D-8C40-0EC91564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5F9C-9085-4887-BC35-2E3C7955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1318-51B5-47EF-8983-2FEF0A29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C82D-4A11-404C-AD81-7B843016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9F51-EE29-497D-8498-322E6D42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BC01-AB47-44BF-A710-E6907581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7015-AAAF-4C00-A599-C08F352E449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jemplo de Estados Financie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080" y="1092240"/>
            <a:ext cx="855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erta empresa muestra el siguiente balance al comenzar el ejercicio (en M$)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2200" y="2205000"/>
          <a:ext cx="8659800" cy="35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205000"/>
                    <a:ext cx="8659800" cy="35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2608200"/>
          <a:ext cx="8283600" cy="28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08200"/>
                    <a:ext cx="828360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84840" y="4302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C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066680"/>
            <a:ext cx="816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spaso de las cuentas de gastos de administración y ventas a una cuenta resumen, denominada gastos de administración y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7200" y="1708200"/>
          <a:ext cx="8217000" cy="470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8200"/>
                    <a:ext cx="821700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23440" y="928800"/>
            <a:ext cx="34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ALANCE GENERAL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5200" y="4302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4400" y="1116000"/>
          <a:ext cx="7435800" cy="391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16000"/>
                    <a:ext cx="74358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rante los dos meses siguientes realiza las siguientes transa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2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de mercadería por un monto de M$ 1.200, pagándose 50% a plazo y el resto al contado. El costo de la mercadería fue de M$ 9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4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entes pagan M$ 500 que adeudaban a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5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su vez la empresa paga M$ 400 que adeudaba a sus prov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ga el 50% de los bienes pagados por anticipado, obteniendo un margen de ganancia, sobre ingresos, del 4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6/0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ga M$ 200 por concepto de remun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/0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ompran muebles por M$ 100, pagando al co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uda se contrajo a un tasa del 2% mensual (lineal) y se debe pagar al cabo de 1 año junto con los inter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 activo fijo le resta una vida útil de 20 años y su valor residual es c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eguro tiene una duración de 1 año y fue contratado hace 2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e pid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lance de comprobación y sal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j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c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47600" y="1130400"/>
          <a:ext cx="8834400" cy="430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00" y="1130400"/>
                    <a:ext cx="8834400" cy="43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96640" y="353880"/>
            <a:ext cx="73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28600" y="1251000"/>
          <a:ext cx="8647200" cy="395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51000"/>
                    <a:ext cx="864720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90880" y="303120"/>
            <a:ext cx="83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76200" y="1425600"/>
          <a:ext cx="8472600" cy="349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1425600"/>
                    <a:ext cx="847260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91960" y="303120"/>
            <a:ext cx="25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se al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68360" y="620640"/>
          <a:ext cx="8242200" cy="495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24220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69800" y="1130400"/>
          <a:ext cx="8310600" cy="45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130400"/>
                    <a:ext cx="831060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69080" y="35388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lance de Comprobación y Sal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43000" y="1600200"/>
          <a:ext cx="7140600" cy="246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714060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808200" y="30492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Aj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508640"/>
            <a:ext cx="748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aso siguiente sería traspasar estos asientos al libro may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01:00:00Z</dcterms:created>
  <dc:creator>Mjorrat</dc:creator>
  <dc:description/>
  <dc:language>en-US</dc:language>
  <cp:lastModifiedBy>Vicente Astorga Pizarro</cp:lastModifiedBy>
  <dcterms:modified xsi:type="dcterms:W3CDTF">2007-03-26T02:23:13Z</dcterms:modified>
  <cp:revision>11</cp:revision>
  <dc:subject/>
  <dc:title>Ejemplo de Estados Financieros</dc:title>
</cp:coreProperties>
</file>