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1A15-9964-44FC-8FAE-0ABA9D9F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4E26-0C47-4340-AA4A-3AEFDDE6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0D9-D406-4284-8147-DBAE7524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F285-4E7C-41B4-A697-1859345B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5701-182E-415A-A16C-A9741921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5EF8-BE9C-4B05-BD30-687F0CFC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0B38-FCF0-429E-B581-3A461D98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A81E-75C0-4D4A-BFFA-FC300F8C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DDDE-E5A4-470D-A36D-D4E7C3EB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AE12-B71B-4078-829F-7C98566A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3A8C-86AB-49BA-B9FD-8E482BED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5AD7-DE36-4CEC-989C-0B172D80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8DBD-270C-4022-B8F2-09F8DEC6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DAEF-0964-48D3-BE4A-A71251E4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F9F4-FE73-4BB5-8A48-44AEF349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033A-FCDE-4026-9123-B39C944C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38C3-FE10-4EBA-BD8B-CABEF245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0A66-A886-44FC-86CC-D29C9D73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E86C-8B8E-483B-B23E-2C3E5C98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9FAD-0CFA-415B-8D78-44FA26A8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2CFC-C26C-402A-BFD6-FE1C9149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070D-7B8C-4094-A77A-6AF3BAEE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FE07-D0EA-4AEB-BEEB-DFB797F6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7B2D-C84A-4215-898B-AF05BA54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8C51-116E-4700-8FD9-D9AC073837B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3338-70B4-472A-B530-0DC84F7E574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9208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ítulo 2: Estados Financier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37335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a C.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de las obligaciones a  LP que vence antes de 1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a 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37335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557360"/>
            <a:ext cx="813600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uellas obligaciones contraídas por la empresa que serán canceladas dentro del plazo de un año a contar de la fecha de los estados financi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S DE LARGO PL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8408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acumul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os los dividendos o retiros de Ut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S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422440"/>
            <a:ext cx="8136000" cy="1557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informe contable que permite conocer como se h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do el resultado de la empresa durante 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resumen de los ingresos y gastos 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8456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puesto a la R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903320"/>
            <a:ext cx="845820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3357720"/>
            <a:ext cx="7561440" cy="2654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 de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3141720"/>
            <a:ext cx="6985080" cy="1922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479736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la diferencia entre la revalorización de los activos sujetos a corrección monetaria y la revalorización de los pasivos y del patrimonio y a revalorizaciones que se aplican sobre ingresos y ga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7680" y="1700280"/>
            <a:ext cx="871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rrección Monetaria consiste en revalorizar las distin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tidas del Balance y Estado de Resultados de modo de tomar en cuenta la inflación y las variaciones de las parida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mbiar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645000"/>
            <a:ext cx="8136000" cy="7038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rrección Monetaria = Revalorizaciones de Act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–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valorizaciones de Pasivos y Patrimoni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JUSTES A LOS ESTAD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ciones implícitas agregadas al Balance y al Estado de Result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ación Parcial de un Activo en 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mulación de Ingresos y Gastos no Registrado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e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stra la situación económico-financiera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de carácter estático, muestra solo un inst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lado izquierdo muestra los activos y al derecho los pasivos y el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ción Parcial de Activo en Gast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2749680"/>
            <a:ext cx="257832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6560" y="2749680"/>
            <a:ext cx="16635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93080" y="2749680"/>
            <a:ext cx="12063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335268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12440" y="28036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4403880"/>
            <a:ext cx="8893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curre por el consumo o uso del activo, o por un imprevis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: Depreciación, gastos pagados por anticipado, amortización de activos intangibles, castigos y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 de noviembre se compra mobiliario en M$600, cuya vida útil es de 5 años y su valor residual ce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 (Dos Op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   Depreciación Acumulad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876920"/>
            <a:ext cx="0" cy="19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1/10 se arriendan oficinas pagando 5 meses por adelantado, por un monto de $1000, al con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1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s Pagados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1040" y="4349880"/>
            <a:ext cx="8674200" cy="2273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agado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600. El deudor quebró y se tiene la certeza de que no cancel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5080" y="3587760"/>
            <a:ext cx="8750160" cy="31114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3581280"/>
            <a:ext cx="838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Castig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stigo Incobrabl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800. La empresa estima que por diversas razones no se recaudará el 10% de es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7360" y="3435480"/>
            <a:ext cx="8140680" cy="2654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provisió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or Provisión   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sión Incobrable   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0/9 el Teatro Municipal vende abonos por M$5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Anticipado 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8760" y="3816360"/>
            <a:ext cx="8977320" cy="27306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JUSTE AL 31/12 (se alcanzaron a efectuar el 80 % de los evento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por Anticip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mulación de Ingresos y Gastos no Regist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que ocurren día a día, en forma contin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banc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s de invers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ios prestados por el pers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/10 se pide un préstamo por M$100, al 3% mensual (interés simp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con Bcos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5080" y="4044960"/>
            <a:ext cx="8750160" cy="1511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(reconocimiento del interés devengad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lig.con Bcos.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0120" y="5892840"/>
            <a:ext cx="8636040" cy="8636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Compuesto al mes n = 100 * (1+i)^n-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al mes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= 100 * (1+i)^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paga salarios semanales por M$100. El último pago lo efectuó el 28/12 correspondiente a la semana del 21-2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8760" y="3664080"/>
            <a:ext cx="8826480" cy="24256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 (Salario Devengado del 28 al 31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nsideran días hábiles, luego sueldo diario M$2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lari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ECONOM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FINANC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on en sí estados financieros, pero forman parte de ell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erios Contables Usado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de conversión transacciones a M.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depreciar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valorizar existenci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Principales Part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ción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lle Provisiones y Casti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: Fechas de Vencimiento, Instituciones Acreed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AMEN AUDITORES EXTER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S.A. están obligadas a que sus Estados Financieros y las Notas a ellos sean revisados por Auditores Externos, quienes emiten un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Salvedad (Posi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Salvedad (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 los Estados Financieros de las S.A. abiert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ctamen de Auditores Ex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gatoriedad de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Tributario : S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s parti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.A. abierta       : Superintendencia de Valores y Seg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nco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Ban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FP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AF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sapre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ia.de seguros : Superintendencia de Valores y Seg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19320" y="1841400"/>
          <a:ext cx="6732360" cy="42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41400"/>
                    <a:ext cx="673236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9720" y="18907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2800" y="52434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" y="219384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42120" y="11271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200" y="60040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45720" y="1508040"/>
            <a:ext cx="407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72360" y="184464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82880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666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6095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42920" y="1600200"/>
          <a:ext cx="6913800" cy="453024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.Y P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8028000" y="206064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249228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32680" y="1557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8680" y="148428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E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u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a convertirse en efe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G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laciona con el tiempo faltante para el vencimiento de la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3860640"/>
            <a:ext cx="4033800" cy="25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s a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por v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1040" y="1911240"/>
            <a:ext cx="8672760" cy="173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o recursos de la empresa que serán vendid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dos o consumidos dentro de un año desde la fecha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financi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3280" y="3860280"/>
            <a:ext cx="4034160" cy="24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paga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 (no depre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strucciones y obras de infraestruc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quinaria y equ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umulada (men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ROS ACTIV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empresas relacionad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otras socie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angibles (patentes, marca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rtizaciones (m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9:45:38Z</dcterms:created>
  <dc:creator/>
  <dc:description/>
  <dc:language>en-US</dc:language>
  <cp:lastModifiedBy>IVAN ALVAREZ VALDES</cp:lastModifiedBy>
  <cp:lastPrinted>1999-03-18T20:43:15Z</cp:lastPrinted>
  <dcterms:modified xsi:type="dcterms:W3CDTF">2006-03-19T17:24:52Z</dcterms:modified>
  <cp:revision>26</cp:revision>
  <dc:subject/>
  <dc:title>TRANSACCION</dc:title>
</cp:coreProperties>
</file>