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1F6A-C8FC-49AC-8440-3A320441E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9F0C-6894-43E9-A6DE-87F982B8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52AE-7C81-4989-9327-713BD0FD3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B79A-9C53-453E-ADE3-00FA54305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AEB8-55FE-4528-ADB1-E728CA7E8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A8D9-AE8C-4137-A263-17007337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0D4C-BABE-4F8F-80D2-686794BD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0322-65F3-4627-8523-C629CAC6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F5D0-0C68-4DB3-89E9-49AAA8B6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40C0-A158-42F0-8DC5-28F7F623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F760-C672-47EE-AD99-5B989312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954D-604D-4CA3-B6FE-EE9B14D7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E5FB-8B4C-4A77-97AD-45FD247E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FB40-284D-49EB-A7C3-F39E90A5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C9D0-7074-4B98-BB0D-8E1B3C4B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760F-DF3E-4439-90AC-ACF1114BC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A288-710D-4F43-939A-F7C145BAE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E6FD-DE45-4547-83AD-DFC3E521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CAA2-6246-41C7-9B40-5F2BCFF1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7A80-FF61-461B-8FD3-CD62CD4A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C390-B4D0-422B-9F64-D73749BE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9D5F-8C3E-454F-84A7-39D5B921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021D-A90B-4D8A-9B4F-BF5E6472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7A3F-56FC-42CF-92FF-59DD8DA3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33A1-9567-4C22-A883-3F3DEA396B34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B9C2-3796-4B17-88DC-C0C90C6DEFF5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792080"/>
            <a:ext cx="8229600" cy="14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pítulo 2: Estados Financier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IVO CIRCUL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3733560"/>
            <a:ext cx="4343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a C.P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de las obligaciones a  LP que vence antes de 1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 a C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7960" y="3733560"/>
            <a:ext cx="380988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ercibidos por anticip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8360" y="1557360"/>
            <a:ext cx="8136000" cy="1191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quellas obligaciones contraídas por la empresa que serán canceladas dentro del plazo de un año a contar de la fecha de los estados financier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IVOS DE LARGO PLAZ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e instituc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 (bo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eedores 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84080"/>
            <a:ext cx="8229600" cy="444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(pérdidas) acumul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(pérdidas)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os los dividendos o retiros de Uti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DOS DE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2422440"/>
            <a:ext cx="8136000" cy="15570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informe contable que permite conocer como se h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do el resultado de la empresa durante el ejercic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resumen de los ingresos y gastos  de 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2284560"/>
            <a:ext cx="79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mpuesto a la R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903320"/>
            <a:ext cx="8458200" cy="114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cionado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Operación o giro del Nego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5640" y="3357720"/>
            <a:ext cx="7561440" cy="2654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Explotación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gen de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inistración y Ventas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de la Explotación: valor de las ventas de bienes y servicios del giro de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s de la Explotación: costo de los productos vendidos o de los servicios pr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inistración y Ventas: todos los demás gastos relacionados con el giro del nego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relacionado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la Operación o giro del Nego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71640" y="3141720"/>
            <a:ext cx="6985080" cy="19227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uera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fuera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5280" y="4797360"/>
            <a:ext cx="820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 la diferencia entre la revalorización de los activos sujetos a corrección monetaria y la revalorización de los pasivos y del patrimonio y a revalorizaciones que se aplican sobre ingresos y gas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47680" y="1700280"/>
            <a:ext cx="871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orrección Monetaria consiste en revalorizar las distint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tidas del Balance y Estado de Resultados de modo de tomar en cuenta la inflación y las variaciones de las parida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mbiari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3645000"/>
            <a:ext cx="8136000" cy="7038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rrección Monetaria = Revalorizaciones de Activ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                           –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valorizaciones de Pasivos y Patrimoni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JUSTES A LOS ESTADOS CON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acciones implícitas agregadas al Balance y al Estado de Result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formación Parcial de un Activo en Ga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ización de Ingresos Dife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umulación de Ingresos y Gastos no Registrados anterior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e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estra la situación económico-financiera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de carácter estático, muestra solo un inst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lado izquierdo muestra los activos y al derecho los pasivos y el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formación Parcial de Activo en Gasto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2749680"/>
            <a:ext cx="257832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16560" y="2749680"/>
            <a:ext cx="166356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93080" y="2749680"/>
            <a:ext cx="120636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00400" y="3352680"/>
            <a:ext cx="20574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12440" y="2803680"/>
            <a:ext cx="135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0920" y="4403880"/>
            <a:ext cx="8893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curre por el consumo o uso del activo, o por un imprevist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: Depreciación, gastos pagados por anticipado, amortización de activos intangibles, castigos y provi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31 de noviembre se compra mobiliario en M$600, cuya vida útil es de 5 años y su valor residual cer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6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JUSTE AL 31/12  (Dos Opcion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 Fijo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10)   Depreciación Acumulada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10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4876920"/>
            <a:ext cx="0" cy="1979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31/10 se arriendan oficinas pagando 5 meses por adelantado, por un monto de $1000, al con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1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s Pagados por Anticipad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11040" y="4349880"/>
            <a:ext cx="8674200" cy="227304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AL 31/12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 Pagado por Anticipad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4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rriendo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tiene un saldo de deudas por cobrar de M$600. El deudor quebró y se tiene la certeza de que no cancelar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5080" y="3587760"/>
            <a:ext cx="8750160" cy="31114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3581280"/>
            <a:ext cx="8381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(Castigo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6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stigo Incobrable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tiene un saldo de deudas por cobrar de M$800. La empresa estima que por diversas razones no se recaudará el 10% de est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7360" y="3435480"/>
            <a:ext cx="8140680" cy="26542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(provisión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 por Provisión   80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visión Incobrable   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zación de Ingresos Difer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ando se percibe una recaudación en forma anticipada a la entrega de los bienes o a la prestación de los servicios, la transacción se debe registrar como un pas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momento de preparar los estados financieros se debe realizar un ajuste para reconocer la parte del ingreso devengado durante el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915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30/9 el Teatro Municipal vende abonos por M$5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Anticipado 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8760" y="3816360"/>
            <a:ext cx="8977320" cy="273060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JUSTE AL 31/12 (se alcanzaron a efectuar el 80 % de los eventos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por Anticip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0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GRE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umulación de Ingresos y Gastos no Registr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que ocurren día a día, en forma continu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banc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s de invers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ios prestados por el person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7631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31/10 se pide un préstamo por M$100, al 3% mensual (interés simp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AS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con Bcos.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35080" y="4044960"/>
            <a:ext cx="8750160" cy="15112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JUSTE AL 31/12 (reconocimiento del interés devengado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Gasto Financier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Oblig.con Bcos.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0120" y="5892840"/>
            <a:ext cx="8636040" cy="86364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Compuesto al mes n = 100 * (1+i)^n-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a al mes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= 100 * (1+i)^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paga salarios semanales por M$100. El último pago lo efectuó el 28/12 correspondiente a la semana del 21-2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58760" y="3664080"/>
            <a:ext cx="8826480" cy="24256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AL 31/12 (Salario Devengado del 28 al 31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consideran días hábiles, luego sueldo diario M$2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alario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tencion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UACION ECONOMIC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la Empresa, o Grado de Eficiencia, para Generar Utilidades en un determinado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UACION FINANCI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la Empresa para Pagar sus Deudas. Es lo que se Tiene v/s lo que se Deb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n la divulgación de la  Información que no está directamente en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s explicativas que permiten una mejor comprensión de las cifras contenidas en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on en sí estados financieros, pero forman parte de ell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jempl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erios Contables Usado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 de conversión transacciones a M.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para depreciar activo fi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para valorizar existenci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 Principales Parti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sición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lle Provisiones y Castig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s : Fechas de Vencimiento, Instituciones Acreedor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CTAMEN AUDITORES EXTERN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S.A. están obligadas a que sus Estados Financieros y las Notas a ellos sean revisados por Auditores Externos, quienes emiten un dictam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 Salvedad (Posi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Salvedad (Nega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ructura de los Estados Financieros de las S.A. abiert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ctamen de Auditores Exter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ligatoriedad de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8991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so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lance Tributario : S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sos particul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.A. abierta       : Superintendencia de Valores y Segu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ncos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Ban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FP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AF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sapres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Isap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ia.de seguros : Superintendencia de Valores y Seg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RUCTURA DEL BA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219320" y="1841400"/>
          <a:ext cx="6732360" cy="427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41400"/>
                    <a:ext cx="6732360" cy="42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8610480" y="1828800"/>
            <a:ext cx="0" cy="449568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1981080"/>
            <a:ext cx="0" cy="396252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9720" y="189072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2800" y="524340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5760" y="2193840"/>
            <a:ext cx="42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142120" y="11271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15200" y="600408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145720" y="1508040"/>
            <a:ext cx="4075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9720" y="182880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82880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172360" y="184464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82880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266688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609588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RUCTURA DEL BA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42920" y="1600200"/>
          <a:ext cx="6913800" cy="4530240"/>
        </p:xfrm>
        <a:graphic>
          <a:graphicData uri="http://schemas.openxmlformats.org/drawingml/2006/table">
            <a:tbl>
              <a:tblPr/>
              <a:tblGrid>
                <a:gridCol w="3360960"/>
                <a:gridCol w="3552840"/>
              </a:tblGrid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.Y PA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 CIRCUL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IVO CIRCUL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 FIJ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IVO LARGO PLAZ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TROS ACTIV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TRIMONI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8028000" y="2060640"/>
            <a:ext cx="3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2492280"/>
            <a:ext cx="423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610480" y="1828800"/>
            <a:ext cx="0" cy="449568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032680" y="15573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29440" y="587700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8680" y="148428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720" y="580536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981080"/>
            <a:ext cx="0" cy="396252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EZ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u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a convertirse en efe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GI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laciona con el tiempo faltante para el vencimiento de la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lig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 CIRCUL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4920" y="3860640"/>
            <a:ext cx="4033800" cy="251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s a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ores por ve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1040" y="1911240"/>
            <a:ext cx="8672760" cy="17398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o recursos de la empresa que serán vendido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izados o consumidos dentro de un año desde la fecha de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financi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3280" y="3860280"/>
            <a:ext cx="4034160" cy="24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pagados por anticip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s (no depreciab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nstrucciones y obras de infraestruc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quinaria y equip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tros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acumulada (meno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ROS ACTIVO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empresas relacionad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otras socie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ores a largo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angibles (patentes, marca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ortizaciones (me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17T19:45:38Z</dcterms:created>
  <dc:creator/>
  <dc:description/>
  <dc:language>en-US</dc:language>
  <cp:lastModifiedBy>IVAN ALVAREZ VALDES</cp:lastModifiedBy>
  <cp:lastPrinted>1999-03-18T20:43:15Z</cp:lastPrinted>
  <dcterms:modified xsi:type="dcterms:W3CDTF">2006-03-19T17:24:52Z</dcterms:modified>
  <cp:revision>26</cp:revision>
  <dc:subject/>
  <dc:title>TRANSACCION</dc:title>
</cp:coreProperties>
</file>