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DC26-C435-4226-AB74-BD8D84CB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2D1A-61BA-4D76-9B70-940E3120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65E2-C524-4651-BE50-9C30FA47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B37E-D460-4CF0-A623-816190B3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ACD5-8F4C-4AC5-AC22-CF697467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E5B8-ED39-4267-BAFA-96FD32B0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9074-6B94-450A-8B2F-22A06954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26C8-EB41-4595-8E14-BE8C7F55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C0A0-8266-4B04-811B-D8F5F205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D2FD-A764-4A4C-BC2F-8F4ECFA4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174B-EE0D-4E07-A309-A4B21538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EDA8-FDAC-40EB-A995-068D7F6C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8DDD-8415-4A34-9878-5F02D76C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D7D6-228D-4160-B8E2-CBFF5106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D0A7-A1D0-49FD-A05C-908E1523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4A22-CCEC-4685-96BB-02103E51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103C-F2A0-4D20-9DB9-BBF6E96B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178B-D0BC-42B0-A3BF-FD702E32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BD76-94DB-475F-80D7-F2B1840A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0C6-CD6C-457E-9158-49980992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C3E1-DD67-4A5C-993A-990D5DB7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E21-4583-4D23-B7C8-2912366B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977-1DF2-46B5-82B5-B883EDFB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1C45-2A92-427B-BDCD-BAA82A43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3457-F54D-4EEC-8D8A-0B9A370EAD8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D44B-D267-4272-87AD-14BBB04452B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2: Estados Financi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3733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a C.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de las obligaciones a  LP que vence ant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a 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3733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557360"/>
            <a:ext cx="81360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ellas obligaciones contraídas por la empresa que serán canceladas dentro del plazo de un año a contar de la fecha de los estad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S DE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422440"/>
            <a:ext cx="8136000" cy="1557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informe contable que permite conocer como se h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do el resultado de la empresa durante 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resumen de los ingresos y gastos 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845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uesto a la R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903320"/>
            <a:ext cx="845820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3357720"/>
            <a:ext cx="7561440" cy="265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 de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3141720"/>
            <a:ext cx="6985080" cy="1922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la diferencia entre la revalorización de los activos sujetos a corrección monetaria y la revalorización de los pasivos y del patrimonio y a revalorizaciones que se aplican sobre ingresos y ga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7680" y="1700280"/>
            <a:ext cx="871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rrección Monetaria consiste en revalorizar las distin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das del Balance y Estado de Resultados de modo de tomar en cuenta la inflación y las variaciones de las par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a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645000"/>
            <a:ext cx="8136000" cy="7038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cción Monetaria = Revalorizaciones de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–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valorizaciones de Pasivos y Patrimon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JUSTES A LOS ESTAD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ciones implícitas agregadas al Balance y al Estado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ión Parcial de un Activo en 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mulación de Ingresos y Gastos no Registrado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de carácter estático, muestra solo un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lado izquierdo muestra los activos y al derecho los pasivos y el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ión Parcial de Activo en Gas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2749680"/>
            <a:ext cx="257832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6560" y="2749680"/>
            <a:ext cx="16635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2749680"/>
            <a:ext cx="12063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35268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2440" y="28036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4403880"/>
            <a:ext cx="8893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curre por el consumo o uso del activo, o por un imprevis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: Depreciación, gastos pagados por anticipado, amortización de activos intangibles, castigos y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 de noviembre se compra mobiliario en M$600, cuya vida útil es de 5 años y su valor residual c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 (Dos Op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   Depreciación Acumulad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87692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1/10 se arriendan oficinas pagando 5 meses por adelantado, por un monto de $1000, al con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s Pagados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1040" y="4349880"/>
            <a:ext cx="8674200" cy="2273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agado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600. El deudor quebró y se tiene la certeza de que no cancel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5080" y="3587760"/>
            <a:ext cx="8750160" cy="31114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358128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Castig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tigo Incobrabl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800. La empresa estima que por diversas razones no se recaudará el 10% de es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360" y="3435480"/>
            <a:ext cx="8140680" cy="2654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provisió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or Provisión   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sión Incobrable  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/9 el Teatro Municipal vende abonos por M$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Anticipado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760" y="3816360"/>
            <a:ext cx="8977320" cy="27306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JUSTE AL 31/12 (se alcanzaron a efectuar el 80 % de los evento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por Anticip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mulación de Ingresos y Gastos no Regist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que ocurren día a día, en forma contin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banc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de invers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restados por el pers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/10 se pide un préstamo por M$100, al 3% mensual (interés simp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con Bcos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5080" y="4044960"/>
            <a:ext cx="8750160" cy="1511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(reconocimiento del interés devengad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lig.con Bcos.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0120" y="5892840"/>
            <a:ext cx="8636040" cy="863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Compuesto al mes n = 100 * (1+i)^n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al mes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= 100 * (1+i)^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paga salarios semanales por M$100. El último pago lo efectuó el 28/12 correspondiente a la semana del 21-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8760" y="3664080"/>
            <a:ext cx="8826480" cy="24256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(Salario Devengado del 28 al 3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sideran días hábiles, luego sueldo diario M$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lari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ECONOM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en sí estados financieros, pero forman parte de el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os Contables Usado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de conversión transacciones a M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depreciar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valorizar existen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Principales 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ción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lle Provisiones y Cas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: Fechas de Vencimiento, Instituciones Acree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AMEN AUDITORES EXTER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S.A. están obligadas a que sus Estados Financieros y las Notas a ellos sean revisados por Auditores Externos, quienes emiten un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Salvedad (Pos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Salvedad (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los Estados Financieros de las S.A. abier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tamen de Auditore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oriedad de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Tributario : S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p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.A. abierta       : Superintendencia de Valores y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nc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B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FP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AF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sapr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a.de seguros : Superintendencia de Valores y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19320" y="1841400"/>
          <a:ext cx="6732360" cy="42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41400"/>
                    <a:ext cx="673236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720" y="18907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2800" y="52434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" y="219384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200" y="60040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45720" y="150804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72360" y="184464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82880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6095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42920" y="1600200"/>
          <a:ext cx="6913800" cy="453024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convertirse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laciona con el tiempo faltante para el vencimiento de l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3860640"/>
            <a:ext cx="4033800" cy="25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por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040" y="1911240"/>
            <a:ext cx="8672760" cy="173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o recursos de la empresa que serán vendid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dos o consumidos dentro de un año desde la fech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financi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3280" y="3860280"/>
            <a:ext cx="4034160" cy="24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paga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 (no depre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ones y obras de infra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quinaria y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umulada (men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OS ACTIV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empresas relacion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otras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ngibles (patentes, marca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tizaciones (m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9:45:38Z</dcterms:created>
  <dc:creator/>
  <dc:description/>
  <dc:language>en-US</dc:language>
  <cp:lastModifiedBy>IVAN ALVAREZ VALDES</cp:lastModifiedBy>
  <cp:lastPrinted>1999-03-18T20:43:15Z</cp:lastPrinted>
  <dcterms:modified xsi:type="dcterms:W3CDTF">2006-03-19T17:24:52Z</dcterms:modified>
  <cp:revision>26</cp:revision>
  <dc:subject/>
  <dc:title>TRANSACCION</dc:title>
</cp:coreProperties>
</file>