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wmf" ContentType="image/x-wmf"/>
  <Override PartName="/ppt/media/image12.wmf" ContentType="image/x-wmf"/>
  <Override PartName="/ppt/media/image8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2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23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15.jpeg" ContentType="image/jpeg"/>
  <Override PartName="/ppt/media/image3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4200" y="694800"/>
            <a:ext cx="46306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9EC7-8884-45C4-BDAB-9B2DDBEC9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14F4-C06A-49BE-BF43-14D98C8EE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1276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AC8B-59B4-44FE-8A32-B259F40AE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BCC7-EE4F-4BCF-9B94-B436A2973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4168-1118-4849-9180-77E2BD0B0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6709-60CA-45C2-BB0A-00F2D3782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5983-1497-4E07-837C-DB8ECDF73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7FAB-1889-4322-ADF4-5E0483D2E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F802-9673-4B83-9423-80EF17B25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138F-DFFD-45DF-9EC9-8F39F1491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2E3C-F78C-4082-A3E2-77D0FBEE1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5980-F365-41AB-881F-2136384B6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E55D-D144-46A4-909D-4BC0C21AC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5017-4A6E-40C6-9679-8C10D92ED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D0BB-04AD-4855-A8C3-5BF212E29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01720"/>
            <a:ext cx="54864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0C39-C825-4AEB-8430-ECA8AD1DB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90A7-429A-4643-9A1E-B77373C90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F8E3-78E6-4F73-A0DC-4AF6AE88F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DA1-3AA4-4614-85EF-AF7BF560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53C-F2B5-4ADB-93D7-0D75143A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31B-5D81-4D07-9E56-CFAA5477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F26-6EAD-42F1-A2B2-DEA3A84D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77F-0259-4433-A9C6-A82CE44C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854-A992-427B-94A2-C9855C9D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C9D-022D-43E0-AA48-5D1D7A09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D55-F4D3-4859-B2A1-C54EC811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DA6-D450-49D9-820D-274074FD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FBC-4FE4-4BD9-883A-A51DFA9E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144-1C10-4E05-9970-20886E92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5B3-566E-445B-9EBD-E006E9DD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5F28-C5F6-4B34-B3DC-E48FC84BF1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C3C7-0C8E-485A-87F9-BECB04C9D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8240"/>
            <a:ext cx="853416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a Crisis </a:t>
            </a: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Subprime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námica de u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astre Anunci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46040" y="4134600"/>
            <a:ext cx="30243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3DF-A871-4B48-8C8F-40B11E6F8B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Bank (Now &amp; Future…?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1676520"/>
            <a:ext cx="3657600" cy="236196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752480"/>
            <a:ext cx="1905120" cy="190512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R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438280"/>
            <a:ext cx="609840" cy="4572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209680"/>
            <a:ext cx="1143000" cy="3812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819520"/>
            <a:ext cx="121896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905120"/>
            <a:ext cx="990720" cy="121896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2209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81952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2209680"/>
            <a:ext cx="10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k’s Own Portfol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2057400"/>
            <a:ext cx="1219320" cy="182880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429000"/>
            <a:ext cx="182880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429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M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5257800"/>
            <a:ext cx="2514600" cy="9907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5562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133720"/>
            <a:ext cx="1676520" cy="22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705720" y="3276720"/>
            <a:ext cx="1218960" cy="3045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238880" y="335268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410080" y="3809880"/>
            <a:ext cx="609840" cy="1371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18148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623800">
            <a:off x="2669760" y="4992480"/>
            <a:ext cx="2138400" cy="685800"/>
          </a:xfrm>
          <a:custGeom>
            <a:avLst/>
            <a:gdLst>
              <a:gd name="textAreaLeft" fmla="*/ 334080 w 2138400"/>
              <a:gd name="textAreaRight" fmla="*/ 1871280 w 2138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370-A2B9-4681-BEA5-D0557F9E06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981080" y="2895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asic Structure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A10-AE4D-4379-B1CA-ADF55F40F4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Default Swap (CD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1600200"/>
            <a:ext cx="2057400" cy="1371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4290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33526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5812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35053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181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iti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 Cash Is Ex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41A-219B-4B8C-A0B7-EA581666B0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Default Sw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1600200"/>
            <a:ext cx="2057400" cy="1371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4290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33526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5812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35053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3733920"/>
            <a:ext cx="3276720" cy="228600"/>
          </a:xfrm>
          <a:prstGeom prst="rightArrow">
            <a:avLst>
              <a:gd name="adj1" fmla="val 50000"/>
              <a:gd name="adj2" fmla="val 3583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5334120"/>
            <a:ext cx="7391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til Defaults Occ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Until Maturity)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Buyer Pays The Protection Sell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 (AKA  Fee Or Sp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114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,000,000 x 100 bps /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6172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981080" y="4495320"/>
            <a:ext cx="281952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334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onal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05120" y="449532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2C6-DD07-45B4-A4CA-753515DF93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If Default Occ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8288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17524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2819160" y="213300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419720"/>
            <a:ext cx="1752480" cy="99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43434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572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44956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572000"/>
            <a:ext cx="3276720" cy="228600"/>
          </a:xfrm>
          <a:prstGeom prst="rightArrow">
            <a:avLst>
              <a:gd name="adj1" fmla="val 50000"/>
              <a:gd name="adj2" fmla="val 3583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73392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2320" y="6022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1600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2590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x [ 100% - Final 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2819160" y="495252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038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(Defaulted)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x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3276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After Defaul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297180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Text Placeholder 2" descr=""/>
          <p:cNvPicPr/>
          <p:nvPr/>
        </p:nvPicPr>
        <p:blipFill>
          <a:blip r:embed="rId1"/>
          <a:stretch/>
        </p:blipFill>
        <p:spPr>
          <a:xfrm>
            <a:off x="2743200" y="1144440"/>
            <a:ext cx="914400" cy="7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556-CD87-44AA-AE07-B994A7FFEA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DS --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133720"/>
            <a:ext cx="3200400" cy="1066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029200"/>
            <a:ext cx="2514600" cy="11430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057400"/>
            <a:ext cx="2514600" cy="11430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2209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ing Market Bond 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09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4495320" y="266652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2133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y Country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334120" y="3123720"/>
            <a:ext cx="16761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114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 = 9 %   But  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5105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Default Swap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1447560" y="3962520"/>
            <a:ext cx="1218960" cy="30456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 = 230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2514600" y="396216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53341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 If The Emerging Market Country De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276720" y="411444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EAB-0025-4167-88FD-D247339D4D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What Is A Default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nkrupt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issolution or insolvency of a reference entity, inability to pay debts or the shift of control to a secured party, custodian or recei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ilure to P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ailure of the reference entity to make payments on any obligation before expiration of any applicable grace peri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ructu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reference entity or governmental authority changes an obligation by reducing the interest rate or the principal amount; postponing the payment of interest or principal; lowering the payment priority of the obligation; or changing currency to one that is not permit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udiation / Moratori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validity of an obligation is rejected by the reference entity or a government authority. This event Is mostly applicable to sovereign cred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AC7-5F81-46DD-BE10-50A75777B0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28800" y="38088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nthetic CDO (Unfund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1371600" cy="264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124080"/>
            <a:ext cx="15908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Risk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 = $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743200"/>
            <a:ext cx="1361880" cy="13809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1143000"/>
            <a:ext cx="2743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rotection Sel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3276720"/>
            <a:ext cx="2438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10120" y="3424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3048120"/>
            <a:ext cx="1676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447920"/>
            <a:ext cx="2209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532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2209680"/>
            <a:ext cx="1371600" cy="2819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3124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41911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3505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18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763120" y="2209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7702200" y="434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324480" y="266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342900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28954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0532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upo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120-C62E-4630-B87D-4C73DA8AE8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828800" y="38088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nthetic CDO (Unfund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209680"/>
            <a:ext cx="1371600" cy="264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124080"/>
            <a:ext cx="15908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Risk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 = $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2743200"/>
            <a:ext cx="1361880" cy="13809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1143000"/>
            <a:ext cx="2743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rotection Sel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276720"/>
            <a:ext cx="2438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447920"/>
            <a:ext cx="2209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2209680"/>
            <a:ext cx="1371600" cy="2819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124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911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3505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102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1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63120" y="2209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7702200" y="434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8954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4572000"/>
            <a:ext cx="137160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ault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294920" y="47242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38862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5410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Make Payment In Reverse Order Of Sen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267080" y="426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343400" y="5029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6248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Arranged With CDS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4724280"/>
            <a:ext cx="137160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50B-7E8D-48FA-A92C-B47D20EC3B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858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asic Id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600200" cy="2400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3"/>
          <p:cNvSpPr/>
          <p:nvPr/>
        </p:nvSpPr>
        <p:spPr>
          <a:xfrm>
            <a:off x="457200" y="35812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ter =  99 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ison = 1 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TAL = 100 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= 1 / (99 + 1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5"/>
          <p:cNvCxnSpPr/>
          <p:nvPr/>
        </p:nvCxnSpPr>
        <p:spPr>
          <a:xfrm flipH="1" flipV="1">
            <a:off x="685440" y="5409720"/>
            <a:ext cx="457920" cy="5342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6"/>
          <p:cNvSpPr/>
          <p:nvPr/>
        </p:nvSpPr>
        <p:spPr>
          <a:xfrm>
            <a:off x="228600" y="5943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concentration, (Borderline tox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5410080" y="3809880"/>
            <a:ext cx="1105200" cy="1105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4"/>
          <a:stretch/>
        </p:blipFill>
        <p:spPr>
          <a:xfrm>
            <a:off x="5486400" y="5257800"/>
            <a:ext cx="952560" cy="68580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15"/>
          <p:cNvCxnSpPr/>
          <p:nvPr/>
        </p:nvCxnSpPr>
        <p:spPr>
          <a:xfrm>
            <a:off x="2513520" y="2362320"/>
            <a:ext cx="2972520" cy="35820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Straight Arrow Connector 16"/>
          <p:cNvCxnSpPr/>
          <p:nvPr/>
        </p:nvCxnSpPr>
        <p:spPr>
          <a:xfrm>
            <a:off x="2514600" y="2361960"/>
            <a:ext cx="2743920" cy="20577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Straight Arrow Connector 17"/>
          <p:cNvCxnSpPr/>
          <p:nvPr/>
        </p:nvCxnSpPr>
        <p:spPr>
          <a:xfrm>
            <a:off x="2514240" y="2362320"/>
            <a:ext cx="2439000" cy="2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3" name="TextBox 23"/>
          <p:cNvSpPr/>
          <p:nvPr/>
        </p:nvSpPr>
        <p:spPr>
          <a:xfrm>
            <a:off x="6553080" y="1600200"/>
            <a:ext cx="2971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Senior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90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1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1/(90.1) =0.0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ery Sa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6477120" y="3352680"/>
            <a:ext cx="2971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Mezz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6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05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05/(6.05) = 0.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 that bad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6477120" y="4800600"/>
            <a:ext cx="34290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quity 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3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85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85/(3.85) = 0.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adly!!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2819520" y="6080040"/>
            <a:ext cx="617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e: The total amount of poison (1 = 0.1 + 0.05 + 0.85) is the same, just the “allocation” has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996-B617-4112-A8CB-400C56B0C2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EC33-037A-429F-9C5B-D20BDCA94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Basic Structured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Alternative Bank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A Disaster In The 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Ratings Catastrop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Public Policy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211-193C-49CF-8C1C-F4E485F9B5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209680" y="2286000"/>
            <a:ext cx="1752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rating ≈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410080" y="2438280"/>
            <a:ext cx="1371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$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7162920" y="236232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aa/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 = 6.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7086600" y="350532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a/ B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 = 8.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7162920" y="464832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idual cash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RR &gt; 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2362320" y="4191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ield = 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quity ($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5486400" y="3657600"/>
            <a:ext cx="131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zzan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$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1228680" y="4953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ypical CDO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2666880" y="3657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$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57150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could be: bonds, bank loans, emerging market debt, project finance loans, mid-market loans, TRUP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E96-22DC-4923-B04A-D7D2497A07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2971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6680" y="762120"/>
            <a:ext cx="3352680" cy="2514240"/>
            <a:chOff x="1066680" y="762120"/>
            <a:chExt cx="3352680" cy="2514240"/>
          </a:xfrm>
        </p:grpSpPr>
        <p:sp>
          <p:nvSpPr>
            <p:cNvPr id="294" name=""/>
            <p:cNvSpPr/>
            <p:nvPr/>
          </p:nvSpPr>
          <p:spPr>
            <a:xfrm>
              <a:off x="1118160" y="1097280"/>
              <a:ext cx="979920" cy="2123280"/>
            </a:xfrm>
            <a:prstGeom prst="rect">
              <a:avLst/>
            </a:prstGeom>
            <a:solidFill>
              <a:srgbClr val="dddddd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81680" y="1097280"/>
              <a:ext cx="979920" cy="1117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9640" y="1600200"/>
              <a:ext cx="8780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81680" y="1546560"/>
              <a:ext cx="92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i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81680" y="2384640"/>
              <a:ext cx="981000" cy="398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66680" y="762120"/>
              <a:ext cx="103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28760" y="762120"/>
              <a:ext cx="11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98080" y="1097280"/>
              <a:ext cx="23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ashflow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81680" y="2214720"/>
              <a:ext cx="979920" cy="670320"/>
            </a:xfrm>
            <a:prstGeom prst="rect">
              <a:avLst/>
            </a:prstGeom>
            <a:solidFill>
              <a:srgbClr val="dddddd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81680" y="2885400"/>
              <a:ext cx="979920" cy="390960"/>
            </a:xfrm>
            <a:prstGeom prst="rect">
              <a:avLst/>
            </a:prstGeom>
            <a:solidFill>
              <a:srgbClr val="c0c0c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33160" y="2438280"/>
              <a:ext cx="887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ezzan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04720" y="1600200"/>
              <a:ext cx="825480" cy="335160"/>
            </a:xfrm>
            <a:prstGeom prst="rightArrow">
              <a:avLst>
                <a:gd name="adj1" fmla="val 50000"/>
                <a:gd name="adj2" fmla="val 6157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5800" y="1991520"/>
              <a:ext cx="412560" cy="781920"/>
            </a:xfrm>
            <a:custGeom>
              <a:avLst/>
              <a:gdLst>
                <a:gd name="textAreaLeft" fmla="*/ 55080 w 412560"/>
                <a:gd name="textAreaRight" fmla="*/ 357480 w 412560"/>
                <a:gd name="textAreaTop" fmla="*/ 136800 h 781920"/>
                <a:gd name="textAreaBottom" fmla="*/ 567000 h 78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20600" y="2773800"/>
              <a:ext cx="257760" cy="446760"/>
            </a:xfrm>
            <a:custGeom>
              <a:avLst/>
              <a:gdLst>
                <a:gd name="textAreaLeft" fmla="*/ 34560 w 257760"/>
                <a:gd name="textAreaRight" fmla="*/ 223200 w 257760"/>
                <a:gd name="textAreaTop" fmla="*/ 78120 h 446760"/>
                <a:gd name="textAreaBottom" fmla="*/ 324000 h 4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57800" y="762120"/>
            <a:ext cx="3429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 Have Created Three Different Financial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Has a Fairly Different Risk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5334120"/>
            <a:ext cx="7696080" cy="990360"/>
          </a:xfrm>
          <a:prstGeom prst="leftRightArrow">
            <a:avLst>
              <a:gd name="adj1" fmla="val 50000"/>
              <a:gd name="adj2" fmla="val 154700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5638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EDI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5105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                                                                                     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44956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              B          BB          BBB         A         AA         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28954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1523880"/>
            <a:ext cx="32767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2362320"/>
            <a:ext cx="3049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61760" y="312408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5181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4114800" y="1371600"/>
            <a:ext cx="380880" cy="7238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88640 h 7238880"/>
              <a:gd name="textAreaBottom" fmla="*/ 705024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089-26D7-4155-BDDD-659554D53E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762120"/>
            <a:ext cx="838188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akespeare On The Merits Of Diversific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erchant of Venice (Act I, Scene I, 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ntures are not in one bottom trust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to one place; nor is my whole 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on the fortune of this present ye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my merchandise makes me not sad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5029200"/>
            <a:ext cx="558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is way, Antonio explains to his friend Salerio the advantages of diversificatio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7162920" y="2133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aa/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7086600" y="36576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a/ B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380880" y="380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MBS / C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289548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ANY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tg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5410080" y="2590920"/>
            <a:ext cx="1447920" cy="609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5410080" y="3962520"/>
            <a:ext cx="1447920" cy="30456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66E-AA0F-4F69-84C2-E2478E4ADB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7086600" y="27432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mercial Paper/ Short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3629160" y="519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277020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5410080" y="2590920"/>
            <a:ext cx="1447920" cy="609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5410080" y="3962520"/>
            <a:ext cx="1447920" cy="30456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6248160" y="23619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56386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re is a “mismatch” between the duration of the assets and (at least) some liabilities [Liquidity Risk Imbedd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35E-8646-48F5-AD6A-BD5873D179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7600" y="-36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securitiz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54864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60958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5867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5120" y="54864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2819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520" y="34290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819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19520" y="41148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4724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4495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41148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00200" y="609480"/>
            <a:ext cx="0" cy="6019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80880"/>
            <a:ext cx="17524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on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rtgag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ans, Et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685800"/>
            <a:ext cx="0" cy="6019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20203200">
            <a:off x="380520" y="16761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20203200">
            <a:off x="457200" y="23619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20203200">
            <a:off x="380880" y="4952520"/>
            <a:ext cx="38124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0203200">
            <a:off x="304920" y="32000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203200">
            <a:off x="914400" y="31237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20203200">
            <a:off x="914400" y="18284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20203200">
            <a:off x="914400" y="6171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20203200">
            <a:off x="990720" y="43430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20203200">
            <a:off x="990720" y="25905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0203200">
            <a:off x="762120" y="36572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0203200">
            <a:off x="914400" y="53337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20203200">
            <a:off x="380520" y="434304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219320" y="1828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219320" y="21333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219320" y="60955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14400" y="59436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143000" y="44193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556272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33520" y="457164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09480" y="167616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85800" y="2057400"/>
            <a:ext cx="1295280" cy="4572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990720" y="3429000"/>
            <a:ext cx="1218960" cy="3808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38862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09480" y="297144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33520" y="2895480"/>
            <a:ext cx="1600200" cy="5335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2819520"/>
            <a:ext cx="1143000" cy="15238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51814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19480" y="9097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95680" y="480060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34120" y="480060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4120" y="5486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3412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3276720"/>
            <a:ext cx="167652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00400" y="464832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124080" y="548640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00400" y="29718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2057400"/>
            <a:ext cx="18288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838080"/>
            <a:ext cx="0" cy="5791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0" y="106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010280" y="1523880"/>
            <a:ext cx="1127160" cy="1121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705720" y="2819520"/>
            <a:ext cx="190476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791320" y="365724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715000" y="4038120"/>
            <a:ext cx="13716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57200" y="396252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57200" y="220932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96080" y="3581280"/>
            <a:ext cx="609840" cy="15264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62920" y="3962520"/>
            <a:ext cx="609480" cy="15228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7467120" y="4267080"/>
            <a:ext cx="3049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772400" y="38098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45600" y="57913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9C4-CB70-49C2-9E58-8CA1E51F04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6CA-6675-48EE-B512-3A1EC3E3FD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OLD Landsc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Text Placeholder 2" descr=""/>
          <p:cNvPicPr/>
          <p:nvPr/>
        </p:nvPicPr>
        <p:blipFill>
          <a:blip r:embed="rId1"/>
          <a:stretch/>
        </p:blipFill>
        <p:spPr>
          <a:xfrm>
            <a:off x="6553080" y="2666880"/>
            <a:ext cx="1706760" cy="1363680"/>
          </a:xfrm>
          <a:prstGeom prst="rect">
            <a:avLst/>
          </a:prstGeom>
          <a:ln w="0">
            <a:noFill/>
          </a:ln>
        </p:spPr>
      </p:pic>
      <p:pic>
        <p:nvPicPr>
          <p:cNvPr id="453" name="Text Placeholder 2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577880" cy="18032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438280" y="3124080"/>
            <a:ext cx="3886200" cy="609840"/>
          </a:xfrm>
          <a:prstGeom prst="leftRightArrow">
            <a:avLst>
              <a:gd name="adj1" fmla="val 50000"/>
              <a:gd name="adj2" fmla="val 126860"/>
            </a:avLst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2819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41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41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A2D-EB21-4FD7-BF20-1534AE1B7C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OLD Landsc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Text Placeholder 2" descr=""/>
          <p:cNvPicPr/>
          <p:nvPr/>
        </p:nvPicPr>
        <p:blipFill>
          <a:blip r:embed="rId1"/>
          <a:stretch/>
        </p:blipFill>
        <p:spPr>
          <a:xfrm>
            <a:off x="6553080" y="2666880"/>
            <a:ext cx="1706760" cy="1363680"/>
          </a:xfrm>
          <a:prstGeom prst="rect">
            <a:avLst/>
          </a:prstGeom>
          <a:ln w="0">
            <a:noFill/>
          </a:ln>
        </p:spPr>
      </p:pic>
      <p:pic>
        <p:nvPicPr>
          <p:cNvPr id="460" name="Text Placeholder 2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577880" cy="1803240"/>
          </a:xfrm>
          <a:prstGeom prst="rect">
            <a:avLst/>
          </a:prstGeom>
          <a:ln w="0">
            <a:noFill/>
          </a:ln>
        </p:spPr>
      </p:pic>
      <p:pic>
        <p:nvPicPr>
          <p:cNvPr id="461" name="Text Placeholder 2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1170000" cy="12970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438280" y="3124080"/>
            <a:ext cx="3886200" cy="609840"/>
          </a:xfrm>
          <a:prstGeom prst="leftRightArrow">
            <a:avLst>
              <a:gd name="adj1" fmla="val 50000"/>
              <a:gd name="adj2" fmla="val 126860"/>
            </a:avLst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05320" y="2819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41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2666880"/>
            <a:ext cx="838080" cy="5335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2209680"/>
            <a:ext cx="1752480" cy="228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80880" y="2666880"/>
            <a:ext cx="19051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29600" y="388620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1447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rrower Defaults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0B2-28E6-40F5-A398-ED8BFC24A9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NEW Landscape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Text Placeholder 2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057400" y="3124080"/>
            <a:ext cx="2133720" cy="609840"/>
          </a:xfrm>
          <a:prstGeom prst="leftRightArrow">
            <a:avLst>
              <a:gd name="adj1" fmla="val 50000"/>
              <a:gd name="adj2" fmla="val 69652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2743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76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191120" y="3580920"/>
            <a:ext cx="914400" cy="22100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D97-FB52-4230-B1DE-48FD0307B3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981080" y="28954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3A5-D535-4BA5-B387-72EB95D246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Text Placeholder 2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057400" y="3124080"/>
            <a:ext cx="685800" cy="609840"/>
          </a:xfrm>
          <a:prstGeom prst="leftRightArrow">
            <a:avLst>
              <a:gd name="adj1" fmla="val 50000"/>
              <a:gd name="adj2" fmla="val 22387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657600" y="3429000"/>
            <a:ext cx="228600" cy="2286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2590920"/>
            <a:ext cx="457200" cy="17524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590920"/>
            <a:ext cx="457200" cy="17524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343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34320" y="3581280"/>
            <a:ext cx="457200" cy="38124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400080" y="30481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962520" y="3123720"/>
            <a:ext cx="2361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8640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5943600"/>
            <a:ext cx="1066680" cy="380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5943600"/>
            <a:ext cx="1981440" cy="3808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dge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95480" y="6019920"/>
            <a:ext cx="228600" cy="22860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76520" y="60958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4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971800" y="3733920"/>
            <a:ext cx="9144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0199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 rot="13483200">
            <a:off x="586080" y="5452200"/>
            <a:ext cx="27414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8" y="0"/>
                </a:moveTo>
                <a:arcTo wR="10800" hR="10800" stAng="-5413315" swAng="5413315"/>
                <a:lnTo>
                  <a:pt x="10800" y="10800"/>
                </a:lnTo>
                <a:close/>
              </a:path>
              <a:path fill="none" w="21600" h="21600">
                <a:moveTo>
                  <a:pt x="10758" y="0"/>
                </a:moveTo>
                <a:arcTo wR="10800" hR="10800" stAng="-5413315" swAng="54133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990360" y="5791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724280"/>
            <a:ext cx="1524240" cy="685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48769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surance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952520" y="4343400"/>
            <a:ext cx="2133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724280" y="4800600"/>
            <a:ext cx="76320" cy="763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201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7924320" y="228600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4952880" y="2286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95288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952880" y="990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76212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88200" y="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457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4800600"/>
            <a:ext cx="304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mething whose size is several trillions (US$) can only be called “shadow banking system” by people who did not know that it exist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731-938B-41F9-B14C-0F4222D3BF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ext Placeholder 2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057400" y="3124080"/>
            <a:ext cx="685800" cy="609840"/>
          </a:xfrm>
          <a:prstGeom prst="leftRightArrow">
            <a:avLst>
              <a:gd name="adj1" fmla="val 50000"/>
              <a:gd name="adj2" fmla="val 22387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657600" y="3429000"/>
            <a:ext cx="228600" cy="2286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248520" y="2590920"/>
            <a:ext cx="457200" cy="17524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34320" y="2590920"/>
            <a:ext cx="457200" cy="17524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343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343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3581280"/>
            <a:ext cx="457200" cy="38124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400080" y="30481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3962520" y="3123720"/>
            <a:ext cx="2361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8640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5943600"/>
            <a:ext cx="1066680" cy="380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66880" y="5943600"/>
            <a:ext cx="1981440" cy="3808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dge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6019920"/>
            <a:ext cx="228600" cy="22860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76520" y="60958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76520" y="54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971800" y="3733920"/>
            <a:ext cx="9144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60199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 rot="13483200">
            <a:off x="586080" y="5452200"/>
            <a:ext cx="27414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8" y="0"/>
                </a:moveTo>
                <a:arcTo wR="10800" hR="10800" stAng="-5413315" swAng="5413315"/>
                <a:lnTo>
                  <a:pt x="10800" y="10800"/>
                </a:lnTo>
                <a:close/>
              </a:path>
              <a:path fill="none" w="21600" h="21600">
                <a:moveTo>
                  <a:pt x="10758" y="0"/>
                </a:moveTo>
                <a:arcTo wR="10800" hR="10800" stAng="-5413315" swAng="54133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990360" y="5791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4724280"/>
            <a:ext cx="1524240" cy="685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4952520" y="4343400"/>
            <a:ext cx="2133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724280" y="4800600"/>
            <a:ext cx="76320" cy="763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341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199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201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7924320" y="228600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52880" y="2286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95288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952880" y="990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76212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88200" y="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2004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315200" y="3505320"/>
            <a:ext cx="380880" cy="30456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91520" y="40384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29200" y="51814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114800" y="5791320"/>
            <a:ext cx="380880" cy="30456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56386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18288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77120" y="13716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4920" y="457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2280" y="2209680"/>
            <a:ext cx="1752840" cy="228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560" y="2666880"/>
            <a:ext cx="19047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8769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surance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5C0-659D-4F62-9746-92DD5F8F17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Disaster In The 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594-347E-4DA4-BBB2-A17230D525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S GDP &amp; CSXR Growth Ra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Chart 2" descr=""/>
          <p:cNvPicPr/>
          <p:nvPr/>
        </p:nvPicPr>
        <p:blipFill>
          <a:blip r:embed="rId1"/>
          <a:stretch/>
        </p:blipFill>
        <p:spPr>
          <a:xfrm>
            <a:off x="633240" y="1798560"/>
            <a:ext cx="6767640" cy="3541680"/>
          </a:xfrm>
          <a:prstGeom prst="rect">
            <a:avLst/>
          </a:prstGeom>
          <a:ln w="0">
            <a:noFill/>
          </a:ln>
        </p:spPr>
      </p:pic>
      <p:sp>
        <p:nvSpPr>
          <p:cNvPr id="574" name="TextBox 3"/>
          <p:cNvSpPr/>
          <p:nvPr/>
        </p:nvSpPr>
        <p:spPr>
          <a:xfrm>
            <a:off x="228600" y="6324480"/>
            <a:ext cx="853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S GDP Data, CIA World Fact Book; CSXR, House Price Index, S&amp;P, Top Ten US Metropolitan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5"/>
          <p:cNvSpPr/>
          <p:nvPr/>
        </p:nvSpPr>
        <p:spPr>
          <a:xfrm>
            <a:off x="2514600" y="4267080"/>
            <a:ext cx="5791320" cy="1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1066680" y="47768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9"/>
          <p:cNvCxnSpPr/>
          <p:nvPr/>
        </p:nvCxnSpPr>
        <p:spPr>
          <a:xfrm>
            <a:off x="1370520" y="2133720"/>
            <a:ext cx="305640" cy="76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8" name="TextBox 14"/>
          <p:cNvSpPr/>
          <p:nvPr/>
        </p:nvSpPr>
        <p:spPr>
          <a:xfrm>
            <a:off x="297180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lity: Houses cannot appreciate faster than the GDP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136-1F8F-4BB6-BB78-361E3AFC33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7" descr="pic2.jpg"/>
          <p:cNvPicPr/>
          <p:nvPr/>
        </p:nvPicPr>
        <p:blipFill>
          <a:blip r:embed="rId1"/>
          <a:stretch/>
        </p:blipFill>
        <p:spPr>
          <a:xfrm>
            <a:off x="2514600" y="144792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251460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ant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1B0-7739-451A-A92A-C01983AE4C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raud: Many “Irregularities” in the Mortgage Spac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533520" y="1600200"/>
            <a:ext cx="830556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lk and Chew Gum: Lenders Continue To Relax Mortgage Underwriting Standar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June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w York AG accuses eAppraiseIT of inflating appraisals for Wam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rtgage broker subject of law suit from Illinois AG - accused of frau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ur plead guilty in San Diego sub-prime mortgage fraud 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sePoint Analytics study finds evidence of fraud in 70% of EPD's 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(Early Payment Defa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bruar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ource: The Mortgage Fraud B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331-6C31-4DF2-A942-75B6D10BE3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oolish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2"/>
          <p:cNvSpPr/>
          <p:nvPr/>
        </p:nvSpPr>
        <p:spPr>
          <a:xfrm>
            <a:off x="990720" y="1523880"/>
            <a:ext cx="693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’s AAA, I don’t need to worry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’s wrapped by a AAA-monoline, why bother with due diligence and stuff like th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  AAA never defaul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 you know what AAA me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der what ASSUMPTIONS is this “thing”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A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 you think the assumptions ar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son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E3D-0DA4-4611-ABC1-EE1807F27D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atings Catastrop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DF3-A24F-4F6F-9B84-2DA411F4E50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atings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086600" y="2133720"/>
            <a:ext cx="1066680" cy="23619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086600" y="3809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086600" y="32767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472428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5308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O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248520" y="2666880"/>
            <a:ext cx="685800" cy="83844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24480" y="3657600"/>
            <a:ext cx="609840" cy="762120"/>
          </a:xfrm>
          <a:custGeom>
            <a:avLst/>
            <a:gdLst>
              <a:gd name="textAreaLeft" fmla="*/ 81720 w 609840"/>
              <a:gd name="textAreaRight" fmla="*/ 528120 w 6098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38680" y="19810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ERMIN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5867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362320" y="3276360"/>
            <a:ext cx="533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971800" y="3581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3733920"/>
            <a:ext cx="1828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763120" y="41148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8229600" y="2742840"/>
            <a:ext cx="53352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7696080" y="5028840"/>
            <a:ext cx="99072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638680" y="2666880"/>
            <a:ext cx="3049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324480" y="5181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ting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8229600" y="3504960"/>
            <a:ext cx="4572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8229600" y="411480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998-5FCD-4D2F-A3C1-5A0E1662D2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5708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Three Driver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bability of Default (Likelihood That An Asset Will Defa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very Rate (If An Asset Defaults, How Much Can We Sell It For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rrelation (The Extent To Which Assets Might “Default Together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7467480" y="2209680"/>
            <a:ext cx="1067040" cy="2971800"/>
          </a:xfrm>
          <a:prstGeom prst="upDownArrow">
            <a:avLst>
              <a:gd name="adj1" fmla="val 50000"/>
              <a:gd name="adj2" fmla="val 55444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1295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028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A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5943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the rating agencies have been focusing on (in recent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" y="5029200"/>
            <a:ext cx="685800" cy="914400"/>
          </a:xfrm>
          <a:custGeom>
            <a:avLst/>
            <a:gdLst>
              <a:gd name="textAreaLeft" fmla="*/ 0 w 685800"/>
              <a:gd name="textAreaRight" fmla="*/ 686160 w 6858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343-0089-40F4-A5FE-D01001B8B3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ext Placeholder 2" descr=""/>
          <p:cNvPicPr/>
          <p:nvPr/>
        </p:nvPicPr>
        <p:blipFill>
          <a:blip r:embed="rId1"/>
          <a:stretch/>
        </p:blipFill>
        <p:spPr>
          <a:xfrm>
            <a:off x="7010280" y="41911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60" name="Text Placeholder 2" descr=""/>
          <p:cNvPicPr/>
          <p:nvPr/>
        </p:nvPicPr>
        <p:blipFill>
          <a:blip r:embed="rId2"/>
          <a:stretch/>
        </p:blipFill>
        <p:spPr>
          <a:xfrm>
            <a:off x="7010280" y="457200"/>
            <a:ext cx="1729080" cy="1682640"/>
          </a:xfrm>
          <a:prstGeom prst="rect">
            <a:avLst/>
          </a:prstGeom>
          <a:ln w="0">
            <a:noFill/>
          </a:ln>
        </p:spPr>
      </p:pic>
      <p:pic>
        <p:nvPicPr>
          <p:cNvPr id="61" name="Text Placeholder 2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1828800" cy="156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7400" y="137160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What Is It 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362320"/>
            <a:ext cx="8559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ertainty regarding a counterparty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and willing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eet its contractual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4267080"/>
            <a:ext cx="65786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This Guy Going To Pay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ext Placeholder 2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1827360" cy="182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3C7-2964-40E9-BE06-3701D2E014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rror Propagation (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00200" y="60948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3049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68580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20203200">
            <a:off x="6091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990720" y="18288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19480" y="90972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00800" y="83808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5562720" y="3733920"/>
            <a:ext cx="380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609480" y="2590560"/>
            <a:ext cx="15264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5105520"/>
            <a:ext cx="199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Lo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38280" y="5105520"/>
            <a:ext cx="199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tran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2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5105520"/>
            <a:ext cx="199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second order tran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971800" y="2057400"/>
            <a:ext cx="15228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705720" y="18288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RNING: The leverage “amplifies” the effect of a small initial error in P (the default prob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20203200">
            <a:off x="1066320" y="228564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rot="20203200">
            <a:off x="914400" y="2742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rot="20203200">
            <a:off x="228600" y="25905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20203200">
            <a:off x="304920" y="19047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828800" y="59436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59436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8381880" y="2514600"/>
            <a:ext cx="38124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8381520" y="685800"/>
            <a:ext cx="3812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391520" y="54100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the default probabil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" y="45720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2 Lo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=  1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19%                         =7%                            =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802-C603-4E76-90F0-8B045EA533D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600200" y="60948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0880" y="609480"/>
            <a:ext cx="1752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86200" y="68580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20203200">
            <a:off x="6091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990720" y="18288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19480" y="90972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00800" y="83808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04920" y="48006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 important modeling issue:  Most CDOs of CDOs have been modeled (from a ratings point of view) using the so-called one-factor Gaussian Copula:  a mathematically beautiful, but fundamentally flawed approa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203200">
            <a:off x="10663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20203200">
            <a:off x="914400" y="28951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20203200">
            <a:off x="304920" y="2742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203200">
            <a:off x="304920" y="19807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333760" y="2057400"/>
            <a:ext cx="15238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0" y="144792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ssian Cop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looks at asset correlation, NOT default corre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DB1-BECF-40C6-B65B-9827696A414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s Using A Normal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Text Placeholder 2" descr=""/>
          <p:cNvPicPr/>
          <p:nvPr/>
        </p:nvPicPr>
        <p:blipFill>
          <a:blip r:embed="rId1"/>
          <a:stretch/>
        </p:blipFill>
        <p:spPr>
          <a:xfrm>
            <a:off x="1801800" y="1719360"/>
            <a:ext cx="5599080" cy="46879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6451560" y="26542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ume P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489720" y="1917720"/>
            <a:ext cx="233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204040" y="3124080"/>
            <a:ext cx="38160" cy="31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6641640" y="6248520"/>
            <a:ext cx="14734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6108840" y="6388200"/>
            <a:ext cx="52056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41200" y="4013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80160" y="394956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66760" y="20318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82760" y="2806560"/>
            <a:ext cx="444240" cy="10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64DA-6041-4547-A2EB-EEAC67816C6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600" y="223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simplified version, 2 assets, sam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Text Placeholder 2"/>
          <p:cNvGraphicFramePr/>
          <p:nvPr/>
        </p:nvGraphicFramePr>
        <p:xfrm>
          <a:off x="1009800" y="1500120"/>
          <a:ext cx="7002360" cy="45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3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500120"/>
                    <a:ext cx="70023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6350040" y="248904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se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3009960" y="2857680"/>
            <a:ext cx="344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3072960" y="2971800"/>
            <a:ext cx="34290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061040" y="4915080"/>
            <a:ext cx="2082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6819480" y="4241880"/>
            <a:ext cx="64764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6578640" y="4267080"/>
            <a:ext cx="482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28600" y="6197760"/>
            <a:ext cx="694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correlation between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0EB-6EA1-4E78-B5A3-C2E7E6F5C1F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93840" y="375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a “visual” represen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Text Placeholder 2" descr=""/>
          <p:cNvPicPr/>
          <p:nvPr/>
        </p:nvPicPr>
        <p:blipFill>
          <a:blip r:embed="rId1"/>
          <a:stretch/>
        </p:blipFill>
        <p:spPr>
          <a:xfrm>
            <a:off x="1305000" y="1692360"/>
            <a:ext cx="6567480" cy="480852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 flipH="1">
            <a:off x="3276720" y="4648320"/>
            <a:ext cx="8380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460840" y="4724280"/>
            <a:ext cx="33048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81C-39EA-4848-B4B6-00642D8D090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Danger of Overconfiden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/>
          <p:nvPr/>
        </p:nvSpPr>
        <p:spPr>
          <a:xfrm>
            <a:off x="1066680" y="2286000"/>
            <a:ext cx="67820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you all know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mortals’ chiefest enem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beth, Act III, Scene V,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Text Placeholder 2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611440" cy="30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90C-87D4-4434-BEC9-BB71D435319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 Summary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ssues With The Rating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hasis Has Been on the Correlation Instead of the Default Probability (Which is the Most Significant Vari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ong Approach (Gaussian Copula) Used to Model Defaults In Monte Carlo Simulations of Credit Portfol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ror Propagation in Models (Lack of Stability) Totally Overloo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FBD-45CA-46A1-B65F-45252BC999D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ublic Poli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020-2DD4-4F52-B182-8E15424C029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g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 Role of Regulation: To Save The System (Not an individual participan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er s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ic versus Dynamic regulation? (depending on economic cycle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cus on “function” of the participant , NOT “name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r example, amount of leverage, instead of  “bank” versus “insurance company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 Issue is NOT More Regulation versus Less Regulatio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lligent versus Absurd reg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lobal versus Local reg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hat’s the Worst Thing That Can Happen After a Crisi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arning” the wrong lessons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184-E4F0-4B76-AC5E-0075FDEDEFE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me Specific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6FF-9692-4DF9-A21F-E3919465569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137160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nother Dimen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5909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The Risk Of A Financial Loss Due To The Reduction In The Credit Quality Of A Deb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8090400">
            <a:off x="2122560" y="4377960"/>
            <a:ext cx="1447920" cy="1371600"/>
          </a:xfrm>
          <a:custGeom>
            <a:avLst/>
            <a:gdLst>
              <a:gd name="textAreaLeft" fmla="*/ 415440 w 1447920"/>
              <a:gd name="textAreaRight" fmla="*/ 1240200 w 144792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434340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ioration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8FE-63E4-45B3-9F20-9C43FAEEFB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[1] The Rea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/>
          <p:nvPr/>
        </p:nvSpPr>
        <p:spPr>
          <a:xfrm>
            <a:off x="990720" y="2590920"/>
            <a:ext cx="7238880" cy="10666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16200000">
            <a:off x="4305240" y="-1409760"/>
            <a:ext cx="533160" cy="7162560"/>
          </a:xfrm>
          <a:custGeom>
            <a:avLst/>
            <a:gdLst>
              <a:gd name="textAreaLeft" fmla="*/ 0 w 533160"/>
              <a:gd name="textAreaRight" fmla="*/ 192600 w 533160"/>
              <a:gd name="textAreaTop" fmla="*/ 186480 h 7162560"/>
              <a:gd name="textAreaBottom" fmla="*/ 6976080 h 716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152388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BS Market = US$ 11 Tr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990720" y="2590920"/>
            <a:ext cx="144756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" y="441972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$ 1.7 Tr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subpr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400000">
            <a:off x="1447200" y="3352680"/>
            <a:ext cx="533520" cy="1447560"/>
          </a:xfrm>
          <a:custGeom>
            <a:avLst/>
            <a:gdLst>
              <a:gd name="textAreaLeft" fmla="*/ 0 w 533520"/>
              <a:gd name="textAreaRight" fmla="*/ 192600 w 5335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29000" y="4191120"/>
            <a:ext cx="5029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rnancke (July 19, 2007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lking about subprime losses to Congress: “… some estimates are on the order of between $50 billion to $ 100 billion, this is not a big number in a $ 13-trillion economy, especially since the losses will be spread out over several years.” 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((( OUCH!!!   )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C48-F9CD-4E59-ACD1-3F140871857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038480" y="2743200"/>
            <a:ext cx="60984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8480" y="33526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24080" y="2743200"/>
            <a:ext cx="60984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038480" y="297180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0" y="3962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4343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943600" y="3962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0" y="45720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19320" y="21337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" y="1447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d” mortgage lo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6200000">
            <a:off x="3695400" y="171396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505320" y="33526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0" y="21337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2438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3600" y="21337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0" y="2743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6514920" y="110448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71600" y="23623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495680" y="274320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267080" y="3276720"/>
            <a:ext cx="2133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4191120"/>
            <a:ext cx="541008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re Do We Attack The Problem?  Or, Why The Bush Plan Was Very Inefficient (Master-SIV, TARP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(from Walter Bahegot, Lombard Street, A Description of the Money Market, [1873], page 22, lines 13/14): “…the best way to prevent the derivatives failures is to arrest the primary failure which causes them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2004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 / 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67280" y="1219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 of 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3000" y="380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[2] Attack Problem At 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04920" y="3200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rigin of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9480" y="243792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248520" y="5791320"/>
            <a:ext cx="27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RP acts here, two-degrees of separati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7543440" y="449532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C30-DA56-4007-80FF-B64D8E4AB96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705720" y="220968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2590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791320" y="220968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28195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905120" y="35812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13716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d” mortgage lo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rot="16200000">
            <a:off x="6095880" y="838080"/>
            <a:ext cx="838080" cy="1447560"/>
          </a:xfrm>
          <a:custGeom>
            <a:avLst/>
            <a:gdLst>
              <a:gd name="textAreaLeft" fmla="*/ 0 w 838080"/>
              <a:gd name="textAreaRight" fmla="*/ 302760 w 8380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72200" y="28195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648320" y="198108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38080" y="4038480"/>
            <a:ext cx="731520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ality Check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Once the bank/originator underwrites the loan, it normally sells the loan to an SPV (Trust); thus,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bank does not have the righ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o modify the terms of the loan.  PERIOD.  That’s it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wo Bad “Solutions”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A] Allow (Force?) The Servicer or CDO Manager to Change The Terms of the Loan (Serious Legal Implications for TRUE SALE Concept, Future of Securitization, Lawsuits, etc)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B] Allow judges to Modify Mortgages (Contracts), Worse Than [B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 Good Avenue, Help the Borrower Directly  [Very Difficult Politicall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791320" y="838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/ 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90720" y="2971800"/>
            <a:ext cx="1218960" cy="91440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3276720"/>
            <a:ext cx="12189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nk/ Orig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828800" y="3048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62120" y="914400"/>
            <a:ext cx="1600200" cy="990720"/>
          </a:xfrm>
          <a:prstGeom prst="ellipse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14400" y="1295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371600" y="2133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05120" y="20574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22096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S$            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1981080" y="2895120"/>
            <a:ext cx="403884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523880" y="763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[3] The Legal “Proble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809880" y="3048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15000" y="19051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ets      li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38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943600" y="3047760"/>
            <a:ext cx="304920" cy="609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612-ED0E-43EF-A057-A773BA07FAE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ating Agencies Iss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ompetence or Dishonesty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EC/Rating Agency Act: the 3-year Waiting Period (New Rating Agency Approval Process) is a Terrible Id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Real Conflict of Interest (Despite What The Press/ Politicians/ The Public) Think Is NOT Who Pays for the Ratings, IS WHO THE RATING ANALYST REPORTS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atings for (i) Investors OR (ii) Regulator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Does AAA OR BBB Mean?  (The Irrationality Behind The Law); AAA, AA, A etc. are not a Well-Defined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 Rating Agencies Still Control the Structured Products Market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FE0-5BCE-4313-8489-21F974CCE83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1072-604B-45CB-B95A-28FBA84B1A2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bprime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a regular (real estate) bubble… except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 fascination with “benefits” of home 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x brea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ddie &amp; Fan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ing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pidity or dishonest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ity to legis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ematical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re they wro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ssive le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eless regul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 and inflation (flawed CPI Index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319-4799-45AD-B0AF-E8AF9C18AE4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ppend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4DE-1142-47FB-A3D2-675C8BEE80D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328920" y="457200"/>
            <a:ext cx="31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14320" y="1171440"/>
            <a:ext cx="77583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Cifuentes and J.M. Cruz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ite Paper On Rating Agency Refor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epared at the request of the U.S. Senate, May, 2010; available from http://www.sec.gov/comments/df-title-ix/credit-rating-agencies/creditratingagencies-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Cifuentes, Testimony before the U.S. Senate, April, 2010; available from //www.senate.gov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 Crisis is Taking Heavy Toll on Credit Deriv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November 11, 200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to Avoid a Ratings Fiasco: Just Say NO to Black Box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July 9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utiful but Flaw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tters to the Editor, Financial Times, April 18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urmoil in U.S. Credit Markets: The Role of the Credit Rating Agenci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estimony Before the U.S. Senate, April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Credit crisis lurches from bad numbers to bad writing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Times, Insight Column, March 11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ateralized Debt Obligations:  Basic Concepts and Recent Developments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half-day seminar presented at the request of the Connecticut Insurance Department, Connecticut Insurance Department Annual Conference, Hartford, Connecticut, March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eak Basel II May Not Be Enough to Calm Credit Fea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December 18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110-CF36-4FDC-BB4B-3EA205818AA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028960" y="642960"/>
            <a:ext cx="54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FERENCES (contin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42840" y="1386000"/>
            <a:ext cx="7758360" cy="50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nagers Fear Looking Stupid, Modellers Simply Fall in Lo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tters to the Editor, Financial Times, November 1, 200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One-Factor Gaussian Copula Applied To CDOs:  Just Say NO (Or, If You See A Correlation Smile She Is Laughing At Your Results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urnal of Structured Finance, Fall (October) 2007, Vol 13, Number 3, pages  60-7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redit of the Big Three Rating Agencies Under Fi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September 11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Os and Their Ratings:  Chronicle of a Foretold Disast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otal Securitization, June 4, 2007, pages 11 and 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ateralized Debt Obligations:  Key Concepts &amp; Recent Developments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ne-day seminar, United States Treasury, Office of the Comptroller of the Currency, Washington D.C., April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 Measure is to Understand:  Can the Rating Agencies Measure?  Do They Understand?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uromoney CDO Conference, Amsterdam, September, 200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. Cifuentes, Truth or Consequences: Default Correlation Assumptions in the Modeling and Structuring of CD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invited talk delivered at the CFA Institute-New York University Structured Credit Instruments Conference, New York, November, 2005.  Published later in a slightly modified fashion under the titl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Os and Correlation: A Few Modeling Misconcep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CFA Institute Conference Proceedings Quarterly, June 2006, pages 53-5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61A-7D28-45DF-BD30-61407956D53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438280" y="3808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DDITIONAL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14320" y="1171440"/>
            <a:ext cx="7758360" cy="31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. Bageho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ombard Street, A Description of the Money Mark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he Echo Library,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Cooper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Origin of Financial Cris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Harriman House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Mandelbro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(Mis)Behavior of Mark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asic Books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Meissner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redit Deriv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lackwell,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So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New Paradigm for Financial Mark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ublic Affairs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 Tavakoli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ructured Finance &amp; Collateralized Debt Oblig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hn Wiley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 Tavakoli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ar Mr. Buffett, What an Investor Learns 1,269 Miles from Wall Stre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hn Wiley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 Reinhart &amp; K. Rogoff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is Time is Differ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inceton University Press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Tet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l’s Gol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ree Press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CA4-C069-488E-BF09-4940CEA2F09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atings Symb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1778040"/>
            <a:ext cx="680688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ody’s                            Fitch / S&amp;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                                                      A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                                                      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                          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                                                       B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                                                        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                               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                                                       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                                                     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4956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89320" y="2832120"/>
            <a:ext cx="208296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4952880"/>
            <a:ext cx="19306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Junk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16B-82EE-4591-9C22-783667E494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04480" y="649440"/>
            <a:ext cx="87613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ODELING CREDIT RISK I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XED INCOME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2249640" y="1578240"/>
            <a:ext cx="4652640" cy="43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rturo Cifu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eorgios Katsa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. W. Pressprich &amp; 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tober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3120" y="5781600"/>
            <a:ext cx="3813120" cy="7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CB5-8069-4074-B237-C2280BD7336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546120" y="1765440"/>
            <a:ext cx="59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May You Live In Interesting Tim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679840" y="3378240"/>
            <a:ext cx="532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nese Curse [see Ref.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82D-0F41-4554-904E-59EE98E4ECB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asic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Standard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ouble In Parad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Better Id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F41-CCBC-4C9F-8BFB-2E5532DBE65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739880" y="2908440"/>
            <a:ext cx="567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Basic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A8B-F192-4AC4-BBBC-B68D39E0098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 Basic Problem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31640" y="4724280"/>
            <a:ext cx="23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rtfolio of Fixed Income Secu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2760" y="59310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1523880" y="3580920"/>
            <a:ext cx="190512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657600" y="4724280"/>
            <a:ext cx="380880" cy="1981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114800" y="480060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638680" y="320040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5791320" y="175212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83400" y="2070000"/>
            <a:ext cx="2151000" cy="914400"/>
          </a:xfrm>
          <a:custGeom>
            <a:avLst/>
            <a:gdLst/>
            <a:ahLst/>
            <a:rect l="l" t="t" r="r" b="b"/>
            <a:pathLst>
              <a:path w="1355" h="576">
                <a:moveTo>
                  <a:pt x="16" y="441"/>
                </a:moveTo>
                <a:cubicBezTo>
                  <a:pt x="59" y="378"/>
                  <a:pt x="0" y="455"/>
                  <a:pt x="67" y="399"/>
                </a:cubicBezTo>
                <a:cubicBezTo>
                  <a:pt x="117" y="357"/>
                  <a:pt x="50" y="384"/>
                  <a:pt x="109" y="365"/>
                </a:cubicBezTo>
                <a:cubicBezTo>
                  <a:pt x="148" y="326"/>
                  <a:pt x="184" y="288"/>
                  <a:pt x="228" y="255"/>
                </a:cubicBezTo>
                <a:cubicBezTo>
                  <a:pt x="239" y="223"/>
                  <a:pt x="296" y="144"/>
                  <a:pt x="321" y="119"/>
                </a:cubicBezTo>
                <a:cubicBezTo>
                  <a:pt x="342" y="60"/>
                  <a:pt x="374" y="41"/>
                  <a:pt x="414" y="0"/>
                </a:cubicBezTo>
                <a:cubicBezTo>
                  <a:pt x="462" y="3"/>
                  <a:pt x="511" y="0"/>
                  <a:pt x="558" y="9"/>
                </a:cubicBezTo>
                <a:cubicBezTo>
                  <a:pt x="570" y="11"/>
                  <a:pt x="575" y="26"/>
                  <a:pt x="584" y="34"/>
                </a:cubicBezTo>
                <a:cubicBezTo>
                  <a:pt x="617" y="62"/>
                  <a:pt x="639" y="89"/>
                  <a:pt x="669" y="119"/>
                </a:cubicBezTo>
                <a:cubicBezTo>
                  <a:pt x="704" y="154"/>
                  <a:pt x="687" y="116"/>
                  <a:pt x="719" y="161"/>
                </a:cubicBezTo>
                <a:cubicBezTo>
                  <a:pt x="801" y="277"/>
                  <a:pt x="849" y="401"/>
                  <a:pt x="999" y="441"/>
                </a:cubicBezTo>
                <a:cubicBezTo>
                  <a:pt x="1002" y="449"/>
                  <a:pt x="1001" y="459"/>
                  <a:pt x="1007" y="466"/>
                </a:cubicBezTo>
                <a:cubicBezTo>
                  <a:pt x="1020" y="482"/>
                  <a:pt x="1088" y="510"/>
                  <a:pt x="1109" y="517"/>
                </a:cubicBezTo>
                <a:cubicBezTo>
                  <a:pt x="1157" y="550"/>
                  <a:pt x="1215" y="538"/>
                  <a:pt x="1270" y="551"/>
                </a:cubicBezTo>
                <a:cubicBezTo>
                  <a:pt x="1319" y="576"/>
                  <a:pt x="1291" y="568"/>
                  <a:pt x="1355" y="5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2388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ss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092560" y="135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34040" y="4000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rtfolio Loss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C7C-5D34-4376-90EC-EBCDC1F68F1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 Basic Problem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086600" y="2133720"/>
            <a:ext cx="106668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086600" y="3809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086600" y="32767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14400" y="472428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O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2578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248520" y="2666880"/>
            <a:ext cx="685800" cy="83844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24480" y="3657600"/>
            <a:ext cx="609840" cy="762120"/>
          </a:xfrm>
          <a:custGeom>
            <a:avLst/>
            <a:gdLst>
              <a:gd name="textAreaLeft" fmla="*/ 81720 w 609840"/>
              <a:gd name="textAreaRight" fmla="*/ 528120 w 6098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38680" y="19810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019920" y="5867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ERMIN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76520" y="57913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1523520" y="35812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276720" y="3505320"/>
            <a:ext cx="380880" cy="1981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505320" y="373392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DDB-4A1F-4351-ADF5-7AE83413294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gree Of Importan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Or “Relative Value”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82400" y="2641680"/>
            <a:ext cx="81277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OST:          Default Prob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:      Recovery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ST:           Corre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[see Ref. 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CF3-2E31-43C8-A5EF-9520FAE568C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552320" y="329760"/>
            <a:ext cx="64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Rates Behavio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863640" y="1206360"/>
            <a:ext cx="7848720" cy="513720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7099200" y="588024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01C-545C-4287-9222-4A9EA7048FC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faults 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The Way They Happen)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“Industry Concentration” 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228600" y="1981080"/>
          <a:ext cx="8686800" cy="3326040"/>
        </p:xfrm>
        <a:graphic>
          <a:graphicData uri="http://schemas.openxmlformats.org/drawingml/2006/table">
            <a:tbl>
              <a:tblPr/>
              <a:tblGrid>
                <a:gridCol w="936720"/>
                <a:gridCol w="1003320"/>
                <a:gridCol w="936360"/>
                <a:gridCol w="1216080"/>
                <a:gridCol w="1233720"/>
                <a:gridCol w="1139760"/>
                <a:gridCol w="939600"/>
                <a:gridCol w="1281240"/>
              </a:tblGrid>
              <a:tr h="103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els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i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4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9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"/>
          <p:cNvSpPr/>
          <p:nvPr/>
        </p:nvSpPr>
        <p:spPr>
          <a:xfrm>
            <a:off x="266760" y="590544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sed on Moody’s Data (see  Ref. 3): Annual Default Rate by Industry Groups for Selected Years &amp; Indus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5308560" y="2438280"/>
            <a:ext cx="698400" cy="21081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000680" y="2463840"/>
            <a:ext cx="1993680" cy="1409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2819520" y="2451240"/>
            <a:ext cx="3200400" cy="1612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006960" y="2451240"/>
            <a:ext cx="1930680" cy="2501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C1C-984C-4848-A668-9C1B6B26F2A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covery Rat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(Or Severity of Loss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1701720" y="2158920"/>
            <a:ext cx="703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Recovered after the tragedy (Moody’s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06440" y="3073320"/>
            <a:ext cx="840744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Secured Bank Loans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71.2 %     (St. Dev. = 21.1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Secured Public Bonds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63.5 %     (26.1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Unsecured Public Bonds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47.5 %     (26.3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ordinated Public Bonds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8.3 %     (20.1 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64008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Moody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AE5-71D5-4893-A2F9-AA1361D558C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ings &amp; Default Prob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90720" y="1371600"/>
          <a:ext cx="7238880" cy="3522600"/>
        </p:xfrm>
        <a:graphic>
          <a:graphicData uri="http://schemas.openxmlformats.org/drawingml/2006/table">
            <a:tbl>
              <a:tblPr/>
              <a:tblGrid>
                <a:gridCol w="1854000"/>
                <a:gridCol w="2390760"/>
                <a:gridCol w="1787760"/>
                <a:gridCol w="1206360"/>
              </a:tblGrid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Moody'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Year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Year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8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.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.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.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.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2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4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aa-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9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762120" y="5638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urce: Moody’s Data, 1920-2006, Corporate (Loans and Bonds) Defaults, Issuer We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0FD-84D9-4BD6-94B9-D9A250E0DA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rrelation: What Is It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/>
          <p:nvPr/>
        </p:nvSpPr>
        <p:spPr>
          <a:xfrm>
            <a:off x="685800" y="1600200"/>
            <a:ext cx="777240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uitive Defini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Degree to Which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[1] “Things Move In The Sam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tion” (Positive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[2] “Things Move In The Opposit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tion” (Negative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752480" y="54864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     ≠    CAU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E6E-2BFF-4B64-B407-56F96D42BA4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rrelation: What Is It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"/>
          <p:cNvSpPr/>
          <p:nvPr/>
        </p:nvSpPr>
        <p:spPr>
          <a:xfrm>
            <a:off x="304920" y="2590920"/>
            <a:ext cx="701028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thematical Defin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ρ = E { (V - μ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) (W - μ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W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) } / ( σ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σ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W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04920" y="3352680"/>
            <a:ext cx="754380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 (Discrete Defi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380880" y="4952880"/>
                <a:ext cx="586764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w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609480" y="137160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rrelation Can Only Be Defined Between Two Random Variables (“Things We Can Quantify”, Say V and 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152-9031-483E-8D41-0782929CA48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ich Correl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838080" y="1828800"/>
            <a:ext cx="73915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rrelation We Care About I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efault Correl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 Between Any Two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52480" y="3429000"/>
            <a:ext cx="71629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[1] Discrete Approa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ex (0/1) 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[2] Continuous Approa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 To Default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F28-368C-4086-94A6-95ACC713C86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828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rrelation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Typical Character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365760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360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18148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41972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65760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94360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41972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65760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94360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18148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41972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65760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94360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18148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41972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2197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86200" y="5435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   2        3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048120" y="2235240"/>
            <a:ext cx="380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225960"/>
            <a:ext cx="30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[ </a:t>
            </a:r>
            <a:r>
              <a:rPr b="1" lang="el-GR" sz="4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]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 flipV="1">
            <a:off x="4762080" y="3251160"/>
            <a:ext cx="2095560" cy="28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78168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ra”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952520" y="2666520"/>
            <a:ext cx="203220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959520" y="2425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”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489720" y="4889160"/>
            <a:ext cx="3808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6299280" y="2730600"/>
            <a:ext cx="66024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8720" y="632448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See Appendix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F80-A119-4664-A081-7DEF7838504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739880" y="2908440"/>
            <a:ext cx="567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Standard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D6A-AC09-475B-948A-58BC248495F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14320" y="302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t’s Do A Monte Carlo Simulation !!!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We Generate Default Scenarios “Consistent” With The “Right”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l-GR" sz="2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br>
              <a:rPr sz="28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Solution”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Can Use The One-Factor Gaussian Copula To Handle The Correlation Thing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BDE-EDD7-4165-BC2F-D9F46168EA6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faults Using A Normal Distrib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6" name="Text Placeholder 2" descr=""/>
          <p:cNvPicPr/>
          <p:nvPr/>
        </p:nvPicPr>
        <p:blipFill>
          <a:blip r:embed="rId1"/>
          <a:stretch/>
        </p:blipFill>
        <p:spPr>
          <a:xfrm>
            <a:off x="1801800" y="1719360"/>
            <a:ext cx="5599080" cy="46879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6451560" y="26542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ume P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489720" y="1917720"/>
            <a:ext cx="233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8204040" y="3124080"/>
            <a:ext cx="38160" cy="31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6641640" y="6248520"/>
            <a:ext cx="14734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 flipV="1">
            <a:off x="6108840" y="6388200"/>
            <a:ext cx="52056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41200" y="4013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680160" y="394956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66760" y="20318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82760" y="2806560"/>
            <a:ext cx="444240" cy="10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13D-08B1-45AF-B9B8-3447E29DFE4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28600" y="223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simplified version, 2 assets, sam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7" name="Text Placeholder 2"/>
          <p:cNvGraphicFramePr/>
          <p:nvPr/>
        </p:nvGraphicFramePr>
        <p:xfrm>
          <a:off x="1009800" y="1500120"/>
          <a:ext cx="7002360" cy="45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8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500120"/>
                    <a:ext cx="70023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"/>
          <p:cNvSpPr/>
          <p:nvPr/>
        </p:nvSpPr>
        <p:spPr>
          <a:xfrm>
            <a:off x="6350040" y="248904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se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3009960" y="2857680"/>
            <a:ext cx="344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3072960" y="2971800"/>
            <a:ext cx="34290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061040" y="4915080"/>
            <a:ext cx="2082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819480" y="4241880"/>
            <a:ext cx="64764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6578640" y="4267080"/>
            <a:ext cx="482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28600" y="6197760"/>
            <a:ext cx="694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correlation between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C22-6D46-4EEE-9110-CBD77A484A1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93840" y="375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a “visual” represen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7" name="Text Placeholder 2" descr=""/>
          <p:cNvPicPr/>
          <p:nvPr/>
        </p:nvPicPr>
        <p:blipFill>
          <a:blip r:embed="rId1"/>
          <a:stretch/>
        </p:blipFill>
        <p:spPr>
          <a:xfrm>
            <a:off x="1305000" y="1692360"/>
            <a:ext cx="6567480" cy="480852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266760" y="636264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3276720" y="4648320"/>
            <a:ext cx="8380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460840" y="4724280"/>
            <a:ext cx="33048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5ED-E357-4CE8-8640-E05720B95AD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434960" y="2908440"/>
            <a:ext cx="62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rouble In Parad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098-76A3-4D65-A9F8-F6F579BA91F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early, The Market Did Not Follow Shakespeare’s 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038480"/>
            <a:ext cx="52830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ither A Borrower Nor A Lender B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let, Act I, Scene III,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 Placeholder 2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2971800" cy="32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EA6-8937-4BD8-A1B1-BAC8E42C4B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Correl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≠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Text Placeholder 2" descr=""/>
          <p:cNvPicPr/>
          <p:nvPr/>
        </p:nvPicPr>
        <p:blipFill>
          <a:blip r:embed="rId1"/>
          <a:stretch/>
        </p:blipFill>
        <p:spPr>
          <a:xfrm>
            <a:off x="1857240" y="1805040"/>
            <a:ext cx="5702400" cy="469260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3949560" y="54990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2539800" y="549900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7040" y="424332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fault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310520" y="269568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1213920" y="3286080"/>
            <a:ext cx="257400" cy="10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172360" y="3529080"/>
            <a:ext cx="0" cy="20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829560" y="1014480"/>
            <a:ext cx="19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 =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3D3-5D36-4F07-B6BC-43F13EF73D7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1920" y="375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Correlation Also Depend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 Default Probability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6" name="Text Placeholder 2" descr=""/>
          <p:cNvPicPr/>
          <p:nvPr/>
        </p:nvPicPr>
        <p:blipFill>
          <a:blip r:embed="rId1"/>
          <a:stretch/>
        </p:blipFill>
        <p:spPr>
          <a:xfrm>
            <a:off x="1814400" y="1763640"/>
            <a:ext cx="5772240" cy="476244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D6E-A8B8-4E41-9523-EF2E51C23FD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 A Symmetric, Non-Monotonic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1" name="Text Placeholder 2" descr=""/>
          <p:cNvPicPr/>
          <p:nvPr/>
        </p:nvPicPr>
        <p:blipFill>
          <a:blip r:embed="rId1"/>
          <a:stretch/>
        </p:blipFill>
        <p:spPr>
          <a:xfrm>
            <a:off x="1468440" y="1460520"/>
            <a:ext cx="5907240" cy="48718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D5D-332A-4B80-B5B7-C2D8E45FA05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Problem With The One-Factor Gaussian Copul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[ The Mother Of All Problem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787320" y="2629080"/>
            <a:ext cx="2121120" cy="1562040"/>
          </a:xfrm>
          <a:prstGeom prst="hexagon">
            <a:avLst>
              <a:gd name="adj" fmla="val 33948"/>
              <a:gd name="vf" fmla="val 115470"/>
            </a:avLst>
          </a:prstGeom>
          <a:solidFill>
            <a:srgbClr val="99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00280" y="4902120"/>
            <a:ext cx="2120760" cy="1562040"/>
          </a:xfrm>
          <a:prstGeom prst="hexagon">
            <a:avLst>
              <a:gd name="adj" fmla="val 33942"/>
              <a:gd name="vf" fmla="val 115470"/>
            </a:avLst>
          </a:prstGeom>
          <a:solidFill>
            <a:srgbClr val="99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33520" y="2997360"/>
            <a:ext cx="256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6120" y="5346720"/>
            <a:ext cx="25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 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06800" y="3182760"/>
            <a:ext cx="3257640" cy="495360"/>
          </a:xfrm>
          <a:prstGeom prst="rightArrow">
            <a:avLst>
              <a:gd name="adj1" fmla="val 50000"/>
              <a:gd name="adj2" fmla="val 164408"/>
            </a:avLst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20058600">
            <a:off x="2846160" y="4338720"/>
            <a:ext cx="3603600" cy="495360"/>
          </a:xfrm>
          <a:prstGeom prst="rightArrow">
            <a:avLst>
              <a:gd name="adj1" fmla="val 50000"/>
              <a:gd name="adj2" fmla="val 181868"/>
            </a:avLst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756480" y="297180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549760" y="4584600"/>
            <a:ext cx="337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.e. controlling the copula (asset) correlation, does not permit full control of the pool default correlation (the pool default probability “gets in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BBC-110E-4224-A838-9C0A73029CC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82760" y="3758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Error Magnification Nightmar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"/>
          <p:cNvSpPr/>
          <p:nvPr/>
        </p:nvSpPr>
        <p:spPr>
          <a:xfrm>
            <a:off x="1190520" y="2394000"/>
            <a:ext cx="914400" cy="1785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03440" y="2373480"/>
            <a:ext cx="914400" cy="1800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495520" y="3657600"/>
            <a:ext cx="90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32240" y="3259080"/>
            <a:ext cx="90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5320" y="2430360"/>
            <a:ext cx="914400" cy="1785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618240" y="2409840"/>
            <a:ext cx="914400" cy="1800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610320" y="3693960"/>
            <a:ext cx="90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647040" y="3324240"/>
            <a:ext cx="90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511280" y="1828800"/>
            <a:ext cx="65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CD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37480" y="268596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33680" y="263700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1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622600" y="3287880"/>
            <a:ext cx="11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533680" y="37368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845400" y="37814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42160" y="333072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36680" y="4325760"/>
            <a:ext cx="233676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 =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g P = 19.1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Rate = 5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91280" y="4405320"/>
            <a:ext cx="233676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 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g P = 7.0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Rate = 63.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44960" y="5695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440160" y="3440160"/>
            <a:ext cx="21621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529080" y="30621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=7.0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521160" y="3548160"/>
            <a:ext cx="32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cRate= 63.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608640" y="250344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568600" y="5661000"/>
            <a:ext cx="21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y Mezz Tranches from Similar CB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3373560" y="3779640"/>
            <a:ext cx="2251080" cy="17715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307120" y="578808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8345520" y="3137040"/>
            <a:ext cx="5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592760" y="3468600"/>
            <a:ext cx="67932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7716960" y="3794040"/>
            <a:ext cx="868320" cy="209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746760" y="5989680"/>
            <a:ext cx="17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 = 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212320" y="26337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74A-AAA5-4C58-8501-4A092094778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rror Propag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1666800" y="1600200"/>
          <a:ext cx="5567040" cy="4525560"/>
        </p:xfrm>
        <a:graphic>
          <a:graphicData uri="http://schemas.openxmlformats.org/drawingml/2006/table">
            <a:tbl>
              <a:tblPr/>
              <a:tblGrid>
                <a:gridCol w="1522800"/>
                <a:gridCol w="1995120"/>
                <a:gridCol w="2049120"/>
              </a:tblGrid>
              <a:tr h="154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P (Def)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        P (Def) of CDO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Mezz Tran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        P (Def) of CDO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Mezz Tran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7" name=""/>
          <p:cNvSpPr/>
          <p:nvPr/>
        </p:nvSpPr>
        <p:spPr>
          <a:xfrm>
            <a:off x="4457880" y="6051600"/>
            <a:ext cx="36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ct Value = 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7067520" y="2626920"/>
            <a:ext cx="1147680" cy="7308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7045200" y="2823840"/>
            <a:ext cx="1176480" cy="31338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7FE-3D9C-4A0F-B2D0-5C46507EEEA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ore Graphicall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2" name="Text Placeholder 2"/>
          <p:cNvGraphicFramePr/>
          <p:nvPr/>
        </p:nvGraphicFramePr>
        <p:xfrm>
          <a:off x="525600" y="1600200"/>
          <a:ext cx="8091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3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600200"/>
                    <a:ext cx="8091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C99-38EF-4AEB-ABAA-37527C8417E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434960" y="2908440"/>
            <a:ext cx="62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Better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C35-2E1D-4059-A942-4B0B4F95139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aling With Correl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(If You Insis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"/>
          <p:cNvSpPr/>
          <p:nvPr/>
        </p:nvSpPr>
        <p:spPr>
          <a:xfrm>
            <a:off x="220968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49568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3392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7180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20968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49568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73392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97180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20968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73392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97180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49568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97180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464160" y="187956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38280" y="5486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   2        3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600200" y="2286000"/>
            <a:ext cx="380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400800" y="28195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[ </a:t>
            </a:r>
            <a:r>
              <a:rPr b="1" lang="el-GR" sz="4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 flipV="1">
            <a:off x="3962520" y="4114800"/>
            <a:ext cx="200664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4952880" y="2666520"/>
            <a:ext cx="15242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 flipV="1">
            <a:off x="4952880" y="5105520"/>
            <a:ext cx="99072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 flipV="1">
            <a:off x="2590560" y="3276360"/>
            <a:ext cx="3886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501960" y="2031840"/>
            <a:ext cx="1917720" cy="1930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4960" y="2235240"/>
            <a:ext cx="1752480" cy="1612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654960" y="4597560"/>
            <a:ext cx="203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 ONE Number.  Period ! Keep It Simpl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4D2-7FF0-4B8E-A712-C341BF74B9E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685800" y="641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124080" y="6416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The Diversity Score Concep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"/>
          <p:cNvSpPr/>
          <p:nvPr/>
        </p:nvSpPr>
        <p:spPr>
          <a:xfrm>
            <a:off x="1066680" y="4876920"/>
            <a:ext cx="264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ual 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181480" y="4876920"/>
            <a:ext cx="312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deal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059360" y="2690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5800" y="641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124080" y="6416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143000" y="5410080"/>
            <a:ext cx="82040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geneous                                         Homogene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ed   Assets                                  Uncorrelated 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782640" y="2057400"/>
            <a:ext cx="2817360" cy="2437920"/>
            <a:chOff x="782640" y="2057400"/>
            <a:chExt cx="2817360" cy="2437920"/>
          </a:xfrm>
        </p:grpSpPr>
        <p:sp>
          <p:nvSpPr>
            <p:cNvPr id="1034" name=""/>
            <p:cNvSpPr/>
            <p:nvPr/>
          </p:nvSpPr>
          <p:spPr>
            <a:xfrm>
              <a:off x="1010520" y="2057400"/>
              <a:ext cx="2208600" cy="3805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39840" y="2210040"/>
              <a:ext cx="912960" cy="99000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76480" y="2285640"/>
              <a:ext cx="1523520" cy="12952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29480" y="2513520"/>
              <a:ext cx="989640" cy="19818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772280" y="3200040"/>
              <a:ext cx="990720" cy="837360"/>
            </a:xfrm>
            <a:prstGeom prst="rect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2640" y="3047400"/>
              <a:ext cx="1523520" cy="7614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6477120" y="1981080"/>
            <a:ext cx="1295280" cy="3812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77120" y="252252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477120" y="305604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477120" y="3589200"/>
            <a:ext cx="1295280" cy="373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477120" y="412272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58D-F5F5-4CF8-852E-43E415CEE29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Bank (Pas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1676520"/>
            <a:ext cx="5181840" cy="36576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752480"/>
            <a:ext cx="1905120" cy="190512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R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438280"/>
            <a:ext cx="609840" cy="4572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2209680"/>
            <a:ext cx="2286000" cy="10670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809880"/>
            <a:ext cx="2286000" cy="10670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286000"/>
            <a:ext cx="1447920" cy="24382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114800"/>
            <a:ext cx="167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2590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’s Own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5562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590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571640" y="34290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F97F-BCDF-428F-85F6-02238FC217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versity Score (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DIV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Simplified (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DIV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3200400" y="2057400"/>
                <a:ext cx="2643120" cy="35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where  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d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7" name=""/>
          <p:cNvSpPr/>
          <p:nvPr/>
        </p:nvSpPr>
        <p:spPr>
          <a:xfrm>
            <a:off x="6858000" y="4419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 Face value of each as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6324480" y="25909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49" name=""/>
          <p:cNvSpPr/>
          <p:nvPr/>
        </p:nvSpPr>
        <p:spPr>
          <a:xfrm>
            <a:off x="5334120" y="6400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H="1" flipV="1">
            <a:off x="5866920" y="510516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22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oody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D0F-B75B-4676-85D7-E5C9989E607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inomial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129528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523880" y="2133720"/>
                <a:ext cx="5715000" cy="15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7" name=""/>
          <p:cNvSpPr/>
          <p:nvPr/>
        </p:nvSpPr>
        <p:spPr>
          <a:xfrm>
            <a:off x="990720" y="4343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ility of Having    j  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89548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s if There Are    j  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5486400" y="3580920"/>
            <a:ext cx="5335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6553080" y="35812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FF9-8BD6-48BE-8B88-6BBF9096A27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ied Binomial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33520" y="2209680"/>
                <a:ext cx="82296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6248520" y="5257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Recovery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19520" y="41148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ing a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7848720" y="3581280"/>
            <a:ext cx="1522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029200" y="3352320"/>
            <a:ext cx="11430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457200" y="4114800"/>
                <a:ext cx="6858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1295280" y="4114800"/>
                <a:ext cx="7621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1" name=""/>
          <p:cNvSpPr/>
          <p:nvPr/>
        </p:nvSpPr>
        <p:spPr>
          <a:xfrm>
            <a:off x="304920" y="457200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219320" y="3962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981080" y="5562720"/>
            <a:ext cx="350532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5486400" y="594360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7078680" y="693360"/>
            <a:ext cx="685800" cy="2543400"/>
          </a:xfrm>
          <a:custGeom>
            <a:avLst/>
            <a:gdLst>
              <a:gd name="textAreaLeft" fmla="*/ 0 w 685800"/>
              <a:gd name="textAreaRight" fmla="*/ 247680 w 685800"/>
              <a:gd name="textAreaTop" fmla="*/ 66240 h 2543400"/>
              <a:gd name="textAreaBottom" fmla="*/ 2477160 h 25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529400" y="399960"/>
            <a:ext cx="12146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7486560" y="1128600"/>
            <a:ext cx="28584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D30-DA33-482A-A9EA-F5A07338B99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cenario Analysis: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fault Rates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504720" y="1206360"/>
            <a:ext cx="5058000" cy="2984760"/>
          </a:xfrm>
          <a:prstGeom prst="rect">
            <a:avLst/>
          </a:prstGeom>
          <a:ln w="0">
            <a:noFill/>
          </a:ln>
        </p:spPr>
      </p:pic>
      <p:sp>
        <p:nvSpPr>
          <p:cNvPr id="1080" name=""/>
          <p:cNvSpPr/>
          <p:nvPr/>
        </p:nvSpPr>
        <p:spPr>
          <a:xfrm>
            <a:off x="304920" y="4724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Better Ide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352680" y="57913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3886200" y="426672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8620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334120" y="4571640"/>
            <a:ext cx="7617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95880" y="45720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78168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632720" y="3746520"/>
            <a:ext cx="139680" cy="1511280"/>
          </a:xfrm>
          <a:prstGeom prst="downArrow">
            <a:avLst>
              <a:gd name="adj1" fmla="val 50000"/>
              <a:gd name="adj2" fmla="val 2704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543800" y="3365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24280" y="45720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80880" y="5867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x -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1752480" y="49528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206360" y="2286000"/>
            <a:ext cx="35308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965840" y="1409760"/>
            <a:ext cx="111744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032520" y="10666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DR, Bad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854680" y="20829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Defaul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501960" y="1612800"/>
            <a:ext cx="889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A4D-BD68-4359-BD95-7F8434D3D09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455760" y="2709720"/>
            <a:ext cx="3889080" cy="324828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2"/>
          <a:stretch/>
        </p:blipFill>
        <p:spPr>
          <a:xfrm>
            <a:off x="4540320" y="2690640"/>
            <a:ext cx="4152960" cy="30020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4398840" y="2077920"/>
            <a:ext cx="0" cy="419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n We Estimat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The Default Probability Of Company XY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/>
          <p:nvPr/>
        </p:nvSpPr>
        <p:spPr>
          <a:xfrm>
            <a:off x="857160" y="1542960"/>
            <a:ext cx="76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Securitization                After Secu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587-63D9-4938-B0E8-C3A9190BE08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n We Estimat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The Default Probability Of Company XY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/>
          <p:nvPr/>
        </p:nvSpPr>
        <p:spPr>
          <a:xfrm>
            <a:off x="785880" y="1971720"/>
            <a:ext cx="2571840" cy="928800"/>
          </a:xfrm>
          <a:prstGeom prst="rect">
            <a:avLst/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114560" y="22147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ny 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243320" y="2286000"/>
            <a:ext cx="3057480" cy="243000"/>
          </a:xfrm>
          <a:prstGeom prst="rightArrow">
            <a:avLst>
              <a:gd name="adj1" fmla="val 50000"/>
              <a:gd name="adj2" fmla="val 3145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586320" y="2728800"/>
            <a:ext cx="424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272200" y="147168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729480" y="4772160"/>
            <a:ext cx="1442880" cy="11858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743880" y="48006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P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rot="5400000">
            <a:off x="6796800" y="3466080"/>
            <a:ext cx="1685880" cy="271440"/>
          </a:xfrm>
          <a:prstGeom prst="rightArrow">
            <a:avLst>
              <a:gd name="adj1" fmla="val 50000"/>
              <a:gd name="adj2" fmla="val 1552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543480" y="2243160"/>
            <a:ext cx="399960" cy="3715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4014360" y="1700280"/>
            <a:ext cx="131436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067520" y="5324400"/>
            <a:ext cx="399960" cy="3715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14200" y="3514680"/>
            <a:ext cx="305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STION: Should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nge Simply Because The Bond Is Now Placed In The SPV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695920" y="538164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143160" y="5614920"/>
            <a:ext cx="20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ffer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3871440" y="3286080"/>
            <a:ext cx="71640" cy="23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871880" y="5700240"/>
            <a:ext cx="80028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375-86B9-4325-B01D-8BD6A42FA5F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6357960" y="2028960"/>
            <a:ext cx="2000160" cy="367164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915160" y="90000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V    (OR Fixed Income Portfo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615000" y="2214720"/>
            <a:ext cx="3286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243920" y="2757600"/>
            <a:ext cx="199800" cy="557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3914640"/>
            <a:ext cx="371520" cy="157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886440" y="4700520"/>
            <a:ext cx="471600" cy="328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757080" y="743040"/>
            <a:ext cx="48722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Good Job At Estimating The Default Probability Of These Ass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Forget The Fact That They Are In The SPV; The Correlation is ZER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, Don’t Throw In The Correlation To “Improve” A Bad Default Probability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200560" y="2043000"/>
            <a:ext cx="131472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200560" y="2057400"/>
            <a:ext cx="200052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200560" y="2043000"/>
            <a:ext cx="2000520" cy="181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214960" y="2028960"/>
            <a:ext cx="1685880" cy="27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789-A3B3-4E40-9A09-40794BDE37E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odeling Recommend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get The Correlation (Is ZERO) And Concentrate 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Default Probabilit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 Stability (Sensitivity) Analyses (Several Value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enario (What-If) Analy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get Flat Default (CDR)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Different Peak (Industry-Driven)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226-2776-4732-8450-43E0DB125FF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34:29Z</dcterms:created>
  <dc:creator> </dc:creator>
  <dc:description/>
  <dc:language>en-US</dc:language>
  <cp:lastModifiedBy>VCHARLIN</cp:lastModifiedBy>
  <dcterms:modified xsi:type="dcterms:W3CDTF">2010-11-23T22:23:55Z</dcterms:modified>
  <cp:revision>439</cp:revision>
  <dc:subject/>
  <dc:title>Slide 1</dc:title>
</cp:coreProperties>
</file>