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wmf" ContentType="image/x-wmf"/>
  <Override PartName="/ppt/media/image12.wmf" ContentType="image/x-wmf"/>
  <Override PartName="/ppt/media/image8.png" ContentType="image/png"/>
  <Override PartName="/ppt/media/image11.wmf" ContentType="image/x-wmf"/>
  <Override PartName="/ppt/media/image17.jpeg" ContentType="image/jpeg"/>
  <Override PartName="/ppt/media/image7.png" ContentType="image/png"/>
  <Override PartName="/ppt/media/image22.jpeg" ContentType="image/jpeg"/>
  <Override PartName="/ppt/media/image6.wmf" ContentType="image/x-wmf"/>
  <Override PartName="/ppt/media/image29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23.png" ContentType="image/png"/>
  <Override PartName="/ppt/media/image21.jpeg" ContentType="image/jpeg"/>
  <Override PartName="/ppt/media/image16.png" ContentType="image/png"/>
  <Override PartName="/ppt/media/image19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media/image26.wmf" ContentType="image/x-wmf"/>
  <Override PartName="/ppt/media/image15.jpeg" ContentType="image/jpeg"/>
  <Override PartName="/ppt/media/image3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</p:sldIdLst>
  <p:sldSz cx="9144000" cy="6858000"/>
  <p:notesSz cx="6858000" cy="9266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6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14200" y="694800"/>
            <a:ext cx="4630680" cy="347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0092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0092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8336-3AF3-4AC4-8F36-F48719C2AA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14560" y="69516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Slide Number Placeholder 3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58FD-F01D-4B87-A738-B3D3FB97B9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12760" y="69516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Slide Number Placeholder 3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EBC6-AE38-45FB-B292-6E4BE2229E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7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0BF6-B643-49F6-B3F8-505E2438E4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14560" y="69372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2360-162B-43DE-8E36-7B04607520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16000" y="69516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14400" y="4402080"/>
            <a:ext cx="5029200" cy="41688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14560" y="69516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914400" y="4402080"/>
            <a:ext cx="5029200" cy="41688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Rectangle 7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8240-7A58-419D-86D9-ED6BA3DF07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16000" y="69516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914400" y="4402080"/>
            <a:ext cx="5029200" cy="41688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Rectangle 7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6C79-1406-4828-8702-6191B74B69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16000" y="69516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914400" y="4402080"/>
            <a:ext cx="5029200" cy="41688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14560" y="69516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Slide Number Placeholder 3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F50A-4D6B-4158-A51C-1FA89BA309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14560" y="69516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Slide Number Placeholder 3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0D51-BC58-41A6-88A1-FDB2CBB1FC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14560" y="69516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Slide Number Placeholder 3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104D-6C50-42B3-A379-D0B26CAF16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14560" y="69516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Slide Number Placeholder 3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0B71-A8A2-4712-B1D8-F42F3EA208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14560" y="69516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Slide Number Placeholder 3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6BE8-D8BC-4499-B8A3-4CCFF9DB57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14560" y="69516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Slide Number Placeholder 3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DB79-BD9A-47D0-94FE-377EF5FD56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14560" y="69516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Slide Number Placeholder 3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9218-ECE2-4378-A504-95CF940CFD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EEA0-D3F7-4C40-83F5-C67D1B7BCB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14560" y="69372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401720"/>
            <a:ext cx="5486400" cy="41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14560" y="69516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Slide Number Placeholder 3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329F-DE38-4D8C-B5E6-4DA0F1C1F0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14560" y="69516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Slide Number Placeholder 3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47C6-2A1D-4B40-B775-3C7FD64BA0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14560" y="69516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Slide Number Placeholder 3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5DCD-E6DE-452C-93B8-D8853050BF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B02B-E722-42C0-803B-DB9CE9507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94B6-AEC7-4500-BF3D-6453687E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5E84-43D7-4BF4-B90A-9AC157E94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3CEC-85E3-423E-8975-11BD903B9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F548-E361-49C4-A779-7D496D07D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A69A-8886-411E-8464-A5183052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39CB-B386-4F46-91D0-8A2BB470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51CD-D89C-4A7D-82E0-BB938162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09BF-E2EE-49DE-A663-56A697E2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61BF-BC7F-460E-BE1B-22C024AC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5C20-6DB7-44DF-BA10-1CD003C8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6A13-978F-4CEA-BF83-DD45B14D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E8AA-E73F-45C8-87B3-0B45BB40D5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9EE9-F0EC-490F-BDAC-8E3A944E11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08240"/>
            <a:ext cx="8534160" cy="173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La Crisis </a:t>
            </a:r>
            <a:r>
              <a:rPr b="1" i="1" lang="en-US" sz="4400" spc="-1" strike="noStrike">
                <a:solidFill>
                  <a:srgbClr val="000000"/>
                </a:solidFill>
                <a:latin typeface="Verdana"/>
              </a:rPr>
              <a:t>Subprime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inámica de u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sastre Anunci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146040" y="4134600"/>
            <a:ext cx="302436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9B1D-510C-4D12-8D1F-AB5BC13A9D1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The Bank (Now &amp; Future…?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1676520"/>
            <a:ext cx="3657600" cy="236196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1752480"/>
            <a:ext cx="1905120" cy="1905120"/>
          </a:xfrm>
          <a:prstGeom prst="octagon">
            <a:avLst>
              <a:gd name="adj" fmla="val 29287"/>
            </a:avLst>
          </a:prstGeom>
          <a:solidFill>
            <a:srgbClr val="cc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25909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RR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66880" y="2438280"/>
            <a:ext cx="609840" cy="457200"/>
          </a:xfrm>
          <a:prstGeom prst="leftRightArrow">
            <a:avLst>
              <a:gd name="adj1" fmla="val 50000"/>
              <a:gd name="adj2" fmla="val 26553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05320" y="2209680"/>
            <a:ext cx="1143000" cy="381240"/>
          </a:xfrm>
          <a:prstGeom prst="rect">
            <a:avLst/>
          </a:prstGeom>
          <a:solidFill>
            <a:srgbClr val="4f81b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05320" y="2819520"/>
            <a:ext cx="1218960" cy="380880"/>
          </a:xfrm>
          <a:prstGeom prst="rect">
            <a:avLst/>
          </a:prstGeom>
          <a:solidFill>
            <a:srgbClr val="4f81b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1905120"/>
            <a:ext cx="990720" cy="1218960"/>
          </a:xfrm>
          <a:prstGeom prst="rect">
            <a:avLst/>
          </a:prstGeom>
          <a:solidFill>
            <a:srgbClr val="4f81b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05320" y="22096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05320" y="2819520"/>
            <a:ext cx="1676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38680" y="2209680"/>
            <a:ext cx="1067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nk’s Own Portfol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467480" y="2057400"/>
            <a:ext cx="1219320" cy="182880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467480" y="27432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3429000"/>
            <a:ext cx="1828800" cy="380880"/>
          </a:xfrm>
          <a:prstGeom prst="rect">
            <a:avLst/>
          </a:prstGeom>
          <a:solidFill>
            <a:srgbClr val="4f81b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34290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M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4120" y="5257800"/>
            <a:ext cx="2514600" cy="990720"/>
          </a:xfrm>
          <a:prstGeom prst="ellipse">
            <a:avLst/>
          </a:prstGeom>
          <a:solidFill>
            <a:srgbClr val="cc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91320" y="55627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00800" y="2133720"/>
            <a:ext cx="1676520" cy="2286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6705720" y="3276720"/>
            <a:ext cx="1218960" cy="30456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7238880" y="3352680"/>
            <a:ext cx="1143000" cy="1828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5410080" y="3809880"/>
            <a:ext cx="609840" cy="13716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5181480"/>
            <a:ext cx="3124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riv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20623800">
            <a:off x="2669760" y="4992480"/>
            <a:ext cx="2138400" cy="685800"/>
          </a:xfrm>
          <a:custGeom>
            <a:avLst/>
            <a:gdLst>
              <a:gd name="textAreaLeft" fmla="*/ 334080 w 2138400"/>
              <a:gd name="textAreaRight" fmla="*/ 1871280 w 21384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E14B-2B12-4F6E-A5D3-510D30B5C3B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ame 1"/>
          <p:cNvSpPr/>
          <p:nvPr/>
        </p:nvSpPr>
        <p:spPr>
          <a:xfrm>
            <a:off x="838080" y="762120"/>
            <a:ext cx="7543800" cy="5410080"/>
          </a:xfrm>
          <a:prstGeom prst="pie">
            <a:avLst/>
          </a:prstGeom>
          <a:solidFill>
            <a:srgbClr val="00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"/>
          <p:cNvSpPr/>
          <p:nvPr/>
        </p:nvSpPr>
        <p:spPr>
          <a:xfrm>
            <a:off x="1981080" y="289548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asic Structured Produ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F385-4CEC-4415-8B57-F296DCDFE8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Credit Default Swap (CD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/>
          <p:nvPr/>
        </p:nvSpPr>
        <p:spPr>
          <a:xfrm>
            <a:off x="3429000" y="1600200"/>
            <a:ext cx="2057400" cy="13716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57600" y="190512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3429000"/>
            <a:ext cx="1752480" cy="990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00800" y="3352680"/>
            <a:ext cx="1752480" cy="990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358128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77120" y="350532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51814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itiall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NO Cash Is Ex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E9D2-6B61-4FD2-8185-6411290118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Credit Default Sw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/>
          <p:nvPr/>
        </p:nvSpPr>
        <p:spPr>
          <a:xfrm>
            <a:off x="3429000" y="1600200"/>
            <a:ext cx="2057400" cy="13716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657600" y="190512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3429000"/>
            <a:ext cx="1752480" cy="990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00800" y="3352680"/>
            <a:ext cx="1752480" cy="990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358128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77120" y="350532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3733920"/>
            <a:ext cx="3276720" cy="228600"/>
          </a:xfrm>
          <a:prstGeom prst="rightArrow">
            <a:avLst>
              <a:gd name="adj1" fmla="val 50000"/>
              <a:gd name="adj2" fmla="val 35834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9880" y="5334120"/>
            <a:ext cx="7391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ntil Defaults Occu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Or Until Maturity)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 Buyer Pays The Protection Seller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mium (AKA  Fee Or Spre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41148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 1,000,000 x 100 bps /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61722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m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981080" y="4495320"/>
            <a:ext cx="281952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53341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onal 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905120" y="4495320"/>
            <a:ext cx="14475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9FC3-FCB1-4070-BFE9-5DD5CBB61E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If Default Occu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1828800"/>
            <a:ext cx="1752480" cy="990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00800" y="1752480"/>
            <a:ext cx="1752480" cy="990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98108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477120" y="190512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0800000">
            <a:off x="2819160" y="2133000"/>
            <a:ext cx="3276360" cy="228600"/>
          </a:xfrm>
          <a:prstGeom prst="rightArrow">
            <a:avLst>
              <a:gd name="adj1" fmla="val 50000"/>
              <a:gd name="adj2" fmla="val 35830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4419720"/>
            <a:ext cx="1752480" cy="990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400800" y="4343400"/>
            <a:ext cx="1752480" cy="990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457200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477120" y="449568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71800" y="4572000"/>
            <a:ext cx="3276720" cy="228600"/>
          </a:xfrm>
          <a:prstGeom prst="rightArrow">
            <a:avLst>
              <a:gd name="adj1" fmla="val 50000"/>
              <a:gd name="adj2" fmla="val 35834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373392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312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h Sett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2320" y="6022800"/>
            <a:ext cx="30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ical Sett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33920" y="1600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h Pa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0400" y="25909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x [ 100% - Final Pric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0800000">
            <a:off x="2819160" y="4952520"/>
            <a:ext cx="3276360" cy="228600"/>
          </a:xfrm>
          <a:prstGeom prst="rightArrow">
            <a:avLst>
              <a:gd name="adj1" fmla="val 50000"/>
              <a:gd name="adj2" fmla="val 35830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40384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ual (Defaulted) B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33920" y="54100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x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10080" y="32767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After Defaul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05520" y="297180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Text Placeholder 2" descr=""/>
          <p:cNvPicPr/>
          <p:nvPr/>
        </p:nvPicPr>
        <p:blipFill>
          <a:blip r:embed="rId1"/>
          <a:stretch/>
        </p:blipFill>
        <p:spPr>
          <a:xfrm>
            <a:off x="2743200" y="1144440"/>
            <a:ext cx="914400" cy="78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ECE6-6E84-4B75-9CE9-F6C114E718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CDS --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2133720"/>
            <a:ext cx="3200400" cy="106668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5029200"/>
            <a:ext cx="2514600" cy="11430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43600" y="2057400"/>
            <a:ext cx="2514600" cy="11430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19320" y="220968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erging Market Bond Inve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2209680"/>
            <a:ext cx="1219320" cy="304920"/>
          </a:xfrm>
          <a:prstGeom prst="rightArrow">
            <a:avLst>
              <a:gd name="adj1" fmla="val 50000"/>
              <a:gd name="adj2" fmla="val 9997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0800000">
            <a:off x="4495320" y="2666520"/>
            <a:ext cx="1219320" cy="304920"/>
          </a:xfrm>
          <a:prstGeom prst="rightArrow">
            <a:avLst>
              <a:gd name="adj1" fmla="val 50000"/>
              <a:gd name="adj2" fmla="val 9997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16765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$ 10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15000" y="21337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ky Country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5334120" y="3123720"/>
            <a:ext cx="167616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41148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ield = 9 %   But   ?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51055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dit Default Swap S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1447560" y="3962520"/>
            <a:ext cx="1218960" cy="304560"/>
          </a:xfrm>
          <a:prstGeom prst="rightArrow">
            <a:avLst>
              <a:gd name="adj1" fmla="val 50000"/>
              <a:gd name="adj2" fmla="val 100059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38098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mium = 230 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6200000">
            <a:off x="2514600" y="3962160"/>
            <a:ext cx="1218960" cy="304920"/>
          </a:xfrm>
          <a:prstGeom prst="rightArrow">
            <a:avLst>
              <a:gd name="adj1" fmla="val 50000"/>
              <a:gd name="adj2" fmla="val 99941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81480" y="5334120"/>
            <a:ext cx="304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yment If The Emerging Market Country Defa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3276720" y="4114440"/>
            <a:ext cx="18288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0C85-5A3F-4947-AEAC-53AEEB0B3E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What Is A Default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ankruptc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Dissolution or insolvency of a reference entity, inability to pay debts or the shift of control to a secured party, custodian or recei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ailure to Pa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Failure of the reference entity to make payments on any obligation before expiration of any applicable grace peri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ructur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he reference entity or governmental authority changes an obligation by reducing the interest rate or the principal amount; postponing the payment of interest or principal; lowering the payment priority of the obligation; or changing currency to one that is not permit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udiation / Moratoriu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he validity of an obligation is rejected by the reference entity or a government authority. This event Is mostly applicable to sovereign credi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B47C-973F-4C16-A48C-0E463D7577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828800" y="38088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>
              <a:lnSpc>
                <a:spcPct val="10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ynthetic CDO (Unfund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2209680"/>
            <a:ext cx="1371600" cy="26481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3124080"/>
            <a:ext cx="1590840" cy="9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dit Risk As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 = $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505320" y="2743200"/>
            <a:ext cx="1361880" cy="13809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72200" y="1143000"/>
            <a:ext cx="27432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st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Protection Sell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00400" y="3276720"/>
            <a:ext cx="2438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10120" y="34243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00600" y="3048120"/>
            <a:ext cx="1676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m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1447920"/>
            <a:ext cx="22096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153280" y="62485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0" y="2209680"/>
            <a:ext cx="1371600" cy="28195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0" y="31240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41911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010280" y="2514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934320" y="35053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z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010280" y="44197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3818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1880" y="5029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763120" y="22096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5400000">
            <a:off x="7702200" y="4349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6324480" y="266652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40080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24480" y="3429000"/>
            <a:ext cx="3812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2895480"/>
            <a:ext cx="17528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o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3505320"/>
            <a:ext cx="2362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oupon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01B5-F337-41F9-BBF2-5E31C82F1F9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828800" y="38088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>
              <a:lnSpc>
                <a:spcPct val="10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ynthetic CDO (Unfund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2209680"/>
            <a:ext cx="1371600" cy="26481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3124080"/>
            <a:ext cx="1590840" cy="9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dit Risk As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 = $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2743200"/>
            <a:ext cx="1361880" cy="13809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1143000"/>
            <a:ext cx="27432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st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Protection Sell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0400" y="3276720"/>
            <a:ext cx="2438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1447920"/>
            <a:ext cx="22096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153280" y="62485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0" y="2209680"/>
            <a:ext cx="1371600" cy="28195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0" y="31240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0" y="41911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010280" y="2514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934320" y="35053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z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010280" y="44197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3818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381880" y="5029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763120" y="22096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7702200" y="4349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895480"/>
            <a:ext cx="17528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o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4572000"/>
            <a:ext cx="1371600" cy="3049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828800" y="57913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ault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1294920" y="4724280"/>
            <a:ext cx="6858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43600" y="388620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62720" y="54100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ors Must Make Payment In Reverse Order Of Sen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95680" y="4572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267080" y="4266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4343400" y="5029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638680" y="62485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Arranged With CDSs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0" y="4724280"/>
            <a:ext cx="1371600" cy="3049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2D10-A9E1-4D7A-B724-C4B7A2F01DD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85880" y="20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Basic Ide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1600200" cy="2400480"/>
          </a:xfrm>
          <a:prstGeom prst="rect">
            <a:avLst/>
          </a:prstGeom>
          <a:ln w="0">
            <a:noFill/>
          </a:ln>
        </p:spPr>
      </p:pic>
      <p:sp>
        <p:nvSpPr>
          <p:cNvPr id="254" name="TextBox 3"/>
          <p:cNvSpPr/>
          <p:nvPr/>
        </p:nvSpPr>
        <p:spPr>
          <a:xfrm>
            <a:off x="457200" y="3581280"/>
            <a:ext cx="2590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ater =  99 l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oison = 1 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OTAL = 100 l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= 1 / (99 + 1 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=  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Straight Arrow Connector 5"/>
          <p:cNvCxnSpPr/>
          <p:nvPr/>
        </p:nvCxnSpPr>
        <p:spPr>
          <a:xfrm flipH="1" flipV="1">
            <a:off x="685440" y="5409720"/>
            <a:ext cx="457920" cy="53424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6" name="TextBox 6"/>
          <p:cNvSpPr/>
          <p:nvPr/>
        </p:nvSpPr>
        <p:spPr>
          <a:xfrm>
            <a:off x="228600" y="594360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oison concentration, (Borderline toxi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5" descr=""/>
          <p:cNvPicPr/>
          <p:nvPr/>
        </p:nvPicPr>
        <p:blipFill>
          <a:blip r:embed="rId2"/>
          <a:stretch/>
        </p:blipFill>
        <p:spPr>
          <a:xfrm>
            <a:off x="4952880" y="137160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"/>
          <p:cNvPicPr/>
          <p:nvPr/>
        </p:nvPicPr>
        <p:blipFill>
          <a:blip r:embed="rId3"/>
          <a:stretch/>
        </p:blipFill>
        <p:spPr>
          <a:xfrm>
            <a:off x="5410080" y="3809880"/>
            <a:ext cx="1105200" cy="11052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"/>
          <p:cNvPicPr/>
          <p:nvPr/>
        </p:nvPicPr>
        <p:blipFill>
          <a:blip r:embed="rId4"/>
          <a:stretch/>
        </p:blipFill>
        <p:spPr>
          <a:xfrm>
            <a:off x="5486400" y="5257800"/>
            <a:ext cx="952560" cy="685800"/>
          </a:xfrm>
          <a:prstGeom prst="rect">
            <a:avLst/>
          </a:prstGeom>
          <a:ln w="0">
            <a:noFill/>
          </a:ln>
        </p:spPr>
      </p:pic>
      <p:cxnSp>
        <p:nvCxnSpPr>
          <p:cNvPr id="260" name="Straight Arrow Connector 15"/>
          <p:cNvCxnSpPr/>
          <p:nvPr/>
        </p:nvCxnSpPr>
        <p:spPr>
          <a:xfrm>
            <a:off x="2513520" y="2362320"/>
            <a:ext cx="2972520" cy="358200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1" name="Straight Arrow Connector 16"/>
          <p:cNvCxnSpPr/>
          <p:nvPr/>
        </p:nvCxnSpPr>
        <p:spPr>
          <a:xfrm>
            <a:off x="2514600" y="2361960"/>
            <a:ext cx="2743920" cy="205776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2" name="Straight Arrow Connector 17"/>
          <p:cNvCxnSpPr/>
          <p:nvPr/>
        </p:nvCxnSpPr>
        <p:spPr>
          <a:xfrm>
            <a:off x="2514240" y="2362320"/>
            <a:ext cx="2439000" cy="216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3" name="TextBox 23"/>
          <p:cNvSpPr/>
          <p:nvPr/>
        </p:nvSpPr>
        <p:spPr>
          <a:xfrm>
            <a:off x="6553080" y="1600200"/>
            <a:ext cx="297180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Senior Bot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ter = 90 l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oison = 0.1 l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= 0.1/(90.1) =0.0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Very Saf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24"/>
          <p:cNvSpPr/>
          <p:nvPr/>
        </p:nvSpPr>
        <p:spPr>
          <a:xfrm>
            <a:off x="6477120" y="3352680"/>
            <a:ext cx="297180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Mezz Bot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ter = 6 l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oison = 0.05 l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= 0.05/(6.05) = 0.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ot that bad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5"/>
          <p:cNvSpPr/>
          <p:nvPr/>
        </p:nvSpPr>
        <p:spPr>
          <a:xfrm>
            <a:off x="6477120" y="4800600"/>
            <a:ext cx="342900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Equity  Bot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ter = 3 l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oison = 0.85 l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= 0.85/(3.85) = 0.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adly!!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8"/>
          <p:cNvSpPr/>
          <p:nvPr/>
        </p:nvSpPr>
        <p:spPr>
          <a:xfrm>
            <a:off x="2819520" y="6080040"/>
            <a:ext cx="617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ote: The total amount of poison (1 = 0.1 + 0.05 + 0.85) is the same, just the “allocation” has chan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F744-BD9D-42B4-AB08-78DA539890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95FE-8CD5-405E-9961-FAA7DD74E0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 Unicode MS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 Unicode MS"/>
              </a:rPr>
              <a:t>Basic Structured Produ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 Unicode MS"/>
              </a:rPr>
              <a:t>The Alternative Banking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 Unicode MS"/>
              </a:rPr>
              <a:t>A Disaster In The Ma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 Unicode MS"/>
              </a:rPr>
              <a:t>The Ratings Catastrop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 Unicode MS"/>
              </a:rPr>
              <a:t>Public Policy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 Unicode MS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 Unicode MS"/>
              </a:rPr>
              <a:t>Append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7DF2-6847-4ECA-AFB2-6AA4D9BEE6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2362320" y="2057400"/>
            <a:ext cx="1447560" cy="2895480"/>
          </a:xfrm>
          <a:prstGeom prst="rect">
            <a:avLst/>
          </a:prstGeom>
          <a:solidFill>
            <a:srgbClr val="ddddd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5410080" y="2057400"/>
            <a:ext cx="1447920" cy="15238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2209680" y="2286000"/>
            <a:ext cx="17528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rating ≈ 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5410080" y="2438280"/>
            <a:ext cx="1371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n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$7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5410080" y="3809880"/>
            <a:ext cx="1447920" cy="398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qu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2362320" y="1600200"/>
            <a:ext cx="1523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5334120" y="1600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7162920" y="2362320"/>
            <a:ext cx="1981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aa/A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 = 6.0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1"/>
          <p:cNvSpPr/>
          <p:nvPr/>
        </p:nvSpPr>
        <p:spPr>
          <a:xfrm>
            <a:off x="7086600" y="3505320"/>
            <a:ext cx="2057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aa/ B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 = 8.0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2"/>
          <p:cNvSpPr/>
          <p:nvPr/>
        </p:nvSpPr>
        <p:spPr>
          <a:xfrm>
            <a:off x="7162920" y="4648320"/>
            <a:ext cx="18288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sidual cash fl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n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RR &gt; 2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3"/>
          <p:cNvSpPr/>
          <p:nvPr/>
        </p:nvSpPr>
        <p:spPr>
          <a:xfrm>
            <a:off x="3886200" y="20574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shf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2362320" y="41911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ield = 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5"/>
          <p:cNvSpPr/>
          <p:nvPr/>
        </p:nvSpPr>
        <p:spPr>
          <a:xfrm>
            <a:off x="533520" y="2971800"/>
            <a:ext cx="18288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Tru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6"/>
          <p:cNvSpPr/>
          <p:nvPr/>
        </p:nvSpPr>
        <p:spPr>
          <a:xfrm>
            <a:off x="5410080" y="3581280"/>
            <a:ext cx="1447920" cy="914400"/>
          </a:xfrm>
          <a:prstGeom prst="rect">
            <a:avLst/>
          </a:prstGeom>
          <a:solidFill>
            <a:srgbClr val="ddddd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7"/>
          <p:cNvSpPr/>
          <p:nvPr/>
        </p:nvSpPr>
        <p:spPr>
          <a:xfrm>
            <a:off x="5410080" y="4495680"/>
            <a:ext cx="1447920" cy="53352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quity ($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8"/>
          <p:cNvSpPr/>
          <p:nvPr/>
        </p:nvSpPr>
        <p:spPr>
          <a:xfrm>
            <a:off x="5486400" y="3657600"/>
            <a:ext cx="131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zzan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$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9"/>
          <p:cNvSpPr/>
          <p:nvPr/>
        </p:nvSpPr>
        <p:spPr>
          <a:xfrm>
            <a:off x="4114800" y="2743200"/>
            <a:ext cx="1219320" cy="457200"/>
          </a:xfrm>
          <a:prstGeom prst="rightArrow">
            <a:avLst>
              <a:gd name="adj1" fmla="val 50000"/>
              <a:gd name="adj2" fmla="val 666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20"/>
          <p:cNvSpPr/>
          <p:nvPr/>
        </p:nvSpPr>
        <p:spPr>
          <a:xfrm>
            <a:off x="4648320" y="3276720"/>
            <a:ext cx="609480" cy="1066680"/>
          </a:xfrm>
          <a:custGeom>
            <a:avLst/>
            <a:gdLst>
              <a:gd name="textAreaLeft" fmla="*/ 81360 w 609480"/>
              <a:gd name="textAreaRight" fmla="*/ 528120 w 60948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21"/>
          <p:cNvSpPr/>
          <p:nvPr/>
        </p:nvSpPr>
        <p:spPr>
          <a:xfrm>
            <a:off x="4876920" y="4343400"/>
            <a:ext cx="380880" cy="609480"/>
          </a:xfrm>
          <a:custGeom>
            <a:avLst/>
            <a:gdLst>
              <a:gd name="textAreaLeft" fmla="*/ 50760 w 380880"/>
              <a:gd name="textAreaRight" fmla="*/ 330120 w 38088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2"/>
          <p:cNvSpPr/>
          <p:nvPr/>
        </p:nvSpPr>
        <p:spPr>
          <a:xfrm>
            <a:off x="304920" y="6400800"/>
            <a:ext cx="1447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4"/>
          <p:cNvSpPr/>
          <p:nvPr/>
        </p:nvSpPr>
        <p:spPr>
          <a:xfrm>
            <a:off x="1228680" y="49536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ypical CDO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5"/>
          <p:cNvSpPr/>
          <p:nvPr/>
        </p:nvSpPr>
        <p:spPr>
          <a:xfrm>
            <a:off x="2666880" y="36576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$ 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571500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 could be: bonds, bank loans, emerging market debt, project finance loans, mid-market loans, TRUP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5CB5-101F-4345-B788-E07CE90854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/>
          <p:nvPr/>
        </p:nvSpPr>
        <p:spPr>
          <a:xfrm>
            <a:off x="533520" y="2971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066680" y="762120"/>
            <a:ext cx="3352680" cy="2514240"/>
            <a:chOff x="1066680" y="762120"/>
            <a:chExt cx="3352680" cy="2514240"/>
          </a:xfrm>
        </p:grpSpPr>
        <p:sp>
          <p:nvSpPr>
            <p:cNvPr id="294" name=""/>
            <p:cNvSpPr/>
            <p:nvPr/>
          </p:nvSpPr>
          <p:spPr>
            <a:xfrm>
              <a:off x="1118160" y="1097280"/>
              <a:ext cx="979920" cy="2123280"/>
            </a:xfrm>
            <a:prstGeom prst="rect">
              <a:avLst/>
            </a:prstGeom>
            <a:solidFill>
              <a:srgbClr val="dddddd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81680" y="1097280"/>
              <a:ext cx="979920" cy="11174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69640" y="1600200"/>
              <a:ext cx="8780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n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e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181680" y="1546560"/>
              <a:ext cx="92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ni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81680" y="2384640"/>
              <a:ext cx="981000" cy="398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qu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66680" y="762120"/>
              <a:ext cx="103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SSE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128760" y="762120"/>
              <a:ext cx="113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ABILIT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98080" y="1097280"/>
              <a:ext cx="232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Cashflow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181680" y="2214720"/>
              <a:ext cx="979920" cy="670320"/>
            </a:xfrm>
            <a:prstGeom prst="rect">
              <a:avLst/>
            </a:prstGeom>
            <a:solidFill>
              <a:srgbClr val="dddddd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181680" y="2885400"/>
              <a:ext cx="979920" cy="390960"/>
            </a:xfrm>
            <a:prstGeom prst="rect">
              <a:avLst/>
            </a:prstGeom>
            <a:solidFill>
              <a:srgbClr val="c0c0c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qu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233160" y="2438280"/>
              <a:ext cx="887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ezzanin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304720" y="1600200"/>
              <a:ext cx="825480" cy="335160"/>
            </a:xfrm>
            <a:prstGeom prst="rightArrow">
              <a:avLst>
                <a:gd name="adj1" fmla="val 50000"/>
                <a:gd name="adj2" fmla="val 61574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665800" y="1991520"/>
              <a:ext cx="412560" cy="781920"/>
            </a:xfrm>
            <a:custGeom>
              <a:avLst/>
              <a:gdLst>
                <a:gd name="textAreaLeft" fmla="*/ 55080 w 412560"/>
                <a:gd name="textAreaRight" fmla="*/ 357480 w 412560"/>
                <a:gd name="textAreaTop" fmla="*/ 136800 h 781920"/>
                <a:gd name="textAreaBottom" fmla="*/ 567000 h 78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820600" y="2773800"/>
              <a:ext cx="257760" cy="446760"/>
            </a:xfrm>
            <a:custGeom>
              <a:avLst/>
              <a:gdLst>
                <a:gd name="textAreaLeft" fmla="*/ 34560 w 257760"/>
                <a:gd name="textAreaRight" fmla="*/ 223200 w 257760"/>
                <a:gd name="textAreaTop" fmla="*/ 78120 h 446760"/>
                <a:gd name="textAreaBottom" fmla="*/ 324000 h 44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04920" y="6400800"/>
            <a:ext cx="1447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257800" y="762120"/>
            <a:ext cx="3429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e Have Created Three Different Financial Instr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ach Has a Fairly Different Risk 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5334120"/>
            <a:ext cx="7696080" cy="990360"/>
          </a:xfrm>
          <a:prstGeom prst="leftRightArrow">
            <a:avLst>
              <a:gd name="adj1" fmla="val 50000"/>
              <a:gd name="adj2" fmla="val 154700"/>
            </a:avLst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505320" y="56386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REDIT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51055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igh                                                                                     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267080"/>
            <a:ext cx="7772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85800" y="44956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              B          BB          BBB         A         AA         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905120" y="28954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038480" y="1523880"/>
            <a:ext cx="327672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038480" y="2362320"/>
            <a:ext cx="30492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761760" y="3124080"/>
            <a:ext cx="2514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657600" y="51814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A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16200000">
            <a:off x="4114800" y="1371600"/>
            <a:ext cx="380880" cy="7238880"/>
          </a:xfrm>
          <a:custGeom>
            <a:avLst/>
            <a:gdLst>
              <a:gd name="textAreaLeft" fmla="*/ 243360 w 380880"/>
              <a:gd name="textAreaRight" fmla="*/ 381240 w 380880"/>
              <a:gd name="textAreaTop" fmla="*/ 188640 h 7238880"/>
              <a:gd name="textAreaBottom" fmla="*/ 7050240 h 723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4B7C-A5EA-4142-80F9-3FD8BE3B117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" y="762120"/>
            <a:ext cx="8381880" cy="40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hakespeare On The Merits Of Diversification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erchant of Venice (Act I, Scene I, 4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ntures are not in one bottom truste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to one place; nor is my whole e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pon the fortune of this present yea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fore, my merchandise makes me not sad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048120" y="5029200"/>
            <a:ext cx="55879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his way, Antonio explains to his friend Salerio the advantages of diversification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2362320" y="2057400"/>
            <a:ext cx="1447560" cy="2895480"/>
          </a:xfrm>
          <a:prstGeom prst="rect">
            <a:avLst/>
          </a:prstGeom>
          <a:solidFill>
            <a:srgbClr val="ddddd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5410080" y="2057400"/>
            <a:ext cx="1447920" cy="15238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5410080" y="3809880"/>
            <a:ext cx="1447920" cy="398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qu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2362320" y="1600200"/>
            <a:ext cx="1523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9"/>
          <p:cNvSpPr/>
          <p:nvPr/>
        </p:nvSpPr>
        <p:spPr>
          <a:xfrm>
            <a:off x="5334120" y="1600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0"/>
          <p:cNvSpPr/>
          <p:nvPr/>
        </p:nvSpPr>
        <p:spPr>
          <a:xfrm>
            <a:off x="7162920" y="213372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aa/A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1"/>
          <p:cNvSpPr/>
          <p:nvPr/>
        </p:nvSpPr>
        <p:spPr>
          <a:xfrm>
            <a:off x="7086600" y="365760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aa/ B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3"/>
          <p:cNvSpPr/>
          <p:nvPr/>
        </p:nvSpPr>
        <p:spPr>
          <a:xfrm>
            <a:off x="3886200" y="20574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shf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5"/>
          <p:cNvSpPr/>
          <p:nvPr/>
        </p:nvSpPr>
        <p:spPr>
          <a:xfrm>
            <a:off x="533520" y="2971800"/>
            <a:ext cx="18288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Tru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6"/>
          <p:cNvSpPr/>
          <p:nvPr/>
        </p:nvSpPr>
        <p:spPr>
          <a:xfrm>
            <a:off x="5410080" y="3581280"/>
            <a:ext cx="1447920" cy="914400"/>
          </a:xfrm>
          <a:prstGeom prst="rect">
            <a:avLst/>
          </a:prstGeom>
          <a:solidFill>
            <a:srgbClr val="ddddd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7"/>
          <p:cNvSpPr/>
          <p:nvPr/>
        </p:nvSpPr>
        <p:spPr>
          <a:xfrm>
            <a:off x="5410080" y="4495680"/>
            <a:ext cx="1447920" cy="53352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19"/>
          <p:cNvSpPr/>
          <p:nvPr/>
        </p:nvSpPr>
        <p:spPr>
          <a:xfrm>
            <a:off x="4114800" y="2743200"/>
            <a:ext cx="1219320" cy="457200"/>
          </a:xfrm>
          <a:prstGeom prst="rightArrow">
            <a:avLst>
              <a:gd name="adj1" fmla="val 50000"/>
              <a:gd name="adj2" fmla="val 666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20"/>
          <p:cNvSpPr/>
          <p:nvPr/>
        </p:nvSpPr>
        <p:spPr>
          <a:xfrm>
            <a:off x="4648320" y="3276720"/>
            <a:ext cx="609480" cy="1066680"/>
          </a:xfrm>
          <a:custGeom>
            <a:avLst/>
            <a:gdLst>
              <a:gd name="textAreaLeft" fmla="*/ 81360 w 609480"/>
              <a:gd name="textAreaRight" fmla="*/ 528120 w 60948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21"/>
          <p:cNvSpPr/>
          <p:nvPr/>
        </p:nvSpPr>
        <p:spPr>
          <a:xfrm>
            <a:off x="4876920" y="4343400"/>
            <a:ext cx="380880" cy="609480"/>
          </a:xfrm>
          <a:custGeom>
            <a:avLst/>
            <a:gdLst>
              <a:gd name="textAreaLeft" fmla="*/ 50760 w 380880"/>
              <a:gd name="textAreaRight" fmla="*/ 330120 w 38088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2"/>
          <p:cNvSpPr/>
          <p:nvPr/>
        </p:nvSpPr>
        <p:spPr>
          <a:xfrm>
            <a:off x="304920" y="6400800"/>
            <a:ext cx="1447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4"/>
          <p:cNvSpPr/>
          <p:nvPr/>
        </p:nvSpPr>
        <p:spPr>
          <a:xfrm>
            <a:off x="380880" y="38088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MBS / CM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62320" y="2895480"/>
            <a:ext cx="1447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MANY 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tg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6"/>
          <p:cNvSpPr/>
          <p:nvPr/>
        </p:nvSpPr>
        <p:spPr>
          <a:xfrm>
            <a:off x="5410080" y="2590920"/>
            <a:ext cx="1447920" cy="609480"/>
          </a:xfrm>
          <a:prstGeom prst="rect">
            <a:avLst/>
          </a:prstGeom>
          <a:solidFill>
            <a:srgbClr val="ddddd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6"/>
          <p:cNvSpPr/>
          <p:nvPr/>
        </p:nvSpPr>
        <p:spPr>
          <a:xfrm>
            <a:off x="5410080" y="3962520"/>
            <a:ext cx="1447920" cy="304560"/>
          </a:xfrm>
          <a:prstGeom prst="rect">
            <a:avLst/>
          </a:prstGeom>
          <a:solidFill>
            <a:srgbClr val="ddddd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A529-DB9E-4025-99DB-04FA993453D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2362320" y="2057400"/>
            <a:ext cx="1447560" cy="2895480"/>
          </a:xfrm>
          <a:prstGeom prst="rect">
            <a:avLst/>
          </a:prstGeom>
          <a:solidFill>
            <a:srgbClr val="ddddd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5410080" y="2057400"/>
            <a:ext cx="1447920" cy="15238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5410080" y="3809880"/>
            <a:ext cx="1447920" cy="398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qu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2362320" y="1600200"/>
            <a:ext cx="1523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9"/>
          <p:cNvSpPr/>
          <p:nvPr/>
        </p:nvSpPr>
        <p:spPr>
          <a:xfrm>
            <a:off x="5334120" y="1600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1"/>
          <p:cNvSpPr/>
          <p:nvPr/>
        </p:nvSpPr>
        <p:spPr>
          <a:xfrm>
            <a:off x="7086600" y="274320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mercial Paper/ Short 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3"/>
          <p:cNvSpPr/>
          <p:nvPr/>
        </p:nvSpPr>
        <p:spPr>
          <a:xfrm>
            <a:off x="3886200" y="20574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shf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5"/>
          <p:cNvSpPr/>
          <p:nvPr/>
        </p:nvSpPr>
        <p:spPr>
          <a:xfrm>
            <a:off x="533520" y="2971800"/>
            <a:ext cx="18288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Tru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6"/>
          <p:cNvSpPr/>
          <p:nvPr/>
        </p:nvSpPr>
        <p:spPr>
          <a:xfrm>
            <a:off x="5410080" y="3581280"/>
            <a:ext cx="1447920" cy="914400"/>
          </a:xfrm>
          <a:prstGeom prst="rect">
            <a:avLst/>
          </a:prstGeom>
          <a:solidFill>
            <a:srgbClr val="ddddd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7"/>
          <p:cNvSpPr/>
          <p:nvPr/>
        </p:nvSpPr>
        <p:spPr>
          <a:xfrm>
            <a:off x="5410080" y="4495680"/>
            <a:ext cx="1447920" cy="53352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9"/>
          <p:cNvSpPr/>
          <p:nvPr/>
        </p:nvSpPr>
        <p:spPr>
          <a:xfrm>
            <a:off x="4114800" y="2743200"/>
            <a:ext cx="1219320" cy="457200"/>
          </a:xfrm>
          <a:prstGeom prst="rightArrow">
            <a:avLst>
              <a:gd name="adj1" fmla="val 50000"/>
              <a:gd name="adj2" fmla="val 666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20"/>
          <p:cNvSpPr/>
          <p:nvPr/>
        </p:nvSpPr>
        <p:spPr>
          <a:xfrm>
            <a:off x="4648320" y="3276720"/>
            <a:ext cx="609480" cy="1066680"/>
          </a:xfrm>
          <a:custGeom>
            <a:avLst/>
            <a:gdLst>
              <a:gd name="textAreaLeft" fmla="*/ 81360 w 609480"/>
              <a:gd name="textAreaRight" fmla="*/ 528120 w 60948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21"/>
          <p:cNvSpPr/>
          <p:nvPr/>
        </p:nvSpPr>
        <p:spPr>
          <a:xfrm>
            <a:off x="4876920" y="4343400"/>
            <a:ext cx="380880" cy="609480"/>
          </a:xfrm>
          <a:custGeom>
            <a:avLst/>
            <a:gdLst>
              <a:gd name="textAreaLeft" fmla="*/ 50760 w 380880"/>
              <a:gd name="textAreaRight" fmla="*/ 330120 w 38088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2"/>
          <p:cNvSpPr/>
          <p:nvPr/>
        </p:nvSpPr>
        <p:spPr>
          <a:xfrm>
            <a:off x="304920" y="6400800"/>
            <a:ext cx="1447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4"/>
          <p:cNvSpPr/>
          <p:nvPr/>
        </p:nvSpPr>
        <p:spPr>
          <a:xfrm>
            <a:off x="3629160" y="5191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IV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362320" y="2770200"/>
            <a:ext cx="14475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6"/>
          <p:cNvSpPr/>
          <p:nvPr/>
        </p:nvSpPr>
        <p:spPr>
          <a:xfrm>
            <a:off x="5410080" y="2590920"/>
            <a:ext cx="1447920" cy="609480"/>
          </a:xfrm>
          <a:prstGeom prst="rect">
            <a:avLst/>
          </a:prstGeom>
          <a:solidFill>
            <a:srgbClr val="ddddd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6"/>
          <p:cNvSpPr/>
          <p:nvPr/>
        </p:nvSpPr>
        <p:spPr>
          <a:xfrm>
            <a:off x="5410080" y="3962520"/>
            <a:ext cx="1447920" cy="304560"/>
          </a:xfrm>
          <a:prstGeom prst="rect">
            <a:avLst/>
          </a:prstGeom>
          <a:solidFill>
            <a:srgbClr val="ddddd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486400" y="2133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6248160" y="236196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5638680"/>
            <a:ext cx="65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re is a “mismatch” between the duration of the assets and (at least) some liabilities [Liquidity Risk Imbedded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51B5-4D28-4277-8415-58B13CA0A33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657600" y="-360"/>
            <a:ext cx="5105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esecuritiz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"/>
          <p:cNvSpPr/>
          <p:nvPr/>
        </p:nvSpPr>
        <p:spPr>
          <a:xfrm>
            <a:off x="2819520" y="160020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819520" y="22096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819520" y="19810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905120" y="160020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819520" y="548640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819520" y="60958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19520" y="58672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905120" y="548640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819520" y="281952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819520" y="34290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819520" y="32004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905120" y="281952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819520" y="411480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819520" y="47242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819520" y="44956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905120" y="411480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600200" y="609480"/>
            <a:ext cx="0" cy="6019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380880"/>
            <a:ext cx="175248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ond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ortgag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oans, Etc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886200" y="685800"/>
            <a:ext cx="0" cy="6019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20203200">
            <a:off x="380520" y="1676160"/>
            <a:ext cx="38124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rot="20203200">
            <a:off x="457200" y="2361960"/>
            <a:ext cx="38088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rot="20203200">
            <a:off x="380880" y="4952520"/>
            <a:ext cx="381240" cy="38124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rot="20203200">
            <a:off x="304920" y="3200040"/>
            <a:ext cx="38088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rot="20203200">
            <a:off x="914400" y="3123720"/>
            <a:ext cx="380880" cy="38124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20203200">
            <a:off x="914400" y="1828440"/>
            <a:ext cx="38088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20203200">
            <a:off x="914400" y="6171840"/>
            <a:ext cx="38088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rot="20203200">
            <a:off x="990720" y="4343040"/>
            <a:ext cx="38088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rot="20203200">
            <a:off x="990720" y="2590560"/>
            <a:ext cx="38088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rot="20203200">
            <a:off x="762120" y="3657240"/>
            <a:ext cx="38088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rot="20203200">
            <a:off x="914400" y="5333760"/>
            <a:ext cx="380880" cy="380880"/>
          </a:xfrm>
          <a:prstGeom prst="octagon">
            <a:avLst>
              <a:gd name="adj" fmla="val 37676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rot="20203200">
            <a:off x="380520" y="4343040"/>
            <a:ext cx="38124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1219320" y="1828440"/>
            <a:ext cx="9903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1219320" y="213336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1219320" y="609552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914400" y="594360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1143000" y="441936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43000" y="3276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143000" y="4419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43000" y="5562720"/>
            <a:ext cx="9907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533520" y="4571640"/>
            <a:ext cx="1523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09480" y="1676160"/>
            <a:ext cx="1371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685800" y="2057400"/>
            <a:ext cx="1295280" cy="4572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990720" y="3429000"/>
            <a:ext cx="1218960" cy="38088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914400" y="388620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609480" y="2971440"/>
            <a:ext cx="167652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533520" y="2895480"/>
            <a:ext cx="1600200" cy="53352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219320" y="2819520"/>
            <a:ext cx="1143000" cy="152388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09480" y="5181480"/>
            <a:ext cx="16002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905120" y="533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irst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19480" y="909720"/>
            <a:ext cx="2286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Os of C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Os of A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DO-Squa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cond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495680" y="4800600"/>
            <a:ext cx="609840" cy="91440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495680" y="3276720"/>
            <a:ext cx="609840" cy="91440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334120" y="4800600"/>
            <a:ext cx="609480" cy="914400"/>
          </a:xfrm>
          <a:prstGeom prst="rect">
            <a:avLst/>
          </a:prstGeom>
          <a:solidFill>
            <a:srgbClr val="96969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34120" y="54864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334120" y="51814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3276720"/>
            <a:ext cx="609480" cy="914400"/>
          </a:xfrm>
          <a:prstGeom prst="rect">
            <a:avLst/>
          </a:prstGeom>
          <a:solidFill>
            <a:srgbClr val="96969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334120" y="38862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334120" y="36576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200400" y="2057400"/>
            <a:ext cx="16765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3276720"/>
            <a:ext cx="167652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200400" y="4648320"/>
            <a:ext cx="16002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124080" y="5486400"/>
            <a:ext cx="1828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200400" y="2971800"/>
            <a:ext cx="16765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124080" y="2057400"/>
            <a:ext cx="182880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400800" y="838080"/>
            <a:ext cx="0" cy="57913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0" y="1066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VE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7010280" y="1523880"/>
            <a:ext cx="1127160" cy="112104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6705720" y="2819520"/>
            <a:ext cx="1904760" cy="2209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5791320" y="3657240"/>
            <a:ext cx="17524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5715000" y="4038120"/>
            <a:ext cx="13716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304920" y="5715000"/>
            <a:ext cx="533160" cy="43668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152280" y="37339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457200" y="3962520"/>
            <a:ext cx="1676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457200" y="2209320"/>
            <a:ext cx="190512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696080" y="3581280"/>
            <a:ext cx="609840" cy="15264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162920" y="3962520"/>
            <a:ext cx="609480" cy="15228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7467120" y="4267080"/>
            <a:ext cx="3049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7772400" y="3809880"/>
            <a:ext cx="38088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545600" y="5791320"/>
            <a:ext cx="52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97D2-8E6F-48E6-97BB-6C37CCFC5A0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rame 1"/>
          <p:cNvSpPr/>
          <p:nvPr/>
        </p:nvSpPr>
        <p:spPr>
          <a:xfrm>
            <a:off x="838080" y="762120"/>
            <a:ext cx="7543800" cy="5410080"/>
          </a:xfrm>
          <a:prstGeom prst="pie">
            <a:avLst/>
          </a:prstGeom>
          <a:solidFill>
            <a:srgbClr val="00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2"/>
          <p:cNvSpPr/>
          <p:nvPr/>
        </p:nvSpPr>
        <p:spPr>
          <a:xfrm>
            <a:off x="1981080" y="266688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he Alternative Banking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8B4E-9CFF-4BCA-BAFE-005C2EA611D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OLD Landscap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2" name="Text Placeholder 2" descr=""/>
          <p:cNvPicPr/>
          <p:nvPr/>
        </p:nvPicPr>
        <p:blipFill>
          <a:blip r:embed="rId1"/>
          <a:stretch/>
        </p:blipFill>
        <p:spPr>
          <a:xfrm>
            <a:off x="6553080" y="2666880"/>
            <a:ext cx="1706760" cy="1363680"/>
          </a:xfrm>
          <a:prstGeom prst="rect">
            <a:avLst/>
          </a:prstGeom>
          <a:ln w="0">
            <a:noFill/>
          </a:ln>
        </p:spPr>
      </p:pic>
      <p:pic>
        <p:nvPicPr>
          <p:cNvPr id="453" name="Text Placeholder 2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1577880" cy="180324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2438280" y="3124080"/>
            <a:ext cx="3886200" cy="609840"/>
          </a:xfrm>
          <a:prstGeom prst="leftRightArrow">
            <a:avLst>
              <a:gd name="adj1" fmla="val 50000"/>
              <a:gd name="adj2" fmla="val 126860"/>
            </a:avLst>
          </a:prstGeom>
          <a:solidFill>
            <a:srgbClr val="96969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505320" y="28195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ank Lo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629400" y="41148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41148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orr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513F-93D7-4F5E-81CF-C3906F17527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OLD Landscap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9" name="Text Placeholder 2" descr=""/>
          <p:cNvPicPr/>
          <p:nvPr/>
        </p:nvPicPr>
        <p:blipFill>
          <a:blip r:embed="rId1"/>
          <a:stretch/>
        </p:blipFill>
        <p:spPr>
          <a:xfrm>
            <a:off x="6553080" y="2666880"/>
            <a:ext cx="1706760" cy="1363680"/>
          </a:xfrm>
          <a:prstGeom prst="rect">
            <a:avLst/>
          </a:prstGeom>
          <a:ln w="0">
            <a:noFill/>
          </a:ln>
        </p:spPr>
      </p:pic>
      <p:pic>
        <p:nvPicPr>
          <p:cNvPr id="460" name="Text Placeholder 2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1577880" cy="1803240"/>
          </a:xfrm>
          <a:prstGeom prst="rect">
            <a:avLst/>
          </a:prstGeom>
          <a:ln w="0">
            <a:noFill/>
          </a:ln>
        </p:spPr>
      </p:pic>
      <p:pic>
        <p:nvPicPr>
          <p:cNvPr id="461" name="Text Placeholder 2" descr=""/>
          <p:cNvPicPr/>
          <p:nvPr/>
        </p:nvPicPr>
        <p:blipFill>
          <a:blip r:embed="rId3"/>
          <a:stretch/>
        </p:blipFill>
        <p:spPr>
          <a:xfrm>
            <a:off x="7010280" y="4724280"/>
            <a:ext cx="1170000" cy="129708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2438280" y="3124080"/>
            <a:ext cx="3886200" cy="609840"/>
          </a:xfrm>
          <a:prstGeom prst="leftRightArrow">
            <a:avLst>
              <a:gd name="adj1" fmla="val 50000"/>
              <a:gd name="adj2" fmla="val 126860"/>
            </a:avLst>
          </a:prstGeom>
          <a:solidFill>
            <a:srgbClr val="96969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505320" y="28195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ank Lo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553080" y="2286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09480" y="41148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orr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848720" y="2666880"/>
            <a:ext cx="838080" cy="533520"/>
          </a:xfrm>
          <a:prstGeom prst="irregularSeal2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" y="2209680"/>
            <a:ext cx="1752480" cy="228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380880" y="2666880"/>
            <a:ext cx="1905120" cy="1219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229600" y="3886200"/>
            <a:ext cx="60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666880" y="14479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orrower Defaults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71B3-247C-4854-B97A-E441B6BB2ED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he NEW Landscape 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2" name="Text Placeholder 2" descr=""/>
          <p:cNvPicPr/>
          <p:nvPr/>
        </p:nvPicPr>
        <p:blipFill>
          <a:blip r:embed="rId1"/>
          <a:stretch/>
        </p:blipFill>
        <p:spPr>
          <a:xfrm>
            <a:off x="4343400" y="2743200"/>
            <a:ext cx="1630440" cy="130320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2057400" y="3124080"/>
            <a:ext cx="2133720" cy="609840"/>
          </a:xfrm>
          <a:prstGeom prst="leftRightArrow">
            <a:avLst>
              <a:gd name="adj1" fmla="val 50000"/>
              <a:gd name="adj2" fmla="val 69652"/>
            </a:avLst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0" y="2743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ank Lo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724280" y="2286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04920" y="2286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orr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Text Placeholder 2" descr=""/>
          <p:cNvPicPr/>
          <p:nvPr/>
        </p:nvPicPr>
        <p:blipFill>
          <a:blip r:embed="rId2"/>
          <a:stretch/>
        </p:blipFill>
        <p:spPr>
          <a:xfrm>
            <a:off x="380880" y="2895480"/>
            <a:ext cx="1524240" cy="108900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4876920" y="3429000"/>
            <a:ext cx="457200" cy="30492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276720" y="5791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ank Lo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4191120" y="3580920"/>
            <a:ext cx="914400" cy="221004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FF5F-BD5B-453E-A4CE-2EB90630854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rame 1"/>
          <p:cNvSpPr/>
          <p:nvPr/>
        </p:nvSpPr>
        <p:spPr>
          <a:xfrm>
            <a:off x="838080" y="762120"/>
            <a:ext cx="7543800" cy="5410080"/>
          </a:xfrm>
          <a:prstGeom prst="pie">
            <a:avLst/>
          </a:prstGeom>
          <a:solidFill>
            <a:srgbClr val="00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1981080" y="289548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F04B-E67E-47B9-AEF3-DB33073635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Text Placeholder 2" descr=""/>
          <p:cNvPicPr/>
          <p:nvPr/>
        </p:nvPicPr>
        <p:blipFill>
          <a:blip r:embed="rId1"/>
          <a:stretch/>
        </p:blipFill>
        <p:spPr>
          <a:xfrm>
            <a:off x="2895480" y="2819520"/>
            <a:ext cx="1630440" cy="130320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2057400" y="3124080"/>
            <a:ext cx="685800" cy="609840"/>
          </a:xfrm>
          <a:prstGeom prst="leftRightArrow">
            <a:avLst>
              <a:gd name="adj1" fmla="val 50000"/>
              <a:gd name="adj2" fmla="val 22387"/>
            </a:avLst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352680" y="2286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04920" y="2286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orr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Text Placeholder 2" descr=""/>
          <p:cNvPicPr/>
          <p:nvPr/>
        </p:nvPicPr>
        <p:blipFill>
          <a:blip r:embed="rId2"/>
          <a:stretch/>
        </p:blipFill>
        <p:spPr>
          <a:xfrm>
            <a:off x="380880" y="2895480"/>
            <a:ext cx="1524240" cy="10890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3657600" y="3429000"/>
            <a:ext cx="228600" cy="22860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248520" y="2590920"/>
            <a:ext cx="457200" cy="175248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934320" y="2590920"/>
            <a:ext cx="457200" cy="175248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93432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934320" y="3657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934320" y="3581280"/>
            <a:ext cx="457200" cy="381240"/>
          </a:xfrm>
          <a:prstGeom prst="rect">
            <a:avLst/>
          </a:prstGeom>
          <a:solidFill>
            <a:srgbClr val="96969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6400080" y="3048120"/>
            <a:ext cx="152280" cy="15228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3962520" y="3123720"/>
            <a:ext cx="23619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486400" y="3276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7200" y="5943600"/>
            <a:ext cx="1066680" cy="380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666880" y="5943600"/>
            <a:ext cx="1981440" cy="38088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819520" y="63244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edge F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895480" y="6019920"/>
            <a:ext cx="228600" cy="22860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676520" y="60958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486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2971800" y="3733920"/>
            <a:ext cx="91440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85800" y="6019920"/>
            <a:ext cx="152280" cy="15228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 rot="13483200">
            <a:off x="586080" y="5452200"/>
            <a:ext cx="274140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58" y="0"/>
                </a:moveTo>
                <a:arcTo wR="10800" hR="10800" stAng="-5413315" swAng="5413315"/>
                <a:lnTo>
                  <a:pt x="10800" y="10800"/>
                </a:lnTo>
                <a:close/>
              </a:path>
              <a:path fill="none" w="21600" h="21600">
                <a:moveTo>
                  <a:pt x="10758" y="0"/>
                </a:moveTo>
                <a:arcTo wR="10800" hR="10800" stAng="-5413315" swAng="541331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990360" y="57913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038480" y="4724280"/>
            <a:ext cx="1524240" cy="68580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191120" y="487692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surance Comp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4952520" y="4343400"/>
            <a:ext cx="2133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4724280" y="4800600"/>
            <a:ext cx="76320" cy="7632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334120" y="380880"/>
            <a:ext cx="457200" cy="175284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019920" y="380880"/>
            <a:ext cx="457200" cy="175284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620120" y="38098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7924320" y="2286000"/>
            <a:ext cx="2286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4952880" y="2286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4952880" y="13712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4952880" y="9907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410080" y="762120"/>
            <a:ext cx="3049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488200" y="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O^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04920" y="4572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Alternative Ban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867280" y="4800600"/>
            <a:ext cx="304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omething whose size is several trillions (US$) can only be called “shadow banking system” by people who did not know that it exist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AB15-8819-46D9-9A31-31A1A3FBD44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Text Placeholder 2" descr=""/>
          <p:cNvPicPr/>
          <p:nvPr/>
        </p:nvPicPr>
        <p:blipFill>
          <a:blip r:embed="rId1"/>
          <a:stretch/>
        </p:blipFill>
        <p:spPr>
          <a:xfrm>
            <a:off x="2895480" y="2819520"/>
            <a:ext cx="1630440" cy="130320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2057400" y="3124080"/>
            <a:ext cx="685800" cy="609840"/>
          </a:xfrm>
          <a:prstGeom prst="leftRightArrow">
            <a:avLst>
              <a:gd name="adj1" fmla="val 50000"/>
              <a:gd name="adj2" fmla="val 22387"/>
            </a:avLst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352680" y="2286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04920" y="2286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orr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Text Placeholder 2" descr=""/>
          <p:cNvPicPr/>
          <p:nvPr/>
        </p:nvPicPr>
        <p:blipFill>
          <a:blip r:embed="rId2"/>
          <a:stretch/>
        </p:blipFill>
        <p:spPr>
          <a:xfrm>
            <a:off x="380880" y="2895480"/>
            <a:ext cx="1524240" cy="108900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3657600" y="3429000"/>
            <a:ext cx="228600" cy="22860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248520" y="2590920"/>
            <a:ext cx="457200" cy="175248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934320" y="2590920"/>
            <a:ext cx="457200" cy="175248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93432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934320" y="3657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934320" y="3581280"/>
            <a:ext cx="457200" cy="381240"/>
          </a:xfrm>
          <a:prstGeom prst="rect">
            <a:avLst/>
          </a:prstGeom>
          <a:solidFill>
            <a:srgbClr val="96969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6400080" y="3048120"/>
            <a:ext cx="152280" cy="15228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3962520" y="3123720"/>
            <a:ext cx="23619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486400" y="3276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" y="5943600"/>
            <a:ext cx="1066680" cy="380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666880" y="5943600"/>
            <a:ext cx="1981440" cy="38088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819520" y="63244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edge F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895480" y="6019920"/>
            <a:ext cx="228600" cy="22860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676520" y="60958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676520" y="5486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2971800" y="3733920"/>
            <a:ext cx="91440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85800" y="6019920"/>
            <a:ext cx="152280" cy="15228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 rot="13483200">
            <a:off x="586080" y="5452200"/>
            <a:ext cx="274140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58" y="0"/>
                </a:moveTo>
                <a:arcTo wR="10800" hR="10800" stAng="-5413315" swAng="5413315"/>
                <a:lnTo>
                  <a:pt x="10800" y="10800"/>
                </a:lnTo>
                <a:close/>
              </a:path>
              <a:path fill="none" w="21600" h="21600">
                <a:moveTo>
                  <a:pt x="10758" y="0"/>
                </a:moveTo>
                <a:arcTo wR="10800" hR="10800" stAng="-5413315" swAng="541331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990360" y="57913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038480" y="4724280"/>
            <a:ext cx="1524240" cy="68580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4952520" y="4343400"/>
            <a:ext cx="2133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4724280" y="4800600"/>
            <a:ext cx="76320" cy="7632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334120" y="380880"/>
            <a:ext cx="457200" cy="175284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019920" y="380880"/>
            <a:ext cx="457200" cy="175284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620120" y="38098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H="1" flipV="1">
            <a:off x="7924320" y="2286000"/>
            <a:ext cx="2286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4952880" y="2286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4952880" y="13712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4952880" y="9907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410080" y="762120"/>
            <a:ext cx="3049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488200" y="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O^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657600" y="3200400"/>
            <a:ext cx="380880" cy="304920"/>
          </a:xfrm>
          <a:prstGeom prst="irregularSeal2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315200" y="3505320"/>
            <a:ext cx="380880" cy="304560"/>
          </a:xfrm>
          <a:prstGeom prst="irregularSeal2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391520" y="4038480"/>
            <a:ext cx="380880" cy="304920"/>
          </a:xfrm>
          <a:prstGeom prst="irregularSeal2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029200" y="5181480"/>
            <a:ext cx="380880" cy="304920"/>
          </a:xfrm>
          <a:prstGeom prst="irregularSeal2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114800" y="5791320"/>
            <a:ext cx="380880" cy="304560"/>
          </a:xfrm>
          <a:prstGeom prst="irregularSeal2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57200" y="5638680"/>
            <a:ext cx="380880" cy="304920"/>
          </a:xfrm>
          <a:prstGeom prst="irregularSeal2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400800" y="1828800"/>
            <a:ext cx="380880" cy="304920"/>
          </a:xfrm>
          <a:prstGeom prst="irregularSeal2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477120" y="1371600"/>
            <a:ext cx="380880" cy="304920"/>
          </a:xfrm>
          <a:prstGeom prst="irregularSeal2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04920" y="4572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Alternative Ban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52280" y="2209680"/>
            <a:ext cx="1752840" cy="228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04560" y="2666880"/>
            <a:ext cx="1904760" cy="1219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114800" y="487692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surance Comp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1536-2B6C-458C-A0EA-CE82BFE6768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Frame 1"/>
          <p:cNvSpPr/>
          <p:nvPr/>
        </p:nvSpPr>
        <p:spPr>
          <a:xfrm>
            <a:off x="838080" y="762120"/>
            <a:ext cx="7543800" cy="5410080"/>
          </a:xfrm>
          <a:prstGeom prst="pie">
            <a:avLst/>
          </a:prstGeom>
          <a:solidFill>
            <a:srgbClr val="00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2"/>
          <p:cNvSpPr/>
          <p:nvPr/>
        </p:nvSpPr>
        <p:spPr>
          <a:xfrm>
            <a:off x="1981080" y="266688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 Disaster In The Ma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1EBE-80D8-4F31-A93F-DD849188CDC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US GDP &amp; CSXR Growth Rat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3" name="Chart 2" descr=""/>
          <p:cNvPicPr/>
          <p:nvPr/>
        </p:nvPicPr>
        <p:blipFill>
          <a:blip r:embed="rId1"/>
          <a:stretch/>
        </p:blipFill>
        <p:spPr>
          <a:xfrm>
            <a:off x="633240" y="1798560"/>
            <a:ext cx="6767640" cy="3541680"/>
          </a:xfrm>
          <a:prstGeom prst="rect">
            <a:avLst/>
          </a:prstGeom>
          <a:ln w="0">
            <a:noFill/>
          </a:ln>
        </p:spPr>
      </p:pic>
      <p:sp>
        <p:nvSpPr>
          <p:cNvPr id="574" name="TextBox 3"/>
          <p:cNvSpPr/>
          <p:nvPr/>
        </p:nvSpPr>
        <p:spPr>
          <a:xfrm>
            <a:off x="228600" y="6324480"/>
            <a:ext cx="853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US GDP Data, CIA World Fact Book; CSXR, House Price Index, S&amp;P, Top Ten US Metropolitan Ar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traight Connector 5"/>
          <p:cNvSpPr/>
          <p:nvPr/>
        </p:nvSpPr>
        <p:spPr>
          <a:xfrm>
            <a:off x="2514600" y="4267080"/>
            <a:ext cx="5791320" cy="180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7"/>
          <p:cNvSpPr/>
          <p:nvPr/>
        </p:nvSpPr>
        <p:spPr>
          <a:xfrm>
            <a:off x="1066680" y="477684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7" name="Straight Arrow Connector 9"/>
          <p:cNvCxnSpPr/>
          <p:nvPr/>
        </p:nvCxnSpPr>
        <p:spPr>
          <a:xfrm>
            <a:off x="1370520" y="2133720"/>
            <a:ext cx="305640" cy="762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78" name="TextBox 14"/>
          <p:cNvSpPr/>
          <p:nvPr/>
        </p:nvSpPr>
        <p:spPr>
          <a:xfrm>
            <a:off x="2971800" y="4191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S G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04920" y="53341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ality: Houses cannot appreciate faster than the GDP for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42BD-8244-464D-92EE-478CBBC0535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7" descr="pic2.jpg"/>
          <p:cNvPicPr/>
          <p:nvPr/>
        </p:nvPicPr>
        <p:blipFill>
          <a:blip r:embed="rId1"/>
          <a:stretch/>
        </p:blipFill>
        <p:spPr>
          <a:xfrm>
            <a:off x="2514600" y="1447920"/>
            <a:ext cx="4267080" cy="426708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2514600" y="3049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Fantas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7CB9-9092-420A-845E-ED6A6F4C9EC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Fraud: Many “Irregularities” in the Mortgage Space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Rectangle 2"/>
          <p:cNvSpPr/>
          <p:nvPr/>
        </p:nvSpPr>
        <p:spPr>
          <a:xfrm>
            <a:off x="533520" y="1600200"/>
            <a:ext cx="8305560" cy="38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lk and Chew Gum: Lenders Continue To Relax Mortgage Underwriting Standard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June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ew York AG accuses eAppraiseIT of inflating appraisals for Wam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ovember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ortgage broker subject of law suit from Illinois AG - accused of frau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ovember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our plead guilty in San Diego sub-prime mortgage fraud 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ovember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sePoint Analytics study finds evidence of fraud in 70% of EPD's </a:t>
            </a: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(Early Payment Defau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bruary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Source: The Mortgage Fraud Blog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033E-2C1D-4BEF-8EB7-D5B5D0025D7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Foolishn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Box 2"/>
          <p:cNvSpPr/>
          <p:nvPr/>
        </p:nvSpPr>
        <p:spPr>
          <a:xfrm>
            <a:off x="990720" y="1523880"/>
            <a:ext cx="69339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t’s AAA, I don’t need to worry…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t’s wrapped by a AAA-monoline, why bother with due diligence and stuff like tha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  AAA never default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AL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o you know what AAA mea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nder what ASSUMPTIONS is this “thing”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A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o you think the assumptions ar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asonab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4723-C86D-456B-9DA0-A669A86C2DE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rame 1"/>
          <p:cNvSpPr/>
          <p:nvPr/>
        </p:nvSpPr>
        <p:spPr>
          <a:xfrm>
            <a:off x="838080" y="762120"/>
            <a:ext cx="7543800" cy="5410080"/>
          </a:xfrm>
          <a:prstGeom prst="pie">
            <a:avLst/>
          </a:prstGeom>
          <a:solidFill>
            <a:srgbClr val="00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2"/>
          <p:cNvSpPr/>
          <p:nvPr/>
        </p:nvSpPr>
        <p:spPr>
          <a:xfrm>
            <a:off x="1981080" y="266688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he Ratings Catastrop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3713-DBE8-4AFE-BC74-39E16FBFF49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Ratings Probl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"/>
          <p:cNvSpPr/>
          <p:nvPr/>
        </p:nvSpPr>
        <p:spPr>
          <a:xfrm>
            <a:off x="1066680" y="2133720"/>
            <a:ext cx="1067040" cy="236196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086600" y="2133720"/>
            <a:ext cx="1066680" cy="236196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086600" y="38098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086600" y="327672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914400" y="4724280"/>
            <a:ext cx="1447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l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553080" y="1523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DO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2578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248520" y="2666880"/>
            <a:ext cx="685800" cy="838440"/>
          </a:xfrm>
          <a:custGeom>
            <a:avLst/>
            <a:gdLst>
              <a:gd name="textAreaLeft" fmla="*/ 91800 w 685800"/>
              <a:gd name="textAreaRight" fmla="*/ 594000 w 6858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324480" y="3657600"/>
            <a:ext cx="609840" cy="762120"/>
          </a:xfrm>
          <a:custGeom>
            <a:avLst/>
            <a:gdLst>
              <a:gd name="textAreaLeft" fmla="*/ 81720 w 609840"/>
              <a:gd name="textAreaRight" fmla="*/ 528120 w 60984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638680" y="1981080"/>
            <a:ext cx="1219320" cy="60984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486400" y="59436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TERMIN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rot="20605800">
            <a:off x="1623600" y="2534760"/>
            <a:ext cx="3429000" cy="609840"/>
          </a:xfrm>
          <a:custGeom>
            <a:avLst/>
            <a:gdLst>
              <a:gd name="textAreaLeft" fmla="*/ 535680 w 3429000"/>
              <a:gd name="textAreaRight" fmla="*/ 3000600 w 342900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514600" y="16002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h flows 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914400" y="58672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OCH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2362320" y="3276360"/>
            <a:ext cx="53316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971800" y="3581280"/>
            <a:ext cx="380880" cy="2210040"/>
          </a:xfrm>
          <a:custGeom>
            <a:avLst/>
            <a:gdLst>
              <a:gd name="textAreaLeft" fmla="*/ 243360 w 380880"/>
              <a:gd name="textAreaRight" fmla="*/ 381240 w 38088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276720" y="3733920"/>
            <a:ext cx="1828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fault Prob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covery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fault Cor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8763120" y="411480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H="1" flipV="1">
            <a:off x="8229600" y="2742840"/>
            <a:ext cx="53352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7696080" y="5028840"/>
            <a:ext cx="990720" cy="304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5638680" y="2666880"/>
            <a:ext cx="30492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324480" y="5181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ating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8229600" y="3504960"/>
            <a:ext cx="4572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8229600" y="4114800"/>
            <a:ext cx="38088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2BC1-6C39-44A6-962A-350259A99E9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5708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Three Drivers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64771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bability of Default (Likelihood That An Asset Will Defaul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very Rate (If An Asset Defaults, How Much Can We Sell It For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rrelation (The Extent To Which Assets Might “Default Together”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"/>
          <p:cNvSpPr/>
          <p:nvPr/>
        </p:nvSpPr>
        <p:spPr>
          <a:xfrm>
            <a:off x="7467480" y="2209680"/>
            <a:ext cx="1067040" cy="2971800"/>
          </a:xfrm>
          <a:prstGeom prst="upDownArrow">
            <a:avLst>
              <a:gd name="adj1" fmla="val 50000"/>
              <a:gd name="adj2" fmla="val 55444"/>
            </a:avLst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934320" y="129528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OST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010280" y="54100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AST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52280" y="59436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hat the rating agencies have been focusing on (in recent ye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28600" y="5029200"/>
            <a:ext cx="685800" cy="914400"/>
          </a:xfrm>
          <a:custGeom>
            <a:avLst/>
            <a:gdLst>
              <a:gd name="textAreaLeft" fmla="*/ 0 w 685800"/>
              <a:gd name="textAreaRight" fmla="*/ 686160 w 6858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1A9B-CFE7-4EB3-90D1-AA8BE3B45F1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Credit Ri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Text Placeholder 2" descr=""/>
          <p:cNvPicPr/>
          <p:nvPr/>
        </p:nvPicPr>
        <p:blipFill>
          <a:blip r:embed="rId1"/>
          <a:stretch/>
        </p:blipFill>
        <p:spPr>
          <a:xfrm>
            <a:off x="7010280" y="4191120"/>
            <a:ext cx="1827360" cy="1827000"/>
          </a:xfrm>
          <a:prstGeom prst="rect">
            <a:avLst/>
          </a:prstGeom>
          <a:ln w="0">
            <a:noFill/>
          </a:ln>
        </p:spPr>
      </p:pic>
      <p:pic>
        <p:nvPicPr>
          <p:cNvPr id="60" name="Text Placeholder 2" descr=""/>
          <p:cNvPicPr/>
          <p:nvPr/>
        </p:nvPicPr>
        <p:blipFill>
          <a:blip r:embed="rId2"/>
          <a:stretch/>
        </p:blipFill>
        <p:spPr>
          <a:xfrm>
            <a:off x="7010280" y="457200"/>
            <a:ext cx="1729080" cy="1682640"/>
          </a:xfrm>
          <a:prstGeom prst="rect">
            <a:avLst/>
          </a:prstGeom>
          <a:ln w="0">
            <a:noFill/>
          </a:ln>
        </p:spPr>
      </p:pic>
      <p:pic>
        <p:nvPicPr>
          <p:cNvPr id="61" name="Text Placeholder 2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1828800" cy="1569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057400" y="1371600"/>
            <a:ext cx="4902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What Is It ?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2362320"/>
            <a:ext cx="855972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certainty regarding a counterparty’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ility and willingn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meet its contractual oblig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19320" y="4267080"/>
            <a:ext cx="657864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TO THE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s This Guy Going To Pay 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Text Placeholder 2" descr=""/>
          <p:cNvPicPr/>
          <p:nvPr/>
        </p:nvPicPr>
        <p:blipFill>
          <a:blip r:embed="rId4"/>
          <a:stretch/>
        </p:blipFill>
        <p:spPr>
          <a:xfrm>
            <a:off x="380880" y="304920"/>
            <a:ext cx="1827360" cy="182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CF46-83BB-44A7-B996-C387257F28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rror Propagation (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"/>
          <p:cNvSpPr/>
          <p:nvPr/>
        </p:nvSpPr>
        <p:spPr>
          <a:xfrm>
            <a:off x="2819520" y="160020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819520" y="22096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819520" y="19810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905120" y="160020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600200" y="609480"/>
            <a:ext cx="0" cy="32004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04920" y="304920"/>
            <a:ext cx="1752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886200" y="685800"/>
            <a:ext cx="0" cy="33526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rot="20203200">
            <a:off x="609120" y="2361960"/>
            <a:ext cx="38124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990720" y="1828800"/>
            <a:ext cx="10666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905120" y="533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irst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119480" y="909720"/>
            <a:ext cx="228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Os of C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DO-Squa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cond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495680" y="3276720"/>
            <a:ext cx="609840" cy="91440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334120" y="3276720"/>
            <a:ext cx="609480" cy="914400"/>
          </a:xfrm>
          <a:prstGeom prst="rect">
            <a:avLst/>
          </a:prstGeom>
          <a:solidFill>
            <a:srgbClr val="96969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334120" y="38862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334120" y="36576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00400" y="2057400"/>
            <a:ext cx="16765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00800" y="83808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H="1" flipV="1">
            <a:off x="5562720" y="3733920"/>
            <a:ext cx="3808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609480" y="2590560"/>
            <a:ext cx="15264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04920" y="5105520"/>
            <a:ext cx="1996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 (Lo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rror = 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rror = 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438280" y="5105520"/>
            <a:ext cx="1997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 (tranch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rror = 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rror = 2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181480" y="5105520"/>
            <a:ext cx="1997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 (second order tranch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rror = 1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rror = 10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2971800" y="2057400"/>
            <a:ext cx="15228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705720" y="182880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ARNING: The leverage “amplifies” the effect of a small initial error in P (the default probabi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rot="20203200">
            <a:off x="1066320" y="2285640"/>
            <a:ext cx="38124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rot="20203200">
            <a:off x="914400" y="2742840"/>
            <a:ext cx="38088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rot="20203200">
            <a:off x="228600" y="2590560"/>
            <a:ext cx="38088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rot="20203200">
            <a:off x="304920" y="1904760"/>
            <a:ext cx="38088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828800" y="594360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594360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8381880" y="2514600"/>
            <a:ext cx="38124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H="1" flipV="1">
            <a:off x="8381520" y="685800"/>
            <a:ext cx="38124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391520" y="5410080"/>
            <a:ext cx="144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 (the default probabilit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28600" y="457200"/>
            <a:ext cx="1295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2 Lo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 =  1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295280" y="510552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=19%                         =7%                            =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68BA-5F9B-4F5C-89E4-681AC3E22EA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2819520" y="160020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819520" y="22096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819520" y="19810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905120" y="160020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600200" y="609480"/>
            <a:ext cx="0" cy="32004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80880" y="609480"/>
            <a:ext cx="1752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v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o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886200" y="685800"/>
            <a:ext cx="0" cy="33526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rot="20203200">
            <a:off x="609120" y="2361960"/>
            <a:ext cx="38124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990720" y="1828800"/>
            <a:ext cx="10666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905120" y="533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irst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119480" y="909720"/>
            <a:ext cx="228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Os of C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DO-Squa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cond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495680" y="3276720"/>
            <a:ext cx="609840" cy="91440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334120" y="3276720"/>
            <a:ext cx="609480" cy="914400"/>
          </a:xfrm>
          <a:prstGeom prst="rect">
            <a:avLst/>
          </a:prstGeom>
          <a:solidFill>
            <a:srgbClr val="96969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334120" y="38862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334120" y="36576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200400" y="2057400"/>
            <a:ext cx="16765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400800" y="83808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04920" y="4800600"/>
            <a:ext cx="807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n important modeling issue:  Most CDOs of CDOs have been modeled (from a ratings point of view) using the so-called one-factor Gaussian Copula:  a mathematically beautiful, but fundamentally flawed approach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rot="20203200">
            <a:off x="1066320" y="2361960"/>
            <a:ext cx="38124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rot="20203200">
            <a:off x="914400" y="2895120"/>
            <a:ext cx="380880" cy="38124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rot="20203200">
            <a:off x="304920" y="2742840"/>
            <a:ext cx="38088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rot="20203200">
            <a:off x="304920" y="1980720"/>
            <a:ext cx="380880" cy="38124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5333760" y="2057400"/>
            <a:ext cx="15238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858000" y="1447920"/>
            <a:ext cx="228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ussian Cop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looks at asset correlation, NOT default correl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5F7C-5E8D-433B-AFE5-1BFF1D74D41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efaults Using A Normal Distribu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1" name="Text Placeholder 2" descr=""/>
          <p:cNvPicPr/>
          <p:nvPr/>
        </p:nvPicPr>
        <p:blipFill>
          <a:blip r:embed="rId1"/>
          <a:stretch/>
        </p:blipFill>
        <p:spPr>
          <a:xfrm>
            <a:off x="1801800" y="1719360"/>
            <a:ext cx="5599080" cy="4687920"/>
          </a:xfrm>
          <a:prstGeom prst="rect">
            <a:avLst/>
          </a:prstGeom>
          <a:ln w="0">
            <a:noFill/>
          </a:ln>
        </p:spPr>
      </p:pic>
      <p:sp>
        <p:nvSpPr>
          <p:cNvPr id="682" name=""/>
          <p:cNvSpPr/>
          <p:nvPr/>
        </p:nvSpPr>
        <p:spPr>
          <a:xfrm>
            <a:off x="6451560" y="2654280"/>
            <a:ext cx="26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ssume P =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489720" y="1917720"/>
            <a:ext cx="233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fault Prob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8204040" y="3124080"/>
            <a:ext cx="38160" cy="311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6641640" y="6248520"/>
            <a:ext cx="147348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H="1" flipV="1">
            <a:off x="6108840" y="6388200"/>
            <a:ext cx="520560" cy="16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41200" y="40132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680160" y="3949560"/>
            <a:ext cx="13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66760" y="203184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fault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482760" y="2806560"/>
            <a:ext cx="444240" cy="109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CD74-F8E8-43D9-A183-B556E6D2379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228600" y="223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One-Factor Gaussian Copula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simplified version, 2 assets, sam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2" name="Text Placeholder 2"/>
          <p:cNvGraphicFramePr/>
          <p:nvPr/>
        </p:nvGraphicFramePr>
        <p:xfrm>
          <a:off x="1009800" y="1500120"/>
          <a:ext cx="7002360" cy="454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3" name="Text Placeholder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1500120"/>
                    <a:ext cx="7002360" cy="45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4" name=""/>
          <p:cNvSpPr/>
          <p:nvPr/>
        </p:nvSpPr>
        <p:spPr>
          <a:xfrm>
            <a:off x="6350040" y="2489040"/>
            <a:ext cx="20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sset cor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3009960" y="2857680"/>
            <a:ext cx="3441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3072960" y="2971800"/>
            <a:ext cx="3429000" cy="59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061040" y="4915080"/>
            <a:ext cx="2082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 De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6819480" y="4241880"/>
            <a:ext cx="64764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flipH="1" flipV="1">
            <a:off x="6578640" y="4267080"/>
            <a:ext cx="4824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28600" y="6197760"/>
            <a:ext cx="6946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hat is the correlation between 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2BCE-F073-40B8-A339-2FA9EC55E06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93840" y="37584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One-Factor Gaussian Copula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(a “visual” represent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2" name="Text Placeholder 2" descr=""/>
          <p:cNvPicPr/>
          <p:nvPr/>
        </p:nvPicPr>
        <p:blipFill>
          <a:blip r:embed="rId1"/>
          <a:stretch/>
        </p:blipFill>
        <p:spPr>
          <a:xfrm>
            <a:off x="1305000" y="1692360"/>
            <a:ext cx="6567480" cy="4808520"/>
          </a:xfrm>
          <a:prstGeom prst="rect">
            <a:avLst/>
          </a:prstGeom>
          <a:ln w="0">
            <a:noFill/>
          </a:ln>
        </p:spPr>
      </p:pic>
      <p:sp>
        <p:nvSpPr>
          <p:cNvPr id="703" name=""/>
          <p:cNvSpPr/>
          <p:nvPr/>
        </p:nvSpPr>
        <p:spPr>
          <a:xfrm flipH="1">
            <a:off x="3276720" y="4648320"/>
            <a:ext cx="83808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460840" y="4724280"/>
            <a:ext cx="330480" cy="16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1173-8BBB-418C-9255-358D2137E9F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The Danger of Overconfidenc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"/>
          <p:cNvSpPr/>
          <p:nvPr/>
        </p:nvSpPr>
        <p:spPr>
          <a:xfrm>
            <a:off x="1066680" y="2286000"/>
            <a:ext cx="678204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nd you all know secu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s mortals’ chiefest enem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beth, Act III, Scene V,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Text Placeholder 2" descr=""/>
          <p:cNvPicPr/>
          <p:nvPr/>
        </p:nvPicPr>
        <p:blipFill>
          <a:blip r:embed="rId1"/>
          <a:stretch/>
        </p:blipFill>
        <p:spPr>
          <a:xfrm>
            <a:off x="6172200" y="2057400"/>
            <a:ext cx="2611440" cy="307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DDC8-FBA2-4143-9974-2736C5F8EBE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 Summary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Issues With The Ratings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mphasis Has Been on the Correlation Instead of the Default Probability (Which is the Most Significant Vari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ong Approach (Gaussian Copula) Used to Model Defaults In Monte Carlo Simulations of Credit Portfol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rror Propagation in Models (Lack of Stability) Totally Overlook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9EBD-300F-46F1-A178-9825854D6C2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Frame 1"/>
          <p:cNvSpPr/>
          <p:nvPr/>
        </p:nvSpPr>
        <p:spPr>
          <a:xfrm>
            <a:off x="838080" y="762120"/>
            <a:ext cx="7543800" cy="5410080"/>
          </a:xfrm>
          <a:prstGeom prst="pie">
            <a:avLst/>
          </a:prstGeom>
          <a:solidFill>
            <a:srgbClr val="00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2"/>
          <p:cNvSpPr/>
          <p:nvPr/>
        </p:nvSpPr>
        <p:spPr>
          <a:xfrm>
            <a:off x="1981080" y="266688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Public Policy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639C-92D7-4205-B896-744CC94067E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egul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e Role of Regulation: To Save The System (Not an individual participant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per se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tatic versus Dynamic regulation? (depending on economic cycle?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ocus on “function” of the participant , NOT “name”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or example, amount of leverage, instead of  “bank” versus “insurance company”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e Issue is NOT More Regulation versus Less Regulation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t i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lligent versus Absurd regul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lobal versus Local regul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What’s the Worst Thing That Can Happen After a Crisi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earning” the wrong lessons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F05B-4A4E-4A12-AE97-F59D0C76944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7621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ome Specific Iss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4343-64A5-47F7-8D27-52EC7B2CE2F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Credit Ri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2057400" y="1371600"/>
            <a:ext cx="4902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Another Dimens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259092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Is The Risk Of A Financial Loss Due To The Reduction In The Credit Quality Of A Deb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8090400">
            <a:off x="2122560" y="4377960"/>
            <a:ext cx="1447920" cy="1371600"/>
          </a:xfrm>
          <a:custGeom>
            <a:avLst/>
            <a:gdLst>
              <a:gd name="textAreaLeft" fmla="*/ 415440 w 1447920"/>
              <a:gd name="textAreaRight" fmla="*/ 1240200 w 144792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4343400"/>
            <a:ext cx="3657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ault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ioration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C7A1-5D2B-4B71-B094-1822845442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[1] The Real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"/>
          <p:cNvSpPr/>
          <p:nvPr/>
        </p:nvSpPr>
        <p:spPr>
          <a:xfrm>
            <a:off x="990720" y="2590920"/>
            <a:ext cx="7238880" cy="106668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rot="16200000">
            <a:off x="4305240" y="-1409760"/>
            <a:ext cx="533160" cy="7162560"/>
          </a:xfrm>
          <a:custGeom>
            <a:avLst/>
            <a:gdLst>
              <a:gd name="textAreaLeft" fmla="*/ 0 w 533160"/>
              <a:gd name="textAreaRight" fmla="*/ 192600 w 533160"/>
              <a:gd name="textAreaTop" fmla="*/ 186480 h 7162560"/>
              <a:gd name="textAreaBottom" fmla="*/ 6976080 h 716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523880" y="1523880"/>
            <a:ext cx="58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BS Market = US$ 11 Tr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990720" y="2590920"/>
            <a:ext cx="1447560" cy="1066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28600" y="4419720"/>
            <a:ext cx="3200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$ 1.7 Tr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subpri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rot="5400000">
            <a:off x="1447200" y="3352680"/>
            <a:ext cx="533520" cy="1447560"/>
          </a:xfrm>
          <a:custGeom>
            <a:avLst/>
            <a:gdLst>
              <a:gd name="textAreaLeft" fmla="*/ 0 w 533520"/>
              <a:gd name="textAreaRight" fmla="*/ 192600 w 53352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29000" y="4191120"/>
            <a:ext cx="5029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ernancke (July 19, 2007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talking about subprime losses to Congress: “… some estimates are on the order of between $50 billion to $ 100 billion, this is not a big number in a $ 13-trillion economy, especially since the losses will be spread out over several years.”  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((( OUCH!!!   )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69AE-D4A2-4750-AC50-3BBADB92DB2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4038480" y="2743200"/>
            <a:ext cx="60984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038480" y="335268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124080" y="2743200"/>
            <a:ext cx="60984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038480" y="297180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858000" y="396252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858000" y="43434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943600" y="396252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858000" y="45720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219320" y="2133720"/>
            <a:ext cx="15228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57200" y="144792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d” mortgage lo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rot="16200000">
            <a:off x="3695400" y="1713960"/>
            <a:ext cx="228600" cy="1371600"/>
          </a:xfrm>
          <a:custGeom>
            <a:avLst/>
            <a:gdLst>
              <a:gd name="textAreaLeft" fmla="*/ 0 w 228600"/>
              <a:gd name="textAreaRight" fmla="*/ 8244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505320" y="3352680"/>
            <a:ext cx="15228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858000" y="213372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858000" y="24382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943600" y="213372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858000" y="27432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rot="16200000">
            <a:off x="6514920" y="1104480"/>
            <a:ext cx="228600" cy="1371600"/>
          </a:xfrm>
          <a:custGeom>
            <a:avLst/>
            <a:gdLst>
              <a:gd name="textAreaLeft" fmla="*/ 0 w 228600"/>
              <a:gd name="textAreaRight" fmla="*/ 8244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371600" y="2362320"/>
            <a:ext cx="2057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4495680" y="2743200"/>
            <a:ext cx="17528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267080" y="3276720"/>
            <a:ext cx="213372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57200" y="4191120"/>
            <a:ext cx="5410080" cy="18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re Do We Attack The Problem?  Or, Why The Bush Plan Was Very Inefficient (Master-SIV, TARP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IN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(from Walter Bahegot, Lombard Street, A Description of the Money Market, [1873], page 22, lines 13/14): “…the best way to prevent the derivatives failures is to arrest the primary failure which causes them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200400" y="1828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O / M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867280" y="1219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O of C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143000" y="3808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[2] Attack Problem At The R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04920" y="32004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rigin of the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609480" y="2437920"/>
            <a:ext cx="6098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248520" y="5791320"/>
            <a:ext cx="27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ARP acts here, two-degrees of separation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H="1" flipV="1">
            <a:off x="7543440" y="4495320"/>
            <a:ext cx="6858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D574-3C68-4D29-84D7-0E4AC4A4B2C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6705720" y="220968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705720" y="259092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791320" y="220968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705720" y="281952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905120" y="3581280"/>
            <a:ext cx="15228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505320" y="137160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d” mortgage lo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rot="16200000">
            <a:off x="6095880" y="838080"/>
            <a:ext cx="838080" cy="1447560"/>
          </a:xfrm>
          <a:custGeom>
            <a:avLst/>
            <a:gdLst>
              <a:gd name="textAreaLeft" fmla="*/ 0 w 838080"/>
              <a:gd name="textAreaRight" fmla="*/ 302760 w 83808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172200" y="2819520"/>
            <a:ext cx="15228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648320" y="1981080"/>
            <a:ext cx="14475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838080" y="4038480"/>
            <a:ext cx="7315200" cy="25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ality Check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Once the bank/originator underwrites the loan, it normally sells the loan to an SPV (Trust); thus, the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bank does not have the righ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to modify the terms of the loan.  PERIOD.  That’s it!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wo Bad “Solutions”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[A] Allow (Force?) The Servicer or CDO Manager to Change The Terms of the Loan (Serious Legal Implications for TRUE SALE Concept, Future of Securitization, Lawsuits, etc);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[B] Allow judges to Modify Mortgages (Contracts), Worse Than [B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nly Good Avenue, Help the Borrower Directly  [Very Difficult Politically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791320" y="838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O/ M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990720" y="2971800"/>
            <a:ext cx="1218960" cy="91440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990720" y="3276720"/>
            <a:ext cx="12189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ank/ Origin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828800" y="3048120"/>
            <a:ext cx="15228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62120" y="914400"/>
            <a:ext cx="1600200" cy="990720"/>
          </a:xfrm>
          <a:prstGeom prst="ellipse">
            <a:avLst/>
          </a:prstGeom>
          <a:solidFill>
            <a:srgbClr val="eeec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914400" y="12952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ORR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1371600" y="21333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905120" y="205740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33520" y="22096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S$             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1981080" y="2895120"/>
            <a:ext cx="403884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523880" y="7632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[3] The Legal “Problem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3809880" y="30481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715000" y="190512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sets      li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638680" y="35053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rot="16200000">
            <a:off x="5943600" y="3047760"/>
            <a:ext cx="304920" cy="609480"/>
          </a:xfrm>
          <a:custGeom>
            <a:avLst/>
            <a:gdLst>
              <a:gd name="textAreaLeft" fmla="*/ 194760 w 304920"/>
              <a:gd name="textAreaRight" fmla="*/ 305280 w 3049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3C26-3B73-4612-AAA9-A28BD043F92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he Rating Agencies Issu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competence or Dishonesty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SEC/Rating Agency Act: the 3-year Waiting Period (New Rating Agency Approval Process) is a Terrible Id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Real Conflict of Interest (Despite What The Press/ Politicians/ The Public) Think Is NOT Who Pays for the Ratings, IS WHO THE RATING ANALYST REPORTS 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atings for (i) Investors OR (ii) Regulators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hat Does AAA OR BBB Mean?  (The Irrationality Behind The Law); AAA, AA, A etc. are not a Well-Defined Concep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 Rating Agencies Still Control the Structured Products Market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5095-1192-4470-B260-B61F167B0862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Frame 1"/>
          <p:cNvSpPr/>
          <p:nvPr/>
        </p:nvSpPr>
        <p:spPr>
          <a:xfrm>
            <a:off x="838080" y="762120"/>
            <a:ext cx="7543800" cy="5410080"/>
          </a:xfrm>
          <a:prstGeom prst="pie">
            <a:avLst/>
          </a:prstGeom>
          <a:solidFill>
            <a:srgbClr val="00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Box 2"/>
          <p:cNvSpPr/>
          <p:nvPr/>
        </p:nvSpPr>
        <p:spPr>
          <a:xfrm>
            <a:off x="1981080" y="266688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6B94-7706-4586-BBC7-FA412D3D90E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Subprime Cri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ust a regular (real estate) bubble… except th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 fascination with “benefits” of home own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x brea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eddie &amp; Fann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ting a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upidity or dishonest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hority to legisl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hematical mod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re they wrong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cessive lever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ueless regula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d and inflation (flawed CPI Index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E9BA-09F5-4C1B-B2A3-19BF7283782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Frame 1"/>
          <p:cNvSpPr/>
          <p:nvPr/>
        </p:nvSpPr>
        <p:spPr>
          <a:xfrm>
            <a:off x="838080" y="762120"/>
            <a:ext cx="7543800" cy="5410080"/>
          </a:xfrm>
          <a:prstGeom prst="pie">
            <a:avLst/>
          </a:prstGeom>
          <a:solidFill>
            <a:srgbClr val="00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Box 2"/>
          <p:cNvSpPr/>
          <p:nvPr/>
        </p:nvSpPr>
        <p:spPr>
          <a:xfrm>
            <a:off x="1981080" y="266688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ppend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0F00-59EF-4F6D-B3D8-ABF20D0B2854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3328920" y="457200"/>
            <a:ext cx="31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814320" y="1171440"/>
            <a:ext cx="7758360" cy="52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Cifuentes and J.M. Cruz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ite Paper On Rating Agency Refor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prepared at the request of the U.S. Senate, May, 2010; available from http://www.sec.gov/comments/df-title-ix/credit-rating-agencies/creditratingagencies-5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Cifuentes, Testimony before the U.S. Senate, April, 2010; available from //www.senate.gov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Cifuentes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 Crisis is Taking Heavy Toll on Credit Derivativ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Financial Times, Insight Column, November 11, 2008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Cifuentes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ow to Avoid a Ratings Fiasco: Just Say NO to Black Box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Financial Times, Insight Column, July 9,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Cifuentes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eautiful but Flaw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Letters to the Editor, Financial Times, April 18,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Cifuentes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urmoil in U.S. Credit Markets: The Role of the Credit Rating Agenci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Testimony Before the U.S. Senate, April,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Cifuentes, </a:t>
            </a:r>
            <a:r>
              <a:rPr b="1" lang="en" sz="1400" spc="-1" strike="noStrike" u="sng">
                <a:solidFill>
                  <a:srgbClr val="000000"/>
                </a:solidFill>
                <a:uFillTx/>
                <a:latin typeface="Arial"/>
              </a:rPr>
              <a:t>Credit crisis lurches from bad numbers to bad writing</a:t>
            </a:r>
            <a:r>
              <a:rPr b="1" lang="en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Times, Insight Column, March 11,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Cifuentes and G.  Katsaros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llateralized Debt Obligations:  Basic Concepts and Recent Developments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half-day seminar presented at the request of the Connecticut Insurance Department, Connecticut Insurance Department Annual Conference, Hartford, Connecticut, March,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Cifuentes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eak Basel II May Not Be Enough to Calm Credit Fear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Financial Times, Insight Column, December 18,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D3EF-1855-4DB9-9135-B38E2F3BA631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2028960" y="642960"/>
            <a:ext cx="54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REFERENCES (contin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942840" y="1386000"/>
            <a:ext cx="7758360" cy="50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Cifuentes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anagers Fear Looking Stupid, Modellers Simply Fall in Lov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Letters to the Editor, Financial Times, November 1, 2007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Cifuentes and G.  Katsaros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he One-Factor Gaussian Copula Applied To CDOs:  Just Say NO (Or, If You See A Correlation Smile She Is Laughing At Your Results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Journal of Structured Finance, Fall (October) 2007, Vol 13, Number 3, pages  60-7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Cifuentes,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redit of the Big Three Rating Agencies Under Fir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Financial Times, Insight Column, September 11,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Cifuentes and G.  Katsaros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DOs and Their Ratings:  Chronicle of a Foretold Disaste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Total Securitization, June 4, 2007, pages 11 and 1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Cifuentes and G.  Katsaros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llateralized Debt Obligations:  Key Concepts &amp; Recent Developments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ne-day seminar, United States Treasury, Office of the Comptroller of the Currency, Washington D.C., April,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Cifuentes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o Measure is to Understand:  Can the Rating Agencies Measure?  Do They Understand?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Euromoney CDO Conference, Amsterdam, September, 2006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. Cifuentes, Truth or Consequences: Default Correlation Assumptions in the Modeling and Structuring of CDO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invited talk delivered at the CFA Institute-New York University Structured Credit Instruments Conference, New York, November, 2005.  Published later in a slightly modified fashion under the title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DOs and Correlation: A Few Modeling Misconceptio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CFA Institute Conference Proceedings Quarterly, June 2006, pages 53-5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9C2B-707B-457E-82B1-3204360B1953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2438280" y="38088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DDITIONAL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814320" y="1171440"/>
            <a:ext cx="7758360" cy="31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. Bagehot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Lombard Street, A Description of the Money Marke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The Echo Library, 2005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. Cooper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he Origin of Financial Crisi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Harriman House,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. Mandelbrot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he (Mis)Behavior of Marke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Basic Books,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. Meissner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redit Derivativ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Blackwell, 200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. Soros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he New Paradigm for Financial Marke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Public Affairs,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. Tavakoli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tructured Finance &amp; Collateralized Debt Obligatio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John Wiley,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. Tavakoli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ear Mr. Buffett, What an Investor Learns 1,269 Miles from Wall Stree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John Wiley, 200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. Reinhart &amp; K. Rogoff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his Time is Differen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Princeton University Press, 200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. Tett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Fool’s Gol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Free Press, 200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44BE-DB2F-4407-B33E-0216E9DDA174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Credit Ratings Symb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1778040"/>
            <a:ext cx="680688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ody’s                            Fitch / S&amp;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a                                                      A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                                                        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                                                      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a                                                       B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                                                         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                                                         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a                                                       C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                                                         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449568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89320" y="2832120"/>
            <a:ext cx="2082960" cy="10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52680" y="4952880"/>
            <a:ext cx="193068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ul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“Junk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1CB5-369D-42E7-ADBE-589C667B62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00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204480" y="649440"/>
            <a:ext cx="876132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ODELING CREDIT RISK I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IXED INCOME PORTFOL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2249640" y="1578240"/>
            <a:ext cx="4652640" cy="43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rturo Cifue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eorgios Katsar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. W. Pressprich &amp; C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ctober 20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643120" y="5781600"/>
            <a:ext cx="3813120" cy="79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B91C-B18E-415B-8600-832A4D21897A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546120" y="1765440"/>
            <a:ext cx="595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May You Live In Interesting Time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679840" y="3378240"/>
            <a:ext cx="5321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nese Curse [see Ref.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8FAD-DBA8-40CB-A6D3-BA0A9FE6462B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85800" y="17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Basic Probl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Standard Approa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rouble In Paradi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 Better Ide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D99D-BD1C-4D50-A445-F4545D733F11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635040" y="774720"/>
            <a:ext cx="7899480" cy="542304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739880" y="2908440"/>
            <a:ext cx="567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he Basic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0F17-498F-40E4-A224-DE721EBF5080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The Basic Problem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"/>
          <p:cNvSpPr/>
          <p:nvPr/>
        </p:nvSpPr>
        <p:spPr>
          <a:xfrm>
            <a:off x="1066680" y="2133720"/>
            <a:ext cx="1067040" cy="2361960"/>
          </a:xfrm>
          <a:prstGeom prst="rect">
            <a:avLst/>
          </a:prstGeom>
          <a:solidFill>
            <a:srgbClr val="cc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431640" y="4724280"/>
            <a:ext cx="23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ortfolio of Fixed Income Secu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 rot="20605800">
            <a:off x="1623600" y="2534760"/>
            <a:ext cx="3429000" cy="609840"/>
          </a:xfrm>
          <a:custGeom>
            <a:avLst/>
            <a:gdLst>
              <a:gd name="textAreaLeft" fmla="*/ 535680 w 3429000"/>
              <a:gd name="textAreaRight" fmla="*/ 3000600 w 342900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514600" y="16002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h flows 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82760" y="593100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OCH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H="1" flipV="1">
            <a:off x="1523880" y="3580920"/>
            <a:ext cx="1905120" cy="221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657600" y="4724280"/>
            <a:ext cx="380880" cy="1981440"/>
          </a:xfrm>
          <a:custGeom>
            <a:avLst/>
            <a:gdLst>
              <a:gd name="textAreaLeft" fmla="*/ 243360 w 380880"/>
              <a:gd name="textAreaRight" fmla="*/ 381240 w 3808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4114800" y="4800600"/>
            <a:ext cx="1828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fault Prob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covery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r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638680" y="3200400"/>
            <a:ext cx="3124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5791320" y="1752120"/>
            <a:ext cx="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783400" y="2070000"/>
            <a:ext cx="2151000" cy="914400"/>
          </a:xfrm>
          <a:custGeom>
            <a:avLst/>
            <a:gdLst/>
            <a:ahLst/>
            <a:rect l="l" t="t" r="r" b="b"/>
            <a:pathLst>
              <a:path w="1355" h="576">
                <a:moveTo>
                  <a:pt x="16" y="441"/>
                </a:moveTo>
                <a:cubicBezTo>
                  <a:pt x="59" y="378"/>
                  <a:pt x="0" y="455"/>
                  <a:pt x="67" y="399"/>
                </a:cubicBezTo>
                <a:cubicBezTo>
                  <a:pt x="117" y="357"/>
                  <a:pt x="50" y="384"/>
                  <a:pt x="109" y="365"/>
                </a:cubicBezTo>
                <a:cubicBezTo>
                  <a:pt x="148" y="326"/>
                  <a:pt x="184" y="288"/>
                  <a:pt x="228" y="255"/>
                </a:cubicBezTo>
                <a:cubicBezTo>
                  <a:pt x="239" y="223"/>
                  <a:pt x="296" y="144"/>
                  <a:pt x="321" y="119"/>
                </a:cubicBezTo>
                <a:cubicBezTo>
                  <a:pt x="342" y="60"/>
                  <a:pt x="374" y="41"/>
                  <a:pt x="414" y="0"/>
                </a:cubicBezTo>
                <a:cubicBezTo>
                  <a:pt x="462" y="3"/>
                  <a:pt x="511" y="0"/>
                  <a:pt x="558" y="9"/>
                </a:cubicBezTo>
                <a:cubicBezTo>
                  <a:pt x="570" y="11"/>
                  <a:pt x="575" y="26"/>
                  <a:pt x="584" y="34"/>
                </a:cubicBezTo>
                <a:cubicBezTo>
                  <a:pt x="617" y="62"/>
                  <a:pt x="639" y="89"/>
                  <a:pt x="669" y="119"/>
                </a:cubicBezTo>
                <a:cubicBezTo>
                  <a:pt x="704" y="154"/>
                  <a:pt x="687" y="116"/>
                  <a:pt x="719" y="161"/>
                </a:cubicBezTo>
                <a:cubicBezTo>
                  <a:pt x="801" y="277"/>
                  <a:pt x="849" y="401"/>
                  <a:pt x="999" y="441"/>
                </a:cubicBezTo>
                <a:cubicBezTo>
                  <a:pt x="1002" y="449"/>
                  <a:pt x="1001" y="459"/>
                  <a:pt x="1007" y="466"/>
                </a:cubicBezTo>
                <a:cubicBezTo>
                  <a:pt x="1020" y="482"/>
                  <a:pt x="1088" y="510"/>
                  <a:pt x="1109" y="517"/>
                </a:cubicBezTo>
                <a:cubicBezTo>
                  <a:pt x="1157" y="550"/>
                  <a:pt x="1215" y="538"/>
                  <a:pt x="1270" y="551"/>
                </a:cubicBezTo>
                <a:cubicBezTo>
                  <a:pt x="1319" y="576"/>
                  <a:pt x="1291" y="568"/>
                  <a:pt x="1355" y="568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238880" y="33526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oss 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5092560" y="1359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b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134040" y="40006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ortfolio Loss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9361-D798-4B15-A826-61A5045B3E47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The Basic Problem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"/>
          <p:cNvSpPr/>
          <p:nvPr/>
        </p:nvSpPr>
        <p:spPr>
          <a:xfrm>
            <a:off x="1066680" y="2133720"/>
            <a:ext cx="1067040" cy="2361960"/>
          </a:xfrm>
          <a:prstGeom prst="rect">
            <a:avLst/>
          </a:prstGeom>
          <a:solidFill>
            <a:srgbClr val="cc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7086600" y="2133720"/>
            <a:ext cx="1066680" cy="2361960"/>
          </a:xfrm>
          <a:prstGeom prst="rect">
            <a:avLst/>
          </a:prstGeom>
          <a:solidFill>
            <a:srgbClr val="cc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7086600" y="38098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7086600" y="327672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914400" y="4724280"/>
            <a:ext cx="1447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l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629400" y="47242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DO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2578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6248520" y="2666880"/>
            <a:ext cx="685800" cy="838440"/>
          </a:xfrm>
          <a:custGeom>
            <a:avLst/>
            <a:gdLst>
              <a:gd name="textAreaLeft" fmla="*/ 91800 w 685800"/>
              <a:gd name="textAreaRight" fmla="*/ 594000 w 6858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324480" y="3657600"/>
            <a:ext cx="609840" cy="762120"/>
          </a:xfrm>
          <a:custGeom>
            <a:avLst/>
            <a:gdLst>
              <a:gd name="textAreaLeft" fmla="*/ 81720 w 609840"/>
              <a:gd name="textAreaRight" fmla="*/ 528120 w 60984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638680" y="1981080"/>
            <a:ext cx="1219320" cy="60984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019920" y="5867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TERMIN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rot="20605800">
            <a:off x="1623600" y="2534760"/>
            <a:ext cx="3429000" cy="609840"/>
          </a:xfrm>
          <a:custGeom>
            <a:avLst/>
            <a:gdLst>
              <a:gd name="textAreaLeft" fmla="*/ 535680 w 3429000"/>
              <a:gd name="textAreaRight" fmla="*/ 3000600 w 342900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514600" y="16002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h flows 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676520" y="579132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OCH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 flipH="1" flipV="1">
            <a:off x="1523520" y="358128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276720" y="3505320"/>
            <a:ext cx="380880" cy="1981080"/>
          </a:xfrm>
          <a:custGeom>
            <a:avLst/>
            <a:gdLst>
              <a:gd name="textAreaLeft" fmla="*/ 243360 w 380880"/>
              <a:gd name="textAreaRight" fmla="*/ 381240 w 38088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3505320" y="3733920"/>
            <a:ext cx="1828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fault Prob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covery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r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56EF-5579-4122-8A01-720F20F5EF91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Degree Of Importanc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(Or “Relative Value”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82400" y="2641680"/>
            <a:ext cx="812772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OST:          Default Prob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:      Recovery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AST:           Corre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[see Ref. 2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7376-7220-4F18-A447-67180DDC8F3E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552320" y="329760"/>
            <a:ext cx="647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efault Rates Behavior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863640" y="1206360"/>
            <a:ext cx="7848720" cy="513720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7099200" y="5880240"/>
            <a:ext cx="173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[see Ref. 3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D1D6-FDA9-427A-9D77-EB5403F4DFBA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Defaults 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(The Way They Happen)</a:t>
            </a: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(“Industry Concentration” Iss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9" name=""/>
          <p:cNvGraphicFramePr/>
          <p:nvPr/>
        </p:nvGraphicFramePr>
        <p:xfrm>
          <a:off x="228600" y="1981080"/>
          <a:ext cx="8686800" cy="3326040"/>
        </p:xfrm>
        <a:graphic>
          <a:graphicData uri="http://schemas.openxmlformats.org/drawingml/2006/table">
            <a:tbl>
              <a:tblPr/>
              <a:tblGrid>
                <a:gridCol w="936720"/>
                <a:gridCol w="1003320"/>
                <a:gridCol w="936360"/>
                <a:gridCol w="1216080"/>
                <a:gridCol w="1233720"/>
                <a:gridCol w="1139760"/>
                <a:gridCol w="939600"/>
                <a:gridCol w="1281240"/>
              </a:tblGrid>
              <a:tr h="1035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an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tels &amp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er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-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is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ustr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chn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19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19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.2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.4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9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7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2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.1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0" name=""/>
          <p:cNvSpPr/>
          <p:nvPr/>
        </p:nvSpPr>
        <p:spPr>
          <a:xfrm>
            <a:off x="266760" y="5905440"/>
            <a:ext cx="807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sed on Moody’s Data (see  Ref. 3): Annual Default Rate by Industry Groups for Selected Years &amp; Indus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5308560" y="2438280"/>
            <a:ext cx="698400" cy="210816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4000680" y="2463840"/>
            <a:ext cx="1993680" cy="140976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2819520" y="2451240"/>
            <a:ext cx="3200400" cy="161280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6006960" y="2451240"/>
            <a:ext cx="1930680" cy="250164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E5E3-2A17-4FA2-9FE2-EADD11027A3D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Recovery Rates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(Or Severity of Losse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"/>
          <p:cNvSpPr/>
          <p:nvPr/>
        </p:nvSpPr>
        <p:spPr>
          <a:xfrm>
            <a:off x="1701720" y="2158920"/>
            <a:ext cx="7035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% Recovered after the tragedy (Moody’s d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06440" y="3073320"/>
            <a:ext cx="840744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ior Secured Bank Loans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71.2 %     (St. Dev. = 21.1 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ior Secured Public Bonds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63.5 %     (26.1 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ior Unsecured Public Bonds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47.5 %     (26.3 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ordinated Public Bonds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28.3 %     (20.1 %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33520" y="640080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: Moody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575F-570E-4791-ADCF-5BCA5115DF8C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atings &amp; Default Proba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990720" y="1371600"/>
          <a:ext cx="7238880" cy="3522600"/>
        </p:xfrm>
        <a:graphic>
          <a:graphicData uri="http://schemas.openxmlformats.org/drawingml/2006/table">
            <a:tbl>
              <a:tblPr/>
              <a:tblGrid>
                <a:gridCol w="1854000"/>
                <a:gridCol w="2390760"/>
                <a:gridCol w="1787760"/>
                <a:gridCol w="1206360"/>
              </a:tblGrid>
              <a:tr h="576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S&amp;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Moody'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Year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Year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A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A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.1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.8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.7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.3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.1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.8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B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B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.2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.2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.8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8.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2.4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4.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Caa-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9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0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762120" y="56386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ource: Moody’s Data, 1920-2006, Corporate (Loans and Bonds) Defaults, Issuer Weigh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3995-D76A-4FB3-8A01-26C5146430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orrelation: What Is It?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"/>
          <p:cNvSpPr/>
          <p:nvPr/>
        </p:nvSpPr>
        <p:spPr>
          <a:xfrm>
            <a:off x="685800" y="1600200"/>
            <a:ext cx="7772400" cy="42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tuitive Defini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Degree to Which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[1] “Things Move In The Sam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irection” (Positive Corre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[2] “Things Move In The Opposit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irection” (Negative Corre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1752480" y="54864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RRELATION      ≠    CAU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187E-4AF3-4DE6-9AF0-CE05C226DADB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orrelation: What Is It?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"/>
          <p:cNvSpPr/>
          <p:nvPr/>
        </p:nvSpPr>
        <p:spPr>
          <a:xfrm>
            <a:off x="304920" y="2590920"/>
            <a:ext cx="7010280" cy="16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thematical Defini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ρ = E { (V - μ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V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) (W - μ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W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) } / ( σ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σ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W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04920" y="3352680"/>
            <a:ext cx="7543800" cy="33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r (Discrete Defini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380880" y="4952880"/>
                <a:ext cx="5867640" cy="15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nary>
                          </m:e>
                        </m:nary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nary>
                                              <m:naryPr>
                                                <m:chr m:val="∑"/>
                                                <m:subHide m:val="1"/>
                                                <m:supHide m:val="1"/>
                                              </m:naryPr>
                                              <m:sub/>
                                              <m:sup/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v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i</m:t>
                                                    </m:r>
                                                  </m:sub>
                                                </m:sSub>
                                              </m:e>
                                            </m:nary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nary>
                                              <m:naryPr>
                                                <m:chr m:val="∑"/>
                                                <m:subHide m:val="1"/>
                                                <m:supHide m:val="1"/>
                                              </m:naryPr>
                                              <m:sub/>
                                              <m:sup/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w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i</m:t>
                                                    </m:r>
                                                  </m:sub>
                                                </m:sSub>
                                              </m:e>
                                            </m:nary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</m:e>
                            </m:d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0" name=""/>
          <p:cNvSpPr/>
          <p:nvPr/>
        </p:nvSpPr>
        <p:spPr>
          <a:xfrm>
            <a:off x="609480" y="1371600"/>
            <a:ext cx="6629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rrelation Can Only Be Defined Between Two Random Variables (“Things We Can Quantify”, Say V and 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B67C-3DEA-464C-A09A-B627E9F53B4D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Which Correla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"/>
          <p:cNvSpPr/>
          <p:nvPr/>
        </p:nvSpPr>
        <p:spPr>
          <a:xfrm>
            <a:off x="838080" y="1828800"/>
            <a:ext cx="739152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Correlation We Care About Is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Default Correlation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l-GR" sz="28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) Between Any Two As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752480" y="3429000"/>
            <a:ext cx="7162920" cy="27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[1] Discrete Approach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dex (0/1) 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[2] Continuous Approach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 To Default (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τ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5986-C541-45AE-AB56-BBF8A23DBC9D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68280" y="44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orrelation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 Typical Characteriz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"/>
          <p:cNvSpPr/>
          <p:nvPr/>
        </p:nvSpPr>
        <p:spPr>
          <a:xfrm>
            <a:off x="3657600" y="208296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943600" y="208296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181480" y="208296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4419720" y="208296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657600" y="292104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943600" y="292104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181480" y="292104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4419720" y="292104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657600" y="375912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5943600" y="375912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181480" y="375912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419720" y="375912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3657600" y="459756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943600" y="459756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5181480" y="459756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4419720" y="459756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0" y="21970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rrelation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886200" y="543564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     2        3       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3048120" y="2235240"/>
            <a:ext cx="3808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3225960"/>
            <a:ext cx="302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[ </a:t>
            </a:r>
            <a:r>
              <a:rPr b="1" lang="el-GR" sz="48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 ]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H="1" flipV="1">
            <a:off x="4762080" y="3251160"/>
            <a:ext cx="2095560" cy="28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6781680" y="5638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tra” Cor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H="1" flipV="1">
            <a:off x="4952520" y="2666520"/>
            <a:ext cx="2032200" cy="5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959520" y="242568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ter” Cor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 flipH="1" flipV="1">
            <a:off x="6489720" y="4889160"/>
            <a:ext cx="38088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6299280" y="2730600"/>
            <a:ext cx="660240" cy="13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558720" y="6324480"/>
            <a:ext cx="26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See Appendix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666B-860D-4CF9-A3D8-EED687A55E11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/>
          <p:nvPr/>
        </p:nvSpPr>
        <p:spPr>
          <a:xfrm>
            <a:off x="635040" y="774720"/>
            <a:ext cx="7899480" cy="542304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1739880" y="2908440"/>
            <a:ext cx="5676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he Standard Appro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98B4-400F-4BF8-AC4D-BBB23CF30A52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814320" y="302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Let’s Do A Monte Carlo Simulation !!!</a:t>
            </a:r>
            <a:br>
              <a:rPr sz="4000"/>
            </a:b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ow Do We Generate Default Scenarios “Consistent” With The “Right”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i="1" lang="el-GR" sz="28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?</a:t>
            </a:r>
            <a:br>
              <a:rPr sz="2800"/>
            </a:b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Solution”: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e Can Use The One-Factor Gaussian Copula To Handle The Correlation Thing…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E942-B174-49AE-A489-DE037679D2C6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Defaults Using A Normal Distrib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6" name="Text Placeholder 2" descr=""/>
          <p:cNvPicPr/>
          <p:nvPr/>
        </p:nvPicPr>
        <p:blipFill>
          <a:blip r:embed="rId1"/>
          <a:stretch/>
        </p:blipFill>
        <p:spPr>
          <a:xfrm>
            <a:off x="1801800" y="1719360"/>
            <a:ext cx="5599080" cy="4687920"/>
          </a:xfrm>
          <a:prstGeom prst="rect">
            <a:avLst/>
          </a:prstGeom>
          <a:ln w="0">
            <a:noFill/>
          </a:ln>
        </p:spPr>
      </p:pic>
      <p:sp>
        <p:nvSpPr>
          <p:cNvPr id="897" name=""/>
          <p:cNvSpPr/>
          <p:nvPr/>
        </p:nvSpPr>
        <p:spPr>
          <a:xfrm>
            <a:off x="6451560" y="2654280"/>
            <a:ext cx="26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ssume P =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6489720" y="1917720"/>
            <a:ext cx="233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fault Prob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8204040" y="3124080"/>
            <a:ext cx="38160" cy="311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6641640" y="6248520"/>
            <a:ext cx="147348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H="1" flipV="1">
            <a:off x="6108840" y="6388200"/>
            <a:ext cx="520560" cy="16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241200" y="40132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6680160" y="3949560"/>
            <a:ext cx="13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66760" y="203184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fault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482760" y="2806560"/>
            <a:ext cx="444240" cy="109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A312-C347-4794-88E8-207499D05D45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28600" y="223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One-Factor Gaussian Copula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(simplified version, 2 assets, same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7" name="Text Placeholder 2"/>
          <p:cNvGraphicFramePr/>
          <p:nvPr/>
        </p:nvGraphicFramePr>
        <p:xfrm>
          <a:off x="1009800" y="1500120"/>
          <a:ext cx="7002360" cy="454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8" name="Text Placeholder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1500120"/>
                    <a:ext cx="7002360" cy="45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9" name=""/>
          <p:cNvSpPr/>
          <p:nvPr/>
        </p:nvSpPr>
        <p:spPr>
          <a:xfrm>
            <a:off x="6350040" y="2489040"/>
            <a:ext cx="20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sset cor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 flipH="1">
            <a:off x="3009960" y="2857680"/>
            <a:ext cx="3441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 flipH="1">
            <a:off x="3072960" y="2971800"/>
            <a:ext cx="3429000" cy="59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7061040" y="4915080"/>
            <a:ext cx="2082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 De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 flipH="1" flipV="1">
            <a:off x="6819480" y="4241880"/>
            <a:ext cx="64764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 flipH="1" flipV="1">
            <a:off x="6578640" y="4267080"/>
            <a:ext cx="4824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28600" y="6197760"/>
            <a:ext cx="6946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hat is the correlation between 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4C09-D7F6-43D3-9249-68280313C411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93840" y="37584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One-Factor Gaussian Copula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(a “visual” represent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7" name="Text Placeholder 2" descr=""/>
          <p:cNvPicPr/>
          <p:nvPr/>
        </p:nvPicPr>
        <p:blipFill>
          <a:blip r:embed="rId1"/>
          <a:stretch/>
        </p:blipFill>
        <p:spPr>
          <a:xfrm>
            <a:off x="1305000" y="1692360"/>
            <a:ext cx="6567480" cy="4808520"/>
          </a:xfrm>
          <a:prstGeom prst="rect">
            <a:avLst/>
          </a:prstGeom>
          <a:ln w="0">
            <a:noFill/>
          </a:ln>
        </p:spPr>
      </p:pic>
      <p:sp>
        <p:nvSpPr>
          <p:cNvPr id="918" name=""/>
          <p:cNvSpPr/>
          <p:nvPr/>
        </p:nvSpPr>
        <p:spPr>
          <a:xfrm>
            <a:off x="266760" y="6362640"/>
            <a:ext cx="191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[see Ref. 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 flipH="1">
            <a:off x="3276720" y="4648320"/>
            <a:ext cx="83808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5460840" y="4724280"/>
            <a:ext cx="330480" cy="16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6585-7906-418F-B5B0-A0C0DCCD0817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635040" y="774720"/>
            <a:ext cx="7899480" cy="542304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434960" y="2908440"/>
            <a:ext cx="627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rouble In Parad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CC99-3B9A-4463-81A5-FBECD3E78304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early, The Market Did Not Follow Shakespeare’s Adv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4038480"/>
            <a:ext cx="5283000" cy="22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ither A Borrower Nor A Lender Be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mlet, Act I, Scene III, 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Text Placeholder 2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2971800" cy="329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1DC4-700A-460A-BF5D-212449192A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800" y="37584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efault Correlatio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≠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pula Correl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4" name="Text Placeholder 2" descr=""/>
          <p:cNvPicPr/>
          <p:nvPr/>
        </p:nvPicPr>
        <p:blipFill>
          <a:blip r:embed="rId1"/>
          <a:stretch/>
        </p:blipFill>
        <p:spPr>
          <a:xfrm>
            <a:off x="1857240" y="1805040"/>
            <a:ext cx="5702400" cy="4692600"/>
          </a:xfrm>
          <a:prstGeom prst="rect">
            <a:avLst/>
          </a:prstGeom>
          <a:ln w="0">
            <a:noFill/>
          </a:ln>
        </p:spPr>
      </p:pic>
      <p:sp>
        <p:nvSpPr>
          <p:cNvPr id="925" name=""/>
          <p:cNvSpPr/>
          <p:nvPr/>
        </p:nvSpPr>
        <p:spPr>
          <a:xfrm>
            <a:off x="749160" y="2184480"/>
            <a:ext cx="182880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60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Verdana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7620120" y="5321160"/>
            <a:ext cx="105408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60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Verdana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3949560" y="549900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2539800" y="5499000"/>
            <a:ext cx="140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57040" y="4243320"/>
            <a:ext cx="201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efault Corre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7310520" y="2695680"/>
            <a:ext cx="201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pula Corre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 flipH="1" flipV="1">
            <a:off x="1213920" y="3286080"/>
            <a:ext cx="257400" cy="10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8172360" y="3529080"/>
            <a:ext cx="0" cy="201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6829560" y="1014480"/>
            <a:ext cx="19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 =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83680" y="6270480"/>
            <a:ext cx="12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[see Ref. 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A8EA-21F5-4BBF-98E3-9CDD889DE5E4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51920" y="3758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efault Correlation Also Depend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On Default Probability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6" name="Text Placeholder 2" descr=""/>
          <p:cNvPicPr/>
          <p:nvPr/>
        </p:nvPicPr>
        <p:blipFill>
          <a:blip r:embed="rId1"/>
          <a:stretch/>
        </p:blipFill>
        <p:spPr>
          <a:xfrm>
            <a:off x="1814400" y="1763640"/>
            <a:ext cx="5772240" cy="4762440"/>
          </a:xfrm>
          <a:prstGeom prst="rect">
            <a:avLst/>
          </a:prstGeom>
          <a:ln w="0">
            <a:noFill/>
          </a:ln>
        </p:spPr>
      </p:pic>
      <p:sp>
        <p:nvSpPr>
          <p:cNvPr id="937" name=""/>
          <p:cNvSpPr/>
          <p:nvPr/>
        </p:nvSpPr>
        <p:spPr>
          <a:xfrm>
            <a:off x="749160" y="2184480"/>
            <a:ext cx="182880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60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Verdana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7620120" y="5321160"/>
            <a:ext cx="105408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60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Verdana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283680" y="6270480"/>
            <a:ext cx="12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[see Ref. 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D20C-87DC-427C-8EF1-FBD227C5C64E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 A Symmetric, Non-Monotonic Wa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1" name="Text Placeholder 2" descr=""/>
          <p:cNvPicPr/>
          <p:nvPr/>
        </p:nvPicPr>
        <p:blipFill>
          <a:blip r:embed="rId1"/>
          <a:stretch/>
        </p:blipFill>
        <p:spPr>
          <a:xfrm>
            <a:off x="1468440" y="1460520"/>
            <a:ext cx="5907240" cy="4871880"/>
          </a:xfrm>
          <a:prstGeom prst="rect">
            <a:avLst/>
          </a:prstGeom>
          <a:ln w="0">
            <a:noFill/>
          </a:ln>
        </p:spPr>
      </p:pic>
      <p:sp>
        <p:nvSpPr>
          <p:cNvPr id="942" name=""/>
          <p:cNvSpPr/>
          <p:nvPr/>
        </p:nvSpPr>
        <p:spPr>
          <a:xfrm>
            <a:off x="749160" y="2184480"/>
            <a:ext cx="182880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60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Verdana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7620120" y="5321160"/>
            <a:ext cx="105408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60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Verdana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83680" y="6270480"/>
            <a:ext cx="12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[see Ref. 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935F-291F-4BAD-845E-B76399190818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Problem With The One-Factor Gaussian Copula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[ The Mother Of All Problems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"/>
          <p:cNvSpPr/>
          <p:nvPr/>
        </p:nvSpPr>
        <p:spPr>
          <a:xfrm>
            <a:off x="787320" y="2629080"/>
            <a:ext cx="2121120" cy="1562040"/>
          </a:xfrm>
          <a:prstGeom prst="hexagon">
            <a:avLst>
              <a:gd name="adj" fmla="val 33948"/>
              <a:gd name="vf" fmla="val 115470"/>
            </a:avLst>
          </a:prstGeom>
          <a:solidFill>
            <a:srgbClr val="99ff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800280" y="4902120"/>
            <a:ext cx="2120760" cy="1562040"/>
          </a:xfrm>
          <a:prstGeom prst="hexagon">
            <a:avLst>
              <a:gd name="adj" fmla="val 33942"/>
              <a:gd name="vf" fmla="val 115470"/>
            </a:avLst>
          </a:prstGeom>
          <a:solidFill>
            <a:srgbClr val="99ff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533520" y="2997360"/>
            <a:ext cx="256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pula Cor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546120" y="5346720"/>
            <a:ext cx="256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ool Default Prob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106800" y="3182760"/>
            <a:ext cx="3257640" cy="495360"/>
          </a:xfrm>
          <a:prstGeom prst="rightArrow">
            <a:avLst>
              <a:gd name="adj1" fmla="val 50000"/>
              <a:gd name="adj2" fmla="val 164408"/>
            </a:avLst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rot="20058600">
            <a:off x="2846160" y="4338720"/>
            <a:ext cx="3603600" cy="495360"/>
          </a:xfrm>
          <a:prstGeom prst="rightArrow">
            <a:avLst>
              <a:gd name="adj1" fmla="val 50000"/>
              <a:gd name="adj2" fmla="val 181868"/>
            </a:avLst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6756480" y="2971800"/>
            <a:ext cx="182880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60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Verdana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549760" y="4584600"/>
            <a:ext cx="3378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.e. controlling the copula (asset) correlation, does not permit full control of the pool default correlation (the pool default probability “gets in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783F-5B57-464A-8682-137EE30B795E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82760" y="37584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Error Magnification Nightmar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"/>
          <p:cNvSpPr/>
          <p:nvPr/>
        </p:nvSpPr>
        <p:spPr>
          <a:xfrm>
            <a:off x="1190520" y="2394000"/>
            <a:ext cx="914400" cy="17859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503440" y="2373480"/>
            <a:ext cx="914400" cy="1800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2495520" y="3657600"/>
            <a:ext cx="90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2532240" y="3259080"/>
            <a:ext cx="90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305320" y="2430360"/>
            <a:ext cx="914400" cy="17859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6618240" y="2409840"/>
            <a:ext cx="914400" cy="1800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610320" y="3693960"/>
            <a:ext cx="90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647040" y="3324240"/>
            <a:ext cx="90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511280" y="1828800"/>
            <a:ext cx="65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DO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CDO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837480" y="2685960"/>
            <a:ext cx="9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533680" y="2637000"/>
            <a:ext cx="14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1.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622600" y="3287880"/>
            <a:ext cx="11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2533680" y="373680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6845400" y="378144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6842160" y="3330720"/>
            <a:ext cx="94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436680" y="4325760"/>
            <a:ext cx="2336760" cy="16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V = 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vg P = 19.1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cRate = 57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5291280" y="4405320"/>
            <a:ext cx="2336760" cy="16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V =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vg P = 7.0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cRate = 63.2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44960" y="569592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1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3440160" y="3440160"/>
            <a:ext cx="216216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3529080" y="30621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=7.0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521160" y="3548160"/>
            <a:ext cx="326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cRate= 63.2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3608640" y="250344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2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2568600" y="5661000"/>
            <a:ext cx="21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any Mezz Tranches from Similar CBO</a:t>
            </a:r>
            <a:r>
              <a:rPr b="1" lang="en-US" sz="18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3373560" y="3779640"/>
            <a:ext cx="2251080" cy="177156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307120" y="5788080"/>
            <a:ext cx="13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3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8345520" y="3137040"/>
            <a:ext cx="52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7592760" y="3468600"/>
            <a:ext cx="67932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7716960" y="3794040"/>
            <a:ext cx="868320" cy="2092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746760" y="5989680"/>
            <a:ext cx="178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 = 2.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8212320" y="263376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4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78A1-00A1-4E87-80C3-65BDCA003F2F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Error Propagation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6" name=""/>
          <p:cNvGraphicFramePr/>
          <p:nvPr/>
        </p:nvGraphicFramePr>
        <p:xfrm>
          <a:off x="1666800" y="1600200"/>
          <a:ext cx="5567040" cy="4525560"/>
        </p:xfrm>
        <a:graphic>
          <a:graphicData uri="http://schemas.openxmlformats.org/drawingml/2006/table">
            <a:tbl>
              <a:tblPr/>
              <a:tblGrid>
                <a:gridCol w="1522800"/>
                <a:gridCol w="1995120"/>
                <a:gridCol w="2049120"/>
              </a:tblGrid>
              <a:tr h="154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ror in            P (Def) 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ror in                    P (Def) of CDO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Mezz Tranc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ror in                    P (Def) of CDO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Mezz Tranc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9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5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7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7" name=""/>
          <p:cNvSpPr/>
          <p:nvPr/>
        </p:nvSpPr>
        <p:spPr>
          <a:xfrm>
            <a:off x="4457880" y="6051600"/>
            <a:ext cx="36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rrect Value = 2.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 flipH="1" flipV="1">
            <a:off x="7067520" y="2626920"/>
            <a:ext cx="1147680" cy="7308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flipV="1">
            <a:off x="7045200" y="2823840"/>
            <a:ext cx="1176480" cy="313380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283680" y="6270480"/>
            <a:ext cx="12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[see Ref. 5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8251-9B48-4970-A978-DD84D866F96D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More Graphically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2" name="Text Placeholder 2"/>
          <p:cNvGraphicFramePr/>
          <p:nvPr/>
        </p:nvGraphicFramePr>
        <p:xfrm>
          <a:off x="525600" y="1600200"/>
          <a:ext cx="809136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3" name="Text Placeholder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1600200"/>
                    <a:ext cx="8091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E83D-424F-4F8B-B5A8-1491F04399E5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/>
          <p:nvPr/>
        </p:nvSpPr>
        <p:spPr>
          <a:xfrm>
            <a:off x="635040" y="774720"/>
            <a:ext cx="7899480" cy="542304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1434960" y="2908440"/>
            <a:ext cx="627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 Better Id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EFEF-3BA5-439D-88DB-336EEE5C45E9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ealing With Correlatio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(If You Insist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"/>
          <p:cNvSpPr/>
          <p:nvPr/>
        </p:nvSpPr>
        <p:spPr>
          <a:xfrm>
            <a:off x="2209680" y="213372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4495680" y="213372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733920" y="213372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971800" y="213372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209680" y="297180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4495680" y="297180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3733920" y="297180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2971800" y="297180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209680" y="380988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4495680" y="380988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3733920" y="380988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2971800" y="380988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2209680" y="464832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4495680" y="464832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3733920" y="464832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2971800" y="464832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464160" y="187956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rrelation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2438280" y="54864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     2        3       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1600200" y="2286000"/>
            <a:ext cx="3808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6400800" y="281952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[ </a:t>
            </a:r>
            <a:r>
              <a:rPr b="1" lang="el-GR" sz="48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 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 flipH="1" flipV="1">
            <a:off x="3962520" y="4114800"/>
            <a:ext cx="2006640" cy="16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 flipH="1" flipV="1">
            <a:off x="4952880" y="2666520"/>
            <a:ext cx="152424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 flipH="1" flipV="1">
            <a:off x="4952880" y="5105520"/>
            <a:ext cx="990720" cy="63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 flipH="1" flipV="1">
            <a:off x="2590560" y="3276360"/>
            <a:ext cx="38862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6501960" y="2031840"/>
            <a:ext cx="1917720" cy="19306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654960" y="2235240"/>
            <a:ext cx="1752480" cy="1612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6654960" y="4597560"/>
            <a:ext cx="2031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 ONE Number.  Period ! Keep It Simple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8543-3ADA-46BD-8D10-DB2900BDA96E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/>
          <p:nvPr/>
        </p:nvSpPr>
        <p:spPr>
          <a:xfrm>
            <a:off x="685800" y="6416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3124080" y="64166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</a:rPr>
              <a:t>The Diversity Score Concep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"/>
          <p:cNvSpPr/>
          <p:nvPr/>
        </p:nvSpPr>
        <p:spPr>
          <a:xfrm>
            <a:off x="1066680" y="4876920"/>
            <a:ext cx="2646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ctual  Portfol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5181480" y="4876920"/>
            <a:ext cx="3124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deal Portfol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4059360" y="269064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85800" y="6416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3124080" y="64166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1143000" y="5410080"/>
            <a:ext cx="820404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terogeneous                                         Homogene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related   Assets                                  Uncorrelated  As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3" name=""/>
          <p:cNvGrpSpPr/>
          <p:nvPr/>
        </p:nvGrpSpPr>
        <p:grpSpPr>
          <a:xfrm>
            <a:off x="782640" y="2057400"/>
            <a:ext cx="2817360" cy="2437920"/>
            <a:chOff x="782640" y="2057400"/>
            <a:chExt cx="2817360" cy="2437920"/>
          </a:xfrm>
        </p:grpSpPr>
        <p:sp>
          <p:nvSpPr>
            <p:cNvPr id="1034" name=""/>
            <p:cNvSpPr/>
            <p:nvPr/>
          </p:nvSpPr>
          <p:spPr>
            <a:xfrm>
              <a:off x="1010520" y="2057400"/>
              <a:ext cx="2208600" cy="38052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239840" y="2210040"/>
              <a:ext cx="912960" cy="990000"/>
            </a:xfrm>
            <a:prstGeom prst="rect">
              <a:avLst/>
            </a:prstGeom>
            <a:solidFill>
              <a:srgbClr val="ff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076480" y="2285640"/>
              <a:ext cx="1523520" cy="129528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229480" y="2513520"/>
              <a:ext cx="989640" cy="198180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772280" y="3200040"/>
              <a:ext cx="990720" cy="837360"/>
            </a:xfrm>
            <a:prstGeom prst="rect">
              <a:avLst/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82640" y="3047400"/>
              <a:ext cx="1523520" cy="76140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0" name=""/>
          <p:cNvSpPr/>
          <p:nvPr/>
        </p:nvSpPr>
        <p:spPr>
          <a:xfrm>
            <a:off x="6477120" y="1981080"/>
            <a:ext cx="1295280" cy="38124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6477120" y="2522520"/>
            <a:ext cx="1295280" cy="3729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6477120" y="3056040"/>
            <a:ext cx="1295280" cy="3729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477120" y="3589200"/>
            <a:ext cx="1295280" cy="3733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6477120" y="4122720"/>
            <a:ext cx="1295280" cy="3729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F6E5-F491-4C33-BF42-A7EA8B95B5EF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The Bank (Pas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3352680" y="1676520"/>
            <a:ext cx="5181840" cy="36576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752480"/>
            <a:ext cx="1905120" cy="1905120"/>
          </a:xfrm>
          <a:prstGeom prst="octagon">
            <a:avLst>
              <a:gd name="adj" fmla="val 29287"/>
            </a:avLst>
          </a:prstGeom>
          <a:solidFill>
            <a:srgbClr val="cc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25909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RR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2438280"/>
            <a:ext cx="609840" cy="457200"/>
          </a:xfrm>
          <a:prstGeom prst="leftRightArrow">
            <a:avLst>
              <a:gd name="adj1" fmla="val 50000"/>
              <a:gd name="adj2" fmla="val 26553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2209680"/>
            <a:ext cx="2286000" cy="1067040"/>
          </a:xfrm>
          <a:prstGeom prst="rect">
            <a:avLst/>
          </a:prstGeom>
          <a:solidFill>
            <a:srgbClr val="4f81b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809880"/>
            <a:ext cx="2286000" cy="1067040"/>
          </a:xfrm>
          <a:prstGeom prst="rect">
            <a:avLst/>
          </a:prstGeom>
          <a:solidFill>
            <a:srgbClr val="4f81b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0" y="2286000"/>
            <a:ext cx="1447920" cy="2438280"/>
          </a:xfrm>
          <a:prstGeom prst="rect">
            <a:avLst/>
          </a:prstGeom>
          <a:solidFill>
            <a:srgbClr val="4f81b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25146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4114800"/>
            <a:ext cx="1676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81680" y="259092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k’s Own 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9880" y="55627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ERCIAL B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259092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4571640" y="342900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4AF7-DCBA-477A-8126-7306F917BA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iversity Score (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DIV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)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Simplified (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DIV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) Formu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6" name=""/>
              <p:cNvSpPr txBox="1"/>
              <p:nvPr/>
            </p:nvSpPr>
            <p:spPr>
              <a:xfrm>
                <a:off x="3200400" y="2057400"/>
                <a:ext cx="2643120" cy="35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DI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where   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and       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47" name=""/>
          <p:cNvSpPr/>
          <p:nvPr/>
        </p:nvSpPr>
        <p:spPr>
          <a:xfrm>
            <a:off x="6858000" y="44197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= Face value of each as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8" name=""/>
              <p:cNvSpPr txBox="1"/>
              <p:nvPr/>
            </p:nvSpPr>
            <p:spPr>
              <a:xfrm>
                <a:off x="6324480" y="2590920"/>
                <a:ext cx="8892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49" name=""/>
          <p:cNvSpPr/>
          <p:nvPr/>
        </p:nvSpPr>
        <p:spPr>
          <a:xfrm>
            <a:off x="5334120" y="6400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 flipH="1" flipV="1">
            <a:off x="5866920" y="5105160"/>
            <a:ext cx="3812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152280" y="617220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Moody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748E-9153-4859-9017-A92FD150CDAC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Binomial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"/>
          <p:cNvSpPr/>
          <p:nvPr/>
        </p:nvSpPr>
        <p:spPr>
          <a:xfrm>
            <a:off x="1295280" y="243828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1523880" y="2133720"/>
                <a:ext cx="5715000" cy="15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os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D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57" name=""/>
          <p:cNvSpPr/>
          <p:nvPr/>
        </p:nvSpPr>
        <p:spPr>
          <a:xfrm>
            <a:off x="990720" y="4343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ability of Having    j   De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895480" y="53341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ss if There Are    j   De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5486400" y="3580920"/>
            <a:ext cx="53352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6553080" y="3581280"/>
            <a:ext cx="22860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283680" y="6270480"/>
            <a:ext cx="12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[see Ref. 6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DA7E-DD14-4F13-95D4-0663237134A7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42800" y="45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odified Binomial Meth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3" name=""/>
              <p:cNvSpPr txBox="1"/>
              <p:nvPr/>
            </p:nvSpPr>
            <p:spPr>
              <a:xfrm>
                <a:off x="533520" y="2209680"/>
                <a:ext cx="822960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os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D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64" name=""/>
          <p:cNvSpPr/>
          <p:nvPr/>
        </p:nvSpPr>
        <p:spPr>
          <a:xfrm>
            <a:off x="6248520" y="52578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y Recovery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2819520" y="4114800"/>
            <a:ext cx="3124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ability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ving a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overy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7848720" y="3581280"/>
            <a:ext cx="15228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V="1">
            <a:off x="5029200" y="3352320"/>
            <a:ext cx="11430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9" name=""/>
              <p:cNvSpPr txBox="1"/>
              <p:nvPr/>
            </p:nvSpPr>
            <p:spPr>
              <a:xfrm>
                <a:off x="457200" y="4114800"/>
                <a:ext cx="685800" cy="23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0" name=""/>
              <p:cNvSpPr txBox="1"/>
              <p:nvPr/>
            </p:nvSpPr>
            <p:spPr>
              <a:xfrm>
                <a:off x="1295280" y="4114800"/>
                <a:ext cx="76212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α</m:t>
                        </m:r>
                      </m:e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71" name=""/>
          <p:cNvSpPr/>
          <p:nvPr/>
        </p:nvSpPr>
        <p:spPr>
          <a:xfrm>
            <a:off x="304920" y="457200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1219320" y="3962520"/>
            <a:ext cx="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1981080" y="5562720"/>
            <a:ext cx="3505320" cy="8380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 flipV="1">
            <a:off x="5486400" y="5943600"/>
            <a:ext cx="1676520" cy="4572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 rot="16200000">
            <a:off x="7078680" y="693360"/>
            <a:ext cx="685800" cy="2543400"/>
          </a:xfrm>
          <a:custGeom>
            <a:avLst/>
            <a:gdLst>
              <a:gd name="textAreaLeft" fmla="*/ 0 w 685800"/>
              <a:gd name="textAreaRight" fmla="*/ 247680 w 685800"/>
              <a:gd name="textAreaTop" fmla="*/ 66240 h 2543400"/>
              <a:gd name="textAreaBottom" fmla="*/ 2477160 h 254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7529400" y="399960"/>
            <a:ext cx="121464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 flipH="1">
            <a:off x="7486560" y="1128600"/>
            <a:ext cx="285840" cy="38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0D40-3C70-4E57-9635-0A37068041A2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cenario Analysis:</a:t>
            </a: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fault Rates Behav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9" name="" descr=""/>
          <p:cNvPicPr/>
          <p:nvPr/>
        </p:nvPicPr>
        <p:blipFill>
          <a:blip r:embed="rId1"/>
          <a:stretch/>
        </p:blipFill>
        <p:spPr>
          <a:xfrm>
            <a:off x="504720" y="1206360"/>
            <a:ext cx="5058000" cy="2984760"/>
          </a:xfrm>
          <a:prstGeom prst="rect">
            <a:avLst/>
          </a:prstGeom>
          <a:ln w="0">
            <a:noFill/>
          </a:ln>
        </p:spPr>
      </p:pic>
      <p:sp>
        <p:nvSpPr>
          <p:cNvPr id="1080" name=""/>
          <p:cNvSpPr/>
          <p:nvPr/>
        </p:nvSpPr>
        <p:spPr>
          <a:xfrm>
            <a:off x="304920" y="47242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Better Idea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352680" y="5791320"/>
            <a:ext cx="4953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 flipV="1">
            <a:off x="3886200" y="4266720"/>
            <a:ext cx="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3886200" y="53341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 flipV="1">
            <a:off x="5334120" y="4571640"/>
            <a:ext cx="76176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095880" y="4572000"/>
            <a:ext cx="68580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6781680" y="53341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7632720" y="3746520"/>
            <a:ext cx="139680" cy="1511280"/>
          </a:xfrm>
          <a:prstGeom prst="downArrow">
            <a:avLst>
              <a:gd name="adj1" fmla="val 50000"/>
              <a:gd name="adj2" fmla="val 2704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7543800" y="3365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4724280" y="457200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80880" y="58672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x - 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 flipV="1">
            <a:off x="1752480" y="4952880"/>
            <a:ext cx="2743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206360" y="2286000"/>
            <a:ext cx="353088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 flipH="1">
            <a:off x="4965840" y="1409760"/>
            <a:ext cx="1117440" cy="77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6032520" y="1066680"/>
            <a:ext cx="31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DR, Bad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5854680" y="208296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ant Default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 flipH="1" flipV="1">
            <a:off x="6501960" y="1612800"/>
            <a:ext cx="8892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2483-64B2-4F1D-8C7A-C4748EA3496F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7" name="" descr=""/>
          <p:cNvPicPr/>
          <p:nvPr/>
        </p:nvPicPr>
        <p:blipFill>
          <a:blip r:embed="rId1"/>
          <a:stretch/>
        </p:blipFill>
        <p:spPr>
          <a:xfrm>
            <a:off x="455760" y="2709720"/>
            <a:ext cx="3889080" cy="3248280"/>
          </a:xfrm>
          <a:prstGeom prst="rect">
            <a:avLst/>
          </a:prstGeom>
          <a:ln w="0">
            <a:noFill/>
          </a:ln>
        </p:spPr>
      </p:pic>
      <p:pic>
        <p:nvPicPr>
          <p:cNvPr id="1098" name="" descr=""/>
          <p:cNvPicPr/>
          <p:nvPr/>
        </p:nvPicPr>
        <p:blipFill>
          <a:blip r:embed="rId2"/>
          <a:stretch/>
        </p:blipFill>
        <p:spPr>
          <a:xfrm>
            <a:off x="4540320" y="2690640"/>
            <a:ext cx="4152960" cy="3002040"/>
          </a:xfrm>
          <a:prstGeom prst="rect">
            <a:avLst/>
          </a:prstGeom>
          <a:ln w="0">
            <a:noFill/>
          </a:ln>
        </p:spPr>
      </p:pic>
      <p:sp>
        <p:nvSpPr>
          <p:cNvPr id="1099" name=""/>
          <p:cNvSpPr/>
          <p:nvPr/>
        </p:nvSpPr>
        <p:spPr>
          <a:xfrm>
            <a:off x="4398840" y="2077920"/>
            <a:ext cx="0" cy="419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n We Estimate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, The Default Probability Of Company XYZ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"/>
          <p:cNvSpPr/>
          <p:nvPr/>
        </p:nvSpPr>
        <p:spPr>
          <a:xfrm>
            <a:off x="857160" y="1542960"/>
            <a:ext cx="76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fore Securitization                After Securit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3E60-0BF4-4570-BE34-D696F2429420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n We Estimate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, The Default Probability Of Company XYZ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"/>
          <p:cNvSpPr/>
          <p:nvPr/>
        </p:nvSpPr>
        <p:spPr>
          <a:xfrm>
            <a:off x="785880" y="1971720"/>
            <a:ext cx="2571840" cy="928800"/>
          </a:xfrm>
          <a:prstGeom prst="rect">
            <a:avLst/>
          </a:prstGeom>
          <a:solidFill>
            <a:srgbClr val="99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1114560" y="221472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ny XY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4243320" y="2286000"/>
            <a:ext cx="3057480" cy="243000"/>
          </a:xfrm>
          <a:prstGeom prst="rightArrow">
            <a:avLst>
              <a:gd name="adj1" fmla="val 50000"/>
              <a:gd name="adj2" fmla="val 31455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3586320" y="2728800"/>
            <a:ext cx="424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5272200" y="1471680"/>
            <a:ext cx="10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729480" y="4772160"/>
            <a:ext cx="1442880" cy="118584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743880" y="480060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P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 rot="5400000">
            <a:off x="6796800" y="3466080"/>
            <a:ext cx="1685880" cy="271440"/>
          </a:xfrm>
          <a:prstGeom prst="rightArrow">
            <a:avLst>
              <a:gd name="adj1" fmla="val 50000"/>
              <a:gd name="adj2" fmla="val 15527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3543480" y="2243160"/>
            <a:ext cx="399960" cy="371520"/>
          </a:xfrm>
          <a:prstGeom prst="ellipse">
            <a:avLst/>
          </a:pr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4014360" y="1700280"/>
            <a:ext cx="1314360" cy="4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7067520" y="5324400"/>
            <a:ext cx="399960" cy="371520"/>
          </a:xfrm>
          <a:prstGeom prst="ellipse">
            <a:avLst/>
          </a:pr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14200" y="3514680"/>
            <a:ext cx="3057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UESTION: Should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q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nge Simply Because The Bond Is Now Placed In The SPV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5695920" y="5381640"/>
            <a:ext cx="857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  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143160" y="5614920"/>
            <a:ext cx="20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fferen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 flipH="1" flipV="1">
            <a:off x="3871440" y="3286080"/>
            <a:ext cx="71640" cy="23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4871880" y="5700240"/>
            <a:ext cx="800280" cy="2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1CFC-67B0-4B03-9F17-4218BB81243A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"/>
          <p:cNvSpPr/>
          <p:nvPr/>
        </p:nvSpPr>
        <p:spPr>
          <a:xfrm>
            <a:off x="6357960" y="2028960"/>
            <a:ext cx="2000160" cy="367164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5915160" y="900000"/>
            <a:ext cx="322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V    (OR Fixed Income Portfol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6615000" y="2214720"/>
            <a:ext cx="32868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7243920" y="2757600"/>
            <a:ext cx="199800" cy="557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7358040" y="3914640"/>
            <a:ext cx="371520" cy="1573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6886440" y="4700520"/>
            <a:ext cx="471600" cy="328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757080" y="743040"/>
            <a:ext cx="487224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ke A Good Job At Estimating The Default Probability Of These Asse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d Forget The Fact That They Are In The SPV; The Correlation is ZERO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R, Don’t Throw In The Correlation To “Improve” A Bad Default Probability Est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200560" y="2043000"/>
            <a:ext cx="1314720" cy="4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5200560" y="2057400"/>
            <a:ext cx="2000520" cy="9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5200560" y="2043000"/>
            <a:ext cx="2000520" cy="181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5214960" y="2028960"/>
            <a:ext cx="1685880" cy="27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979B-B292-41CA-8F7C-3998DC29BF13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Modeling Recommend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mu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rget The Correlation (Is ZERO) And Concentrate On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(Default Probability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o Stability (Sensitivity) Analyses (Several Values Fo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cenario (What-If) Analy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rget Flat Default (CDR) scenar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Different Peak (Industry-Driven) Scenar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9785-48EC-4C16-924A-921435BD7496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3:34:29Z</dcterms:created>
  <dc:creator> </dc:creator>
  <dc:description/>
  <dc:language>en-US</dc:language>
  <cp:lastModifiedBy>VCHARLIN</cp:lastModifiedBy>
  <dcterms:modified xsi:type="dcterms:W3CDTF">2010-11-23T22:23:55Z</dcterms:modified>
  <cp:revision>439</cp:revision>
  <dc:subject/>
  <dc:title>Slide 1</dc:title>
</cp:coreProperties>
</file>