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15.jpeg" ContentType="image/jpeg"/>
  <Override PartName="/ppt/media/image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200" y="694800"/>
            <a:ext cx="46306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3631-AB60-42E4-9B32-0B5A4747F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C2A-A703-45AC-A9CA-ABB8DAE2E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B37F-27F4-4F7B-A268-40D4A9B18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7C5A-C7A3-4A4D-93C5-A8022E7F7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E219-CA5C-4BCD-98DA-5A51CFAB5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E147-3FDC-4314-B417-9FF242851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B6B-CCC6-4DB9-8EAA-D4258BDCC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B089-D385-4516-9E97-227DCE65C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526D-0247-464C-B846-2DF886C35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0AAD-7B79-48BD-B007-E0A5B4D4B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A8F-B844-4B36-9534-2DD830108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F38-BD40-4AF3-BA63-41C78A91B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055-8EDE-46FC-A58F-A13431079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6BE-29DA-434B-92AA-31C1528CC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5267-68B0-419F-B952-0DB106FDE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01720"/>
            <a:ext cx="54864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829A-BF60-4CB3-BACC-2905BEE01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3D0C-9415-4F52-B1CF-A27D656F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B1B8-26EF-4EDC-9E96-672E55752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C5F-1566-4AA8-A0FF-1422AEF1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125-6510-4EAA-B088-222CAE0E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A90-499B-40BF-9585-83072F30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167-B568-4847-92BD-8469C780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9E2-571C-4EBA-960C-9927C00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0D4-E452-4FAD-9ED4-1A5F986A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066-9B2B-47A0-90A6-FD45E12B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88D-7778-4738-9C09-49D3DE39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76E-A09B-4559-BA7A-3396631D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290-B0FB-44B4-9027-5D04BBC7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2CD-6A00-4EE8-BF50-0C676AA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5F6-4D57-4AF0-9305-5B2A738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4C3A-7908-403E-B79C-EB71F11E6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FAA9-44C5-4CAF-BDD7-206C741C2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8240"/>
            <a:ext cx="853416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a Crisis 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Subprime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námica de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astre Anunci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6040" y="4134600"/>
            <a:ext cx="3024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D6A-A484-434E-AA80-6C6CB37BE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Now &amp; Future…?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676520"/>
            <a:ext cx="3657600" cy="236196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09680"/>
            <a:ext cx="1143000" cy="3812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19520"/>
            <a:ext cx="121896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990720" cy="121896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8195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20968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057400"/>
            <a:ext cx="1219320" cy="182880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182880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257800"/>
            <a:ext cx="2514600" cy="99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5562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133720"/>
            <a:ext cx="1676520" cy="2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705720" y="3276720"/>
            <a:ext cx="121896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38880" y="335268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10080" y="3809880"/>
            <a:ext cx="609840" cy="137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81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623800">
            <a:off x="2669760" y="4992480"/>
            <a:ext cx="2138400" cy="685800"/>
          </a:xfrm>
          <a:custGeom>
            <a:avLst/>
            <a:gdLst>
              <a:gd name="textAreaLeft" fmla="*/ 334080 w 2138400"/>
              <a:gd name="textAreaRight" fmla="*/ 1871280 w 2138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AF2-A07F-48FF-BDC6-59A46B9620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81080" y="2895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sic Structur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FF4-EE99-490F-BFD6-FFB1DDE843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 (C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iti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Cash Is Ex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E00-DBC9-4FB2-8291-A20FBD164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73392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33412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til Defaults Occ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Until Maturity)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Buyer Pays The Protection Sell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(AKA  Fee Or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,000,000 x 100 bps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95320"/>
            <a:ext cx="2819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334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onal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449532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B44-0ED8-4465-8753-626C34D421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f Default Occ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8288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7524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819160" y="213300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419720"/>
            <a:ext cx="1752480" cy="99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3434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572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495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57200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320" y="6022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1600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[ 100% - Final 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819160" y="495252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Defaulted)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After Defaul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971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Placeholder 2" descr=""/>
          <p:cNvPicPr/>
          <p:nvPr/>
        </p:nvPicPr>
        <p:blipFill>
          <a:blip r:embed="rId1"/>
          <a:stretch/>
        </p:blipFill>
        <p:spPr>
          <a:xfrm>
            <a:off x="2743200" y="1144440"/>
            <a:ext cx="91440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D80-89C6-4573-AEBF-4300F9F53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DS --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133720"/>
            <a:ext cx="3200400" cy="1066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0292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0574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209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ing Market Bond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09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495320" y="266652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y Country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334120" y="3123720"/>
            <a:ext cx="1676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114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= 9 %   But  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10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Default Swap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1447560" y="3962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= 230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514600" y="396216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If The Emerging Market Country 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76720" y="411444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785-7B0A-4B12-ADF6-590DF5D966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hat Is A Defaul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nkrupt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ssolution or insolvency of a reference entity, inability to pay debts or the shift of control to a secured party, custodian or rece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ilure to P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ailure of the reference entity to make payments on any obligation before expiration of any applicable grace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ructu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reference entity or governmental authority changes an obligation by reducing the interest rate or the principal amount; postponing the payment of interest or principal; lowering the payment priority of the obligation; or changing currency to one that is not permit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diation / Morator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validity of an obligation is rejected by the reference entity or a government authority. This event Is mostly applicable to sovereign cred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50D-31DC-4604-B319-843119FC5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0120" y="3424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048120"/>
            <a:ext cx="1676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24480" y="266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42900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0532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up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FC9-8F78-4A13-930B-46BDFA2A9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57200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294920" y="4724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38862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Make Payment In Reverse Order Of Sen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Arranged With CDS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72428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DE6-CD5A-4E87-8ADD-E5A194C894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457200" y="3581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 =  99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ison = 1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= 100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= 1 / (99 + 1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 flipH="1" flipV="1">
            <a:off x="685440" y="5409720"/>
            <a:ext cx="457920" cy="534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228600" y="5943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concentration, (Borderline tox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486400" y="5257800"/>
            <a:ext cx="952560" cy="6858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5"/>
          <p:cNvCxnSpPr/>
          <p:nvPr/>
        </p:nvCxnSpPr>
        <p:spPr>
          <a:xfrm>
            <a:off x="2513520" y="2362320"/>
            <a:ext cx="2972520" cy="3582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2514600" y="2361960"/>
            <a:ext cx="2743920" cy="2057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17"/>
          <p:cNvCxnSpPr/>
          <p:nvPr/>
        </p:nvCxnSpPr>
        <p:spPr>
          <a:xfrm>
            <a:off x="2514240" y="2362320"/>
            <a:ext cx="24390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3"/>
          <p:cNvSpPr/>
          <p:nvPr/>
        </p:nvSpPr>
        <p:spPr>
          <a:xfrm>
            <a:off x="6553080" y="160020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enior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90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1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1/(90.1) =0.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ery S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6477120" y="335268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zz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6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0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05/(6.05)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 that bad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6477120" y="4800600"/>
            <a:ext cx="3429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quity 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3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8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85/(3.85) = 0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dly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2819520" y="608004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: The total amount of poison (1 = 0.1 + 0.05 + 0.85) is the same, just the “allocation” h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2BA-166E-4ADD-876E-F443F846B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2FDA-3960-4515-87A8-360411CA9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sic Structure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lternative Bank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 Disaster In The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Ratings Cata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Public Polic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39A-13E9-442A-8F4F-A130C0A18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09680" y="2286000"/>
            <a:ext cx="1752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rating ≈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410080" y="243828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$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162920" y="236232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6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086600" y="350532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8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162920" y="46483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idual cash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RR &gt;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2362320" y="4191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 =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ty (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486400" y="36576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zan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$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28680" y="495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ypical CDO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6668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$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could be: bonds, bank loans, emerging market debt, project finance loans, mid-market loans, TRU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8CA-D0DF-4975-BBA1-CF171C46F8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971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762120"/>
            <a:ext cx="3352680" cy="2514240"/>
            <a:chOff x="1066680" y="762120"/>
            <a:chExt cx="3352680" cy="2514240"/>
          </a:xfrm>
        </p:grpSpPr>
        <p:sp>
          <p:nvSpPr>
            <p:cNvPr id="294" name=""/>
            <p:cNvSpPr/>
            <p:nvPr/>
          </p:nvSpPr>
          <p:spPr>
            <a:xfrm>
              <a:off x="1118160" y="1097280"/>
              <a:ext cx="979920" cy="212328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680" y="1097280"/>
              <a:ext cx="979920" cy="111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9640" y="1600200"/>
              <a:ext cx="87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1680" y="1546560"/>
              <a:ext cx="92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1680" y="2384640"/>
              <a:ext cx="981000" cy="398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76212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8760" y="762120"/>
              <a:ext cx="11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98080" y="1097280"/>
              <a:ext cx="23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shfl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81680" y="2214720"/>
              <a:ext cx="979920" cy="67032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1680" y="2885400"/>
              <a:ext cx="979920" cy="390960"/>
            </a:xfrm>
            <a:prstGeom prst="rect">
              <a:avLst/>
            </a:prstGeom>
            <a:solidFill>
              <a:srgbClr val="c0c0c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3160" y="2438280"/>
              <a:ext cx="88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zzan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4720" y="1600200"/>
              <a:ext cx="825480" cy="335160"/>
            </a:xfrm>
            <a:prstGeom prst="rightArrow">
              <a:avLst>
                <a:gd name="adj1" fmla="val 50000"/>
                <a:gd name="adj2" fmla="val 61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5800" y="1991520"/>
              <a:ext cx="412560" cy="781920"/>
            </a:xfrm>
            <a:custGeom>
              <a:avLst/>
              <a:gdLst>
                <a:gd name="textAreaLeft" fmla="*/ 55080 w 412560"/>
                <a:gd name="textAreaRight" fmla="*/ 357480 w 412560"/>
                <a:gd name="textAreaTop" fmla="*/ 136800 h 781920"/>
                <a:gd name="textAreaBottom" fmla="*/ 567000 h 78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0600" y="2773800"/>
              <a:ext cx="257760" cy="446760"/>
            </a:xfrm>
            <a:custGeom>
              <a:avLst/>
              <a:gdLst>
                <a:gd name="textAreaLeft" fmla="*/ 34560 w 257760"/>
                <a:gd name="textAreaRight" fmla="*/ 223200 w 257760"/>
                <a:gd name="textAreaTop" fmla="*/ 78120 h 446760"/>
                <a:gd name="textAreaBottom" fmla="*/ 324000 h 4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7621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Have Created Three Different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Has a Fairly Different Risk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5334120"/>
            <a:ext cx="7696080" cy="990360"/>
          </a:xfrm>
          <a:prstGeom prst="leftRightArrow">
            <a:avLst>
              <a:gd name="adj1" fmla="val 50000"/>
              <a:gd name="adj2" fmla="val 154700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5105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                                                                                    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495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              B          BB          BBB         A         AA         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28954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3276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2362320"/>
            <a:ext cx="304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61760" y="312408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114800" y="1371600"/>
            <a:ext cx="380880" cy="7238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8640 h 7238880"/>
              <a:gd name="textAreaBottom" fmla="*/ 705024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5CC-A59A-4F5A-902C-E44B3D40E2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762120"/>
            <a:ext cx="8381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akespeare On The Merits Of Diversific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rchant of Venice (Act I, Scene I,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tures are not in one bottom trus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to one place; nor is my whole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on the fortune of this present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my merchandise makes me not sa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5029200"/>
            <a:ext cx="558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s way, Antonio explains to his friend Salerio the advantages of diversifica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7162920" y="2133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086600" y="3657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8088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MBS / C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8954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ANY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3A0-8183-4C89-A6F3-89949C834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708660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ercial Paper/ Short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629160" y="519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27702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248160" y="23619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is a “mismatch” between the duration of the assets and (at least) some liabilities [Liquidity Risk Imbedd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529-60FE-4A15-B257-F44328B6DC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ecurit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6095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867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4724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60948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0880"/>
            <a:ext cx="17524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rtgag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, Et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68580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203200">
            <a:off x="380520" y="16761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203200">
            <a:off x="457200" y="23619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203200">
            <a:off x="380880" y="4952520"/>
            <a:ext cx="38124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203200">
            <a:off x="304920" y="3200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203200">
            <a:off x="914400" y="3123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203200">
            <a:off x="914400" y="18284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03200">
            <a:off x="914400" y="6171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0203200">
            <a:off x="990720" y="4343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203200">
            <a:off x="99072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0203200">
            <a:off x="762120" y="36572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0203200">
            <a:off x="914400" y="5333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0203200">
            <a:off x="380520" y="43430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19320" y="1828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193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219320" y="6095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59436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43000" y="44193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3520" y="457164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09480" y="16761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85800" y="2057400"/>
            <a:ext cx="1295280" cy="457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990720" y="3429000"/>
            <a:ext cx="1218960" cy="3808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886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09480" y="297144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3520" y="2895480"/>
            <a:ext cx="1600200" cy="533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2819520"/>
            <a:ext cx="1143000" cy="1523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5181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9480" y="9097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480060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80060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2767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124080" y="54864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2057400"/>
            <a:ext cx="18288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838080"/>
            <a:ext cx="0" cy="579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0" y="106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127160" cy="1121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05720" y="2819520"/>
            <a:ext cx="190476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91320" y="36572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15000" y="40381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7200" y="39625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57200" y="220932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581280"/>
            <a:ext cx="609840" cy="15264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3962520"/>
            <a:ext cx="609480" cy="15228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7467120" y="4267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772400" y="38098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600" y="57913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321-246C-4A57-B58F-F5548FCA02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73C-448A-4058-87B0-51C7304FD9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53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91E-EDBB-4294-AA1D-1B2A4BFB3D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60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pic>
        <p:nvPicPr>
          <p:cNvPr id="461" name="Text Placeholder 2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170000" cy="1297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2666880"/>
            <a:ext cx="838080" cy="5335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209680"/>
            <a:ext cx="175248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0880" y="2666880"/>
            <a:ext cx="19051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3886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1447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Default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D64-D391-41A2-B15E-F11F537C5D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NEW Landscape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Text Placeholder 2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57400" y="3124080"/>
            <a:ext cx="2133720" cy="609840"/>
          </a:xfrm>
          <a:prstGeom prst="leftRightArrow">
            <a:avLst>
              <a:gd name="adj1" fmla="val 50000"/>
              <a:gd name="adj2" fmla="val 696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2743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91120" y="3580920"/>
            <a:ext cx="914400" cy="22100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129A-8898-43B0-A721-8760E80D70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981080" y="2895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E1F-4D92-42EB-A2FA-54491F842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80060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thing whose size is several trillions (US$) can only be called “shadow banking system” by people who did not know that it exist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7F7-56C0-4139-A40C-43A8C8E1D4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2004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3505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181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5791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56386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18288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13716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2280" y="2209680"/>
            <a:ext cx="175284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560" y="2666880"/>
            <a:ext cx="19047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68B-5B08-4F7F-837F-C1CDFC1F5A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Disaster In The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4ED-4309-4C75-BBBA-797E21E02D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 GDP &amp; CSXR Growth R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Chart 2" descr=""/>
          <p:cNvPicPr/>
          <p:nvPr/>
        </p:nvPicPr>
        <p:blipFill>
          <a:blip r:embed="rId1"/>
          <a:stretch/>
        </p:blipFill>
        <p:spPr>
          <a:xfrm>
            <a:off x="633240" y="1798560"/>
            <a:ext cx="6767640" cy="3541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228600" y="632448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 GDP Data, CIA World Fact Book; CSXR, House Price Index, S&amp;P, Top Ten US Metropolitan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5"/>
          <p:cNvSpPr/>
          <p:nvPr/>
        </p:nvSpPr>
        <p:spPr>
          <a:xfrm>
            <a:off x="2514600" y="4267080"/>
            <a:ext cx="579132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1066680" y="4776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9"/>
          <p:cNvCxnSpPr/>
          <p:nvPr/>
        </p:nvCxnSpPr>
        <p:spPr>
          <a:xfrm>
            <a:off x="1370520" y="2133720"/>
            <a:ext cx="30564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8" name="TextBox 14"/>
          <p:cNvSpPr/>
          <p:nvPr/>
        </p:nvSpPr>
        <p:spPr>
          <a:xfrm>
            <a:off x="2971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: Houses cannot appreciate faster than the GD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18C-E051-4A59-859B-79B8404B01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pic2.jpg"/>
          <p:cNvPicPr/>
          <p:nvPr/>
        </p:nvPicPr>
        <p:blipFill>
          <a:blip r:embed="rId1"/>
          <a:stretch/>
        </p:blipFill>
        <p:spPr>
          <a:xfrm>
            <a:off x="2514600" y="14479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5146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A57-54E7-467A-8E1E-82B4E7F936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raud: Many “Irregularities” in the Mortgage Spac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533520" y="1600200"/>
            <a:ext cx="83055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k and Chew Gum: Lenders Continue To Relax Mortgage Underwriting Standar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un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w York AG accuses eAppraiseIT of inflating appraisals for Wa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rtgage broker subject of law suit from Illinois AG - accused of fra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 plead guilty in San Diego sub-prime mortgage fraud 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Point Analytics study finds evidence of fraud in 70% of EPD's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Early Payment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rce: The Mortgage Fraud B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99A-CC63-4E1A-8A53-2AD8FBC91D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oolis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990720" y="15238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AAA, I don’t need to worr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wrapped by a AAA-monoline, why bother with due diligence and stuff like th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 AAA never defa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know what AAA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der what ASSUMPTIONS is this “thing”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A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think the assumptions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son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0AF-FA4F-44D6-8E7F-AFC490ADB2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s Catastrop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1FD-C11C-44D6-B3CE-D3559CAF0B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atings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5867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3276360"/>
            <a:ext cx="533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71800" y="3581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373392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763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8229600" y="2742840"/>
            <a:ext cx="53352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696080" y="5028840"/>
            <a:ext cx="99072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638680" y="2666880"/>
            <a:ext cx="3049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ng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229600" y="3504960"/>
            <a:ext cx="4572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8229600" y="411480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E61-2A9C-4BFB-89DA-615727388A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70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Three Driver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ability of Default (Likelihood That An Asset Will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very Rate (If An Asset Defaults, How Much Can We Sell It For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relation (The Extent To Which Assets Might “Default Together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2209680"/>
            <a:ext cx="1067040" cy="2971800"/>
          </a:xfrm>
          <a:prstGeom prst="upDownArrow">
            <a:avLst>
              <a:gd name="adj1" fmla="val 50000"/>
              <a:gd name="adj2" fmla="val 55444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295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594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the rating agencies have been focusing on (in recent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502920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C02-C6F2-4A36-B738-EE32312BF6A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 Placeholder 2" descr=""/>
          <p:cNvPicPr/>
          <p:nvPr/>
        </p:nvPicPr>
        <p:blipFill>
          <a:blip r:embed="rId1"/>
          <a:stretch/>
        </p:blipFill>
        <p:spPr>
          <a:xfrm>
            <a:off x="7010280" y="41911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60" name="Text Placeholder 2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61" name="Text Placeholder 2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828800" cy="156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hat Is It 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362320"/>
            <a:ext cx="8559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regarding a counterpart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and willing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et its contractual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267080"/>
            <a:ext cx="6578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This Guy Going To Pay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827360" cy="18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676-5A2F-4473-9268-116FA64931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rror Propagation (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5562720" y="37339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09480" y="2590560"/>
            <a:ext cx="152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5105520"/>
            <a:ext cx="199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second order 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971800" y="205740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05720" y="18288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RNING: The leverage “amplifies” the effect of a small initial error in P (the default prob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20203200">
            <a:off x="1066320" y="22856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20203200">
            <a:off x="91440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20203200">
            <a:off x="22860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20203200">
            <a:off x="304920" y="1904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8381880" y="2514600"/>
            <a:ext cx="3812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8381520" y="6858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91520" y="54100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the default proba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572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=  1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19%                         =7%                            =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061-C9E2-4EB5-9BF2-CF39561EE3C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6094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8006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mportant modeling issue:  Most CDOs of CDOs have been modeled (from a ratings point of view) using the so-called one-factor Gaussian Copula:  a mathematically beautiful, but fundamentally flawed appro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203200">
            <a:off x="10663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0203200">
            <a:off x="914400" y="28951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20203200">
            <a:off x="30492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203200">
            <a:off x="304920" y="1980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333760" y="2057400"/>
            <a:ext cx="15238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4479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ssian Co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looks at asset correlation, NOT default corre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6BC-3169-4F14-B8DC-70B677F7F9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E3D-3597-4ABD-9E8E-F6AADEAF217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8C6-03F6-4292-AA62-ACF99C10D13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170-5A5A-4968-9D55-8C103A7941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Danger of Overconfid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1066680" y="2286000"/>
            <a:ext cx="6782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you all know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mortals’ chiefest en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beth, Act III, Scene V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Text Placeholder 2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61144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C39-81B2-4A03-A86E-FC45A3C4BE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Summary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sues With The Rating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hasis Has Been on the Correlation Instead of the Default Probability (Which is the Most Significa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ong Approach (Gaussian Copula) Used to Model Defaults In Monte Carlo Simulations of Credit Portfol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ror Propagation in Models (Lack of Stability) Totally Overlo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1BA-1734-4D3C-BFFA-6364B16E81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ublic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032-C4D9-4815-9E11-79A00DC6830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Role of Regulation: To Save The System (Not an individual participan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 s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 versus Dynamic regulation? (depending on economic cycle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cus on “function” of the participant , NOT “name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example, amount of leverage, instead of  “bank” versus “insurance compan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Issue is NOT More Regulation versus Less Regul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lligent versus Absurd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lobal versus Local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’s the Worst Thing That Can Happen After a Cris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arning” the wrong lessons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778-D396-4A44-9F2F-69E51073D9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Specific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FB1-C70E-40ED-BC96-2AD2D447098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nother 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Risk Of A Financial Loss Due To The Reduction In The Credit Quality Of A Deb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8090400">
            <a:off x="2122560" y="4377960"/>
            <a:ext cx="1447920" cy="1371600"/>
          </a:xfrm>
          <a:custGeom>
            <a:avLst/>
            <a:gdLst>
              <a:gd name="textAreaLeft" fmla="*/ 415440 w 1447920"/>
              <a:gd name="textAreaRight" fmla="*/ 1240200 w 144792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343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ior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EF5-CAC3-4A9E-B228-BAAB2A445A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1] The Re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2590920"/>
            <a:ext cx="7238880" cy="10666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4305240" y="-1409760"/>
            <a:ext cx="533160" cy="7162560"/>
          </a:xfrm>
          <a:custGeom>
            <a:avLst/>
            <a:gdLst>
              <a:gd name="textAreaLeft" fmla="*/ 0 w 533160"/>
              <a:gd name="textAreaRight" fmla="*/ 192600 w 533160"/>
              <a:gd name="textAreaTop" fmla="*/ 186480 h 7162560"/>
              <a:gd name="textAreaBottom" fmla="*/ 6976080 h 71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1523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BS Market = US$ 11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2590920"/>
            <a:ext cx="14475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4197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$ 1.7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ubpr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1447200" y="3352680"/>
            <a:ext cx="533520" cy="144756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29000" y="419112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rnancke (July 19, 2007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lking about subprime losses to Congress: “… some estimates are on the order of between $50 billion to $ 100 billion, this is not a big number in a $ 13-trillion economy, especially since the losses will be spread out over several years.”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(( OUCH!!!   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C38-85DA-4476-8A7C-9305338C5CA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384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38480" y="2971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4343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0" y="4572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447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3695400" y="171396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05320" y="3352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438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6514920" y="11044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23623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27432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67080" y="32767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191120"/>
            <a:ext cx="54100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 Do We Attack The Problem?  Or, Why The Bush Plan Was Very Inefficient (Master-SIV, TARP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(from Walter Bahegot, Lombard Street, A Description of the Money Market, [1873], page 22, lines 13/14): “…the best way to prevent the derivatives failures is to arrest the primary failure which causes them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of 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2] Attack Problem At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 of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9480" y="243792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5791320"/>
            <a:ext cx="27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RP acts here, two-degrees of separ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43440" y="4495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2A1-5536-4C60-882A-7508F3CCCD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7057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2819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35812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1371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6095880" y="838080"/>
            <a:ext cx="838080" cy="1447560"/>
          </a:xfrm>
          <a:custGeom>
            <a:avLst/>
            <a:gdLst>
              <a:gd name="textAreaLeft" fmla="*/ 0 w 838080"/>
              <a:gd name="textAreaRight" fmla="*/ 302760 w 8380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819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8320" y="19810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038480"/>
            <a:ext cx="73152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lity Chec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Once the bank/originator underwrites the loan, it normally sells the loan to an SPV (Trust); thus,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ank does not have the r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modify the terms of the loan.  PERIOD.  That’s it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o Bad “Solutions”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A] Allow (Force?) The Servicer or CDO Manager to Change The Terms of the Loan (Serious Legal Implications for TRUE SALE Concept, Future of Securitization, Lawsuits, etc)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B] Allow judges to Modify Mortgages (Contracts), Worse Than [B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 Good Avenue, Help the Borrower Directly  [Very Difficult Political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90720" y="2971800"/>
            <a:ext cx="1218960" cy="91440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3276720"/>
            <a:ext cx="1218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nk/ Orig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914400"/>
            <a:ext cx="1600200" cy="990720"/>
          </a:xfrm>
          <a:prstGeom prst="ellipse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1295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371600" y="2133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05120" y="20574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$            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981080" y="2895120"/>
            <a:ext cx="40388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23880" y="763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3] The Legal “Probl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ts      li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943600" y="3047760"/>
            <a:ext cx="304920" cy="609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E76-2389-4757-BA7D-7ACAF691058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 Agencies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ompetence or Dishonesty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EC/Rating Agency Act: the 3-year Waiting Period (New Rating Agency Approval Process) is a Terrible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al Conflict of Interest (Despite What The Press/ Politicians/ The Public) Think Is NOT Who Pays for the Ratings, IS WHO THE RATING ANALYST REPORTS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tings for (i) Investors OR (ii) Regulator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Does AAA OR BBB Mean?  (The Irrationality Behind The Law); AAA, AA, A etc. are not a Well-Defined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 Rating Agencies Still Control the Structured Products Marke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F9F-4020-4651-BA90-35326D94742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7D2-4115-449A-A834-D83F0AC7BF9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prim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 regular (real estate) bubble… except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fascination with “benefits” of home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 brea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die &amp; Fan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ng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pidity or dishones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 to legis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they wro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ssive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eless regul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and inflation (flawed CPI Index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382-C96F-4027-BEAF-15C7C9B1045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4EA-EEC2-407F-B9AC-87C6CE1D10A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328920" y="457200"/>
            <a:ext cx="31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4320" y="1171440"/>
            <a:ext cx="77583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 and J.M. Cruz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ite Paper On Rating Agency Refor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epared at the request of the U.S. Senate, May, 2010; available from http://www.sec.gov/comments/df-title-ix/credit-rating-agencies/creditratingagencies-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, Testimony before the U.S. Senate, April, 2010; available from //www.senate.go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 Crisis is Taking Heavy Toll on 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November 11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to Avoid a Ratings Fiasco: Just Say NO to Black Box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July 9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utiful but Flaw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April 18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urmoil in U.S. Credit Markets: The Role of the Credit Rating Agenc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estimony Before the U.S. Senate, April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Credit crisis lurches from bad numbers to bad writing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imes, Insight Column, March 11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Basic Concepts and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lf-day seminar presented at the request of the Connecticut Insurance Department, Connecticut Insurance Department Annual Conference, Hartford, Connecticut, March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ak Basel II May Not Be Enough to Calm Credit Fea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December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90C-4F79-4DE3-9544-550C122CC16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028960" y="64296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 (contin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42840" y="1386000"/>
            <a:ext cx="775836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nagers Fear Looking Stupid, Modellers Simply Fall in Lo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November 1, 200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ne-Factor Gaussian Copula Applied To CDOs:  Just Say NO (Or, If You See A Correlation Smile She Is Laughing At Your Results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urnal of Structured Finance, Fall (October) 2007, Vol 13, Number 3, pages  60-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of the Big Three Rating Agencies Under F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September 11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Their Ratings:  Chronicle of a Foretold Disa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tal Securitization, June 4, 2007, pages 11 and 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Key Concepts &amp;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e-day seminar, United States Treasury, Office of the Comptroller of the Currency, Washington D.C., April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Measure is to Understand:  Can the Rating Agencies Measure?  Do They Understand?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uromoney CDO Conference, Amsterdam, September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. Cifuentes, Truth or Consequences: Default Correlation Assumptions in the Modeling and Structuring of CD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invited talk delivered at the CFA Institute-New York University Structured Credit Instruments Conference, New York, November, 2005.  Published later in a slightly modified fashion under the titl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Correlation: A Few Modeling Misconcep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CFA Institute Conference Proceedings Quarterly, June 2006, pages 53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9D0-DBDD-44DF-9C84-A18B80F03A7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438280" y="3808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DITION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4320" y="1171440"/>
            <a:ext cx="775836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. Bageh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mbard Street, A Description of the Money Mark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he Echo Library,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Coop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rigin of Financial Cris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arriman House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Mandelbr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(Mis)Behavior of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sic Book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Meissn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lackwell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So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New Paradigm for Financial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ublic Affairs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uctured Finance &amp; Collateralized Debt Oblig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ar Mr. Buffett, What an Investor Learns 1,269 Miles from Wall Stre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Reinhart &amp; K. Rogoff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 Time is Differ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inceton University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Tet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l’s Go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ee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827-3131-46F1-93A3-4FA7F9BDAB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atings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1778040"/>
            <a:ext cx="6806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ody’s                            Fitch / S&amp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                                                     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                                                      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            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                                                       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                                   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                                                      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                                       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495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89320" y="2832120"/>
            <a:ext cx="20829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952880"/>
            <a:ext cx="1930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Jun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71F-4050-4240-9A15-A890AA0FC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4480" y="649440"/>
            <a:ext cx="87613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ING CREDIT RISK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XED INCOME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2249640" y="1578240"/>
            <a:ext cx="465264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turo Cifu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orgios Katsa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. W. Pressprich &amp; 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o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3120" y="5781600"/>
            <a:ext cx="3813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8FB-F968-42B0-A9E5-73BED9043A4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6120" y="176544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May You Live In Interesting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679840" y="3378240"/>
            <a:ext cx="532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ese Curse [see Ref.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47E-BBB4-4DB4-ABDE-7D98B5172F1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741-5A69-41B3-899E-54B928B6CE5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39880" y="2908440"/>
            <a:ext cx="56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5E2-B68E-4059-A0FD-92DDD990361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1640" y="4724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of Fixed Income Secu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2760" y="5931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3580920"/>
            <a:ext cx="1905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57600" y="47242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114800" y="48006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38680" y="320040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791320" y="1752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83400" y="2070000"/>
            <a:ext cx="2151000" cy="914400"/>
          </a:xfrm>
          <a:custGeom>
            <a:avLst/>
            <a:gdLst/>
            <a:ahLst/>
            <a:rect l="l" t="t" r="r" b="b"/>
            <a:pathLst>
              <a:path w="1355" h="576">
                <a:moveTo>
                  <a:pt x="16" y="441"/>
                </a:moveTo>
                <a:cubicBezTo>
                  <a:pt x="59" y="378"/>
                  <a:pt x="0" y="455"/>
                  <a:pt x="67" y="399"/>
                </a:cubicBezTo>
                <a:cubicBezTo>
                  <a:pt x="117" y="357"/>
                  <a:pt x="50" y="384"/>
                  <a:pt x="109" y="365"/>
                </a:cubicBezTo>
                <a:cubicBezTo>
                  <a:pt x="148" y="326"/>
                  <a:pt x="184" y="288"/>
                  <a:pt x="228" y="255"/>
                </a:cubicBezTo>
                <a:cubicBezTo>
                  <a:pt x="239" y="223"/>
                  <a:pt x="296" y="144"/>
                  <a:pt x="321" y="119"/>
                </a:cubicBezTo>
                <a:cubicBezTo>
                  <a:pt x="342" y="60"/>
                  <a:pt x="374" y="41"/>
                  <a:pt x="414" y="0"/>
                </a:cubicBezTo>
                <a:cubicBezTo>
                  <a:pt x="462" y="3"/>
                  <a:pt x="511" y="0"/>
                  <a:pt x="558" y="9"/>
                </a:cubicBezTo>
                <a:cubicBezTo>
                  <a:pt x="570" y="11"/>
                  <a:pt x="575" y="26"/>
                  <a:pt x="584" y="34"/>
                </a:cubicBezTo>
                <a:cubicBezTo>
                  <a:pt x="617" y="62"/>
                  <a:pt x="639" y="89"/>
                  <a:pt x="669" y="119"/>
                </a:cubicBezTo>
                <a:cubicBezTo>
                  <a:pt x="704" y="154"/>
                  <a:pt x="687" y="116"/>
                  <a:pt x="719" y="161"/>
                </a:cubicBezTo>
                <a:cubicBezTo>
                  <a:pt x="801" y="277"/>
                  <a:pt x="849" y="401"/>
                  <a:pt x="999" y="441"/>
                </a:cubicBezTo>
                <a:cubicBezTo>
                  <a:pt x="1002" y="449"/>
                  <a:pt x="1001" y="459"/>
                  <a:pt x="1007" y="466"/>
                </a:cubicBezTo>
                <a:cubicBezTo>
                  <a:pt x="1020" y="482"/>
                  <a:pt x="1088" y="510"/>
                  <a:pt x="1109" y="517"/>
                </a:cubicBezTo>
                <a:cubicBezTo>
                  <a:pt x="1157" y="550"/>
                  <a:pt x="1215" y="538"/>
                  <a:pt x="1270" y="551"/>
                </a:cubicBezTo>
                <a:cubicBezTo>
                  <a:pt x="1319" y="576"/>
                  <a:pt x="1291" y="568"/>
                  <a:pt x="1355" y="5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92560" y="135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34040" y="4000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Los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BF5-6E0E-4C63-AFBF-61F5DC2C85F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19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5791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15235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3505320"/>
            <a:ext cx="380880" cy="198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37339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83B-D063-432F-B606-B97A5597D34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gree Of Import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Or “Relative Value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2400" y="2641680"/>
            <a:ext cx="8127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ST:          Default Prob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:      Recover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ST:          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see Ref. 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1E8-9A58-45C3-9728-70A72EA8DF9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52320" y="329760"/>
            <a:ext cx="64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Rates Behavi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863640" y="1206360"/>
            <a:ext cx="7848720" cy="51372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099200" y="588024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ADDC-76F6-4924-AB86-CD47D06665B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aults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The Way They Happen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“Industry Concentration” 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28600" y="1981080"/>
          <a:ext cx="8686800" cy="3326040"/>
        </p:xfrm>
        <a:graphic>
          <a:graphicData uri="http://schemas.openxmlformats.org/drawingml/2006/table">
            <a:tbl>
              <a:tblPr/>
              <a:tblGrid>
                <a:gridCol w="936720"/>
                <a:gridCol w="1003320"/>
                <a:gridCol w="936360"/>
                <a:gridCol w="1216080"/>
                <a:gridCol w="1233720"/>
                <a:gridCol w="1139760"/>
                <a:gridCol w="939600"/>
                <a:gridCol w="1281240"/>
              </a:tblGrid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i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266760" y="590544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d on Moody’s Data (see  Ref. 3): Annual Default Rate by Industry Groups for Selected Years &amp;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308560" y="2438280"/>
            <a:ext cx="698400" cy="2108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000680" y="2463840"/>
            <a:ext cx="1993680" cy="1409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819520" y="2451240"/>
            <a:ext cx="3200400" cy="1612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06960" y="2451240"/>
            <a:ext cx="1930680" cy="2501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AE0-D07D-477B-9640-941CCD00E7A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covery Rat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1701720" y="2158920"/>
            <a:ext cx="70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Recovered after the tragedy (Moody’s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6440" y="3073320"/>
            <a:ext cx="8407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Bank Loan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.2 %     (St. Dev. = 21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Public Bonds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.5 %     (26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Unsecured Public Bond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7.5 %     (26.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inated Public Bond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8.3 %     (20.1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46A-ADFE-4A3F-A80A-6AB2198D9D4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ings &amp; Default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1371600"/>
          <a:ext cx="7238880" cy="3522600"/>
        </p:xfrm>
        <a:graphic>
          <a:graphicData uri="http://schemas.openxmlformats.org/drawingml/2006/table">
            <a:tbl>
              <a:tblPr/>
              <a:tblGrid>
                <a:gridCol w="1854000"/>
                <a:gridCol w="2390760"/>
                <a:gridCol w="1787760"/>
                <a:gridCol w="1206360"/>
              </a:tblGrid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ody'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a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62120" y="563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rce: Moody’s Data, 1920-2006, Corporate (Loans and Bonds) Defaults, Issuer We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A74-8032-4DF0-8814-DDB194410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/>
          <p:nvPr/>
        </p:nvSpPr>
        <p:spPr>
          <a:xfrm>
            <a:off x="685800" y="1600200"/>
            <a:ext cx="777240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uitiv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gree to Whic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1] “Things Move In The Sa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Posi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2] “Things Move In The Opposit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Nega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7524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     ≠    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904-6E42-4ADF-B7BF-DE96F548B84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/>
          <p:nvPr/>
        </p:nvSpPr>
        <p:spPr>
          <a:xfrm>
            <a:off x="304920" y="2590920"/>
            <a:ext cx="701028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hematical 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ρ = E { (V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(W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} / (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3352680"/>
            <a:ext cx="75438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(Discrete Defi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80880" y="4952880"/>
                <a:ext cx="586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609480" y="13716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lation Can Only Be Defined Between Two Random Variables (“Things We Can Quantify”, Say V and 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99D-7328-45AB-AB0E-A46D402C50A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ich Correl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828800"/>
            <a:ext cx="7391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rrelation We Care About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fault Correl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Between Any Tw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3429000"/>
            <a:ext cx="71629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1] Discrete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x (0/1) 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2] Continuous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 To Default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1BF-874F-43F3-8A90-402A2752CD1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82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rrel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Typical Character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8148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41972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1972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943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1972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57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3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1972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2197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5435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223524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25960"/>
            <a:ext cx="30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762080" y="3251160"/>
            <a:ext cx="20955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816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ra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952520" y="2666520"/>
            <a:ext cx="203220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59520" y="242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489720" y="4889160"/>
            <a:ext cx="3808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299280" y="2730600"/>
            <a:ext cx="66024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8720" y="63244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e Appendi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3A3-8A53-44C8-BCD9-52431218C35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39880" y="2908440"/>
            <a:ext cx="56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63A-DA55-4C00-A14D-1757586750B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14320" y="302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t’s Do A Monte Carlo Simulation !!!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We Generate Default Scenarios “Consistent” With The “Right”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br>
              <a:rPr sz="28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Solution”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Can Use The One-Factor Gaussian Copula To Handle The Correlation Thing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EBB-2BCD-4364-A3A4-F0B31ADFFDB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51D-E067-4637-895B-9F117CEBE1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7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065-9C71-482B-833E-4474B9DAAE2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66760" y="636264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B86-D77F-46D7-AB50-60C43E2F8E2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F92-B6E5-48FA-B135-37AF91D5692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early, The Market Did Not Follow Shakespeare’s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038480"/>
            <a:ext cx="5283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ither A Borrower Nor A Lender B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let, Act I, Scene III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Placeholder 2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9718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421-17DA-4E43-B9E7-B496CC73E5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 Placeholder 2" descr=""/>
          <p:cNvPicPr/>
          <p:nvPr/>
        </p:nvPicPr>
        <p:blipFill>
          <a:blip r:embed="rId1"/>
          <a:stretch/>
        </p:blipFill>
        <p:spPr>
          <a:xfrm>
            <a:off x="1857240" y="1805040"/>
            <a:ext cx="5702400" cy="4692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949560" y="54990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539800" y="549900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040" y="42433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310520" y="269568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1213920" y="3286080"/>
            <a:ext cx="25740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172360" y="3529080"/>
            <a:ext cx="0" cy="20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829560" y="101448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A12-C142-4B88-96A1-87D22E3FBC2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1920" y="375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Also Depen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 Default Probabilit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Text Placeholder 2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5772240" cy="47624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A9A-6FD1-48AF-B9F3-0B39C1195FA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A Symmetric, Non-Monotonic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Text Placeholder 2" descr=""/>
          <p:cNvPicPr/>
          <p:nvPr/>
        </p:nvPicPr>
        <p:blipFill>
          <a:blip r:embed="rId1"/>
          <a:stretch/>
        </p:blipFill>
        <p:spPr>
          <a:xfrm>
            <a:off x="1468440" y="1460520"/>
            <a:ext cx="5907240" cy="48718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6BD-E79F-40FE-B39B-26A484F39A3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Problem With The One-Factor Gaussian Copul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 The Mother Of All Problem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787320" y="2629080"/>
            <a:ext cx="2121120" cy="1562040"/>
          </a:xfrm>
          <a:prstGeom prst="hexagon">
            <a:avLst>
              <a:gd name="adj" fmla="val 33948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00280" y="4902120"/>
            <a:ext cx="2120760" cy="1562040"/>
          </a:xfrm>
          <a:prstGeom prst="hexagon">
            <a:avLst>
              <a:gd name="adj" fmla="val 33942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2997360"/>
            <a:ext cx="25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6120" y="534672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 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06800" y="3182760"/>
            <a:ext cx="3257640" cy="495360"/>
          </a:xfrm>
          <a:prstGeom prst="rightArrow">
            <a:avLst>
              <a:gd name="adj1" fmla="val 50000"/>
              <a:gd name="adj2" fmla="val 16440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20058600">
            <a:off x="2846160" y="4338720"/>
            <a:ext cx="3603600" cy="495360"/>
          </a:xfrm>
          <a:prstGeom prst="rightArrow">
            <a:avLst>
              <a:gd name="adj1" fmla="val 50000"/>
              <a:gd name="adj2" fmla="val 18186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756480" y="297180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49760" y="4584600"/>
            <a:ext cx="33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.e. controlling the copula (asset) correlation, does not permit full control of the pool default correlation (the pool default probability “gets i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9B9-B7C2-4212-A811-239B4E4A099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2760" y="3758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rror Magnification Nightma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/>
          <p:nvPr/>
        </p:nvSpPr>
        <p:spPr>
          <a:xfrm>
            <a:off x="1190520" y="239400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3440" y="2373480"/>
            <a:ext cx="914400" cy="1800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95520" y="365760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32240" y="325908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5320" y="243036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18240" y="2409840"/>
            <a:ext cx="914400" cy="18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610320" y="369396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47040" y="332424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1280" y="18288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37480" y="26859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63700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622600" y="328788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33680" y="3736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45400" y="37814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42160" y="33307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6680" y="432576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19.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5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91280" y="440532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7.0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63.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4960" y="5695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440160" y="3440160"/>
            <a:ext cx="21621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529080" y="30621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=7.0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354816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cRate= 63.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08640" y="25034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68600" y="5661000"/>
            <a:ext cx="21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y Mezz Tranches from Similar CB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73560" y="3779640"/>
            <a:ext cx="2251080" cy="1771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07120" y="578808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45520" y="313704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92760" y="3468600"/>
            <a:ext cx="67932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716960" y="3794040"/>
            <a:ext cx="868320" cy="209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746760" y="598968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212320" y="2633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9E0-00B5-4148-BA07-0D441C606FA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rror Propag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666800" y="1600200"/>
          <a:ext cx="5567040" cy="4525560"/>
        </p:xfrm>
        <a:graphic>
          <a:graphicData uri="http://schemas.openxmlformats.org/drawingml/2006/table">
            <a:tbl>
              <a:tblPr/>
              <a:tblGrid>
                <a:gridCol w="1522800"/>
                <a:gridCol w="1995120"/>
                <a:gridCol w="2049120"/>
              </a:tblGrid>
              <a:tr h="15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P (Def)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"/>
          <p:cNvSpPr/>
          <p:nvPr/>
        </p:nvSpPr>
        <p:spPr>
          <a:xfrm>
            <a:off x="4457880" y="6051600"/>
            <a:ext cx="36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 Value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7067520" y="2626920"/>
            <a:ext cx="1147680" cy="73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045200" y="2823840"/>
            <a:ext cx="1176480" cy="31338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FFA-F313-4EAE-BE76-6B5BFAEF001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ore Graphicall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2" name="Text Placeholder 2"/>
          <p:cNvGraphicFramePr/>
          <p:nvPr/>
        </p:nvGraphicFramePr>
        <p:xfrm>
          <a:off x="525600" y="1600200"/>
          <a:ext cx="8091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600200"/>
                    <a:ext cx="8091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4DB-E4BD-45D8-A245-5A13A37D206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A4F-3C76-4197-A543-127091A7F05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aling With Correl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If You Insis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>
            <a:off x="2209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495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3392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7180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09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495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73392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392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7180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464160" y="18795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828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0200" y="228600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00800" y="2819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962520" y="4114800"/>
            <a:ext cx="200664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4952880" y="2666520"/>
            <a:ext cx="15242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952880" y="5105520"/>
            <a:ext cx="9907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2590560" y="3276360"/>
            <a:ext cx="3886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501960" y="2031840"/>
            <a:ext cx="1917720" cy="1930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4960" y="2235240"/>
            <a:ext cx="1752480" cy="1612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654960" y="4597560"/>
            <a:ext cx="203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NE Number.  Period ! Keep It Simpl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610-CBDB-40C4-B720-FC30BB999B4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 Diversity Score Concep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/>
          <p:nvPr/>
        </p:nvSpPr>
        <p:spPr>
          <a:xfrm>
            <a:off x="1066680" y="4876920"/>
            <a:ext cx="264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 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4876920"/>
            <a:ext cx="312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59360" y="2690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143000" y="5410080"/>
            <a:ext cx="8204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geneous                                         Homoge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ed   Assets                                  Uncorrelated 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82640" y="2057400"/>
            <a:ext cx="2817360" cy="2437920"/>
            <a:chOff x="782640" y="2057400"/>
            <a:chExt cx="2817360" cy="2437920"/>
          </a:xfrm>
        </p:grpSpPr>
        <p:sp>
          <p:nvSpPr>
            <p:cNvPr id="1034" name=""/>
            <p:cNvSpPr/>
            <p:nvPr/>
          </p:nvSpPr>
          <p:spPr>
            <a:xfrm>
              <a:off x="1010520" y="2057400"/>
              <a:ext cx="2208600" cy="380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9840" y="2210040"/>
              <a:ext cx="912960" cy="99000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76480" y="2285640"/>
              <a:ext cx="1523520" cy="12952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29480" y="2513520"/>
              <a:ext cx="989640" cy="19818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72280" y="3200040"/>
              <a:ext cx="990720" cy="837360"/>
            </a:xfrm>
            <a:prstGeom prst="rect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2640" y="3047400"/>
              <a:ext cx="1523520" cy="7614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477120" y="1981080"/>
            <a:ext cx="1295280" cy="3812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25225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477120" y="305604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77120" y="3589200"/>
            <a:ext cx="1295280" cy="37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77120" y="41227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446F-7407-496D-AACE-A7CDD7AAFEF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Pa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676520"/>
            <a:ext cx="5181840" cy="3657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22096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098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286000"/>
            <a:ext cx="1447920" cy="24382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1480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571640" y="34290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5F4-6081-4956-8D4A-2A9E2A8AC7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versity Score (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implified (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3200400" y="2057400"/>
                <a:ext cx="2643120" cy="35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7" name=""/>
          <p:cNvSpPr/>
          <p:nvPr/>
        </p:nvSpPr>
        <p:spPr>
          <a:xfrm>
            <a:off x="68580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Face value of each 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6324480" y="25909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5334120" y="6400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5866920" y="510516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825-6B16-4658-B4CE-039F7FF6A7E6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nomi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12952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523880" y="2133720"/>
                <a:ext cx="571500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99072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 Having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89548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if There Are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486400" y="358092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553080" y="35812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FEE-2C69-416E-8A80-76EC7E94D06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ied Binomial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33520" y="2209680"/>
                <a:ext cx="82296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624852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cover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19520" y="41148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 a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848720" y="3581280"/>
            <a:ext cx="1522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029200" y="3352320"/>
            <a:ext cx="11430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457200" y="4114800"/>
                <a:ext cx="6858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295280" y="4114800"/>
                <a:ext cx="7621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1" name=""/>
          <p:cNvSpPr/>
          <p:nvPr/>
        </p:nvSpPr>
        <p:spPr>
          <a:xfrm>
            <a:off x="304920" y="457200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3962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981080" y="5562720"/>
            <a:ext cx="350532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486400" y="59436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7078680" y="693360"/>
            <a:ext cx="685800" cy="2543400"/>
          </a:xfrm>
          <a:custGeom>
            <a:avLst/>
            <a:gdLst>
              <a:gd name="textAreaLeft" fmla="*/ 0 w 685800"/>
              <a:gd name="textAreaRight" fmla="*/ 247680 w 685800"/>
              <a:gd name="textAreaTop" fmla="*/ 66240 h 2543400"/>
              <a:gd name="textAreaBottom" fmla="*/ 2477160 h 25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29400" y="399960"/>
            <a:ext cx="1214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486560" y="1128600"/>
            <a:ext cx="28584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887-37FE-4D47-B656-C5636D7F653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enario Analysis: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ault Rates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504720" y="1206360"/>
            <a:ext cx="5058000" cy="298476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04920" y="4724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tter Ide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57913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886200" y="42667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334120" y="4571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5880" y="45720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78168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32720" y="3746520"/>
            <a:ext cx="139680" cy="1511280"/>
          </a:xfrm>
          <a:prstGeom prst="downArrow">
            <a:avLst>
              <a:gd name="adj1" fmla="val 50000"/>
              <a:gd name="adj2" fmla="val 2704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543800" y="3365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24280" y="4572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 -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1752480" y="49528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06360" y="2286000"/>
            <a:ext cx="35308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965840" y="1409760"/>
            <a:ext cx="1117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032520" y="10666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R, Bad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54680" y="20829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501960" y="1612800"/>
            <a:ext cx="889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14B-95B3-4FFC-AD59-715975D2ACC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455760" y="2709720"/>
            <a:ext cx="3889080" cy="3248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540320" y="2690640"/>
            <a:ext cx="4152960" cy="30020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398840" y="2077920"/>
            <a:ext cx="0" cy="41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/>
          <p:nvPr/>
        </p:nvSpPr>
        <p:spPr>
          <a:xfrm>
            <a:off x="857160" y="154296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Securitization                After Secu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86B-103E-4A83-9ABE-D36734E989A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/>
          <p:nvPr/>
        </p:nvSpPr>
        <p:spPr>
          <a:xfrm>
            <a:off x="785880" y="1971720"/>
            <a:ext cx="2571840" cy="92880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14560" y="22147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43320" y="2286000"/>
            <a:ext cx="3057480" cy="243000"/>
          </a:xfrm>
          <a:prstGeom prst="rightArrow">
            <a:avLst>
              <a:gd name="adj1" fmla="val 50000"/>
              <a:gd name="adj2" fmla="val 314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6320" y="2728800"/>
            <a:ext cx="424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72200" y="147168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29480" y="4772160"/>
            <a:ext cx="1442880" cy="11858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743880" y="48006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6796800" y="3466080"/>
            <a:ext cx="1685880" cy="271440"/>
          </a:xfrm>
          <a:prstGeom prst="rightArrow">
            <a:avLst>
              <a:gd name="adj1" fmla="val 50000"/>
              <a:gd name="adj2" fmla="val 155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543480" y="224316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14360" y="1700280"/>
            <a:ext cx="131436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67520" y="532440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4200" y="3514680"/>
            <a:ext cx="30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: Shoul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ge Simply Because The Bond Is Now Placed In The SPV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695920" y="538164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43160" y="56149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ffer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3871440" y="3286080"/>
            <a:ext cx="71640" cy="23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871880" y="5700240"/>
            <a:ext cx="8002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23E-0C2F-46CC-8C00-A275E719980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357960" y="2028960"/>
            <a:ext cx="2000160" cy="3671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915160" y="90000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V    (OR Fixed Income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615000" y="2214720"/>
            <a:ext cx="328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243920" y="2757600"/>
            <a:ext cx="199800" cy="55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3914640"/>
            <a:ext cx="371520" cy="157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86440" y="4700520"/>
            <a:ext cx="47160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57080" y="743040"/>
            <a:ext cx="48722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Good Job At Estimating The Default Probability Of These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Forget The Fact That They Are In The SPV; The Correlation is Z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, Don’t Throw In The Correlation To “Improve” A Bad Default Probabilit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00560" y="2043000"/>
            <a:ext cx="131472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00560" y="2057400"/>
            <a:ext cx="20005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200560" y="2043000"/>
            <a:ext cx="2000520" cy="18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14960" y="2028960"/>
            <a:ext cx="1685880" cy="27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9E2-6E88-4F15-A1D2-5F5E70C9E9C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ling Recommend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The Correlation (Is ZERO) And Concentrate 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Default Probabil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Stability (Sensitivity) Analyses (Several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enario (What-If)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Flat Default (CDR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Different Peak (Industry-Driven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F47-EF56-40A9-9B91-17150545699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34:29Z</dcterms:created>
  <dc:creator> </dc:creator>
  <dc:description/>
  <dc:language>en-US</dc:language>
  <cp:lastModifiedBy>VCHARLIN</cp:lastModifiedBy>
  <dcterms:modified xsi:type="dcterms:W3CDTF">2010-11-23T22:23:55Z</dcterms:modified>
  <cp:revision>439</cp:revision>
  <dc:subject/>
  <dc:title>Slide 1</dc:title>
</cp:coreProperties>
</file>