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B5C-FDCD-4CBC-BAC0-9A1D017D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C8B7AF-CB81-432F-8CA5-24797732F9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A72B3F-4DDF-4F04-88A1-0C92EE9654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BDB2B2-2E44-402F-8260-FB4450FEAD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B453C5-FDFF-4E90-AD36-93470D4EDC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AEB3A2-FA03-4CF1-88FC-DB62B8228E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40A3E-5254-4E2B-BCC9-D8CEC2F1BF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71955C-1437-40E2-A8D4-69829AB046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92696F-92E7-4348-9E85-8B81B26C4A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64FB46-C1EB-4784-9D72-F923C21AA2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9AB2CD-057A-43BA-A462-0E3E569989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6E3-8E8B-4C93-A037-96582933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446-44F6-4C63-8176-6D95CA97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9A3-6FE6-4327-8B3E-EB66DAF3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232-8AD6-46D0-B009-68E47431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1E7-384B-467A-BFAF-973005E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136-ABBD-41C2-B4DA-2A5CA4A8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772-510C-424D-9380-FFFCB4CF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41A-C586-4CB3-938B-9AFEF34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896-1FE0-4007-97DE-DA5D91E0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BDD-7D9D-4501-A014-DF7A33A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D1C-6719-4058-9DE8-1846392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114-3958-470F-B65A-D387E813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F49D-C09C-4348-B84F-E006DCD4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RIVATIVES: Valuation Methods and Some Extra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9360" y="57909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John C. Hull, Options, Futures and Other Derivatives,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7344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713C-54E8-4A33-93E5-5A934F926E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47920" y="3048120"/>
            <a:ext cx="25905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334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5073 x 0 + .4927 x 5.45] exp{-.10 x .0833}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867280"/>
            <a:ext cx="10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oint in exercising the option at this node (S=K=50), thus early exercise is useless, better to wait, therefore, value is 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25CB-61E5-4766-B0E8-DE9189A1D0A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05120" y="3352680"/>
            <a:ext cx="1981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029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5.45  +  .4927 x 14.64)    exp{ -.10 x .083 }  =   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5627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rly exercise, generates 50 – 39.69 =  10.31; thus, the option should be exercised, the correct value for the option at the node is 10.31  (10.31 &gt; 9.9, implies that it is better to exercise NOW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8741-5E5D-4A08-B6AF-C1D4F852E8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34286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0292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6.38  +  .4927 x 14.64)    exp{ -.10 x .083 }  =   10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56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, it is not always better to exercise the option when the option is in the money…            50 - 39.69  = 10.31…    better NOT TO exercised at tha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 of Delta at tim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, that is, the sensitivity of the option price w/r to S [stock pric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85800" y="1676520"/>
                <a:ext cx="4800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t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440D-774F-427C-A519-7422AEFF7E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95480" y="2057400"/>
            <a:ext cx="533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2057400"/>
            <a:ext cx="2286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590920"/>
            <a:ext cx="12956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352680" y="2590920"/>
            <a:ext cx="76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lack-Sc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-Scholes Formul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15C-7D44-4D96-AA64-AAF7E0448B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6215-EF01-4DCD-AB3A-41CD6651E1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Monte C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838080"/>
            <a:ext cx="8076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ly on the risk-neutral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nerate a random path and then calculate the payoff of the option at time t=T; we discount the value using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mal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Generate a random path for S in a 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) Determine the payoff at time t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) Repeat the previous steps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) Calculate the mean of the payoffs (from the many p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i) “Bring the mean” to t= 0 using the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[Exp Mean S]  S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2670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denotes the price of a stock that it does not pay a dividend between [0, T], the [Exp Mean S] = risk free rate.  Otherwise, se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43000" y="1904760"/>
            <a:ext cx="16765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297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ample from a distribution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334120" y="17521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8CFA-4B7E-4ACF-A6E0-CD8DE41FA3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1600200"/>
            <a:ext cx="464796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uropean options, method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merican options, we need to take care of an additional com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219320"/>
            <a:ext cx="64008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3-year American put option (non-dividend-paying stock) than can be exercised at the end of year 1, 2, or 3.  Risk-free rate= 6%;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0;  K= 1.1  (We also know the volatil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, we will assume that we did a “mini Monte Carlo” (only 8 pa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0481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he end of year 2, the put option was in the money for paths: 1, 3, 4, 6 and 7.  Hence, we need to decide at this points if we exercise or continu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8320" y="510552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se paths 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2286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53337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37160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gives the value, at point t=2, of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53352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419720" cy="2714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867280" y="2514600"/>
            <a:ext cx="3048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=2 the value of exercis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26  ((  1.1-  .84  =  .2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191120" y="30481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114800" y="3505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114800" y="37339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114800" y="441936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191120" y="41911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57913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791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ould only exercise at t=2 for paths  4, 5  and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8402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s assuming that we have exercised at   t=3  OR    t=2  depending on what is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eat the same procedure for time = 1 (when it was worth to exercise at t=1?) and we finally get the full payoff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87920" cy="2648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3276720"/>
            <a:ext cx="82296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ableau of cash flow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value of the option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8) [ 0.07 exp(-0.06 x 3) +  0.17 exp(-0.06 x 1)+  …+ 0.22 exp(-0.06x1)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10666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tion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-Sc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00200" y="1371600"/>
            <a:ext cx="67057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Finite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the equation directl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209680"/>
            <a:ext cx="11430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838080"/>
            <a:ext cx="693432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of a Put Option, let us assume that the life of the option is T and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value sufficiently high (put has 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find f (value of the option) solving the “real 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1932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  =  f ( t,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724280"/>
            <a:ext cx="8001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scretization: 0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……, T   (N intervals, index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-value discretization: 0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……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 intervals, index 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 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,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MAX  (K – j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, 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=1, 2, …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03848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K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K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362320" y="335268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0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 S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2437920" y="25146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200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e value of f (options) along the r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85800" y="4114800"/>
                <a:ext cx="3809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1066680" y="34286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58960" y="4114800"/>
                <a:ext cx="34639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066680" y="3428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inomial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09680" y="4495680"/>
                <a:ext cx="5499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Δ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3124080" y="33526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838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the finite differences approximation into the B-S equation and re-arrang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809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the following approx. to the B-S equ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838080" y="4876920"/>
                <a:ext cx="70866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838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838080" y="1600200"/>
                <a:ext cx="7086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219320" y="36576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362320" y="3048120"/>
                <a:ext cx="436248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5867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09480" y="457200"/>
                <a:ext cx="37339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267080" y="4724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800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800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8769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57150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57913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581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3657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048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267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18288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28954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5053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19051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t up a linear system of simultaneous eqs by using these points as i,j  then we move to the left.. Etc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505320"/>
            <a:ext cx="15228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91120" y="1219320"/>
            <a:ext cx="1218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14400" y="3809880"/>
            <a:ext cx="2514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143000"/>
            <a:ext cx="74674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:  RISK-NEUTRAL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expected return from all traded assets is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he payoffs from the derivative by calculating their expected values, and then, use the risk-free rate to discoun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 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( a - d) / ( u –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24"/>
              <p:cNvSpPr txBox="1"/>
              <p:nvPr/>
            </p:nvSpPr>
            <p:spPr>
              <a:xfrm>
                <a:off x="533520" y="1600200"/>
                <a:ext cx="30477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8C8-AF3F-4243-94EC-C14DAB3AB31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F09D-1178-46FB-82F3-F9A8D2A1CAD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Put Option, America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71760"/>
            <a:ext cx="807732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10%;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0%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months = 0.4167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month = 0.0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s im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122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8909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8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5073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p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9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5D1-6660-4E47-8AA7-1315446871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4F5F-0AD5-4121-BF79-0272215419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14040" y="388584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981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cp:lastPrinted>2010-11-21T15:10:47Z</cp:lastPrinted>
  <dcterms:modified xsi:type="dcterms:W3CDTF">2010-11-21T20:45:32Z</dcterms:modified>
  <cp:revision>223</cp:revision>
  <dc:subject/>
  <dc:title>Slide 1</dc:title>
</cp:coreProperties>
</file>