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3D77-BB16-4263-8DC8-E68685265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963065-8ACD-4F7E-B1BA-20FFD49AE25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091AE00-FAA5-4890-A515-29FD088A49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E27621-32B9-46EB-9103-9998B2E035C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F2F3A5-9A35-4381-9839-F95DE2761A7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0D3C78-0714-412F-A854-F24EE76C8DF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54591C4-93FC-425A-82E4-3968277D6D0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5D1FBB-C210-426B-ABCE-DCF258A0FA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1A5627-6095-426D-AB9B-F2D1F4DBB7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C41A7B5-4326-4FAB-90D7-49F9307BC09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0E0F4F6-40B9-477C-850C-3D427F8BEB3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6F8-B651-4653-A90E-D631D999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747D-9428-46D8-B643-E0CCC7E9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7ACC-3FE6-4141-B230-4B4539A9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6E8-A586-4B4B-95ED-7FF84F6B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6BAF-DE0B-4272-96CF-52D61759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525-E5F5-4211-B7B4-7F74799C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ABBF-D9AB-40E1-BEAB-EB8160BF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0402-02B5-47F0-B2A8-C6E77238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77C2-EC66-41EA-97D2-7016F446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55C-AA05-4F28-941F-BBD2143F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17E-2EE3-45C8-8784-87F340BF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E10B-C830-4F69-B2F4-66991475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7BD9-E42D-4F4F-B673-2504B08E7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RIVATIVES: Valuation Methods and Some Extra Stu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19360" y="57909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John C. Hull, Options, Futures and Other Derivatives,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573440" cy="323064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0866-8716-4FC9-9E4F-A9873643879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447920" y="3048120"/>
            <a:ext cx="259056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3341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.5073 x 0 + .4927 x 5.45] exp{-.10 x .0833}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867280"/>
            <a:ext cx="102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867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 point in exercising the option at this node (S=K=50), thus early exercise is useless, better to wait, therefore, value is 2.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724280" cy="358164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E3C9-CB01-43F8-9F80-7B8CA17F26D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905120" y="3352680"/>
            <a:ext cx="19810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50292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5073 x 5.45  +  .4927 x 14.64)    exp{ -.10 x .083 }  =   9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5627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early exercise, generates 50 – 39.69 =  10.31; thus, the option should be exercised, the correct value for the option at the node is 10.31  (10.31 &gt; 9.9, implies that it is better to exercise NOW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724280" cy="358164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436B-A72E-440B-97E6-3A41434E7B5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981080" y="342864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502920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5073 x 6.38  +  .4927 x 14.64)    exp{ -.10 x .083 }  =   10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556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, it is not always better to exercise the option when the option is in the money…            50 - 39.69  = 10.31…    better NOT TO exercised at that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on of Delta at time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, that is, the sensitivity of the option price w/r to S [stock pric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685800" y="1676520"/>
                <a:ext cx="48006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lt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E812-9459-4FE6-8D50-52FEA967523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286000" y="281952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895480" y="2057400"/>
            <a:ext cx="5335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504960" y="2057400"/>
            <a:ext cx="22860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590920"/>
            <a:ext cx="12956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352680" y="2590920"/>
            <a:ext cx="763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52480" y="1371600"/>
            <a:ext cx="6248520" cy="419112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ondi"/>
              </a:rPr>
              <a:t>Black-Sc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lack-Scholes Formul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739800" y="1949400"/>
                <a:ext cx="7664400" cy="38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5C12-F88B-4DDA-A7A7-A0387C7973E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the probability that a normally distributed variable with a mean of zero and a standard deviation of 1 is less th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2C0C-8882-467A-A423-BA1FA8FF74A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52480" y="1371600"/>
            <a:ext cx="6248520" cy="419112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ondi"/>
              </a:rPr>
              <a:t>Monte Car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838080"/>
            <a:ext cx="807696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TE CARLO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ly on the risk-neutral approac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enerate a random path and then calculate the payoff of the option at time t=T; we discount the value using the risk-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ormall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 Generate a random path for S in a risk-neutr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i) Determine the payoff at time t =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ii) Repeat the previous steps many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iii) Calculate the mean of the payoffs (from the many path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iiii) “Bring the mean” to t= 0 using the risk 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71600" y="14479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[Exp Mean S]  S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qr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26708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denotes the price of a stock that it does not pay a dividend between [0, T], the [Exp Mean S] = risk free rate.  Otherwise, see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143000" y="1904760"/>
            <a:ext cx="167652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2971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sample from a distribution N(0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5334120" y="1752120"/>
            <a:ext cx="12189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of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Options (Terminal Valu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Options, Cost of option i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rike pri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ice of asset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53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54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57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69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72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575C-017A-4887-B9A7-6D8484855FC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1600200"/>
            <a:ext cx="4647960" cy="37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umma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uropean options, method is straight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merican options, we need to take care of an additional compl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1219320"/>
            <a:ext cx="6400800" cy="23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 3-year American put option (non-dividend-paying stock) than can be exercised at the end of year 1, 2, or 3.  Risk-free rate= 6%;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.00;  K= 1.1  (We also know the volatilit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implicity, we will assume that we did a “mini Monte Carlo” (only 8 path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343400" y="3505320"/>
            <a:ext cx="4267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34120" y="8380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 flows had the option been exercised at t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886200" y="16765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886200" y="144792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886200" y="160020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885840" y="1676520"/>
            <a:ext cx="1600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304812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t the end of year 2, the put option was in the money for paths: 1, 3, 4, 6 and 7.  Hence, we need to decide at this points if we exercise or continu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581280" cy="2022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76520" y="533520"/>
            <a:ext cx="21333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3733920" cy="2293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48320" y="5105520"/>
            <a:ext cx="3352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se paths we assum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a  +  b S  +  c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62164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, stock value at t = 2;  V is the value of continuing discounted to t=2 with the risk free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4120" y="8380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 flows had the option been exercised at t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886200" y="16765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886200" y="144792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886200" y="160020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885840" y="1676520"/>
            <a:ext cx="1600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581280" cy="2022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676520" y="533520"/>
            <a:ext cx="21333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3733920" cy="2293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029200" y="22860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a  +  b S  +  c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62164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, stock value at t = 2;  V is the value of continuing discounted to t=2 with the risk free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581280"/>
            <a:ext cx="4419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s of S (t=2) are:  1.08; 1.07; .97;   .77 and  .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s of V (t=2)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0;  0.07exp(-.06 x 1); 0.18exp(-.06 x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0exp(-.06 x 1); 0.09exp(-.06 x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3733920" cy="2293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520" y="5335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a  +  b S  +  c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62164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, stock value at t = 2;  V is the value of continuing discounted to t=2 with the risk free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581280"/>
            <a:ext cx="4419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s of S (t=2) are:  1.08; 1.07; .97;   .77 and  .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s of V (t=2)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0;  0.07exp(-.06 x 1); 0.18exp(-.06 x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0exp(-.06 x 1); 0.09exp(-.06 x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1371600"/>
            <a:ext cx="58672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termined a, b and c. using a least-squares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N sum(1 to 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{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– b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c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501800">
            <a:off x="5333760" y="2666520"/>
            <a:ext cx="1600200" cy="533520"/>
          </a:xfrm>
          <a:prstGeom prst="leftArrow">
            <a:avLst>
              <a:gd name="adj1" fmla="val 50000"/>
              <a:gd name="adj2" fmla="val 749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5335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a  +  b S  +  c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62164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, stock value at t = 2;  V is the value of continuing discounted to t=2 with the risk free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1371600"/>
            <a:ext cx="58672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termined a, b and c. using a least-squares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N sum(1 to 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{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– b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c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501800">
            <a:off x="5333760" y="2666520"/>
            <a:ext cx="1600200" cy="533520"/>
          </a:xfrm>
          <a:prstGeom prst="leftArrow">
            <a:avLst>
              <a:gd name="adj1" fmla="val 50000"/>
              <a:gd name="adj2" fmla="val 749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3809880"/>
            <a:ext cx="53337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ET IN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 =  -1.070  +  2.98  S  -  1.81  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3520" y="5335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a  +  b S  +  c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1371600"/>
            <a:ext cx="754380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 =  -1.070  +  2.98  S  -  1.81  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gives the value, at point t=2, of continu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is, for paths (1, 3, 4, 6 and 7) we 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 (0.0369     0.0461      0.1176      0.1520       and     0.15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9480" y="533520"/>
            <a:ext cx="754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is, for paths (1, 3, 4, 6 and 7) we 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 (0.0369     0.0461      0.1176      0.1520       and     0.15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4419720" cy="2714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867280" y="2514600"/>
            <a:ext cx="30481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t t=2 the value of exercising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26  ((  1.1-  .84  =  .26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191120" y="3048120"/>
            <a:ext cx="1752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114800" y="3505320"/>
            <a:ext cx="1828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4114800" y="37339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4114800" y="4419360"/>
            <a:ext cx="1752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191120" y="419112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5791320"/>
            <a:ext cx="1219320" cy="533160"/>
          </a:xfrm>
          <a:prstGeom prst="rightArrow">
            <a:avLst>
              <a:gd name="adj1" fmla="val 50000"/>
              <a:gd name="adj2" fmla="val 571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57913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hould only exercise at t=2 for paths  4, 5  and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840200" cy="27334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57200" y="304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ffs assuming that we have exercised at   t=3  OR    t=2  depending on what is 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1814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peat the same procedure for time = 1 (when it was worth to exercise at t=1?) and we finally get the full payoff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687920" cy="2648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57200" y="3276720"/>
            <a:ext cx="8229600" cy="27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tableau of cash flow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value of the options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/8) [ 0.07 exp(-0.06 x 3) +  0.17 exp(-0.06 x 1)+  …+ 0.22 exp(-0.06x1)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11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106668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ation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omial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-Sc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te Carlo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600200" y="1371600"/>
            <a:ext cx="6705720" cy="419112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ondi"/>
              </a:rPr>
              <a:t>Finite Dif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2857680" cy="2009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066680" y="373392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572000" y="1600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k the equation directly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419360" y="2209680"/>
            <a:ext cx="11430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14400" y="838080"/>
            <a:ext cx="693432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of a Put Option, let us assume that the life of the option is T and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value sufficiently high (put has 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 to find f (value of the option) solving the “real th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632484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219320" y="3200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  =  f ( t, 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4724280"/>
            <a:ext cx="8001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iscretization: 0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……, T   (N intervals, index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-value discretization: 0,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 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……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 intervals, index 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480060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447920" y="83772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6765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2438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057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2819520"/>
            <a:ext cx="40384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of the option at time =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 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,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MAX  (K – j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,  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 =1, 2, …,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1066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i, time; Index j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038480" y="3352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480060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447920" y="83772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2428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16765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438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2057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8320" y="2819520"/>
            <a:ext cx="40384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of the option is K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,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K   for i=0,…, 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1066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i, time; Index j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362320" y="3352680"/>
            <a:ext cx="21333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480060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447920" y="83772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2428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16765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2438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2057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38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2819520"/>
            <a:ext cx="40384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of the option is 0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=  S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, 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0   for i=0,…, 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1066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i, time; Index j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2437920" y="2514600"/>
            <a:ext cx="2057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480060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447920" y="83772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2428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38480" y="16765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43000" y="2438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2057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1066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i, time; Index j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2438280"/>
            <a:ext cx="2590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4800600"/>
            <a:ext cx="2590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38480" y="2438280"/>
            <a:ext cx="0" cy="236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76920" y="3200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know the value of f (options) along the r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14400" y="838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 finite differences approach (explicit 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914400" y="4648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85800" y="4114800"/>
                <a:ext cx="38098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Δ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 flipV="1">
            <a:off x="1066680" y="342864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14400" y="838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 finite differences approach (explicit 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14400" y="4648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858960" y="4114800"/>
                <a:ext cx="34639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 flipV="1">
            <a:off x="1066680" y="3428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1371600"/>
            <a:ext cx="6248520" cy="419112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ondi"/>
              </a:rPr>
              <a:t>Binomial Tr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914400" y="838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 finite differences approach (explicit 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914400" y="4648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209680" y="4495680"/>
                <a:ext cx="54993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Δ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 flipV="1">
            <a:off x="3124080" y="3352680"/>
            <a:ext cx="19814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14400" y="8380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ing the finite differences approximation into the B-S equation and re-arrang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914400" y="4648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95280" y="380988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et the following approx. to the B-S equa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838080" y="4876920"/>
                <a:ext cx="708660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14400" y="838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4648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838080" y="1600200"/>
                <a:ext cx="70866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1219320" y="365760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362320" y="3048120"/>
                <a:ext cx="4362480" cy="33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rΔt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886200" y="58672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09480" y="457200"/>
                <a:ext cx="3733920" cy="28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rΔt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4267080" y="47242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95680" y="480060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24480" y="48006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487692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+1,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7080" y="57150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95680" y="579132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j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35812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365760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j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480060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447920" y="83772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9072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16765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2438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057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038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438280"/>
            <a:ext cx="2590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4800600"/>
            <a:ext cx="2590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438280"/>
            <a:ext cx="0" cy="236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581280" y="2057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048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581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42670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95480" y="18288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13372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05320" y="28954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05320" y="35053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0532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190512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set up a linear system of simultaneous eqs by using these points as i,j  then we move to the left.. Etc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62520" y="3505320"/>
            <a:ext cx="15228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00600" y="6858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f is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191120" y="1219320"/>
            <a:ext cx="12189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019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f is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914400" y="3809880"/>
            <a:ext cx="25146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1143000"/>
            <a:ext cx="74674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Concept:  RISK-NEUTRAL 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the expected return from all traded assets is the risk-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the payoffs from the derivative by calculating their expected values, and then, use the risk-free rate to discount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summary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volatility an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length of the time step 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= ( a - d) / ( u – d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024"/>
              <p:cNvSpPr txBox="1"/>
              <p:nvPr/>
            </p:nvSpPr>
            <p:spPr>
              <a:xfrm>
                <a:off x="533520" y="1600200"/>
                <a:ext cx="304776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1BC9-F6FE-44B5-883A-B126D000FCB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952880" y="121932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213372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9810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990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2438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ability of an Up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1025640" y="1676520"/>
                <a:ext cx="7203960" cy="43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nondividend paying stock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for a stock index where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is the divide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yield on the index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currency wher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foreig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risk-free rat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futures contrac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5412-CCFF-4DDB-AC17-0EEF70605A9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Put Option, American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571760"/>
            <a:ext cx="8077320" cy="47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50;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0;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10%;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0%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 months = 0.4167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 month = 0.08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meters imp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1224;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.8909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0084;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.5073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-p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49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7914-CE10-4B6B-AE02-7C5001258C7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02AE-E8E8-4703-843E-15DAF1F4C4A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60958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914040" y="3885840"/>
            <a:ext cx="1522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600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19810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VCHARLIN</cp:lastModifiedBy>
  <cp:lastPrinted>2010-11-21T15:10:47Z</cp:lastPrinted>
  <dcterms:modified xsi:type="dcterms:W3CDTF">2010-11-21T20:45:32Z</dcterms:modified>
  <cp:revision>223</cp:revision>
  <dc:subject/>
  <dc:title>Slide 1</dc:title>
</cp:coreProperties>
</file>