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D3B9-7DC0-4155-8E4C-56935E27C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1BDA53D-EF60-4586-81DF-AA2F6386FE8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800AFE6-B6C0-4B68-924A-FB2C40ECCA5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79FB669-DC0D-4A42-A966-F20CD5B11B1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1A54F40-E64B-41DC-95A3-0089DBC834E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7C46365-9C6B-4FB6-98E9-9B3A67E8A73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7A4A1B9-8F90-415C-BF0D-2EAC078FC31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A2F9CF0-23E6-4351-A6E0-FE4747C016D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2CC1857-1313-4002-866A-31A99F091C0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5EA35E6-7098-436B-891C-1A6698184B6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8ABC89E-3185-4CFC-9623-D8BAC1CB53E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0075-6F21-4403-B09C-271A61278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0F0E-5892-4992-8EAE-10F02CA9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D524-0466-428C-B315-9B9DEED9B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890F-2EE7-4174-8C16-F3371666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4A0F-8438-41FD-AC27-2349061C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2716-20F2-4CFA-9E65-D0360957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C5B4-3C7E-45C3-A239-40D8BFE8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266D-B61C-410E-B956-F17D6CA4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C39B-8A5C-479D-B901-502CBE1E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A337-6B9D-488D-99EE-3A26224B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55B4-B87D-4732-A944-8DDA6972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E85B-63F1-4B3A-8915-C5E7DC15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53BC-740F-4961-A30D-DCA3B3E3D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ERIVATIVES: Valuation Methods and Some Extra Stuf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419360" y="57909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John C. Hull, Options, Futures and Other Derivatives,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4573440" cy="3230640"/>
          </a:xfrm>
          <a:prstGeom prst="rect">
            <a:avLst/>
          </a:prstGeom>
          <a:ln w="0">
            <a:noFill/>
          </a:ln>
        </p:spPr>
      </p:pic>
      <p:sp>
        <p:nvSpPr>
          <p:cNvPr id="11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8C91-ED68-4459-81D6-947750426FB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447920" y="3048120"/>
            <a:ext cx="259056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53341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.5073 x 0 + .4927 x 5.45] exp{-.10 x .0833}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867280"/>
            <a:ext cx="102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58672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no point in exercising the option at this node (S=K=50), thus early exercise is useless, better to wait, therefore, value is 2.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4724280" cy="358164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7888-F7A5-4CFF-9DAB-A688D587E62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905120" y="3352680"/>
            <a:ext cx="19810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502920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.5073 x 5.45  +  .4927 x 14.64)    exp{ -.10 x .083 }  =   9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556272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early exercise, generates 50 – 39.69 =  10.31; thus, the option should be exercised, the correct value for the option at the node is 10.31  (10.31 &gt; 9.9, implies that it is better to exercise NOW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4724280" cy="3581640"/>
          </a:xfrm>
          <a:prstGeom prst="rect">
            <a:avLst/>
          </a:prstGeom>
          <a:ln w="0">
            <a:noFill/>
          </a:ln>
        </p:spPr>
      </p:pic>
      <p:sp>
        <p:nvSpPr>
          <p:cNvPr id="13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D453-C922-45B9-87BC-FC6B97C7FB3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981080" y="3428640"/>
            <a:ext cx="4572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502920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.5073 x 6.38  +  .4927 x 14.64)    exp{ -.10 x .083 }  =   10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5562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, it is not always better to exercise the option when the option is in the money…            50 - 39.69  = 10.31…    better NOT TO exercised at that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on of Delta at time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, that is, the sensitivity of the option price w/r to S [stock pric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685800" y="1676520"/>
                <a:ext cx="48006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lt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CA24-BF9A-4761-95AD-9528C70097D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286000" y="281952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895480" y="2057400"/>
            <a:ext cx="53352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504960" y="2057400"/>
            <a:ext cx="22860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2590920"/>
            <a:ext cx="129564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352680" y="2590920"/>
            <a:ext cx="7632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752480" y="1371600"/>
            <a:ext cx="6248520" cy="419112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iondi"/>
              </a:rPr>
              <a:t>Black-Sch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lack-Scholes Formula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3"/>
              <p:cNvSpPr txBox="1"/>
              <p:nvPr/>
            </p:nvSpPr>
            <p:spPr>
              <a:xfrm>
                <a:off x="739800" y="1949400"/>
                <a:ext cx="7664400" cy="38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T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T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19BA-4D15-4FC5-BA93-E2AD8F74851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s the probability that a normally distributed variable with a mean of zero and a standard deviation of 1 is less th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B7DF-AAA9-49E9-9839-AE84E3444A0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752480" y="1371600"/>
            <a:ext cx="6248520" cy="419112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iondi"/>
              </a:rPr>
              <a:t>Monte Car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838080"/>
            <a:ext cx="8076960" cy="53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TE CARLO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rely on the risk-neutral approach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generate a random path and then calculate the payoff of the option at time t=T; we discount the value using the risk-fre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ormall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 Generate a random path for S in a risk-neutral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i) Determine the payoff at time t =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ii) Repeat the previous steps many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iii) Calculate the mean of the payoffs (from the many path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iiii) “Bring the mean” to t= 0 using the risk fre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371600" y="144792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 [Exp Mean S]  S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+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S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sqrt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267080"/>
            <a:ext cx="563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denotes the price of a stock that it does not pay a dividend between [0, T], the [Exp Mean S] = risk free rate.  Otherwise, see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143000" y="1904760"/>
            <a:ext cx="167652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2971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sample from a distribution N(0,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5334120" y="1752120"/>
            <a:ext cx="12189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yoff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Options (Terminal Value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Options, Cost of option is NOT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trike pric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rice of asset at mat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1600200" y="2043000"/>
            <a:ext cx="6006600" cy="3884760"/>
            <a:chOff x="1600200" y="2043000"/>
            <a:chExt cx="6006600" cy="3884760"/>
          </a:xfrm>
        </p:grpSpPr>
        <p:grpSp>
          <p:nvGrpSpPr>
            <p:cNvPr id="53" name="Group 5"/>
            <p:cNvGrpSpPr/>
            <p:nvPr/>
          </p:nvGrpSpPr>
          <p:grpSpPr>
            <a:xfrm>
              <a:off x="1600200" y="2198520"/>
              <a:ext cx="2317680" cy="1700280"/>
              <a:chOff x="1600200" y="2198520"/>
              <a:chExt cx="2317680" cy="1700280"/>
            </a:xfrm>
          </p:grpSpPr>
          <p:sp>
            <p:nvSpPr>
              <p:cNvPr id="54" name="Line 6"/>
              <p:cNvSpPr/>
              <p:nvPr/>
            </p:nvSpPr>
            <p:spPr>
              <a:xfrm>
                <a:off x="16002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7"/>
              <p:cNvSpPr/>
              <p:nvPr/>
            </p:nvSpPr>
            <p:spPr>
              <a:xfrm>
                <a:off x="16081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8"/>
            <p:cNvGrpSpPr/>
            <p:nvPr/>
          </p:nvGrpSpPr>
          <p:grpSpPr>
            <a:xfrm>
              <a:off x="5124600" y="2198520"/>
              <a:ext cx="2317680" cy="1700280"/>
              <a:chOff x="5124600" y="2198520"/>
              <a:chExt cx="2317680" cy="1700280"/>
            </a:xfrm>
          </p:grpSpPr>
          <p:sp>
            <p:nvSpPr>
              <p:cNvPr id="57" name="Line 9"/>
              <p:cNvSpPr/>
              <p:nvPr/>
            </p:nvSpPr>
            <p:spPr>
              <a:xfrm>
                <a:off x="51246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10"/>
              <p:cNvSpPr/>
              <p:nvPr/>
            </p:nvSpPr>
            <p:spPr>
              <a:xfrm>
                <a:off x="51325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Rectangle 11"/>
            <p:cNvSpPr/>
            <p:nvPr/>
          </p:nvSpPr>
          <p:spPr>
            <a:xfrm>
              <a:off x="164268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518616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363096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4"/>
            <p:cNvSpPr/>
            <p:nvPr/>
          </p:nvSpPr>
          <p:spPr>
            <a:xfrm>
              <a:off x="717408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5"/>
            <p:cNvSpPr/>
            <p:nvPr/>
          </p:nvSpPr>
          <p:spPr>
            <a:xfrm>
              <a:off x="2527200" y="30909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6"/>
            <p:cNvSpPr/>
            <p:nvPr/>
          </p:nvSpPr>
          <p:spPr>
            <a:xfrm>
              <a:off x="6070680" y="26337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7"/>
            <p:cNvSpPr/>
            <p:nvPr/>
          </p:nvSpPr>
          <p:spPr>
            <a:xfrm>
              <a:off x="160812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8"/>
            <p:cNvSpPr/>
            <p:nvPr/>
          </p:nvSpPr>
          <p:spPr>
            <a:xfrm flipV="1">
              <a:off x="2700360" y="2336400"/>
              <a:ext cx="720720" cy="77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9"/>
            <p:cNvSpPr/>
            <p:nvPr/>
          </p:nvSpPr>
          <p:spPr>
            <a:xfrm>
              <a:off x="513720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20"/>
            <p:cNvGrpSpPr/>
            <p:nvPr/>
          </p:nvGrpSpPr>
          <p:grpSpPr>
            <a:xfrm>
              <a:off x="1600200" y="4227480"/>
              <a:ext cx="2317680" cy="1700280"/>
              <a:chOff x="1600200" y="4227480"/>
              <a:chExt cx="2317680" cy="1700280"/>
            </a:xfrm>
          </p:grpSpPr>
          <p:sp>
            <p:nvSpPr>
              <p:cNvPr id="69" name="Line 21"/>
              <p:cNvSpPr/>
              <p:nvPr/>
            </p:nvSpPr>
            <p:spPr>
              <a:xfrm>
                <a:off x="16002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22"/>
              <p:cNvSpPr/>
              <p:nvPr/>
            </p:nvSpPr>
            <p:spPr>
              <a:xfrm>
                <a:off x="16081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Group 23"/>
            <p:cNvGrpSpPr/>
            <p:nvPr/>
          </p:nvGrpSpPr>
          <p:grpSpPr>
            <a:xfrm>
              <a:off x="5124600" y="4227480"/>
              <a:ext cx="2317680" cy="1700280"/>
              <a:chOff x="5124600" y="4227480"/>
              <a:chExt cx="2317680" cy="1700280"/>
            </a:xfrm>
          </p:grpSpPr>
          <p:sp>
            <p:nvSpPr>
              <p:cNvPr id="72" name="Line 24"/>
              <p:cNvSpPr/>
              <p:nvPr/>
            </p:nvSpPr>
            <p:spPr>
              <a:xfrm>
                <a:off x="51246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25"/>
              <p:cNvSpPr/>
              <p:nvPr/>
            </p:nvSpPr>
            <p:spPr>
              <a:xfrm>
                <a:off x="51325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Rectangle 26"/>
            <p:cNvSpPr/>
            <p:nvPr/>
          </p:nvSpPr>
          <p:spPr>
            <a:xfrm>
              <a:off x="164268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7"/>
            <p:cNvSpPr/>
            <p:nvPr/>
          </p:nvSpPr>
          <p:spPr>
            <a:xfrm>
              <a:off x="518616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8"/>
            <p:cNvSpPr/>
            <p:nvPr/>
          </p:nvSpPr>
          <p:spPr>
            <a:xfrm>
              <a:off x="363096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29"/>
            <p:cNvSpPr/>
            <p:nvPr/>
          </p:nvSpPr>
          <p:spPr>
            <a:xfrm>
              <a:off x="717408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0"/>
            <p:cNvSpPr/>
            <p:nvPr/>
          </p:nvSpPr>
          <p:spPr>
            <a:xfrm>
              <a:off x="2527200" y="51195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1"/>
            <p:cNvSpPr/>
            <p:nvPr/>
          </p:nvSpPr>
          <p:spPr>
            <a:xfrm>
              <a:off x="6070680" y="46623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32"/>
            <p:cNvSpPr/>
            <p:nvPr/>
          </p:nvSpPr>
          <p:spPr>
            <a:xfrm flipV="1">
              <a:off x="5494320" y="5101920"/>
              <a:ext cx="722160" cy="77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3"/>
            <p:cNvSpPr/>
            <p:nvPr/>
          </p:nvSpPr>
          <p:spPr>
            <a:xfrm>
              <a:off x="6242040" y="5114880"/>
              <a:ext cx="99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4"/>
            <p:cNvSpPr/>
            <p:nvPr/>
          </p:nvSpPr>
          <p:spPr>
            <a:xfrm>
              <a:off x="2714760" y="5114880"/>
              <a:ext cx="10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5"/>
            <p:cNvSpPr/>
            <p:nvPr/>
          </p:nvSpPr>
          <p:spPr>
            <a:xfrm flipH="1" flipV="1">
              <a:off x="2028600" y="4443120"/>
              <a:ext cx="693720" cy="69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6"/>
            <p:cNvSpPr/>
            <p:nvPr/>
          </p:nvSpPr>
          <p:spPr>
            <a:xfrm flipH="1" flipV="1">
              <a:off x="6216120" y="3068280"/>
              <a:ext cx="68580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4778-3561-4655-A35E-C4537ECD35A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286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2209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7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4343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7920" y="1600200"/>
            <a:ext cx="4647960" cy="37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summar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uropean options, method is straight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merican options, we need to take care of an additional compli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62120" y="1219320"/>
            <a:ext cx="6400800" cy="23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 3-year American put option (non-dividend-paying stock) than can be exercised at the end of year 1, 2, or 3.  Risk-free rate= 6%; 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.00;  K= 1.1  (We also know the volatilit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implicity, we will assume that we did a “mini Monte Carlo” (only 8 path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343400" y="3505320"/>
            <a:ext cx="42670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334120" y="8380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 flows had the option been exercised at t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886200" y="16765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886200" y="144792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886200" y="160020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885840" y="1676520"/>
            <a:ext cx="16002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00600" y="304812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at the end of year 2, the put option was in the money for paths: 1, 3, 4, 6 and 7.  Hence, we need to decide at this points if we exercise or continu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581280" cy="20224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676520" y="533520"/>
            <a:ext cx="213336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3733920" cy="2293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648320" y="5105520"/>
            <a:ext cx="33526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se paths we assum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= a  +  b S  +  c 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6216480"/>
            <a:ext cx="84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, stock value at t = 2;  V is the value of continuing discounted to t=2 with the risk free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34120" y="8380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 flows had the option been exercised at t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886200" y="16765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886200" y="144792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886200" y="160020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3885840" y="1676520"/>
            <a:ext cx="16002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581280" cy="2022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676520" y="533520"/>
            <a:ext cx="213336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3733920" cy="22939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029200" y="22860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= a  +  b S  +  c 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2280" y="6216480"/>
            <a:ext cx="84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, stock value at t = 2;  V is the value of continuing discounted to t=2 with the risk free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3581280"/>
            <a:ext cx="441972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s of S (t=2) are:  1.08; 1.07; .97;   .77 and  .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s of V (t=2)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0;  0.07exp(-.06 x 1); 0.18exp(-.06 x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0exp(-.06 x 1); 0.09exp(-.06 x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3733920" cy="22939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33520" y="5335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= a  +  b S  +  c 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6216480"/>
            <a:ext cx="84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, stock value at t = 2;  V is the value of continuing discounted to t=2 with the risk free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581280"/>
            <a:ext cx="441972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s of S (t=2) are:  1.08; 1.07; .97;   .77 and  .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s of V (t=2)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0;  0.07exp(-.06 x 1); 0.18exp(-.06 x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0exp(-.06 x 1); 0.09exp(-.06 x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1371600"/>
            <a:ext cx="58672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etermined a, b and c. using a least-squares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N sum(1 to 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{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 – b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c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501800">
            <a:off x="5333760" y="2666520"/>
            <a:ext cx="1600200" cy="533520"/>
          </a:xfrm>
          <a:prstGeom prst="leftArrow">
            <a:avLst>
              <a:gd name="adj1" fmla="val 50000"/>
              <a:gd name="adj2" fmla="val 749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3520" y="5335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= a  +  b S  +  c 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280" y="6216480"/>
            <a:ext cx="84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, stock value at t = 2;  V is the value of continuing discounted to t=2 with the risk free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1371600"/>
            <a:ext cx="58672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etermined a, b and c. using a least-squares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N sum(1 to 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{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 – b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c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501800">
            <a:off x="5333760" y="2666520"/>
            <a:ext cx="1600200" cy="533520"/>
          </a:xfrm>
          <a:prstGeom prst="leftArrow">
            <a:avLst>
              <a:gd name="adj1" fmla="val 50000"/>
              <a:gd name="adj2" fmla="val 749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3809880"/>
            <a:ext cx="533376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GET IN THIS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  =  -1.070  +  2.98  S  -  1.81  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33520" y="5335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= a  +  b S  +  c 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1371600"/>
            <a:ext cx="7543800" cy="31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  =  -1.070  +  2.98  S  -  1.81  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gives the value, at point t=2, of continu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is, for paths (1, 3, 4, 6 and 7) we 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=  (0.0369     0.0461      0.1176      0.1520       and     0.15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09480" y="533520"/>
            <a:ext cx="754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is, for paths (1, 3, 4, 6 and 7) we 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=  (0.0369     0.0461      0.1176      0.1520       and     0.15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4419720" cy="27147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5867280" y="2514600"/>
            <a:ext cx="304812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at t=2 the value of exercising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26  ((  1.1-  .84  =  .26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4191120" y="3048120"/>
            <a:ext cx="1752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4114800" y="3505320"/>
            <a:ext cx="1828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4114800" y="373392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4114800" y="4419360"/>
            <a:ext cx="1752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191120" y="419112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5791320"/>
            <a:ext cx="1219320" cy="533160"/>
          </a:xfrm>
          <a:prstGeom prst="rightArrow">
            <a:avLst>
              <a:gd name="adj1" fmla="val 50000"/>
              <a:gd name="adj2" fmla="val 571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57913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hould only exercise at t=2 for paths  4, 5  and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840200" cy="27334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57200" y="3049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offs assuming that we have exercised at   t=3  OR    t=2  depending on what is 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51814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repeat the same procedure for time = 1 (when it was worth to exercise at t=1?) and we finally get the full payoff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4687920" cy="26481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57200" y="3276720"/>
            <a:ext cx="8229600" cy="27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tableau of cash flows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the value of the options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/8) [ 0.07 exp(-0.06 x 3) +  0.17 exp(-0.06 x 1)+  …+ 0.22 exp(-0.06x1)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11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14400" y="1066680"/>
            <a:ext cx="7315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ation Approa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omial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ack-Sch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te Carlo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ite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600200" y="1371600"/>
            <a:ext cx="6705720" cy="419112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iondi"/>
              </a:rPr>
              <a:t>Finite Dif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2857680" cy="20098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066680" y="3733920"/>
            <a:ext cx="6324840" cy="18208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572000" y="1600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k the equation directly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4419360" y="2209680"/>
            <a:ext cx="1143000" cy="1371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14400" y="838080"/>
            <a:ext cx="6934320" cy="27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of a Put Option, let us assume that the life of the option is T and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value sufficiently high (put has 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ant to find f (value of the option) solving the “real th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66680" y="3733920"/>
            <a:ext cx="632484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6324840" cy="18208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219320" y="32004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  =  f ( t, 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4724280"/>
            <a:ext cx="8001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discretization: 0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, 2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, ……, T   (N intervals, index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-value discretization: 0,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 2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……, 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 intervals, index j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4800600"/>
            <a:ext cx="4495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447920" y="837720"/>
            <a:ext cx="0" cy="4496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24280" y="4952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380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16765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24382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2057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03848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48320" y="2819520"/>
            <a:ext cx="403848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 of the option at time =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  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,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MAX  (K – j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,  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 =1, 2, …,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10666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i, time; Index j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4038480" y="3352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4800600"/>
            <a:ext cx="4495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447920" y="837720"/>
            <a:ext cx="0" cy="4496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724280" y="4952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90720" y="380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16765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24382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2057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03848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48320" y="2819520"/>
            <a:ext cx="403848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 of the option is K 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,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K   for i=0,…, 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86400" y="10666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i, time; Index j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362320" y="3352680"/>
            <a:ext cx="21333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43000" y="4800600"/>
            <a:ext cx="4495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447920" y="837720"/>
            <a:ext cx="0" cy="4496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724280" y="4952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90720" y="380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038480" y="16765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43000" y="24382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2057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03848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48320" y="2819520"/>
            <a:ext cx="403848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 of the option is 0 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=  S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, 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0   for i=0,…, 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486400" y="10666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i, time; Index j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2437920" y="2514600"/>
            <a:ext cx="2057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4800600"/>
            <a:ext cx="4495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447920" y="837720"/>
            <a:ext cx="0" cy="4496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24280" y="4952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380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38480" y="16765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143000" y="24382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2057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10666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i, time; Index j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47920" y="2438280"/>
            <a:ext cx="25905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47920" y="4800600"/>
            <a:ext cx="25905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038480" y="2438280"/>
            <a:ext cx="0" cy="2362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876920" y="32004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know the value of f (options) along the red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914400" y="8380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a finite differences approach (explicit meth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324840" cy="18208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914400" y="46483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85800" y="4114800"/>
                <a:ext cx="38098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Δ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 flipV="1">
            <a:off x="1066680" y="3428640"/>
            <a:ext cx="1676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914400" y="8380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a finite differences approach (explicit meth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324840" cy="18208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914400" y="46483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858960" y="4114800"/>
                <a:ext cx="346392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 flipV="1">
            <a:off x="1066680" y="3428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52480" y="1371600"/>
            <a:ext cx="6248520" cy="419112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iondi"/>
              </a:rPr>
              <a:t>Binomial Tre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914400" y="8380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a finite differences approach (explicit meth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324840" cy="18208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914400" y="46483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209680" y="4495680"/>
                <a:ext cx="549936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Δ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 flipV="1">
            <a:off x="3124080" y="3352680"/>
            <a:ext cx="19814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914400" y="8380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ing the finite differences approximation into the B-S equation and re-arrang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324840" cy="18208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914400" y="46483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95280" y="3809880"/>
            <a:ext cx="67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get the following approx. to the B-S equati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838080" y="4876920"/>
                <a:ext cx="708660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914400" y="8380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14400" y="46483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838080" y="1600200"/>
                <a:ext cx="70866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1219320" y="365760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362320" y="3048120"/>
                <a:ext cx="4362480" cy="33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j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Δt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Δt</m:t>
                        </m:r>
                        <m:r>
                          <m:t xml:space="preserve">+</m:t>
                        </m:r>
                        <m:r>
                          <m:t xml:space="preserve">rΔt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j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Δ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886200" y="586728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609480" y="457200"/>
                <a:ext cx="3733920" cy="28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j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Δt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Δt</m:t>
                        </m:r>
                        <m:r>
                          <m:t xml:space="preserve">+</m:t>
                        </m:r>
                        <m:r>
                          <m:t xml:space="preserve">rΔt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j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Δ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4267080" y="472428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495680" y="480060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324480" y="480060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553080" y="487692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+1,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67080" y="571500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495680" y="579132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,j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358128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95680" y="365760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,j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4800600"/>
            <a:ext cx="4495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447920" y="837720"/>
            <a:ext cx="0" cy="4496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952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90720" y="380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16765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43000" y="24382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057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03848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2438280"/>
            <a:ext cx="25905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447920" y="4800600"/>
            <a:ext cx="25905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438280"/>
            <a:ext cx="0" cy="2362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581280" y="20574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66680" y="30481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35812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42670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95480" y="182880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133720" y="17524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505320" y="28954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505320" y="35053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505320" y="41148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943600" y="190512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set up a linear system of simultaneous eqs by using these points as i,j  then we move to the left.. Etc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962520" y="3505320"/>
            <a:ext cx="15228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00600" y="6858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of f is 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191120" y="1219320"/>
            <a:ext cx="121896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60199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of f is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914400" y="3809880"/>
            <a:ext cx="25146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2120" y="1143000"/>
            <a:ext cx="746748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Concept:  RISK-NEUTRAL 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at the expected return from all traded assets is the risk-fre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the payoffs from the derivative by calculating their expected values, and then, use the risk-free rate to discount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summary…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volatility and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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length of the time step 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 = ( a - d) / ( u – d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1024"/>
              <p:cNvSpPr txBox="1"/>
              <p:nvPr/>
            </p:nvSpPr>
            <p:spPr>
              <a:xfrm>
                <a:off x="533520" y="1600200"/>
                <a:ext cx="3047760" cy="17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Δt</m:t>
                                </m:r>
                              </m:e>
                            </m:rad>
                          </m:sup>
                        </m:sSup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Δt</m:t>
                                </m:r>
                              </m:e>
                            </m:rad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5356-3436-49AE-AD47-CCFA58BF5E8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952880" y="1219320"/>
            <a:ext cx="2286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213372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19810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38880" y="9907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15200" y="243828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10080" y="1219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8640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-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ability of an Up M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1025640" y="1676520"/>
                <a:ext cx="7203960" cy="43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rΔ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nondividend paying stock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for a stock index where 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 is the divide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yield on the index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currency where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the foreig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risk-free rat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futures contrac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C975-997D-4296-9B8F-1934BAEBF55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: Put Option, American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571760"/>
            <a:ext cx="8077320" cy="47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50;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50;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10%;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40%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5 months = 0.4167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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 month = 0.08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ameters imp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.1224;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.8909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.0084;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.5073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-p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49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B2E6-01F4-4E64-BB83-7D2BCB22D39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6858000" cy="4800600"/>
          </a:xfrm>
          <a:prstGeom prst="rect">
            <a:avLst/>
          </a:prstGeom>
          <a:ln w="0">
            <a:noFill/>
          </a:ln>
        </p:spPr>
      </p:pic>
      <p:sp>
        <p:nvSpPr>
          <p:cNvPr id="1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1D75-DCF9-4901-BF80-498E6F4541A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60958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of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914040" y="3885840"/>
            <a:ext cx="15228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600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of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1981080"/>
            <a:ext cx="5335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3:10:01Z</dcterms:created>
  <dc:creator>VCHARLIN</dc:creator>
  <dc:description/>
  <dc:language>en-US</dc:language>
  <cp:lastModifiedBy>VCHARLIN</cp:lastModifiedBy>
  <cp:lastPrinted>2010-11-21T15:10:47Z</cp:lastPrinted>
  <dcterms:modified xsi:type="dcterms:W3CDTF">2010-11-21T20:45:32Z</dcterms:modified>
  <cp:revision>223</cp:revision>
  <dc:subject/>
  <dc:title>Slide 1</dc:title>
</cp:coreProperties>
</file>