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47E947-77B8-4EFB-A863-CEB736F744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137B5D-AF85-4906-9660-62269F4B61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E67AB3-62F3-4899-AB69-4C6B937294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E35C1E-3CB9-4E51-96A1-778AD6ECC7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733FE6-A095-4841-BD53-21FEF4BA11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578A73-DF84-4970-94CD-E6AFEC24A6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777BBD-D2FA-42D6-A3BC-8B8499CD34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AFB2A2-9D88-409E-89F4-86FF4E20CB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916AB2-7B05-4F6E-862B-196652D09D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6DC2C3-0479-49BA-9D82-60F2B2EF9A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11B343-5AB9-4F6C-8E59-E941EDA41B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C6F5-204E-4393-815E-0B718522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BD3-F11E-4D68-ABA2-9084F85F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A23F-8F76-4380-A8ED-550FA570F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956-4F1A-408F-B94D-BF6CCC58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319E-8D34-4F54-A0EE-14DDB361C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DEF-D435-43DD-B318-4F847DA69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0695AD-5FC9-4229-AD7B-227DBDDC69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B3D63D-B45C-48D8-9DC6-A55FF8D442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5BBE8C-9707-43EA-933A-74D4D3433A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3CD574-8592-4B57-A4F1-01F97AAAB7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3A2-6014-4CA0-8FC3-0531BB27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D04-4548-479D-9DB5-7013B75C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ECBE3-2F8A-4BD1-A542-DE76D7E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EF069-1B67-4FCF-8FBF-D71DA223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C687B-B133-4DE9-A1CB-1F6CA05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06211-FC69-4ED7-A54D-E85919D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4D8CB-7ED1-44B6-9717-95DEED1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C50D2-7AA5-48AA-8BD2-2ED6E596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34745-9598-4C78-A557-3EB76EBE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6A71C-E1FC-4F92-9807-1498AC9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40B2A-2245-46D4-A33E-2B8728C5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7B128-470C-4EC0-90CE-2E188588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22E-EA75-447E-800E-9E265EDD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48E19-6D38-441F-9196-D21200D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D2095-981C-4AEB-A7A0-601C6E8A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EE7EC-738C-4C0C-B105-73389E9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C8E00-28F5-4C72-BE3E-D22AE6A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39FB-7D35-4C50-9758-9CFB860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0BE04-DF2E-4B37-B73E-3C34F4F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1EA66-52F3-45A4-91B6-A353D8F9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CECD4-E9D5-4FC2-A5E9-27CEDB3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EAAD5-7B4E-4B17-9533-02216B9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5792E-D9B7-47BC-A551-4B6F51AB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1BC-695D-491A-8F80-2DA744B1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78ED3-E9D1-4FC5-8378-16D21613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88F9-996D-4E27-AA28-A3FE6D99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49457-C9AE-439E-A014-6247302F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1A4C-E509-4449-8498-8C4FC1C2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3DC2-3047-43C6-B9B8-768457C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FD4FC-5C55-49D0-8EA8-72AF2A8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D5B0B-61E0-4DDF-96DD-C82F3220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6E22B-DCEE-451F-907F-89CC787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4D1F1-0227-4E9B-9157-D165148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CEF13-D32F-439E-998D-31877C2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47E9-9A21-4AA6-AE34-EFC9044F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E4394-0DE1-4B8B-AA03-BCA27C3E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B9DFE-C303-456A-A164-CE7BF7C1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64959-0FA2-4052-846D-61AE66DC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1533D-136F-4F86-8FC4-139E44A1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71A7-EC00-46AA-9372-B57B478B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9A80B-2684-411B-93B6-9F0EE1B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885E8-5277-41F5-B49D-B93AE92A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42FCD-FC95-40FB-B8AE-A66D121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C8FD4-E90D-44BD-B4ED-60E630B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97EE-E8AC-45BA-AE21-EC4243B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D265-0058-4034-AC88-F6417A6C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EB88E-07D9-4A75-9822-4A500B7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DE40A-A65D-4CE5-B4E9-546E00D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0A98A-4F07-4067-AA79-936CC0F5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272E0-2A70-441A-942A-C78E0335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BF29F-5CD3-4A9A-8439-C3557CE8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FCF-EFB3-4A65-AFDA-EA1D897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A063-0FBF-43FA-B6B5-1067667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3EC-07AE-41EF-8D9A-1D7E1A1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C5FC-58BB-4183-B742-8690B0F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9341-BAB7-4B48-A157-B67C43C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AF0-B4D6-4131-A4E7-BC0A6E99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9AB7-4171-4965-BF02-5ABA92AE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C22F-C0E2-472B-A1EF-6B1E28C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0EF3-8A3A-4FB3-9C6D-3E4A1513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6523-3590-4F97-8AE1-CA8B0374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B16A-117A-40AA-A04A-B25F945A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E1C2-102C-4B38-BD2A-8A124234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AF91-68A7-4D57-B330-685B4AC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3040-25C2-496D-BC4E-BB15113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F9F7-4D38-47A7-94D5-1577E697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C8C6-E4FB-45A4-821B-11BC173C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DFD-5B11-42AC-8B6F-34231BA1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374B-5199-47F5-AF5A-08A2357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0378-972A-425A-9168-E89C37E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1D38-0AF5-47CA-A1FD-03D3BB5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679D-3C38-41AE-8720-20FBFD07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8A92-A25A-4235-BD35-916133E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BC3F-053E-4081-90EE-5733AAB1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B8E7-D923-4CF7-8DB5-C099A088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3101-6666-4359-9739-083BBCD6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AEEE-9252-49E0-BC1C-5131919B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20A9-5EBE-44C7-89E2-0819395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9CF-7F18-46C8-9981-BB02DD60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3100-8A78-4D12-A6CF-356DF1A4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0F61-8900-48FF-997F-06FA7CA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DA8A-6686-4325-911A-7514F8C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90AB7-8205-4F02-AF13-623A7038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DCAE-2D68-44CE-823B-80D46A8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9F06-FE15-4BFE-83E7-DA00DAB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B68F-DCA5-429F-9748-A6FAD82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5983-AB95-44BD-B73E-FE862459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66EC-383A-498E-9B85-FDD21694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9142-2802-42FF-848A-B19418A8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991-C3C5-467E-B4D8-418D691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8C92-2E2B-4A2B-903E-D8699D1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5385-1A63-47E6-B2C7-10DBC2E4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2D2F-8ECD-477F-99DA-1E04C0D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737FF-EA69-4DBD-9069-1C6A1A6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E420-E04F-460A-B34A-5D177A1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E873-53C8-4360-BB3D-FC4D5A6F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3DAE-5879-48C3-99F4-D1D0686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1D120-A0FB-4391-9E4F-E0EFA5F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CBF1A-68AD-4E79-B1C7-C362A98E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E239-A77F-4B6B-9ED7-40BD0CBC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111-995E-482D-BAC7-B18533BF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26EB-F66A-49C9-B404-3411B0B5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5445A-0356-46D1-AC9F-5636E312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E5F99-9CAE-404E-AA1C-F880E55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A11B2-E120-4434-8E95-5FA1F74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34B5-A51D-4883-88F0-3954E2B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A5292-5BA6-471C-AE71-5562C83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20C6-6F6C-4F87-9CE0-D5AD9778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2DD3-6C90-464B-B700-D80DFB7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9426-B41C-46B2-AA08-7EA6A34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FC681-7951-48B7-B953-F03B97B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275-9941-431B-B282-A883E21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314C-9B3E-41EC-9B66-926EB2EC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BB54-9184-480F-87CF-17D7BC06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CA28-25DA-443C-A6FE-01464BE2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A7C6-8477-4EBC-9A2D-187D2ED6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6873E-0FA9-4F79-AE66-16F30E4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C7108-22B5-4E2E-A2B2-120877A2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A02B-2066-4A25-9991-767C389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0DE4-D2E7-44EA-8AC7-91C6BDB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9E09-FEDC-4E16-AA4F-69E94DB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0831-E5E0-45B8-9A5A-A94FA4E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D46-B570-4B96-9046-E5696A5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5410-52FE-4E98-97D1-B3D18C8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8A58-0BAF-4F5B-9BD1-50BDCE1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9F2CA-A105-48DD-9264-24DE011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6949-7681-4CDB-8C5E-17F5737E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5FCA7-4AF6-44D9-B5E3-8C222812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02C6-E516-42A7-8963-AFB48551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D9895-7F4E-4541-872C-73EEA5F5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FA547-39EC-4FCF-9C19-0EEA8732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1E7C0-1A41-4C48-BDF9-210C789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D5EC3-16CF-47BA-9A4C-26CB86C7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D31-0C0B-4794-BFD0-2E8F8DE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96225-728E-46EA-A82B-60B1FCA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7366F-83BE-4BBF-A038-225D625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F586F-55F6-4EB8-A214-F51D166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1CF7F-494C-4CBB-973C-41CF903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6454-6150-4FDF-9FFE-8C0F21AC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54838-5F20-4F83-9424-92A3C94D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96BF-BF68-4831-A06E-033B0940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6FFCE-99B3-4E83-8675-D3983B86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933D9-F3D0-4AA9-8647-494B59BD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03493-B4F0-4AE8-BE73-76B7894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277B-C9A5-4437-B6B0-0CB13A1FB4A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6CAE-AD39-480C-A17C-9DA54DBC22A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F37E-041F-4958-B274-FCBD73E7F76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ECE5-2C31-49A4-ACCB-E829ACF2B76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3D39-6710-45D6-B1F9-1B086C3FA57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ECB-CA0C-4E02-9926-1A4DD23E1B9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283C-42C7-40DA-8AE1-994DFA0BB95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9F4-0288-4882-BCC2-550146ECFC8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AC5-C7BC-40E6-8A9B-9240CA37C33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24A-D6B9-4FEB-9D9F-0B771BF2CDD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E8A4-4971-4915-9027-E94D6AAA426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3A6-A1D1-4930-8246-C9B5E177913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-Merton Formula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ock whose pri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ort period of time of leng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turn on the stock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ssumed to be normal with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expected return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4"/>
              <p:cNvSpPr txBox="1"/>
              <p:nvPr/>
            </p:nvSpPr>
            <p:spPr>
              <a:xfrm>
                <a:off x="4092480" y="4267080"/>
                <a:ext cx="1185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990-17CC-48A6-BEC7-1CD11E3B14D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9" name=""/>
          <p:cNvGraphicFramePr/>
          <p:nvPr/>
        </p:nvGraphicFramePr>
        <p:xfrm>
          <a:off x="914400" y="662040"/>
          <a:ext cx="72388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62040"/>
                    <a:ext cx="72388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457200" y="601560"/>
          <a:ext cx="77724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77724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33520" y="179064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app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lack-Schole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is independent of all variables affected by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onsistent with the risk-neutral valuatio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091-CE67-4DD4-95BC-655701F3C46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Applying 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30000" y="1719360"/>
            <a:ext cx="60865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expected return from an asset is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xpected payoff from the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at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362D-7994-476C-AE4D-2FC23B8DF2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57913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VERY  VERY   IMPORTANT 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 Formulas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7960-A4BD-4144-94EE-6BC6EA1F8C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) Func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D288-E83A-4D19-98EF-E6FB34E03E7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16292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ssumptions imply that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rmally distributed with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logarith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g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"/>
              <p:cNvSpPr txBox="1"/>
              <p:nvPr/>
            </p:nvSpPr>
            <p:spPr>
              <a:xfrm>
                <a:off x="2514600" y="2514600"/>
                <a:ext cx="4114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12"/>
              <p:cNvSpPr txBox="1"/>
              <p:nvPr/>
            </p:nvSpPr>
            <p:spPr>
              <a:xfrm>
                <a:off x="4495680" y="3568680"/>
                <a:ext cx="914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5840-A195-417B-9A5B-C4307079A2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Properties of Black-Scholes Formula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lar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sm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834-DB03-432E-9145-970262EB178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Delta of an OP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77760" y="1429920"/>
            <a:ext cx="725184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rate of change of the option price with respect to the under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21"/>
          <p:cNvGrpSpPr/>
          <p:nvPr/>
        </p:nvGrpSpPr>
        <p:grpSpPr>
          <a:xfrm>
            <a:off x="2025360" y="2674800"/>
            <a:ext cx="5650560" cy="3483720"/>
            <a:chOff x="2025360" y="2674800"/>
            <a:chExt cx="5650560" cy="3483720"/>
          </a:xfrm>
        </p:grpSpPr>
        <p:sp>
          <p:nvSpPr>
            <p:cNvPr id="962" name="Rectangle 4"/>
            <p:cNvSpPr/>
            <p:nvPr/>
          </p:nvSpPr>
          <p:spPr>
            <a:xfrm>
              <a:off x="2121120" y="2674800"/>
              <a:ext cx="1607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0"/>
            <p:cNvGrpSpPr/>
            <p:nvPr/>
          </p:nvGrpSpPr>
          <p:grpSpPr>
            <a:xfrm>
              <a:off x="2025360" y="3076560"/>
              <a:ext cx="5650560" cy="3081960"/>
              <a:chOff x="2025360" y="3076560"/>
              <a:chExt cx="5650560" cy="3081960"/>
            </a:xfrm>
          </p:grpSpPr>
          <p:sp>
            <p:nvSpPr>
              <p:cNvPr id="964" name="Line 5"/>
              <p:cNvSpPr/>
              <p:nvPr/>
            </p:nvSpPr>
            <p:spPr>
              <a:xfrm>
                <a:off x="2371680" y="3076560"/>
                <a:ext cx="0" cy="24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"/>
              <p:cNvSpPr/>
              <p:nvPr/>
            </p:nvSpPr>
            <p:spPr>
              <a:xfrm>
                <a:off x="2371680" y="554364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12"/>
              <p:cNvGrpSpPr/>
              <p:nvPr/>
            </p:nvGrpSpPr>
            <p:grpSpPr>
              <a:xfrm>
                <a:off x="2371680" y="3638520"/>
                <a:ext cx="4021200" cy="1898640"/>
                <a:chOff x="2371680" y="3638520"/>
                <a:chExt cx="4021200" cy="1898640"/>
              </a:xfrm>
            </p:grpSpPr>
            <p:sp>
              <p:nvSpPr>
                <p:cNvPr id="967" name="Freeform 7"/>
                <p:cNvSpPr/>
                <p:nvPr/>
              </p:nvSpPr>
              <p:spPr>
                <a:xfrm>
                  <a:off x="2371680" y="5484960"/>
                  <a:ext cx="731880" cy="52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61" h="33">
                      <a:moveTo>
                        <a:pt x="0" y="32"/>
                      </a:moveTo>
                      <a:lnTo>
                        <a:pt x="6" y="30"/>
                      </a:lnTo>
                      <a:lnTo>
                        <a:pt x="17" y="30"/>
                      </a:lnTo>
                      <a:lnTo>
                        <a:pt x="24" y="28"/>
                      </a:lnTo>
                      <a:lnTo>
                        <a:pt x="35" y="30"/>
                      </a:lnTo>
                      <a:lnTo>
                        <a:pt x="42" y="28"/>
                      </a:lnTo>
                      <a:lnTo>
                        <a:pt x="143" y="30"/>
                      </a:lnTo>
                      <a:lnTo>
                        <a:pt x="244" y="28"/>
                      </a:lnTo>
                      <a:lnTo>
                        <a:pt x="368" y="18"/>
                      </a:lnTo>
                      <a:lnTo>
                        <a:pt x="415" y="7"/>
                      </a:lnTo>
                      <a:lnTo>
                        <a:pt x="46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8"/>
                <p:cNvSpPr/>
                <p:nvPr/>
              </p:nvSpPr>
              <p:spPr>
                <a:xfrm>
                  <a:off x="3114720" y="5197320"/>
                  <a:ext cx="1087560" cy="28440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685" h="179">
                      <a:moveTo>
                        <a:pt x="0" y="178"/>
                      </a:moveTo>
                      <a:lnTo>
                        <a:pt x="204" y="143"/>
                      </a:lnTo>
                      <a:lnTo>
                        <a:pt x="469" y="69"/>
                      </a:lnTo>
                      <a:lnTo>
                        <a:pt x="684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"/>
                <p:cNvSpPr/>
                <p:nvPr/>
              </p:nvSpPr>
              <p:spPr>
                <a:xfrm>
                  <a:off x="4200480" y="4697280"/>
                  <a:ext cx="1015920" cy="501840"/>
                </a:xfrm>
                <a:custGeom>
                  <a:avLst/>
                  <a:gdLst>
                    <a:gd name="textAreaLeft" fmla="*/ 0 w 1015920"/>
                    <a:gd name="textAreaRight" fmla="*/ 1016280 w 1015920"/>
                    <a:gd name="textAreaTop" fmla="*/ 0 h 501840"/>
                    <a:gd name="textAreaBottom" fmla="*/ 502200 h 501840"/>
                  </a:gdLst>
                  <a:ahLst/>
                  <a:rect l="textAreaLeft" t="textAreaTop" r="textAreaRight" b="textAreaBottom"/>
                  <a:pathLst>
                    <a:path w="640" h="316">
                      <a:moveTo>
                        <a:pt x="0" y="315"/>
                      </a:moveTo>
                      <a:lnTo>
                        <a:pt x="220" y="224"/>
                      </a:lnTo>
                      <a:lnTo>
                        <a:pt x="381" y="146"/>
                      </a:lnTo>
                      <a:lnTo>
                        <a:pt x="63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0"/>
                <p:cNvSpPr/>
                <p:nvPr/>
              </p:nvSpPr>
              <p:spPr>
                <a:xfrm>
                  <a:off x="5214960" y="4024440"/>
                  <a:ext cx="855720" cy="6746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w="539" h="425">
                      <a:moveTo>
                        <a:pt x="0" y="424"/>
                      </a:moveTo>
                      <a:lnTo>
                        <a:pt x="210" y="285"/>
                      </a:lnTo>
                      <a:lnTo>
                        <a:pt x="333" y="190"/>
                      </a:lnTo>
                      <a:lnTo>
                        <a:pt x="467" y="73"/>
                      </a:lnTo>
                      <a:lnTo>
                        <a:pt x="53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"/>
                <p:cNvSpPr/>
                <p:nvPr/>
              </p:nvSpPr>
              <p:spPr>
                <a:xfrm>
                  <a:off x="6068880" y="3638520"/>
                  <a:ext cx="324000" cy="38736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204" h="244">
                      <a:moveTo>
                        <a:pt x="0" y="243"/>
                      </a:moveTo>
                      <a:lnTo>
                        <a:pt x="54" y="191"/>
                      </a:lnTo>
                      <a:lnTo>
                        <a:pt x="107" y="130"/>
                      </a:lnTo>
                      <a:lnTo>
                        <a:pt x="161" y="60"/>
                      </a:lnTo>
                      <a:lnTo>
                        <a:pt x="20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Freeform 13"/>
              <p:cNvSpPr/>
              <p:nvPr/>
            </p:nvSpPr>
            <p:spPr>
              <a:xfrm>
                <a:off x="3476520" y="4464000"/>
                <a:ext cx="2478240" cy="1071720"/>
              </a:xfrm>
              <a:custGeom>
                <a:avLst/>
                <a:gdLst>
                  <a:gd name="textAreaLeft" fmla="*/ 0 w 2478240"/>
                  <a:gd name="textAreaRight" fmla="*/ 2478600 w 2478240"/>
                  <a:gd name="textAreaTop" fmla="*/ 0 h 1071720"/>
                  <a:gd name="textAreaBottom" fmla="*/ 1072080 h 1071720"/>
                </a:gdLst>
                <a:ahLst/>
                <a:rect l="textAreaLeft" t="textAreaTop" r="textAreaRight" b="textAreaBottom"/>
                <a:pathLst>
                  <a:path w="1561" h="675">
                    <a:moveTo>
                      <a:pt x="0" y="674"/>
                    </a:moveTo>
                    <a:lnTo>
                      <a:pt x="156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4"/>
              <p:cNvSpPr/>
              <p:nvPr/>
            </p:nvSpPr>
            <p:spPr>
              <a:xfrm>
                <a:off x="4505400" y="5081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5"/>
              <p:cNvSpPr/>
              <p:nvPr/>
            </p:nvSpPr>
            <p:spPr>
              <a:xfrm flipH="1">
                <a:off x="2371320" y="5092560"/>
                <a:ext cx="213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6"/>
              <p:cNvSpPr/>
              <p:nvPr/>
            </p:nvSpPr>
            <p:spPr>
              <a:xfrm>
                <a:off x="4336560" y="557856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7"/>
              <p:cNvSpPr/>
              <p:nvPr/>
            </p:nvSpPr>
            <p:spPr>
              <a:xfrm>
                <a:off x="2025360" y="480060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8"/>
              <p:cNvSpPr/>
              <p:nvPr/>
            </p:nvSpPr>
            <p:spPr>
              <a:xfrm>
                <a:off x="5741280" y="4521240"/>
                <a:ext cx="1934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lope =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9"/>
              <p:cNvSpPr/>
              <p:nvPr/>
            </p:nvSpPr>
            <p:spPr>
              <a:xfrm>
                <a:off x="5224680" y="5549760"/>
                <a:ext cx="2196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tock pri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9A57-C4DC-42E3-990A-F4BA520082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Implied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lied volatility of an option is the volatility for which the Black-Scholes price equals the marke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 a one-to-one correspondence between prices and implied vola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 and brokers often quote implied volatilities rather than dollar pri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6E8-00CA-4FFE-B76F-D8F0DADB3D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c1302"/>
                </a:solidFill>
                <a:latin typeface="Times New Roman"/>
              </a:rPr>
              <a:t>The VIX Index of S&amp;P 500 Implied Volatility; Jan. 2004 to Sept. 2009</a:t>
            </a:r>
            <a:endParaRPr b="1" lang="en-US" sz="36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E6B-E60B-4C73-8A95-B88A31701A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3" descr=""/>
          <p:cNvPicPr/>
          <p:nvPr/>
        </p:nvPicPr>
        <p:blipFill>
          <a:blip r:embed="rId1"/>
          <a:stretch/>
        </p:blipFill>
        <p:spPr>
          <a:xfrm>
            <a:off x="361800" y="1698480"/>
            <a:ext cx="7105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olatility Smi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64304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atility smile shows the variation of the implied volatility with the 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smile is the same whether calculated from European call options or European put options. (This follows from put-call parity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3AB9-98D1-4946-AB81-05A6F99219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532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Foreign Currency Options</a:t>
            </a: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990" name="Group 1027"/>
          <p:cNvGrpSpPr/>
          <p:nvPr/>
        </p:nvGrpSpPr>
        <p:grpSpPr>
          <a:xfrm>
            <a:off x="2743200" y="2438280"/>
            <a:ext cx="3670200" cy="3280680"/>
            <a:chOff x="2743200" y="2438280"/>
            <a:chExt cx="3670200" cy="3280680"/>
          </a:xfrm>
        </p:grpSpPr>
        <p:sp>
          <p:nvSpPr>
            <p:cNvPr id="991" name="Line 1028"/>
            <p:cNvSpPr/>
            <p:nvPr/>
          </p:nvSpPr>
          <p:spPr>
            <a:xfrm>
              <a:off x="2743200" y="2680920"/>
              <a:ext cx="0" cy="261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029"/>
            <p:cNvSpPr/>
            <p:nvPr/>
          </p:nvSpPr>
          <p:spPr>
            <a:xfrm>
              <a:off x="2743200" y="529236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30"/>
            <p:cNvSpPr/>
            <p:nvPr/>
          </p:nvSpPr>
          <p:spPr>
            <a:xfrm>
              <a:off x="2804400" y="243828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031"/>
            <p:cNvSpPr/>
            <p:nvPr/>
          </p:nvSpPr>
          <p:spPr>
            <a:xfrm>
              <a:off x="2805120" y="285876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a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1032"/>
            <p:cNvSpPr/>
            <p:nvPr/>
          </p:nvSpPr>
          <p:spPr>
            <a:xfrm>
              <a:off x="5403960" y="4836960"/>
              <a:ext cx="96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033"/>
            <p:cNvSpPr/>
            <p:nvPr/>
          </p:nvSpPr>
          <p:spPr>
            <a:xfrm>
              <a:off x="5404320" y="5260680"/>
              <a:ext cx="87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034"/>
          <p:cNvGrpSpPr/>
          <p:nvPr/>
        </p:nvGrpSpPr>
        <p:grpSpPr>
          <a:xfrm>
            <a:off x="2762280" y="3505320"/>
            <a:ext cx="3263760" cy="610920"/>
            <a:chOff x="2762280" y="3505320"/>
            <a:chExt cx="3263760" cy="610920"/>
          </a:xfrm>
        </p:grpSpPr>
        <p:sp>
          <p:nvSpPr>
            <p:cNvPr id="998" name="Freeform 1035"/>
            <p:cNvSpPr/>
            <p:nvPr/>
          </p:nvSpPr>
          <p:spPr>
            <a:xfrm>
              <a:off x="2762280" y="3510000"/>
              <a:ext cx="474480" cy="3333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99" h="21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5"/>
                  </a:lnTo>
                  <a:lnTo>
                    <a:pt x="30" y="18"/>
                  </a:lnTo>
                  <a:lnTo>
                    <a:pt x="90" y="73"/>
                  </a:lnTo>
                  <a:lnTo>
                    <a:pt x="153" y="124"/>
                  </a:lnTo>
                  <a:lnTo>
                    <a:pt x="235" y="179"/>
                  </a:lnTo>
                  <a:lnTo>
                    <a:pt x="268" y="191"/>
                  </a:lnTo>
                  <a:lnTo>
                    <a:pt x="298" y="2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6"/>
            <p:cNvSpPr/>
            <p:nvPr/>
          </p:nvSpPr>
          <p:spPr>
            <a:xfrm>
              <a:off x="3243240" y="3841920"/>
              <a:ext cx="792360" cy="2538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99" h="160">
                  <a:moveTo>
                    <a:pt x="0" y="0"/>
                  </a:moveTo>
                  <a:lnTo>
                    <a:pt x="141" y="69"/>
                  </a:lnTo>
                  <a:lnTo>
                    <a:pt x="337" y="126"/>
                  </a:lnTo>
                  <a:lnTo>
                    <a:pt x="498" y="1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37"/>
            <p:cNvSpPr/>
            <p:nvPr/>
          </p:nvSpPr>
          <p:spPr>
            <a:xfrm>
              <a:off x="4033800" y="4071960"/>
              <a:ext cx="833400" cy="4428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25" h="28">
                  <a:moveTo>
                    <a:pt x="0" y="15"/>
                  </a:moveTo>
                  <a:lnTo>
                    <a:pt x="174" y="27"/>
                  </a:lnTo>
                  <a:lnTo>
                    <a:pt x="305" y="27"/>
                  </a:lnTo>
                  <a:lnTo>
                    <a:pt x="5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38"/>
            <p:cNvSpPr/>
            <p:nvPr/>
          </p:nvSpPr>
          <p:spPr>
            <a:xfrm>
              <a:off x="4865760" y="3767040"/>
              <a:ext cx="803160" cy="30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06" h="193">
                  <a:moveTo>
                    <a:pt x="0" y="192"/>
                  </a:moveTo>
                  <a:lnTo>
                    <a:pt x="187" y="146"/>
                  </a:lnTo>
                  <a:lnTo>
                    <a:pt x="301" y="107"/>
                  </a:lnTo>
                  <a:lnTo>
                    <a:pt x="433" y="43"/>
                  </a:lnTo>
                  <a:lnTo>
                    <a:pt x="50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39"/>
            <p:cNvSpPr/>
            <p:nvPr/>
          </p:nvSpPr>
          <p:spPr>
            <a:xfrm>
              <a:off x="5667480" y="3505320"/>
              <a:ext cx="358560" cy="263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6" h="166">
                  <a:moveTo>
                    <a:pt x="0" y="165"/>
                  </a:moveTo>
                  <a:lnTo>
                    <a:pt x="54" y="135"/>
                  </a:lnTo>
                  <a:lnTo>
                    <a:pt x="113" y="93"/>
                  </a:lnTo>
                  <a:lnTo>
                    <a:pt x="173" y="45"/>
                  </a:lnTo>
                  <a:lnTo>
                    <a:pt x="22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98A7-E1C4-4124-96D9-D2E22B6C3C0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1219320" y="2146320"/>
            <a:ext cx="7010280" cy="3870360"/>
          </a:xfrm>
          <a:prstGeom prst="rect">
            <a:avLst/>
          </a:prstGeom>
          <a:ln w="0">
            <a:noFill/>
          </a:ln>
        </p:spPr>
      </p:pic>
      <p:sp>
        <p:nvSpPr>
          <p:cNvPr id="10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220F-2040-4A76-8CD6-86F90D790E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4038480" y="2971800"/>
            <a:ext cx="28958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Properties of 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ails are heavier than the log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“more peaked” than the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683-DC86-4894-ACF4-77AA9C97F8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2" name="Line 4"/>
          <p:cNvSpPr/>
          <p:nvPr/>
        </p:nvSpPr>
        <p:spPr>
          <a:xfrm>
            <a:off x="2743200" y="246852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2743200" y="52880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6"/>
          <p:cNvSpPr/>
          <p:nvPr/>
        </p:nvSpPr>
        <p:spPr>
          <a:xfrm>
            <a:off x="2804400" y="220968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2803680" y="2590920"/>
            <a:ext cx="146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5394240" y="4800600"/>
            <a:ext cx="96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9"/>
          <p:cNvSpPr/>
          <p:nvPr/>
        </p:nvSpPr>
        <p:spPr>
          <a:xfrm>
            <a:off x="5394600" y="525780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10"/>
          <p:cNvGrpSpPr/>
          <p:nvPr/>
        </p:nvGrpSpPr>
        <p:grpSpPr>
          <a:xfrm>
            <a:off x="2941560" y="3355920"/>
            <a:ext cx="2471760" cy="1438200"/>
            <a:chOff x="2941560" y="3355920"/>
            <a:chExt cx="2471760" cy="1438200"/>
          </a:xfrm>
        </p:grpSpPr>
        <p:sp>
          <p:nvSpPr>
            <p:cNvPr id="1019" name="Freeform 11"/>
            <p:cNvSpPr/>
            <p:nvPr/>
          </p:nvSpPr>
          <p:spPr>
            <a:xfrm>
              <a:off x="2941560" y="3355920"/>
              <a:ext cx="325440" cy="412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05" h="260">
                  <a:moveTo>
                    <a:pt x="0" y="0"/>
                  </a:moveTo>
                  <a:lnTo>
                    <a:pt x="6" y="3"/>
                  </a:lnTo>
                  <a:lnTo>
                    <a:pt x="8" y="9"/>
                  </a:lnTo>
                  <a:lnTo>
                    <a:pt x="13" y="14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60" y="84"/>
                  </a:lnTo>
                  <a:lnTo>
                    <a:pt x="101" y="145"/>
                  </a:lnTo>
                  <a:lnTo>
                    <a:pt x="157" y="213"/>
                  </a:lnTo>
                  <a:lnTo>
                    <a:pt x="183" y="234"/>
                  </a:lnTo>
                  <a:lnTo>
                    <a:pt x="204" y="2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3273480" y="3772080"/>
              <a:ext cx="625320" cy="501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94" h="316">
                  <a:moveTo>
                    <a:pt x="0" y="0"/>
                  </a:moveTo>
                  <a:lnTo>
                    <a:pt x="105" y="104"/>
                  </a:lnTo>
                  <a:lnTo>
                    <a:pt x="260" y="225"/>
                  </a:lnTo>
                  <a:lnTo>
                    <a:pt x="393" y="31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3897360" y="4272120"/>
              <a:ext cx="735120" cy="35532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463" h="224">
                  <a:moveTo>
                    <a:pt x="0" y="0"/>
                  </a:moveTo>
                  <a:lnTo>
                    <a:pt x="149" y="85"/>
                  </a:lnTo>
                  <a:lnTo>
                    <a:pt x="262" y="143"/>
                  </a:lnTo>
                  <a:lnTo>
                    <a:pt x="462" y="2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4630680" y="4626000"/>
              <a:ext cx="782640" cy="168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3" h="106">
                  <a:moveTo>
                    <a:pt x="0" y="0"/>
                  </a:moveTo>
                  <a:lnTo>
                    <a:pt x="174" y="54"/>
                  </a:lnTo>
                  <a:lnTo>
                    <a:pt x="284" y="79"/>
                  </a:lnTo>
                  <a:lnTo>
                    <a:pt x="417" y="99"/>
                  </a:lnTo>
                  <a:lnTo>
                    <a:pt x="492" y="10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C01B-5328-4F4C-927F-84EBD600CBF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914400" y="2146320"/>
            <a:ext cx="6858000" cy="3786120"/>
          </a:xfrm>
          <a:prstGeom prst="rect">
            <a:avLst/>
          </a:prstGeom>
          <a:ln w="0">
            <a:noFill/>
          </a:ln>
        </p:spPr>
      </p:pic>
      <p:sp>
        <p:nvSpPr>
          <p:cNvPr id="10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E47-1DB6-4085-AB08-B595B9B9F7D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3657600" y="3048120"/>
            <a:ext cx="2743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i)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638280" y="4800600"/>
            <a:ext cx="8082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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a normal distribution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vari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1024"/>
              <p:cNvSpPr txBox="1"/>
              <p:nvPr/>
            </p:nvSpPr>
            <p:spPr>
              <a:xfrm>
                <a:off x="495360" y="1555920"/>
                <a:ext cx="7008840" cy="29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D3A8-B3DC-4E3B-842C-2206E466127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Distribu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4"/>
              <p:cNvSpPr txBox="1"/>
              <p:nvPr/>
            </p:nvSpPr>
            <p:spPr>
              <a:xfrm>
                <a:off x="2070000" y="4800600"/>
                <a:ext cx="51008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m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1" name="Rectangle 5"/>
          <p:cNvSpPr/>
          <p:nvPr/>
        </p:nvSpPr>
        <p:spPr>
          <a:xfrm>
            <a:off x="1371600" y="25146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1519200" y="1390680"/>
          <a:ext cx="6086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0680"/>
                    <a:ext cx="6086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7"/>
          <p:cNvGraphicFramePr/>
          <p:nvPr/>
        </p:nvGraphicFramePr>
        <p:xfrm>
          <a:off x="1544760" y="2612880"/>
          <a:ext cx="3673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4760" y="2612880"/>
                    <a:ext cx="3673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8"/>
          <p:cNvGraphicFramePr/>
          <p:nvPr/>
        </p:nvGraphicFramePr>
        <p:xfrm>
          <a:off x="1905120" y="1295280"/>
          <a:ext cx="7237440" cy="4114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295280"/>
                    <a:ext cx="723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95FE-476A-4B99-B3D4-8146236905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is the standard deviation of the continuously compounded rate of return in 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the return in 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024"/>
              <p:cNvSpPr txBox="1"/>
              <p:nvPr/>
            </p:nvSpPr>
            <p:spPr>
              <a:xfrm>
                <a:off x="3124080" y="3733920"/>
                <a:ext cx="976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8E01-B648-4F8E-918A-D92D027152D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Concepts Underlying Black-Schole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8680" y="1719360"/>
            <a:ext cx="77677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rice and the stock price depend on the same underlying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a portfolio consisting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k and the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eliminates this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folio is instantaneously riskless and must instantaneously earn the risk-fre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AE5-CD8E-4054-83BE-124ACE02901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762120" y="1981080"/>
            <a:ext cx="7086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 us derive the Black-Scholes 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2T05:06:26Z</dcterms:created>
  <dc:creator>John C. Hull</dc:creator>
  <dc:description>Copyright 2010 by John C. Hull.
All rights reserved. Published 2010.</dc:description>
  <cp:keywords>Chapter 13</cp:keywords>
  <dc:language>en-US</dc:language>
  <cp:lastModifiedBy>VCHARLIN</cp:lastModifiedBy>
  <cp:lastPrinted>2001-05-03T13:08:45Z</cp:lastPrinted>
  <dcterms:modified xsi:type="dcterms:W3CDTF">2010-11-18T22:34:21Z</dcterms:modified>
  <cp:revision>47</cp:revision>
  <dc:subject>Fundamentals of Futures and Options Markets, 7E</dc:subject>
  <dc:title>Valuing Stock Options: The Black-Scholes-Merton Model</dc:title>
</cp:coreProperties>
</file>