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A2229A-6D9E-47F1-97ED-88EA142FDC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7C204B-764C-43C7-8310-61B2EEDC72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4E99A5-04FD-47AC-BB97-64D568FD22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48CFAC-46F2-4158-8150-26D1902B29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E2C1AA-8471-4D78-B709-B455FD7352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0C8664-D814-4A95-A705-86008CB49B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83AA93-D1CA-49AD-9E27-56B8569FA1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D95223-C150-4EC6-881E-C2B1D16354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7B62C6-EB28-4295-A02A-B4386CF253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0B7300-CCB7-4596-B8C2-A9EAD0F79B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C2EA10-8CF4-4D29-93A4-15DCB245C2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820C-FA73-4F7C-8657-801C90B3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6324-68AD-4AF6-8577-EA064F643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697-7D83-4E02-928D-47C4205C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659-0B3C-49A7-870C-77DE06F4B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B97B-CA6C-4C89-B2B7-79408CAC4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883-F07F-4049-827A-F4CF014B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D3B298-3F5C-47DC-BA06-19EEAF1E44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BFD91C-CABF-4A8B-B9D8-A0FA2E7FE8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2DAF37-7DF9-4DDD-8CF8-03359A6587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2280A0-D98D-42F3-B8D4-8D07C693DD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7CC-E360-4B00-B408-4CBE3158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527-9CBC-46B7-8417-AEDD9BC2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1A187-8696-4B82-A79D-4D36CC9E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F9567-0747-41BC-990C-292CAA2F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27EB6-9E8E-4EB6-B438-6971C725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26499-B3CE-472A-947E-A4FECF6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EB8DE-906E-4B76-8659-453F9E2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3E7D1-8A86-45FE-9402-D6B37457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09FD8-FA0C-4F12-9A8E-EF4E23AF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57FFF-799D-4BFB-80E5-6A482418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A7EDC-EE3C-4126-BFE0-A18BF8E3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BE394-E295-439B-89AB-C05D72D6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813-7B84-4FB7-ABE7-B1CF8DEC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9D9EF-385D-4162-A0CA-BB6E7154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719CD-10F3-4CD7-9C3D-6690EE45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7D038-7187-4B09-8488-F88924C2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C09FB-B7F8-4EBF-A314-AD1846EA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22916-1DB8-4999-8F1B-55ACB0B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A13AA-2CBF-4F7E-812C-F449F40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6D581-C3AB-45E0-B795-53BB2B1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82CA1-C0D8-4AEF-ABBF-0445576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E81D2-039D-4A8A-B2B3-607C91D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64107-8F2E-4D63-A5E3-8959143D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CB1-CA65-42FC-9AA2-7069821D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27293-AD75-492C-9440-2E313EF3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9677-0459-4C0D-8166-2F4BC10D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7FB63-4331-474E-9AF4-E4A294B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1C669-78DF-4A64-96CA-F459FBE2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93085-8469-4431-9F13-09C2E9B5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D4CAA-7D3C-42B3-9EDE-7D6654E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ADCBB-3299-45CF-9024-641D912F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AC939-2700-44DC-94C4-ECD632BE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7FCC5-80FC-4B0E-8AB0-1B89CDC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4539B-BAAD-4B30-BEB8-02A2C174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3931-075C-4B2D-81DB-73DF4C56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CA09F-DBF5-46E9-AEDE-C5741711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D1283-E9ED-40E2-A4F9-27A9A05C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99CE9-76C0-48AB-AF62-7CD2EAF1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4821F-166E-481F-9DCF-8ED6E43F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3898F-5338-466C-BF56-1A7FE46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69F75-D938-4855-810C-22DBB5F5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5245A-BEF6-4DBE-B1E9-5FFC114D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34165-FF90-417D-A6C4-ABDAE69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01403-B4FF-4186-9E87-0BAE1D9B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12089-B148-4A6A-AF46-DCFEAF3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BAC4-F335-4D54-B88E-9FC299A7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B1CDF-56D7-4B67-B86A-01CF6C8F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910EF-37DA-4B1C-AD61-BAF637D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028A1-8F06-4F45-B43B-DA94D8B1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5D214-854A-4F3D-80E3-F41B148F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AAE80-A3FC-4B3B-B3D0-5145C27B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3014-63E1-4A32-B935-D868B7C9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2183-61B3-43A7-9C7C-E9621D8F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B72E-5867-42CF-A001-759F55E9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99BD-E329-4BFC-AEF8-7310AC17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C745-DE57-42A2-9546-675D4B2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BA5-B4B4-4191-AC90-3C425BBE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F07D-8D58-4242-BF15-F913701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EDC2-2A8C-4ED4-A1AF-B9A3A98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7F46-2E06-4650-923D-9A57CAB5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17DB-91AE-49C2-B46D-BE1F746F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FCB1-12DF-4D71-8E15-7E93D3AD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5034-3578-4123-8DCA-557C4F67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CD07-B0C3-4871-91CC-3AD19FBD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0309-3A63-4EBC-A459-495559C2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1745-CF70-43DD-9742-D2FD7F9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DF0F-1791-46EE-AAAC-C62E4588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53B-D359-4A97-841B-647C4BE3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14D6-C6C7-44B0-B6ED-33AFF701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CFE6-5B5C-4885-B33A-EE66AE6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34F5-AA96-45C7-81F6-EFF4290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F571-456B-4201-985E-1AEDA41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B939-D22C-47C7-9930-607B2915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6A907-6F78-42C3-9C68-3979074D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26DE-E351-4C54-AAF0-CD4BB30C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39A6-4F84-4A55-9ED4-90BDAAD8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F450-62BB-45C5-A801-A7AA98BB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BCD17-CCC8-4D5D-83D6-84C64450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7B5-4DD2-49BE-9396-229E6998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46FB-8911-406F-AF48-2069A59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6134-4935-42AC-80CE-8FCC30AA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8B0A-3F34-4D6D-941D-2A4D5B2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385C-3B06-4761-9F43-72509381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BD1C-39ED-4308-B02B-30C5C88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2BFF9-DE13-4F4D-8305-0F5231CC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069E-E0ED-4AF1-AF4B-A415487B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5B86-82BC-482F-B028-496777C1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ADB4-EB96-4A69-99FE-DBB3564D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D1727-A358-4629-9D9B-E1488C2D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5CB-6F40-44A0-AA5C-F836A990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4656-3A0F-4E08-9968-77E8BE2D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7C098-08EB-4CC8-885C-DCBF6A24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2922-4A8C-4DE0-8776-9D4CCFFD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48D6-ACB2-4BE3-8068-B7CE5901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B133-3F96-40B6-A496-F9B7EAEC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A446D-8644-4971-B296-B9C6C1F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DC7E-FDFB-4515-AE2E-C9AFD3AC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9A36-552E-42EA-9CAB-0D5B533B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A2DE-C9D5-46C2-B445-279C2B15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99E8-9209-4AB4-A2B1-8363C539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953-5969-45F1-B92C-A430C8A2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D97B-92EB-4C1B-ABCF-889D0D76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5922-3CA8-493E-A734-D94A443A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A3C30-AECD-414A-B915-D31B6F94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F417-C112-46A9-9762-A0A333B7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5D8C-4D2E-449C-89D1-E595481F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E5D7C-5162-45C2-8ADF-BFD94FD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5E0AA-B6D6-4AD2-9EE1-6F8128A9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6A05-412B-40CD-9816-26A8588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33B3B-04C3-48F3-B5C6-446DAB3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9CD7-EA61-44A4-9847-F59D805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1C2-B88E-4BB3-A3DE-FDE34145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725E-D251-43FC-94AE-255C1BC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74CB-0C1C-4159-BD24-10987111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EF06C-1FD2-4FFB-BCE5-9302E2FA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6171-52EE-428F-9557-EBB95623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D04F2-8404-43BD-B5D3-94705083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D11B-BB17-4BB6-A442-E8925158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C2CDF-2C08-4D90-9F4E-48F4A81E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77B4A-D6B0-4D82-9823-AA265B5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8C55-0582-4DE0-8BB3-9097A14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53F8-579B-4AC2-BE40-7B0882C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D7C-B81F-4264-831F-23C0963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4FC4-CF91-4339-8EAF-D633C80A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FE73B-C058-4B99-9A55-D802757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736C-8AC5-4514-BAAA-0CA45090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5D87E-6EC7-45D0-9DEC-2BC597FA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304F8-CF58-4191-B043-EED0FF9E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5AACF-76EE-4242-99FC-A4F9B63D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5005-4F7F-4FDA-BCE2-FCD46DE7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382B-C5AC-4B50-9830-B034BEA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90E2F-4F56-4E5B-909A-65FB416A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73AD-01BC-4816-8CF9-50F9EF10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9B8-5E8E-4205-A90F-51F08D0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49D6D-209E-4F8A-B113-8A1B145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604F8-5167-41CD-A8D4-7DA2F2A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26213-8132-4C26-9A85-F3D7330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18E4-8041-4922-BD69-32A177F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C681-3463-470B-B9CE-158ACC3D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040F6-6FDE-452C-8F85-65E6DE3E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1B5B-C30F-434D-BB19-3F199B04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5C5AE-13AD-4948-BA82-9591402B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84C59-8D44-41E7-A162-57854A69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3A5C0-541C-4E1F-B176-A5BEF93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B856-780E-4639-AEFD-4840EC4560B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93C3-D6B1-483D-90C4-F42EB173909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7ED-A0D8-45CF-90A5-D502A8993E9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CB28-627A-4C40-91DF-9DD7CA75B49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F66-1E0D-4A17-94EE-54C57EF4D5A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C929-06AC-4568-A248-4C9C69DD5EA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7FA8-623F-4163-BB08-3B43957D212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E7B-63A2-4D33-B034-51939D17406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0E77-F52F-4983-9ECE-2A944C73E3D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1B98-FEA1-4A96-AEE2-BF51C9E9E7C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7B7-6AC8-492D-8E17-063386D6764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E063-ECBA-4C92-863C-11B68422E26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-Merton Formula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stock whose pri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hort period of time of leng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turn on the stock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ssumed to be normal with me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expected return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4"/>
              <p:cNvSpPr txBox="1"/>
              <p:nvPr/>
            </p:nvSpPr>
            <p:spPr>
              <a:xfrm>
                <a:off x="4092480" y="4267080"/>
                <a:ext cx="1185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6AAA-F555-408E-BAF0-034EC559F8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3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9" name=""/>
          <p:cNvGraphicFramePr/>
          <p:nvPr/>
        </p:nvGraphicFramePr>
        <p:xfrm>
          <a:off x="914400" y="662040"/>
          <a:ext cx="72388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62040"/>
                    <a:ext cx="72388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457200" y="601560"/>
          <a:ext cx="77724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77724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33520" y="179064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app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Black-Schole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ation is independent of all variables affected by risk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onsistent with the risk-neutral valuation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52F-8AA7-4089-BB97-5C8F13DDA50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Applying 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530000" y="1719360"/>
            <a:ext cx="60865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expected return from an asset is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xpected payoff from the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at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EE68-A203-4355-AEFB-C8888AE80B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447920" y="57913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VERY  VERY   IMPORTANT 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 Formulas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4BF0-365B-451E-824B-623CA26F49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) Func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044-3903-4AD1-BC20-FD5ED26326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16292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ssumptions imply that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rmally distributed with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logarith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g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"/>
              <p:cNvSpPr txBox="1"/>
              <p:nvPr/>
            </p:nvSpPr>
            <p:spPr>
              <a:xfrm>
                <a:off x="2514600" y="2514600"/>
                <a:ext cx="4114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12"/>
              <p:cNvSpPr txBox="1"/>
              <p:nvPr/>
            </p:nvSpPr>
            <p:spPr>
              <a:xfrm>
                <a:off x="4495680" y="3568680"/>
                <a:ext cx="914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257-75CE-429B-A4F2-87FC1D6ADE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Properties of Black-Scholes Formula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lar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sm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E6FA-79C9-41C9-AB8C-72E7E7515F6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Delta of an OP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77760" y="1429920"/>
            <a:ext cx="725184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e rate of change of the option price with respect to the under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Group 21"/>
          <p:cNvGrpSpPr/>
          <p:nvPr/>
        </p:nvGrpSpPr>
        <p:grpSpPr>
          <a:xfrm>
            <a:off x="2025360" y="2674800"/>
            <a:ext cx="5650560" cy="3483720"/>
            <a:chOff x="2025360" y="2674800"/>
            <a:chExt cx="5650560" cy="3483720"/>
          </a:xfrm>
        </p:grpSpPr>
        <p:sp>
          <p:nvSpPr>
            <p:cNvPr id="962" name="Rectangle 4"/>
            <p:cNvSpPr/>
            <p:nvPr/>
          </p:nvSpPr>
          <p:spPr>
            <a:xfrm>
              <a:off x="2121120" y="2674800"/>
              <a:ext cx="1607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20"/>
            <p:cNvGrpSpPr/>
            <p:nvPr/>
          </p:nvGrpSpPr>
          <p:grpSpPr>
            <a:xfrm>
              <a:off x="2025360" y="3076560"/>
              <a:ext cx="5650560" cy="3081960"/>
              <a:chOff x="2025360" y="3076560"/>
              <a:chExt cx="5650560" cy="3081960"/>
            </a:xfrm>
          </p:grpSpPr>
          <p:sp>
            <p:nvSpPr>
              <p:cNvPr id="964" name="Line 5"/>
              <p:cNvSpPr/>
              <p:nvPr/>
            </p:nvSpPr>
            <p:spPr>
              <a:xfrm>
                <a:off x="2371680" y="3076560"/>
                <a:ext cx="0" cy="24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6"/>
              <p:cNvSpPr/>
              <p:nvPr/>
            </p:nvSpPr>
            <p:spPr>
              <a:xfrm>
                <a:off x="2371680" y="554364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Group 12"/>
              <p:cNvGrpSpPr/>
              <p:nvPr/>
            </p:nvGrpSpPr>
            <p:grpSpPr>
              <a:xfrm>
                <a:off x="2371680" y="3638520"/>
                <a:ext cx="4021200" cy="1898640"/>
                <a:chOff x="2371680" y="3638520"/>
                <a:chExt cx="4021200" cy="1898640"/>
              </a:xfrm>
            </p:grpSpPr>
            <p:sp>
              <p:nvSpPr>
                <p:cNvPr id="967" name="Freeform 7"/>
                <p:cNvSpPr/>
                <p:nvPr/>
              </p:nvSpPr>
              <p:spPr>
                <a:xfrm>
                  <a:off x="2371680" y="5484960"/>
                  <a:ext cx="731880" cy="5220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61" h="33">
                      <a:moveTo>
                        <a:pt x="0" y="32"/>
                      </a:moveTo>
                      <a:lnTo>
                        <a:pt x="6" y="30"/>
                      </a:lnTo>
                      <a:lnTo>
                        <a:pt x="17" y="30"/>
                      </a:lnTo>
                      <a:lnTo>
                        <a:pt x="24" y="28"/>
                      </a:lnTo>
                      <a:lnTo>
                        <a:pt x="35" y="30"/>
                      </a:lnTo>
                      <a:lnTo>
                        <a:pt x="42" y="28"/>
                      </a:lnTo>
                      <a:lnTo>
                        <a:pt x="143" y="30"/>
                      </a:lnTo>
                      <a:lnTo>
                        <a:pt x="244" y="28"/>
                      </a:lnTo>
                      <a:lnTo>
                        <a:pt x="368" y="18"/>
                      </a:lnTo>
                      <a:lnTo>
                        <a:pt x="415" y="7"/>
                      </a:lnTo>
                      <a:lnTo>
                        <a:pt x="46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8"/>
                <p:cNvSpPr/>
                <p:nvPr/>
              </p:nvSpPr>
              <p:spPr>
                <a:xfrm>
                  <a:off x="3114720" y="5197320"/>
                  <a:ext cx="1087560" cy="284400"/>
                </a:xfrm>
                <a:custGeom>
                  <a:avLst/>
                  <a:gdLst>
                    <a:gd name="textAreaLeft" fmla="*/ 0 w 1087560"/>
                    <a:gd name="textAreaRight" fmla="*/ 1087920 w 108756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685" h="179">
                      <a:moveTo>
                        <a:pt x="0" y="178"/>
                      </a:moveTo>
                      <a:lnTo>
                        <a:pt x="204" y="143"/>
                      </a:lnTo>
                      <a:lnTo>
                        <a:pt x="469" y="69"/>
                      </a:lnTo>
                      <a:lnTo>
                        <a:pt x="684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"/>
                <p:cNvSpPr/>
                <p:nvPr/>
              </p:nvSpPr>
              <p:spPr>
                <a:xfrm>
                  <a:off x="4200480" y="4697280"/>
                  <a:ext cx="1015920" cy="501840"/>
                </a:xfrm>
                <a:custGeom>
                  <a:avLst/>
                  <a:gdLst>
                    <a:gd name="textAreaLeft" fmla="*/ 0 w 1015920"/>
                    <a:gd name="textAreaRight" fmla="*/ 1016280 w 1015920"/>
                    <a:gd name="textAreaTop" fmla="*/ 0 h 501840"/>
                    <a:gd name="textAreaBottom" fmla="*/ 502200 h 501840"/>
                  </a:gdLst>
                  <a:ahLst/>
                  <a:rect l="textAreaLeft" t="textAreaTop" r="textAreaRight" b="textAreaBottom"/>
                  <a:pathLst>
                    <a:path w="640" h="316">
                      <a:moveTo>
                        <a:pt x="0" y="315"/>
                      </a:moveTo>
                      <a:lnTo>
                        <a:pt x="220" y="224"/>
                      </a:lnTo>
                      <a:lnTo>
                        <a:pt x="381" y="146"/>
                      </a:lnTo>
                      <a:lnTo>
                        <a:pt x="63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0"/>
                <p:cNvSpPr/>
                <p:nvPr/>
              </p:nvSpPr>
              <p:spPr>
                <a:xfrm>
                  <a:off x="5214960" y="4024440"/>
                  <a:ext cx="855720" cy="6746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w="539" h="425">
                      <a:moveTo>
                        <a:pt x="0" y="424"/>
                      </a:moveTo>
                      <a:lnTo>
                        <a:pt x="210" y="285"/>
                      </a:lnTo>
                      <a:lnTo>
                        <a:pt x="333" y="190"/>
                      </a:lnTo>
                      <a:lnTo>
                        <a:pt x="467" y="73"/>
                      </a:lnTo>
                      <a:lnTo>
                        <a:pt x="53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"/>
                <p:cNvSpPr/>
                <p:nvPr/>
              </p:nvSpPr>
              <p:spPr>
                <a:xfrm>
                  <a:off x="6068880" y="3638520"/>
                  <a:ext cx="324000" cy="38736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204" h="244">
                      <a:moveTo>
                        <a:pt x="0" y="243"/>
                      </a:moveTo>
                      <a:lnTo>
                        <a:pt x="54" y="191"/>
                      </a:lnTo>
                      <a:lnTo>
                        <a:pt x="107" y="130"/>
                      </a:lnTo>
                      <a:lnTo>
                        <a:pt x="161" y="60"/>
                      </a:lnTo>
                      <a:lnTo>
                        <a:pt x="20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Freeform 13"/>
              <p:cNvSpPr/>
              <p:nvPr/>
            </p:nvSpPr>
            <p:spPr>
              <a:xfrm>
                <a:off x="3476520" y="4464000"/>
                <a:ext cx="2478240" cy="1071720"/>
              </a:xfrm>
              <a:custGeom>
                <a:avLst/>
                <a:gdLst>
                  <a:gd name="textAreaLeft" fmla="*/ 0 w 2478240"/>
                  <a:gd name="textAreaRight" fmla="*/ 2478600 w 2478240"/>
                  <a:gd name="textAreaTop" fmla="*/ 0 h 1071720"/>
                  <a:gd name="textAreaBottom" fmla="*/ 1072080 h 1071720"/>
                </a:gdLst>
                <a:ahLst/>
                <a:rect l="textAreaLeft" t="textAreaTop" r="textAreaRight" b="textAreaBottom"/>
                <a:pathLst>
                  <a:path w="1561" h="675">
                    <a:moveTo>
                      <a:pt x="0" y="674"/>
                    </a:moveTo>
                    <a:lnTo>
                      <a:pt x="156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4"/>
              <p:cNvSpPr/>
              <p:nvPr/>
            </p:nvSpPr>
            <p:spPr>
              <a:xfrm>
                <a:off x="4505400" y="50817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15"/>
              <p:cNvSpPr/>
              <p:nvPr/>
            </p:nvSpPr>
            <p:spPr>
              <a:xfrm flipH="1">
                <a:off x="2371320" y="5092560"/>
                <a:ext cx="213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6"/>
              <p:cNvSpPr/>
              <p:nvPr/>
            </p:nvSpPr>
            <p:spPr>
              <a:xfrm>
                <a:off x="4336560" y="557856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7"/>
              <p:cNvSpPr/>
              <p:nvPr/>
            </p:nvSpPr>
            <p:spPr>
              <a:xfrm>
                <a:off x="2025360" y="480060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8"/>
              <p:cNvSpPr/>
              <p:nvPr/>
            </p:nvSpPr>
            <p:spPr>
              <a:xfrm>
                <a:off x="5741280" y="4521240"/>
                <a:ext cx="1934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lope =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9"/>
              <p:cNvSpPr/>
              <p:nvPr/>
            </p:nvSpPr>
            <p:spPr>
              <a:xfrm>
                <a:off x="5224680" y="5549760"/>
                <a:ext cx="2196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tock pric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7A7A-4ADF-4A2D-8924-2F4F2E718D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Implied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lied volatility of an option is the volatility for which the Black-Scholes price equals the marke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 a one-to-one correspondence between prices and implied vola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rs and brokers often quote implied volatilities rather than dollar pric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F4A-E550-4D3C-9306-E7A40B1B6D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c1302"/>
                </a:solidFill>
                <a:latin typeface="Times New Roman"/>
              </a:rPr>
              <a:t>The VIX Index of S&amp;P 500 Implied Volatility; Jan. 2004 to Sept. 2009</a:t>
            </a:r>
            <a:endParaRPr b="1" lang="en-US" sz="36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DAAB-4488-445D-8DAA-C0A33C7831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3" descr=""/>
          <p:cNvPicPr/>
          <p:nvPr/>
        </p:nvPicPr>
        <p:blipFill>
          <a:blip r:embed="rId1"/>
          <a:stretch/>
        </p:blipFill>
        <p:spPr>
          <a:xfrm>
            <a:off x="361800" y="1698480"/>
            <a:ext cx="7105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olatility Smi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64304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atility smile shows the variation of the implied volatility with the 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smile is the same whether calculated from European call options or European put options. (This follows from put-call parity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0068-1C13-448F-B1F6-A622631057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532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Foreign Currency Options</a:t>
            </a: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990" name="Group 1027"/>
          <p:cNvGrpSpPr/>
          <p:nvPr/>
        </p:nvGrpSpPr>
        <p:grpSpPr>
          <a:xfrm>
            <a:off x="2743200" y="2438280"/>
            <a:ext cx="3670200" cy="3280680"/>
            <a:chOff x="2743200" y="2438280"/>
            <a:chExt cx="3670200" cy="3280680"/>
          </a:xfrm>
        </p:grpSpPr>
        <p:sp>
          <p:nvSpPr>
            <p:cNvPr id="991" name="Line 1028"/>
            <p:cNvSpPr/>
            <p:nvPr/>
          </p:nvSpPr>
          <p:spPr>
            <a:xfrm>
              <a:off x="2743200" y="2680920"/>
              <a:ext cx="0" cy="261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029"/>
            <p:cNvSpPr/>
            <p:nvPr/>
          </p:nvSpPr>
          <p:spPr>
            <a:xfrm>
              <a:off x="2743200" y="529236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030"/>
            <p:cNvSpPr/>
            <p:nvPr/>
          </p:nvSpPr>
          <p:spPr>
            <a:xfrm>
              <a:off x="2804400" y="2438280"/>
              <a:ext cx="116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031"/>
            <p:cNvSpPr/>
            <p:nvPr/>
          </p:nvSpPr>
          <p:spPr>
            <a:xfrm>
              <a:off x="2805120" y="285876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at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1032"/>
            <p:cNvSpPr/>
            <p:nvPr/>
          </p:nvSpPr>
          <p:spPr>
            <a:xfrm>
              <a:off x="5403960" y="4836960"/>
              <a:ext cx="96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033"/>
            <p:cNvSpPr/>
            <p:nvPr/>
          </p:nvSpPr>
          <p:spPr>
            <a:xfrm>
              <a:off x="5404320" y="5260680"/>
              <a:ext cx="87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034"/>
          <p:cNvGrpSpPr/>
          <p:nvPr/>
        </p:nvGrpSpPr>
        <p:grpSpPr>
          <a:xfrm>
            <a:off x="2762280" y="3505320"/>
            <a:ext cx="3263760" cy="610920"/>
            <a:chOff x="2762280" y="3505320"/>
            <a:chExt cx="3263760" cy="610920"/>
          </a:xfrm>
        </p:grpSpPr>
        <p:sp>
          <p:nvSpPr>
            <p:cNvPr id="998" name="Freeform 1035"/>
            <p:cNvSpPr/>
            <p:nvPr/>
          </p:nvSpPr>
          <p:spPr>
            <a:xfrm>
              <a:off x="2762280" y="3510000"/>
              <a:ext cx="474480" cy="33336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99" h="210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5"/>
                  </a:lnTo>
                  <a:lnTo>
                    <a:pt x="30" y="18"/>
                  </a:lnTo>
                  <a:lnTo>
                    <a:pt x="90" y="73"/>
                  </a:lnTo>
                  <a:lnTo>
                    <a:pt x="153" y="124"/>
                  </a:lnTo>
                  <a:lnTo>
                    <a:pt x="235" y="179"/>
                  </a:lnTo>
                  <a:lnTo>
                    <a:pt x="268" y="191"/>
                  </a:lnTo>
                  <a:lnTo>
                    <a:pt x="298" y="2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6"/>
            <p:cNvSpPr/>
            <p:nvPr/>
          </p:nvSpPr>
          <p:spPr>
            <a:xfrm>
              <a:off x="3243240" y="3841920"/>
              <a:ext cx="792360" cy="2538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99" h="160">
                  <a:moveTo>
                    <a:pt x="0" y="0"/>
                  </a:moveTo>
                  <a:lnTo>
                    <a:pt x="141" y="69"/>
                  </a:lnTo>
                  <a:lnTo>
                    <a:pt x="337" y="126"/>
                  </a:lnTo>
                  <a:lnTo>
                    <a:pt x="498" y="1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37"/>
            <p:cNvSpPr/>
            <p:nvPr/>
          </p:nvSpPr>
          <p:spPr>
            <a:xfrm>
              <a:off x="4033800" y="4071960"/>
              <a:ext cx="833400" cy="4428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25" h="28">
                  <a:moveTo>
                    <a:pt x="0" y="15"/>
                  </a:moveTo>
                  <a:lnTo>
                    <a:pt x="174" y="27"/>
                  </a:lnTo>
                  <a:lnTo>
                    <a:pt x="305" y="27"/>
                  </a:lnTo>
                  <a:lnTo>
                    <a:pt x="5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38"/>
            <p:cNvSpPr/>
            <p:nvPr/>
          </p:nvSpPr>
          <p:spPr>
            <a:xfrm>
              <a:off x="4865760" y="3767040"/>
              <a:ext cx="803160" cy="30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06" h="193">
                  <a:moveTo>
                    <a:pt x="0" y="192"/>
                  </a:moveTo>
                  <a:lnTo>
                    <a:pt x="187" y="146"/>
                  </a:lnTo>
                  <a:lnTo>
                    <a:pt x="301" y="107"/>
                  </a:lnTo>
                  <a:lnTo>
                    <a:pt x="433" y="43"/>
                  </a:lnTo>
                  <a:lnTo>
                    <a:pt x="50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39"/>
            <p:cNvSpPr/>
            <p:nvPr/>
          </p:nvSpPr>
          <p:spPr>
            <a:xfrm>
              <a:off x="5667480" y="3505320"/>
              <a:ext cx="358560" cy="263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6" h="166">
                  <a:moveTo>
                    <a:pt x="0" y="165"/>
                  </a:moveTo>
                  <a:lnTo>
                    <a:pt x="54" y="135"/>
                  </a:lnTo>
                  <a:lnTo>
                    <a:pt x="113" y="93"/>
                  </a:lnTo>
                  <a:lnTo>
                    <a:pt x="173" y="45"/>
                  </a:lnTo>
                  <a:lnTo>
                    <a:pt x="22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60C9-D048-48D6-9AE9-C7EC1E31FA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05" name="Picture 3" descr=""/>
          <p:cNvPicPr/>
          <p:nvPr/>
        </p:nvPicPr>
        <p:blipFill>
          <a:blip r:embed="rId1"/>
          <a:stretch/>
        </p:blipFill>
        <p:spPr>
          <a:xfrm>
            <a:off x="1219320" y="2146320"/>
            <a:ext cx="7010280" cy="3870360"/>
          </a:xfrm>
          <a:prstGeom prst="rect">
            <a:avLst/>
          </a:prstGeom>
          <a:ln w="0">
            <a:noFill/>
          </a:ln>
        </p:spPr>
      </p:pic>
      <p:sp>
        <p:nvSpPr>
          <p:cNvPr id="10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AADE-5E1B-4DFB-B143-99AF7CE73A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4038480" y="2971800"/>
            <a:ext cx="289584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Properties of 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ails are heavier than the log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“more peaked” than the normal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4D1E-C1B8-480E-B09B-53C4A6CFFD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2" name="Line 4"/>
          <p:cNvSpPr/>
          <p:nvPr/>
        </p:nvSpPr>
        <p:spPr>
          <a:xfrm>
            <a:off x="2743200" y="246852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2743200" y="52880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6"/>
          <p:cNvSpPr/>
          <p:nvPr/>
        </p:nvSpPr>
        <p:spPr>
          <a:xfrm>
            <a:off x="2804400" y="220968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2803680" y="2590920"/>
            <a:ext cx="146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"/>
          <p:cNvSpPr/>
          <p:nvPr/>
        </p:nvSpPr>
        <p:spPr>
          <a:xfrm>
            <a:off x="5394240" y="4800600"/>
            <a:ext cx="96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9"/>
          <p:cNvSpPr/>
          <p:nvPr/>
        </p:nvSpPr>
        <p:spPr>
          <a:xfrm>
            <a:off x="5394600" y="525780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10"/>
          <p:cNvGrpSpPr/>
          <p:nvPr/>
        </p:nvGrpSpPr>
        <p:grpSpPr>
          <a:xfrm>
            <a:off x="2941560" y="3355920"/>
            <a:ext cx="2471760" cy="1438200"/>
            <a:chOff x="2941560" y="3355920"/>
            <a:chExt cx="2471760" cy="1438200"/>
          </a:xfrm>
        </p:grpSpPr>
        <p:sp>
          <p:nvSpPr>
            <p:cNvPr id="1019" name="Freeform 11"/>
            <p:cNvSpPr/>
            <p:nvPr/>
          </p:nvSpPr>
          <p:spPr>
            <a:xfrm>
              <a:off x="2941560" y="3355920"/>
              <a:ext cx="325440" cy="41292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05" h="260">
                  <a:moveTo>
                    <a:pt x="0" y="0"/>
                  </a:moveTo>
                  <a:lnTo>
                    <a:pt x="6" y="3"/>
                  </a:lnTo>
                  <a:lnTo>
                    <a:pt x="8" y="9"/>
                  </a:lnTo>
                  <a:lnTo>
                    <a:pt x="13" y="14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60" y="84"/>
                  </a:lnTo>
                  <a:lnTo>
                    <a:pt x="101" y="145"/>
                  </a:lnTo>
                  <a:lnTo>
                    <a:pt x="157" y="213"/>
                  </a:lnTo>
                  <a:lnTo>
                    <a:pt x="183" y="234"/>
                  </a:lnTo>
                  <a:lnTo>
                    <a:pt x="204" y="2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3273480" y="3772080"/>
              <a:ext cx="625320" cy="501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94" h="316">
                  <a:moveTo>
                    <a:pt x="0" y="0"/>
                  </a:moveTo>
                  <a:lnTo>
                    <a:pt x="105" y="104"/>
                  </a:lnTo>
                  <a:lnTo>
                    <a:pt x="260" y="225"/>
                  </a:lnTo>
                  <a:lnTo>
                    <a:pt x="393" y="31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3897360" y="4272120"/>
              <a:ext cx="735120" cy="35532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463" h="224">
                  <a:moveTo>
                    <a:pt x="0" y="0"/>
                  </a:moveTo>
                  <a:lnTo>
                    <a:pt x="149" y="85"/>
                  </a:lnTo>
                  <a:lnTo>
                    <a:pt x="262" y="143"/>
                  </a:lnTo>
                  <a:lnTo>
                    <a:pt x="462" y="2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4630680" y="4626000"/>
              <a:ext cx="782640" cy="168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3" h="106">
                  <a:moveTo>
                    <a:pt x="0" y="0"/>
                  </a:moveTo>
                  <a:lnTo>
                    <a:pt x="174" y="54"/>
                  </a:lnTo>
                  <a:lnTo>
                    <a:pt x="284" y="79"/>
                  </a:lnTo>
                  <a:lnTo>
                    <a:pt x="417" y="99"/>
                  </a:lnTo>
                  <a:lnTo>
                    <a:pt x="492" y="10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14E1-0D1E-460F-82BB-0B43A7AC46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25" name="Picture 3" descr=""/>
          <p:cNvPicPr/>
          <p:nvPr/>
        </p:nvPicPr>
        <p:blipFill>
          <a:blip r:embed="rId1"/>
          <a:stretch/>
        </p:blipFill>
        <p:spPr>
          <a:xfrm>
            <a:off x="914400" y="2146320"/>
            <a:ext cx="6858000" cy="3786120"/>
          </a:xfrm>
          <a:prstGeom prst="rect">
            <a:avLst/>
          </a:prstGeom>
          <a:ln w="0">
            <a:noFill/>
          </a:ln>
        </p:spPr>
      </p:pic>
      <p:sp>
        <p:nvSpPr>
          <p:cNvPr id="10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370-12CF-4994-B8BC-1E7E811B7B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 flipV="1">
            <a:off x="3657600" y="3048120"/>
            <a:ext cx="2743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i)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638280" y="4800600"/>
            <a:ext cx="8082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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a normal distribution with me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vari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1024"/>
              <p:cNvSpPr txBox="1"/>
              <p:nvPr/>
            </p:nvSpPr>
            <p:spPr>
              <a:xfrm>
                <a:off x="495360" y="1555920"/>
                <a:ext cx="7008840" cy="29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DA2-76D4-4361-91C5-D398A9CE6F7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Distribu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4"/>
              <p:cNvSpPr txBox="1"/>
              <p:nvPr/>
            </p:nvSpPr>
            <p:spPr>
              <a:xfrm>
                <a:off x="2070000" y="4800600"/>
                <a:ext cx="51008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mT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1" name="Rectangle 5"/>
          <p:cNvSpPr/>
          <p:nvPr/>
        </p:nvSpPr>
        <p:spPr>
          <a:xfrm>
            <a:off x="1371600" y="251460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1519200" y="1390680"/>
          <a:ext cx="60865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390680"/>
                    <a:ext cx="60865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7"/>
          <p:cNvGraphicFramePr/>
          <p:nvPr/>
        </p:nvGraphicFramePr>
        <p:xfrm>
          <a:off x="1544760" y="2612880"/>
          <a:ext cx="367344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4760" y="2612880"/>
                    <a:ext cx="36734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8"/>
          <p:cNvGraphicFramePr/>
          <p:nvPr/>
        </p:nvGraphicFramePr>
        <p:xfrm>
          <a:off x="1905120" y="1295280"/>
          <a:ext cx="7237440" cy="4114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295280"/>
                    <a:ext cx="723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6F7A-CD6F-456E-911B-A2DD098595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is the standard deviation of the continuously compounded rate of return in 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deviation of the return in ti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024"/>
              <p:cNvSpPr txBox="1"/>
              <p:nvPr/>
            </p:nvSpPr>
            <p:spPr>
              <a:xfrm>
                <a:off x="3124080" y="3733920"/>
                <a:ext cx="976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8C76-F80D-43DF-8245-DC601D806D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Concepts Underlying Black-Schole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8680" y="1719360"/>
            <a:ext cx="77677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rice and the stock price depend on the same underlying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a portfolio consisting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k and the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eliminates this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folio is instantaneously riskless and must instantaneously earn the risk-fre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438-EBD9-4C99-89A6-7AB744531B0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762120" y="1981080"/>
            <a:ext cx="7086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et us derive the Black-Scholes Eq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2T05:06:26Z</dcterms:created>
  <dc:creator>John C. Hull</dc:creator>
  <dc:description>Copyright 2010 by John C. Hull.
All rights reserved. Published 2010.</dc:description>
  <cp:keywords>Chapter 13</cp:keywords>
  <dc:language>en-US</dc:language>
  <cp:lastModifiedBy>VCHARLIN</cp:lastModifiedBy>
  <cp:lastPrinted>2001-05-03T13:08:45Z</cp:lastPrinted>
  <dcterms:modified xsi:type="dcterms:W3CDTF">2010-11-18T22:34:21Z</dcterms:modified>
  <cp:revision>47</cp:revision>
  <dc:subject>Fundamentals of Futures and Options Markets, 7E</dc:subject>
  <dc:title>Valuing Stock Options: The Black-Scholes-Merton Model</dc:title>
</cp:coreProperties>
</file>