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141256-B28A-46D3-AD8F-7814433F58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BA2163-868C-4517-9244-B529B62B30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350FF5-6306-4640-A641-E086D86FB2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4501C1-FBE8-45C5-9BC4-EFEF222C99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406F90-824F-4735-9524-4F520A6A30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D364F6-6ED8-4EB6-99D6-051E86A25B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C6362B-4FCE-4B3E-899A-1A02766529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9F592A-A079-4E10-8E37-F731249B8E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B1725B-57C3-45B1-B5B2-F4B8C7326D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780B72-7BD9-48AF-9BF4-87B6DE71D0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364678-B967-431E-8834-867E9D981B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9F64-58D9-4889-AF05-060FF267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2209-1984-4F00-BBF6-C92D26D9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5C64-8B43-4A8A-B3D6-7A548187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D49-55A4-415C-ADBA-A3E71E805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FAFF-D086-49F6-9DD0-4CE974282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8D77-A97B-4A3C-9102-7B83A427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648A9A-1AC5-4B70-97A8-D827455349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11CC54-EB01-4D93-9847-15EABA6314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5B047A-274B-4741-970A-4C0A69D3F4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83F193-F9C1-4573-944C-8E12B843FA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40E-92EA-4BC3-BBD9-DFFBA105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112-8732-42F9-8C28-85A0F3F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CBF3B-6310-48CC-80E4-B660419C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0B812-41F2-470B-A5C2-3E1A762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816A4-1361-4D94-9828-B2396CB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5297-9A6F-4A72-A760-F79EB84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EC201-FDFD-4576-AB17-919129B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9EA95-455C-45CF-94D4-9972950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9FE3-982F-4CCE-A27D-9E6AF7CD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1867C-7E21-48EC-96DA-930C9594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BDDDE-E9F6-4885-AA3B-FF897D4C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32D0B-5A60-4793-A053-8C3B45D9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66C-4A7A-40FD-8A7E-6AEF2E3B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E0733-F34A-4B66-A1D0-D211DE2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B461C-3E26-4F16-B075-26821B9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EF916-7091-412A-9D29-18963A0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C58B-43E1-4771-9044-97EFE23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0E1B-603E-48B9-A95A-3956B9BB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8E913-6236-47BA-85EF-CBAF4C7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FABA3-8894-4CEE-B2F3-D77A299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9523F-36FB-4221-B437-4EBCB3C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2A6DB-DA8F-4B42-86FC-B925CE48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26C14-5882-4922-B9B2-A398E8E8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809-B7A2-441A-A046-E1D7504E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80C04-9DAB-4E4D-B78A-C2E1D29F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CBF1-DC85-4AB4-8F6A-1FCE74C4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3B1A7-41AD-49B0-9AEB-0571E2EF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20800-326A-4A92-81E3-F4DBFC4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EAC55-44C3-4B2B-83EC-5E387E0E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1414-329A-4208-AAC5-433933C9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B5BED-5A36-446C-9FFA-6A9BBFB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50EFD-DB06-4651-BB59-179BB93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6684-8D8C-4ADA-81E8-D8D87BC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426C8-36B2-4A59-A5D8-3902D17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E1DC-CED3-4635-B6DB-444FAB8D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4FD5-0853-47A4-A9EB-6C38AC0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C581F-CBEC-4885-A602-BAE26303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B7C26-4096-4470-BF28-0A2FB4EE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87D47-3A54-4B23-B6E3-A0C2DB14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61948-FF0B-488E-94BE-21B8944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2C14B-B1F9-4193-954F-54ED4080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6E952-8490-4CC3-88FA-3626113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79F1B-291E-4BC0-817F-FD03C83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1E594-8B4B-473E-851C-46BD9CC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18C6E-5E6B-46B2-B549-64150A9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B2F-5420-4036-A239-033E23C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31CCC-6396-45C9-BD93-CA0B326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2EB7B-CE8F-4743-9F0E-227CB3F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73E82-5FFD-4BB5-AC7E-20A2AF8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AC0F8-29DB-4026-B58F-ED19FD61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51003-367C-43E1-97DC-477B6C26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674D-4247-4413-A7A9-1CF9B7A7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1004-726A-419E-85CF-6DD6673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806-7FB4-4D1D-AB21-723A7F9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1D3-B133-4B9A-9EC8-F9F20FC6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77D2-6D0D-4CDB-A375-54AF424A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9D8-778D-4621-9F87-0647DD5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D60D-29C0-47B3-821E-7EFA139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C2E-ADE9-4080-B141-86B2772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C13-129B-4C1A-9FDC-E559F75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C2CE-97BA-4FC3-99B9-6695AECE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70BD-2326-4828-BFB2-E0B35C86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6CAD-1C09-4400-A596-D30FFFE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7221-CE57-4B6B-933F-D27CD70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D61E-ED8C-4D18-9139-69ABD4B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54B7-43BA-4AC1-88EA-8B3E29C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426A-F2E0-4A07-AF4E-A4A0B813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63C-B969-4C5E-A933-F12FF1BB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539F-A709-420A-845E-739C2D3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0C0D-D37B-40D4-9205-3C653B2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4784-B33A-4F7C-BB2E-48003D8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5A17-05BD-4524-B59A-8C807BA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D198-3BEB-430A-99A6-9C4AE6F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968C-9700-4092-A558-557B445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E576-3DCC-4289-B8DD-76918AD5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DE63-11B1-49BA-92F2-53D7DE1F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ED12-BF44-49AA-9D66-E4C1C1AB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9F94-B693-4F98-9EB1-8926F27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5CE-9974-41E1-8788-3EFACF2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4A01-4EE8-4133-A79F-2FF3741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346B-E34C-49B6-8D47-69512B3D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539B-6C91-42D7-847B-65B54F39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CD29-7EF3-46E6-B356-4CF9332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80DB-8171-4742-8721-782D91C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5FCE-6E71-4731-ABDC-38939F9A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49E7-3F24-4A09-9E9F-AE8FDD4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D29C-63C0-4BCB-A52F-535B820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7A3D-B0C3-405A-A8DA-29764DA2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DF269-DC4C-417D-AB5F-D5605943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AAE-3AAF-4EEC-B860-A63A9657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F2DF-F643-45EA-958E-94B8E59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9334-077F-4A7C-AA9D-3D14786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42E54-3643-4AC1-A695-1DBFA338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8AFB-D8E0-40F9-8D26-3F024FD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DA98-2360-4B73-99E2-DCB0BBA9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4FDB-550D-4537-AA10-644EA87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52AC-8B5A-45F6-B018-1955E9E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3725-1E62-42C7-A3A4-641D995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EC9C-AB14-41DA-8583-72E76D25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BE42-7C53-4EE4-9230-A1648AB1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510-0ADA-4EEA-8897-2F55DABF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337A-AB21-4D48-A9F1-C5F44A91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9DE3-94A6-46FD-A471-ECAF10CA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8BBB-D71A-4077-80DE-292A0C8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873B2-F029-42BB-96B2-9008B2A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BD92-C817-4533-ABD8-7788877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63E18-67C0-4264-AC6C-AA16467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B66C-F05F-471A-9C53-B0077B87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38A3-8977-49DB-BBCE-4CBB2EC5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B597-E77F-41BA-A13D-D18CE71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3739-9823-4433-92B9-23466F8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09F-C5B6-4841-AF5E-83E91DC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F6D2B-1805-4C82-9464-79E9039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639B-2CD5-4183-AC0B-9F56B53C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04C1-EB72-4EC3-B9CB-997804C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4DD78-FABB-4638-84BE-28C25006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204F-F288-47A0-BE05-00EE7F9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50E4-ACA8-4CA9-8E9D-CF37A8C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FCA2-2D08-44F7-A02E-B6F9DED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6553-BE04-4810-8E9B-BC6F1E0F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76521-5683-47C5-BECE-540ABCE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7C41-7D7C-4A8E-8D21-DEEB63B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DCB-659C-4ABB-B7F1-FF9BB80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E459-F12C-4463-B684-76430CFE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31CF8-17B9-4651-B8BF-B988A97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CCDE-39A0-4C0D-ADE0-62C96855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A0202-59A4-490C-B465-97AEA85C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2301B-9CB4-4486-95DF-A9F9F9FB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F4635-F673-4934-BC0A-E6851815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D5B16-160B-4764-9E54-C11DBCC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2ACB-798F-4629-BD31-93FFC942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89C7-8A0B-4DE4-B039-5E3302FA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97F66-EEE2-4559-9A20-0240093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A42-A808-4D65-B003-666C066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7C6D-6AC7-48B3-AF66-2B297CF7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6E81-0747-4400-8386-269586F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6A8C6-53E7-45DC-93FB-48030F9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A330A-BAD4-4CDA-B0C1-B3B4E30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AB990-5334-4566-829E-65587C14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854FE-BFAF-4869-9E8F-230B3578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93EC-E8F7-4C77-AEEC-6DECB418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477D-75D5-4D17-8650-00C9132C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54E33-0D06-4A8E-A475-EB701F3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F71E-7858-4F71-9205-C72FD3CB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415-4D33-41FB-BF2C-084043E59EE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216D-8830-4168-9363-E731273F5F2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117-AD63-4462-9DA8-8F8C6FECB98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F8B-50F1-4795-9E1D-FCF2DBE04A9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6DE-2CFE-4A2E-B8F2-92EFBE79AAB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6D2-31C2-4639-BAE4-8610C3AED43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4DE2-EEB9-4BC0-8C89-5CD81AD251C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0231-E69F-43D3-9D07-05FDBB5E1BD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C5BB-A622-4F88-A2C7-37B213A9621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BA3-8252-4ABE-99A7-0C61BDC3B2C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B38-473C-405E-8754-2E26E65767C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B175-E239-47D5-8D58-D4433AC1C48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-Merton Formula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ock whose pri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ort period of time of l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turn on the stock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ssumed to be normal with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expected retur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4"/>
              <p:cNvSpPr txBox="1"/>
              <p:nvPr/>
            </p:nvSpPr>
            <p:spPr>
              <a:xfrm>
                <a:off x="4092480" y="4267080"/>
                <a:ext cx="1185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7D2-5FB4-4C69-83C3-A0A4298968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9" name=""/>
          <p:cNvGraphicFramePr/>
          <p:nvPr/>
        </p:nvGraphicFramePr>
        <p:xfrm>
          <a:off x="914400" y="662040"/>
          <a:ext cx="72388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62040"/>
                    <a:ext cx="72388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457200" y="601560"/>
          <a:ext cx="77724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77724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7906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app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lack-Schole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is independent of all variables affected by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onsistent with the risk-neutral valuatio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B57-53E0-4578-97E6-C3D22BBED1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Applying 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30000" y="1719360"/>
            <a:ext cx="60865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expected return from an asset is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xpected payoff from the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at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593-DA5B-4FE9-B22E-BC3456EB87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57913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VERY  VERY   IMPORTANT 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 Formulas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1619-7262-41CC-BA0D-37C67AA6FF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) Func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6C9-8146-475F-B337-3CBE649546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6292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ssumptions imply that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rmally distributed with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logarith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g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"/>
              <p:cNvSpPr txBox="1"/>
              <p:nvPr/>
            </p:nvSpPr>
            <p:spPr>
              <a:xfrm>
                <a:off x="2514600" y="2514600"/>
                <a:ext cx="4114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12"/>
              <p:cNvSpPr txBox="1"/>
              <p:nvPr/>
            </p:nvSpPr>
            <p:spPr>
              <a:xfrm>
                <a:off x="4495680" y="3568680"/>
                <a:ext cx="914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DC3D-8EA6-4E41-A54D-6C3BC5FE77E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Properties of Black-Scholes Formula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lar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000-0D9B-47D6-A699-EA8303FDD5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Delta of an OP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77760" y="1429920"/>
            <a:ext cx="7251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rate of change of the option price with respect to the under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21"/>
          <p:cNvGrpSpPr/>
          <p:nvPr/>
        </p:nvGrpSpPr>
        <p:grpSpPr>
          <a:xfrm>
            <a:off x="2025360" y="2674800"/>
            <a:ext cx="5650560" cy="3483720"/>
            <a:chOff x="2025360" y="2674800"/>
            <a:chExt cx="5650560" cy="3483720"/>
          </a:xfrm>
        </p:grpSpPr>
        <p:sp>
          <p:nvSpPr>
            <p:cNvPr id="962" name="Rectangle 4"/>
            <p:cNvSpPr/>
            <p:nvPr/>
          </p:nvSpPr>
          <p:spPr>
            <a:xfrm>
              <a:off x="2121120" y="2674800"/>
              <a:ext cx="160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2025360" y="3076560"/>
              <a:ext cx="5650560" cy="3081960"/>
              <a:chOff x="2025360" y="3076560"/>
              <a:chExt cx="5650560" cy="308196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2371680" y="3076560"/>
                <a:ext cx="0" cy="24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2371680" y="554364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2"/>
              <p:cNvGrpSpPr/>
              <p:nvPr/>
            </p:nvGrpSpPr>
            <p:grpSpPr>
              <a:xfrm>
                <a:off x="2371680" y="3638520"/>
                <a:ext cx="4021200" cy="1898640"/>
                <a:chOff x="2371680" y="3638520"/>
                <a:chExt cx="4021200" cy="1898640"/>
              </a:xfrm>
            </p:grpSpPr>
            <p:sp>
              <p:nvSpPr>
                <p:cNvPr id="967" name="Freeform 7"/>
                <p:cNvSpPr/>
                <p:nvPr/>
              </p:nvSpPr>
              <p:spPr>
                <a:xfrm>
                  <a:off x="2371680" y="5484960"/>
                  <a:ext cx="731880" cy="52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61" h="33">
                      <a:moveTo>
                        <a:pt x="0" y="32"/>
                      </a:moveTo>
                      <a:lnTo>
                        <a:pt x="6" y="30"/>
                      </a:lnTo>
                      <a:lnTo>
                        <a:pt x="17" y="30"/>
                      </a:lnTo>
                      <a:lnTo>
                        <a:pt x="24" y="28"/>
                      </a:lnTo>
                      <a:lnTo>
                        <a:pt x="35" y="30"/>
                      </a:lnTo>
                      <a:lnTo>
                        <a:pt x="42" y="28"/>
                      </a:lnTo>
                      <a:lnTo>
                        <a:pt x="143" y="30"/>
                      </a:lnTo>
                      <a:lnTo>
                        <a:pt x="244" y="28"/>
                      </a:lnTo>
                      <a:lnTo>
                        <a:pt x="368" y="18"/>
                      </a:lnTo>
                      <a:lnTo>
                        <a:pt x="415" y="7"/>
                      </a:lnTo>
                      <a:lnTo>
                        <a:pt x="46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8"/>
                <p:cNvSpPr/>
                <p:nvPr/>
              </p:nvSpPr>
              <p:spPr>
                <a:xfrm>
                  <a:off x="3114720" y="5197320"/>
                  <a:ext cx="1087560" cy="28440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685" h="179">
                      <a:moveTo>
                        <a:pt x="0" y="178"/>
                      </a:moveTo>
                      <a:lnTo>
                        <a:pt x="204" y="143"/>
                      </a:lnTo>
                      <a:lnTo>
                        <a:pt x="469" y="69"/>
                      </a:lnTo>
                      <a:lnTo>
                        <a:pt x="684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"/>
                <p:cNvSpPr/>
                <p:nvPr/>
              </p:nvSpPr>
              <p:spPr>
                <a:xfrm>
                  <a:off x="4200480" y="4697280"/>
                  <a:ext cx="1015920" cy="501840"/>
                </a:xfrm>
                <a:custGeom>
                  <a:avLst/>
                  <a:gdLst>
                    <a:gd name="textAreaLeft" fmla="*/ 0 w 1015920"/>
                    <a:gd name="textAreaRight" fmla="*/ 1016280 w 1015920"/>
                    <a:gd name="textAreaTop" fmla="*/ 0 h 501840"/>
                    <a:gd name="textAreaBottom" fmla="*/ 502200 h 501840"/>
                  </a:gdLst>
                  <a:ahLst/>
                  <a:rect l="textAreaLeft" t="textAreaTop" r="textAreaRight" b="textAreaBottom"/>
                  <a:pathLst>
                    <a:path w="640" h="316">
                      <a:moveTo>
                        <a:pt x="0" y="315"/>
                      </a:moveTo>
                      <a:lnTo>
                        <a:pt x="220" y="224"/>
                      </a:lnTo>
                      <a:lnTo>
                        <a:pt x="381" y="146"/>
                      </a:lnTo>
                      <a:lnTo>
                        <a:pt x="63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0"/>
                <p:cNvSpPr/>
                <p:nvPr/>
              </p:nvSpPr>
              <p:spPr>
                <a:xfrm>
                  <a:off x="5214960" y="4024440"/>
                  <a:ext cx="855720" cy="6746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w="539" h="425">
                      <a:moveTo>
                        <a:pt x="0" y="424"/>
                      </a:moveTo>
                      <a:lnTo>
                        <a:pt x="210" y="285"/>
                      </a:lnTo>
                      <a:lnTo>
                        <a:pt x="333" y="190"/>
                      </a:lnTo>
                      <a:lnTo>
                        <a:pt x="467" y="73"/>
                      </a:lnTo>
                      <a:lnTo>
                        <a:pt x="53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"/>
                <p:cNvSpPr/>
                <p:nvPr/>
              </p:nvSpPr>
              <p:spPr>
                <a:xfrm>
                  <a:off x="6068880" y="3638520"/>
                  <a:ext cx="324000" cy="3873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204" h="244">
                      <a:moveTo>
                        <a:pt x="0" y="243"/>
                      </a:moveTo>
                      <a:lnTo>
                        <a:pt x="54" y="191"/>
                      </a:lnTo>
                      <a:lnTo>
                        <a:pt x="107" y="130"/>
                      </a:lnTo>
                      <a:lnTo>
                        <a:pt x="161" y="60"/>
                      </a:lnTo>
                      <a:lnTo>
                        <a:pt x="20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Freeform 13"/>
              <p:cNvSpPr/>
              <p:nvPr/>
            </p:nvSpPr>
            <p:spPr>
              <a:xfrm>
                <a:off x="3476520" y="4464000"/>
                <a:ext cx="2478240" cy="1071720"/>
              </a:xfrm>
              <a:custGeom>
                <a:avLst/>
                <a:gdLst>
                  <a:gd name="textAreaLeft" fmla="*/ 0 w 2478240"/>
                  <a:gd name="textAreaRight" fmla="*/ 2478600 w 2478240"/>
                  <a:gd name="textAreaTop" fmla="*/ 0 h 1071720"/>
                  <a:gd name="textAreaBottom" fmla="*/ 1072080 h 1071720"/>
                </a:gdLst>
                <a:ahLst/>
                <a:rect l="textAreaLeft" t="textAreaTop" r="textAreaRight" b="textAreaBottom"/>
                <a:pathLst>
                  <a:path w="1561" h="675">
                    <a:moveTo>
                      <a:pt x="0" y="674"/>
                    </a:moveTo>
                    <a:lnTo>
                      <a:pt x="156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4505400" y="5081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 flipH="1">
                <a:off x="2371320" y="509256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6"/>
              <p:cNvSpPr/>
              <p:nvPr/>
            </p:nvSpPr>
            <p:spPr>
              <a:xfrm>
                <a:off x="4336560" y="557856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7"/>
              <p:cNvSpPr/>
              <p:nvPr/>
            </p:nvSpPr>
            <p:spPr>
              <a:xfrm>
                <a:off x="2025360" y="480060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8"/>
              <p:cNvSpPr/>
              <p:nvPr/>
            </p:nvSpPr>
            <p:spPr>
              <a:xfrm>
                <a:off x="5741280" y="4521240"/>
                <a:ext cx="1934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lope =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9"/>
              <p:cNvSpPr/>
              <p:nvPr/>
            </p:nvSpPr>
            <p:spPr>
              <a:xfrm>
                <a:off x="5224680" y="5549760"/>
                <a:ext cx="2196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tock pri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6B2D-0584-462F-990E-B24E010DC5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Implied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lied volatility of an option is the volatility for which the Black-Scholes price equals the marke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 a one-to-one correspondence between prices and implied vola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 and brokers often quote implied volatilities rather than dollar pri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CBA0-B238-467E-83CE-E61E17675B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c1302"/>
                </a:solidFill>
                <a:latin typeface="Times New Roman"/>
              </a:rPr>
              <a:t>The VIX Index of S&amp;P 500 Implied Volatility; Jan. 2004 to Sept. 2009</a:t>
            </a:r>
            <a:endParaRPr b="1" lang="en-US" sz="36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BB2A-D341-4C55-B982-6890FCC3CC7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3" descr=""/>
          <p:cNvPicPr/>
          <p:nvPr/>
        </p:nvPicPr>
        <p:blipFill>
          <a:blip r:embed="rId1"/>
          <a:stretch/>
        </p:blipFill>
        <p:spPr>
          <a:xfrm>
            <a:off x="361800" y="1698480"/>
            <a:ext cx="7105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olatility Smi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64304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atility smile shows the variation of the implied volatility with the 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smile is the same whether calculated from European call options or European put options. (This follows from put-call parity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166-16B1-4617-B955-0F166D79A7F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532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Foreign Currency Options</a:t>
            </a: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990" name="Group 1027"/>
          <p:cNvGrpSpPr/>
          <p:nvPr/>
        </p:nvGrpSpPr>
        <p:grpSpPr>
          <a:xfrm>
            <a:off x="2743200" y="2438280"/>
            <a:ext cx="3670200" cy="3280680"/>
            <a:chOff x="2743200" y="2438280"/>
            <a:chExt cx="3670200" cy="3280680"/>
          </a:xfrm>
        </p:grpSpPr>
        <p:sp>
          <p:nvSpPr>
            <p:cNvPr id="991" name="Line 1028"/>
            <p:cNvSpPr/>
            <p:nvPr/>
          </p:nvSpPr>
          <p:spPr>
            <a:xfrm>
              <a:off x="2743200" y="2680920"/>
              <a:ext cx="0" cy="26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029"/>
            <p:cNvSpPr/>
            <p:nvPr/>
          </p:nvSpPr>
          <p:spPr>
            <a:xfrm>
              <a:off x="2743200" y="529236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30"/>
            <p:cNvSpPr/>
            <p:nvPr/>
          </p:nvSpPr>
          <p:spPr>
            <a:xfrm>
              <a:off x="2804400" y="243828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031"/>
            <p:cNvSpPr/>
            <p:nvPr/>
          </p:nvSpPr>
          <p:spPr>
            <a:xfrm>
              <a:off x="2805120" y="285876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a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1032"/>
            <p:cNvSpPr/>
            <p:nvPr/>
          </p:nvSpPr>
          <p:spPr>
            <a:xfrm>
              <a:off x="5403960" y="48369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33"/>
            <p:cNvSpPr/>
            <p:nvPr/>
          </p:nvSpPr>
          <p:spPr>
            <a:xfrm>
              <a:off x="5404320" y="5260680"/>
              <a:ext cx="87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034"/>
          <p:cNvGrpSpPr/>
          <p:nvPr/>
        </p:nvGrpSpPr>
        <p:grpSpPr>
          <a:xfrm>
            <a:off x="2762280" y="3505320"/>
            <a:ext cx="3263760" cy="610920"/>
            <a:chOff x="2762280" y="3505320"/>
            <a:chExt cx="3263760" cy="610920"/>
          </a:xfrm>
        </p:grpSpPr>
        <p:sp>
          <p:nvSpPr>
            <p:cNvPr id="998" name="Freeform 1035"/>
            <p:cNvSpPr/>
            <p:nvPr/>
          </p:nvSpPr>
          <p:spPr>
            <a:xfrm>
              <a:off x="2762280" y="3510000"/>
              <a:ext cx="474480" cy="3333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9" h="21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0" y="18"/>
                  </a:lnTo>
                  <a:lnTo>
                    <a:pt x="90" y="73"/>
                  </a:lnTo>
                  <a:lnTo>
                    <a:pt x="153" y="124"/>
                  </a:lnTo>
                  <a:lnTo>
                    <a:pt x="235" y="179"/>
                  </a:lnTo>
                  <a:lnTo>
                    <a:pt x="268" y="191"/>
                  </a:lnTo>
                  <a:lnTo>
                    <a:pt x="298" y="2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6"/>
            <p:cNvSpPr/>
            <p:nvPr/>
          </p:nvSpPr>
          <p:spPr>
            <a:xfrm>
              <a:off x="3243240" y="3841920"/>
              <a:ext cx="792360" cy="2538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99" h="160">
                  <a:moveTo>
                    <a:pt x="0" y="0"/>
                  </a:moveTo>
                  <a:lnTo>
                    <a:pt x="141" y="69"/>
                  </a:lnTo>
                  <a:lnTo>
                    <a:pt x="337" y="126"/>
                  </a:lnTo>
                  <a:lnTo>
                    <a:pt x="498" y="1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37"/>
            <p:cNvSpPr/>
            <p:nvPr/>
          </p:nvSpPr>
          <p:spPr>
            <a:xfrm>
              <a:off x="4033800" y="4071960"/>
              <a:ext cx="833400" cy="44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25" h="28">
                  <a:moveTo>
                    <a:pt x="0" y="15"/>
                  </a:moveTo>
                  <a:lnTo>
                    <a:pt x="174" y="27"/>
                  </a:lnTo>
                  <a:lnTo>
                    <a:pt x="305" y="27"/>
                  </a:lnTo>
                  <a:lnTo>
                    <a:pt x="5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38"/>
            <p:cNvSpPr/>
            <p:nvPr/>
          </p:nvSpPr>
          <p:spPr>
            <a:xfrm>
              <a:off x="4865760" y="376704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06" h="193">
                  <a:moveTo>
                    <a:pt x="0" y="192"/>
                  </a:moveTo>
                  <a:lnTo>
                    <a:pt x="187" y="146"/>
                  </a:lnTo>
                  <a:lnTo>
                    <a:pt x="301" y="107"/>
                  </a:lnTo>
                  <a:lnTo>
                    <a:pt x="433" y="43"/>
                  </a:lnTo>
                  <a:lnTo>
                    <a:pt x="50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39"/>
            <p:cNvSpPr/>
            <p:nvPr/>
          </p:nvSpPr>
          <p:spPr>
            <a:xfrm>
              <a:off x="5667480" y="3505320"/>
              <a:ext cx="358560" cy="263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6" h="166">
                  <a:moveTo>
                    <a:pt x="0" y="165"/>
                  </a:moveTo>
                  <a:lnTo>
                    <a:pt x="54" y="135"/>
                  </a:lnTo>
                  <a:lnTo>
                    <a:pt x="113" y="93"/>
                  </a:lnTo>
                  <a:lnTo>
                    <a:pt x="173" y="45"/>
                  </a:lnTo>
                  <a:lnTo>
                    <a:pt x="22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942-B684-4E02-9150-6F55918C2D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7010280" cy="3870360"/>
          </a:xfrm>
          <a:prstGeom prst="rect">
            <a:avLst/>
          </a:prstGeom>
          <a:ln w="0">
            <a:noFill/>
          </a:ln>
        </p:spPr>
      </p:pic>
      <p:sp>
        <p:nvSpPr>
          <p:cNvPr id="10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369-80A6-4450-83BE-35D18F4829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4038480" y="2971800"/>
            <a:ext cx="28958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Properties of 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ails are heavier than the log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“more peaked” than the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AEE0-B724-47DB-A004-745D3B0433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2" name="Line 4"/>
          <p:cNvSpPr/>
          <p:nvPr/>
        </p:nvSpPr>
        <p:spPr>
          <a:xfrm>
            <a:off x="2743200" y="246852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2743200" y="52880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2804400" y="22096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2803680" y="2590920"/>
            <a:ext cx="14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5394240" y="480060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5394600" y="525780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10"/>
          <p:cNvGrpSpPr/>
          <p:nvPr/>
        </p:nvGrpSpPr>
        <p:grpSpPr>
          <a:xfrm>
            <a:off x="2941560" y="3355920"/>
            <a:ext cx="2471760" cy="1438200"/>
            <a:chOff x="2941560" y="3355920"/>
            <a:chExt cx="2471760" cy="1438200"/>
          </a:xfrm>
        </p:grpSpPr>
        <p:sp>
          <p:nvSpPr>
            <p:cNvPr id="1019" name="Freeform 11"/>
            <p:cNvSpPr/>
            <p:nvPr/>
          </p:nvSpPr>
          <p:spPr>
            <a:xfrm>
              <a:off x="2941560" y="3355920"/>
              <a:ext cx="325440" cy="412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05" h="260">
                  <a:moveTo>
                    <a:pt x="0" y="0"/>
                  </a:moveTo>
                  <a:lnTo>
                    <a:pt x="6" y="3"/>
                  </a:lnTo>
                  <a:lnTo>
                    <a:pt x="8" y="9"/>
                  </a:lnTo>
                  <a:lnTo>
                    <a:pt x="13" y="14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60" y="84"/>
                  </a:lnTo>
                  <a:lnTo>
                    <a:pt x="101" y="145"/>
                  </a:lnTo>
                  <a:lnTo>
                    <a:pt x="157" y="213"/>
                  </a:lnTo>
                  <a:lnTo>
                    <a:pt x="183" y="234"/>
                  </a:lnTo>
                  <a:lnTo>
                    <a:pt x="204" y="2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3273480" y="3772080"/>
              <a:ext cx="625320" cy="501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94" h="316">
                  <a:moveTo>
                    <a:pt x="0" y="0"/>
                  </a:moveTo>
                  <a:lnTo>
                    <a:pt x="105" y="104"/>
                  </a:lnTo>
                  <a:lnTo>
                    <a:pt x="260" y="225"/>
                  </a:lnTo>
                  <a:lnTo>
                    <a:pt x="393" y="31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3897360" y="4272120"/>
              <a:ext cx="735120" cy="35532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63" h="224">
                  <a:moveTo>
                    <a:pt x="0" y="0"/>
                  </a:moveTo>
                  <a:lnTo>
                    <a:pt x="149" y="85"/>
                  </a:lnTo>
                  <a:lnTo>
                    <a:pt x="262" y="143"/>
                  </a:lnTo>
                  <a:lnTo>
                    <a:pt x="462" y="2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4630680" y="4626000"/>
              <a:ext cx="782640" cy="168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3" h="106">
                  <a:moveTo>
                    <a:pt x="0" y="0"/>
                  </a:moveTo>
                  <a:lnTo>
                    <a:pt x="174" y="54"/>
                  </a:lnTo>
                  <a:lnTo>
                    <a:pt x="284" y="79"/>
                  </a:lnTo>
                  <a:lnTo>
                    <a:pt x="417" y="99"/>
                  </a:lnTo>
                  <a:lnTo>
                    <a:pt x="492" y="10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1F83-534D-4318-8A35-60FE405712A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914400" y="214632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10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06C-37E0-476F-80CC-8B0EA1B638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3657600" y="3048120"/>
            <a:ext cx="2743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i)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638280" y="4800600"/>
            <a:ext cx="8082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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a normal distribution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1024"/>
              <p:cNvSpPr txBox="1"/>
              <p:nvPr/>
            </p:nvSpPr>
            <p:spPr>
              <a:xfrm>
                <a:off x="495360" y="1555920"/>
                <a:ext cx="700884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C31-9913-4BCF-A3F3-C586E32CCD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Distribu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4"/>
              <p:cNvSpPr txBox="1"/>
              <p:nvPr/>
            </p:nvSpPr>
            <p:spPr>
              <a:xfrm>
                <a:off x="2070000" y="4800600"/>
                <a:ext cx="51008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m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1" name="Rectangle 5"/>
          <p:cNvSpPr/>
          <p:nvPr/>
        </p:nvSpPr>
        <p:spPr>
          <a:xfrm>
            <a:off x="1371600" y="25146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1519200" y="1390680"/>
          <a:ext cx="6086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0680"/>
                    <a:ext cx="6086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7"/>
          <p:cNvGraphicFramePr/>
          <p:nvPr/>
        </p:nvGraphicFramePr>
        <p:xfrm>
          <a:off x="1544760" y="2612880"/>
          <a:ext cx="3673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4760" y="2612880"/>
                    <a:ext cx="3673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8"/>
          <p:cNvGraphicFramePr/>
          <p:nvPr/>
        </p:nvGraphicFramePr>
        <p:xfrm>
          <a:off x="1905120" y="1295280"/>
          <a:ext cx="7237440" cy="4114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295280"/>
                    <a:ext cx="723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857-DFD9-44AB-925A-166FEA257D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is the standard deviation of the continuously compounded rate of return in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return in 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024"/>
              <p:cNvSpPr txBox="1"/>
              <p:nvPr/>
            </p:nvSpPr>
            <p:spPr>
              <a:xfrm>
                <a:off x="3124080" y="3733920"/>
                <a:ext cx="976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1FF-D872-4618-9A31-BD6428E8C0C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Concepts Underlying Black-Schole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8680" y="1719360"/>
            <a:ext cx="77677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rice and the stock price depend on the same underlying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a portfolio consisting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k and the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eliminates this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folio is instantaneously riskless and must instantaneously earn the risk-fre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36C2-1CBA-4432-B223-A86E50F0CA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62120" y="1981080"/>
            <a:ext cx="7086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 us derive the Black-Scholes 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2T05:06:26Z</dcterms:created>
  <dc:creator>John C. Hull</dc:creator>
  <dc:description>Copyright 2010 by John C. Hull.
All rights reserved. Published 2010.</dc:description>
  <cp:keywords>Chapter 13</cp:keywords>
  <dc:language>en-US</dc:language>
  <cp:lastModifiedBy>VCHARLIN</cp:lastModifiedBy>
  <cp:lastPrinted>2001-05-03T13:08:45Z</cp:lastPrinted>
  <dcterms:modified xsi:type="dcterms:W3CDTF">2010-11-18T22:34:21Z</dcterms:modified>
  <cp:revision>47</cp:revision>
  <dc:subject>Fundamentals of Futures and Options Markets, 7E</dc:subject>
  <dc:title>Valuing Stock Options: The Black-Scholes-Merton Model</dc:title>
</cp:coreProperties>
</file>