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220174-E46B-46E6-AF11-7EFE265059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58FD51-C60B-4E77-A164-CA4E9B6916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8E2871-2145-4585-AE55-A663D3B634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326C59-A252-44C3-8395-8E0CAA79C9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68AF82-966B-4713-AFFF-7593F5E8F2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B7C19A-3A25-4009-8FE1-E7E8876AF8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FB3827-8835-4052-B4A3-68CCFE2B1D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80C6F9-8FB7-4B69-82B6-9FCC7370D8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DBA76E-2E88-4611-853B-B9AD16445B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A22E4C-4CF5-4ECA-9907-03E9B512BA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2B92F8-0AAD-4FCB-9614-534703D1EA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67EA-F604-45E2-877D-570BA3FDE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265D-FBF5-46DB-9739-A63E7162F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9D7-583F-41FE-93A0-841DE1E6B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8CDD-24B5-4EC3-9B1B-5F752828E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ED1A-5475-4F60-B9A4-398FB5953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27C-3FDA-4C08-92D9-13C8D071F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548A60-936F-4C66-B9E8-EB20D8D48F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7E6B31-6AB7-457F-920D-23E5D41A68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20FA0B-4135-4295-A8A9-DB74C23D69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864C19-5AE1-4352-B0B4-2B91D2EE63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365-0EDF-4FF1-9E8A-910F9E08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EF0-3FEC-4551-A054-93F8557C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35B02-5102-45EA-8F5F-190BEE33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CC58F-6DC5-455A-A570-696C0C74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8D744-9198-4F0E-A64D-334B548D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8363F-3907-40A2-A9DE-5FCF184C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4D57A-8E60-4850-BE40-97868611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6B043-E882-4DB5-B8FA-1D213F5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39466-FD4A-4431-B6A4-C8BB34DE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1B43C-833A-4EC0-BE38-54CAD80F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2B26C-42AB-4D27-97A7-DD9A2FFE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2A45F-AC6A-44F1-98FB-FE56532E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6C5-459B-4F4D-A1CB-83B83A5B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87126-A874-4B03-A063-BDC07B19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976D1-841F-460E-8C50-5380AA11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B1924-CE6E-4CAC-914E-1ED57E10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6F8D1-0A56-479A-BADE-4C84E159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46287-F2D5-49A5-A2C7-C944962E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85898-2C99-43C3-B770-218634D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7F43B-BB58-417A-B5CD-A74903E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BA0A4-8372-4EAE-82AB-0E576078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6C1E3-996E-442C-BFC4-32DDE037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2A3DC-7662-4551-8FC2-F1D66481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6EE-D321-4987-A7F6-32C44163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2A382-E0F4-438B-BA10-59175DEC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CFAC6-286A-41FF-9D9A-A428948C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CA96C-FFA0-4657-8DA0-659F4593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3E904-6262-4EBE-8A70-672ACBE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373D4-554A-400E-BBFC-D8387EDF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90DB2-7C8F-4951-9D9F-479FCC47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D4101-9E52-4312-8FC7-3BF64EB3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52659-3143-485E-BCBC-650F5510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8A04D-B8EC-41AB-A198-97A534D2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34D29-C9D5-418A-BB1E-90336084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CC1E-5FC2-4ED0-AC83-8BD31EEC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36CA7-66D2-4C40-A63D-F9CAAA09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8D45B-EB7A-466F-AB59-B1328B8E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829FF-F276-49DB-8099-6606925C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8B565-328C-412B-9261-4A404CA2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68738-2F86-4F67-A6E3-EA3C80DB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63D3D-7553-4B2D-9475-0702077C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0D21D-06D4-4BA1-BD95-203E5245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CA93C-1F53-46EF-8BF9-3F8D6A31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5D5E6-A34F-4183-AE23-860DF05E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4EB2B-0CF4-4EB6-A5EF-C7320094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2F28-70E9-42F6-AF5D-C945836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2B6A7-5932-4520-84C2-F0F8CDF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34D7D-84F8-43A1-841C-20F300AA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E20F5-57BE-4285-90BF-0B2A9BCF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2A275-0409-4C39-8F04-3773D9F1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6A2B1-A9D1-428D-92DE-BF0E8A4C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8AA0-C28A-4155-85EC-BE92450A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8DD6-E004-440F-BD68-EA9A3E3F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EBC1-8A73-4926-BFB1-3F65A969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5E5E-0C87-47A6-9548-AF94E277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56B8-0D32-4E39-8192-DBCB7AE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FD4-2376-4A7D-9B70-4F304CC5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C281-A9F4-4CE2-9ADF-06D72CA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BA4F-CD84-427B-96A3-03B622D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040D-944E-4D5A-8B36-2804B6CC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2D54-EBC9-42B1-86E1-A7F5CDB9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560C-3FDE-45D5-98D4-C32C3DC8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0E68-F19A-4793-B701-90D2F8FC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6A75-B2A8-4D71-8FDC-0A30F0E4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F3CB-0A32-4121-80DE-E9EF4D3B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8A846-C2E3-4DBE-BF44-CA7ACF1A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0811-5472-4BC2-B4E4-D0C6789F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9CD-8623-470C-A472-35895B03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07FD-1F6D-4EAC-9B8D-53DF40B4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DD543-A8CB-400E-86CC-0D51E6A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23B4-2875-4B1F-B990-A9266445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9E0D-5A5E-4114-B842-8E9AED6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4BB3-713C-4328-AE12-0C6D4706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2869-39DF-4568-A546-53A4D113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BDD0-BE3B-49F0-86DF-9B00C290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1481-2F1E-4A08-939E-6254873B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93264-6E7E-4D77-ABD3-06526F7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9DC9-4D6C-408E-9406-BAF37A4D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CEF-A268-49BF-9D33-A768E447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DE97-7AF7-40A5-8ACC-A4A905F0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41DB-80BC-4EC2-BD30-C043EF31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DD3F6-8ADA-4F29-93EB-51B5DCF8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2C0E-0F77-4718-B8BA-EEF05173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87D7-D64B-4E59-9232-FBEC039A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8DDE-FDBA-4758-85B8-DDC230B1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EF74E-C30A-4861-B5BD-F260CF1B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BCA4-1A65-4F24-B0AB-2D3CC669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4A61-02B6-4835-98EC-86D89028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15DF0-9264-4DF6-A629-4843B2CE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0C1-93D2-4214-ADF2-FD6B2B14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563C-D862-4215-9FE5-653DC8FA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FD48D-73C8-46B9-B409-F234C30D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769F-B1F6-4045-BD33-F4C26FF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58170-974F-4AA9-B119-B5BE4BBB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92CB4-B122-47DB-ACC4-5867C497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676DC-1C98-4920-8CBF-C0A63338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E5D7C-DF28-470E-A807-4E122EC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D2ED5-700F-47E0-B166-487BAD3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8FAD4-432F-4EAA-8AF3-28C3F4E7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22281-AC6A-408F-94E0-86376FCC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104-7306-49F2-B83B-88852AC7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BE6FC-C78C-43BF-B932-BD00693E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9CFB1-F436-4529-A478-8470AF51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7B7B2-F28D-478A-B67F-D0E0CAA2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F35CA-471C-4BE1-B601-5E8956AE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8AC66-2D73-4559-8577-29A72143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A24A-3824-4D2A-A2B3-EDA604D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F96C0-B2AA-49B2-A666-082F9006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2478B-F3ED-4F30-937F-5A8BF9D1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652B-0618-4EA4-8BBB-074A607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CBA15-AC3B-4E70-86C5-09EA4A08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7E1-AEA3-4B1F-99E3-6AFCE20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B7D65-FDA6-4396-896E-313EB6E0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A511-F68C-41B0-8954-F89F71EB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B5F7B-17BA-4B59-A04A-2AFA0963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598C1-CFD9-4861-A5D8-5799591B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A1804-377D-4819-A219-8A53DB36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04D53-6FB0-4E25-8601-447AC492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AB39C-EF88-4DF8-A1D8-D26752F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5531-D663-4871-833C-ACB20531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367DB-654E-4397-9A6D-0BF90E92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DE0B5-E0A1-4453-ACD9-48E5775A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49F-F9F9-49C7-A963-A04F505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6309B-E7F0-4294-B2D5-8ED5D706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A5125-0618-4F9B-8375-C7664DE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D7553-0294-4D01-A5C5-A2506609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4EBF4-0926-495A-8EC0-AA8822E8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ABFBA-6172-4795-B1F2-9F4F9538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9DC95-6E48-4A42-B127-B4DE752A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8DFD3-9901-4FE6-A0D8-676D4DC1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7F2FA-3D87-47FF-82D4-D3129464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D05B6-DD7D-47C5-8BC0-63B18A98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3D151-C6CF-433D-A801-4239104F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4CB-77FE-45D9-8972-2B7ECA3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24306-79EE-48E3-8660-E33AA3F2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FBC89-CED2-4144-9EAD-83FD1BF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8D73-89FE-4032-9B14-0EE02FE4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C3F86-413E-4927-B9F6-C0DF358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AFACF-5F6E-4F6C-B351-51C6A07D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46ED4-8057-4AA1-A1D8-96B1139C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5CD00-15FA-4B8D-8FC9-ACA2E7CA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B1AAD-1D5E-4187-83F4-BDC23F3C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BE662-DE1B-445D-8073-30BE3564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69CA3-6436-4FBE-BBC3-119A2E15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45B5-C53E-45F5-9308-31461BEE579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EC7-5CD3-49AD-BCC6-699D39A558C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4C14-7DC7-4B2E-8A11-C3413ABC25C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EACD-936D-48BE-AC76-A82265C50A5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5B0C-CC4D-49A4-A82F-9EF747D8C56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12CA-4706-4E33-8B3F-FC31C39384A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1AE-238E-4401-B330-56694CE7C8C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1886-87B8-4DE5-A3A0-7BCF859FF27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1D0D-27DE-419E-9F6A-88F8422C2A6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08F0-DB64-4CDD-B79A-991C299580B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9549-2C60-4240-B72F-F445B16AD69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D31F-815B-46F7-A598-9320600B04F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-Merton Formula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stock whose pric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hort period of time of leng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turn on the stock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ssumed to be normal with me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expected return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4"/>
              <p:cNvSpPr txBox="1"/>
              <p:nvPr/>
            </p:nvSpPr>
            <p:spPr>
              <a:xfrm>
                <a:off x="4092480" y="4267080"/>
                <a:ext cx="1185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CE39-90BB-4DA6-B675-ED99D785DD9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3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9" name=""/>
          <p:cNvGraphicFramePr/>
          <p:nvPr/>
        </p:nvGraphicFramePr>
        <p:xfrm>
          <a:off x="914400" y="662040"/>
          <a:ext cx="7238880" cy="55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62040"/>
                    <a:ext cx="723888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457200" y="601560"/>
          <a:ext cx="77724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77724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33520" y="179064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not app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Black-Schole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quation is independent of all variables affected by risk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onsistent with the risk-neutral valuation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0D6-C512-4C50-8E34-8B58F43320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Applying 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530000" y="1719360"/>
            <a:ext cx="60865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 expected return from an asset is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xpected payoff from the 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at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3CFD-477A-430C-AA08-E5C2D5554E9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447920" y="57913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VERY  VERY   IMPORTANT 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 Formulas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Object 3"/>
              <p:cNvSpPr txBox="1"/>
              <p:nvPr/>
            </p:nvSpPr>
            <p:spPr>
              <a:xfrm>
                <a:off x="739800" y="1949400"/>
                <a:ext cx="76644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BD58-EAA9-494C-914F-35AC172E554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) Func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robability that a normally distributed variable with a mean of zero and a standard deviation of 1 is less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9ED4-C7B4-4E8A-BA20-A1998D624A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16292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ssumptions imply that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rmally distributed with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ndard dev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logarith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rma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gnormal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"/>
              <p:cNvSpPr txBox="1"/>
              <p:nvPr/>
            </p:nvSpPr>
            <p:spPr>
              <a:xfrm>
                <a:off x="2514600" y="2514600"/>
                <a:ext cx="4114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12"/>
              <p:cNvSpPr txBox="1"/>
              <p:nvPr/>
            </p:nvSpPr>
            <p:spPr>
              <a:xfrm>
                <a:off x="4495680" y="3568680"/>
                <a:ext cx="914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F0F6-CA14-42C9-98C0-449EF1329C1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Properties of Black-Scholes Formula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lar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sm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BC2A-B51F-4483-9A22-353F4A5949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Delta of an OP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77760" y="1429920"/>
            <a:ext cx="7251840" cy="18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the rate of change of the option price with respect to the under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Group 21"/>
          <p:cNvGrpSpPr/>
          <p:nvPr/>
        </p:nvGrpSpPr>
        <p:grpSpPr>
          <a:xfrm>
            <a:off x="2025360" y="2674800"/>
            <a:ext cx="5650560" cy="3483720"/>
            <a:chOff x="2025360" y="2674800"/>
            <a:chExt cx="5650560" cy="3483720"/>
          </a:xfrm>
        </p:grpSpPr>
        <p:sp>
          <p:nvSpPr>
            <p:cNvPr id="962" name="Rectangle 4"/>
            <p:cNvSpPr/>
            <p:nvPr/>
          </p:nvSpPr>
          <p:spPr>
            <a:xfrm>
              <a:off x="2121120" y="2674800"/>
              <a:ext cx="1607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Group 20"/>
            <p:cNvGrpSpPr/>
            <p:nvPr/>
          </p:nvGrpSpPr>
          <p:grpSpPr>
            <a:xfrm>
              <a:off x="2025360" y="3076560"/>
              <a:ext cx="5650560" cy="3081960"/>
              <a:chOff x="2025360" y="3076560"/>
              <a:chExt cx="5650560" cy="3081960"/>
            </a:xfrm>
          </p:grpSpPr>
          <p:sp>
            <p:nvSpPr>
              <p:cNvPr id="964" name="Line 5"/>
              <p:cNvSpPr/>
              <p:nvPr/>
            </p:nvSpPr>
            <p:spPr>
              <a:xfrm>
                <a:off x="2371680" y="3076560"/>
                <a:ext cx="0" cy="24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6"/>
              <p:cNvSpPr/>
              <p:nvPr/>
            </p:nvSpPr>
            <p:spPr>
              <a:xfrm>
                <a:off x="2371680" y="5543640"/>
                <a:ext cx="419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Group 12"/>
              <p:cNvGrpSpPr/>
              <p:nvPr/>
            </p:nvGrpSpPr>
            <p:grpSpPr>
              <a:xfrm>
                <a:off x="2371680" y="3638520"/>
                <a:ext cx="4021200" cy="1898640"/>
                <a:chOff x="2371680" y="3638520"/>
                <a:chExt cx="4021200" cy="1898640"/>
              </a:xfrm>
            </p:grpSpPr>
            <p:sp>
              <p:nvSpPr>
                <p:cNvPr id="967" name="Freeform 7"/>
                <p:cNvSpPr/>
                <p:nvPr/>
              </p:nvSpPr>
              <p:spPr>
                <a:xfrm>
                  <a:off x="2371680" y="5484960"/>
                  <a:ext cx="731880" cy="5220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61" h="33">
                      <a:moveTo>
                        <a:pt x="0" y="32"/>
                      </a:moveTo>
                      <a:lnTo>
                        <a:pt x="6" y="30"/>
                      </a:lnTo>
                      <a:lnTo>
                        <a:pt x="17" y="30"/>
                      </a:lnTo>
                      <a:lnTo>
                        <a:pt x="24" y="28"/>
                      </a:lnTo>
                      <a:lnTo>
                        <a:pt x="35" y="30"/>
                      </a:lnTo>
                      <a:lnTo>
                        <a:pt x="42" y="28"/>
                      </a:lnTo>
                      <a:lnTo>
                        <a:pt x="143" y="30"/>
                      </a:lnTo>
                      <a:lnTo>
                        <a:pt x="244" y="28"/>
                      </a:lnTo>
                      <a:lnTo>
                        <a:pt x="368" y="18"/>
                      </a:lnTo>
                      <a:lnTo>
                        <a:pt x="415" y="7"/>
                      </a:lnTo>
                      <a:lnTo>
                        <a:pt x="46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8"/>
                <p:cNvSpPr/>
                <p:nvPr/>
              </p:nvSpPr>
              <p:spPr>
                <a:xfrm>
                  <a:off x="3114720" y="5197320"/>
                  <a:ext cx="1087560" cy="284400"/>
                </a:xfrm>
                <a:custGeom>
                  <a:avLst/>
                  <a:gdLst>
                    <a:gd name="textAreaLeft" fmla="*/ 0 w 1087560"/>
                    <a:gd name="textAreaRight" fmla="*/ 1087920 w 108756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685" h="179">
                      <a:moveTo>
                        <a:pt x="0" y="178"/>
                      </a:moveTo>
                      <a:lnTo>
                        <a:pt x="204" y="143"/>
                      </a:lnTo>
                      <a:lnTo>
                        <a:pt x="469" y="69"/>
                      </a:lnTo>
                      <a:lnTo>
                        <a:pt x="684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"/>
                <p:cNvSpPr/>
                <p:nvPr/>
              </p:nvSpPr>
              <p:spPr>
                <a:xfrm>
                  <a:off x="4200480" y="4697280"/>
                  <a:ext cx="1015920" cy="501840"/>
                </a:xfrm>
                <a:custGeom>
                  <a:avLst/>
                  <a:gdLst>
                    <a:gd name="textAreaLeft" fmla="*/ 0 w 1015920"/>
                    <a:gd name="textAreaRight" fmla="*/ 1016280 w 1015920"/>
                    <a:gd name="textAreaTop" fmla="*/ 0 h 501840"/>
                    <a:gd name="textAreaBottom" fmla="*/ 502200 h 501840"/>
                  </a:gdLst>
                  <a:ahLst/>
                  <a:rect l="textAreaLeft" t="textAreaTop" r="textAreaRight" b="textAreaBottom"/>
                  <a:pathLst>
                    <a:path w="640" h="316">
                      <a:moveTo>
                        <a:pt x="0" y="315"/>
                      </a:moveTo>
                      <a:lnTo>
                        <a:pt x="220" y="224"/>
                      </a:lnTo>
                      <a:lnTo>
                        <a:pt x="381" y="146"/>
                      </a:lnTo>
                      <a:lnTo>
                        <a:pt x="639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0"/>
                <p:cNvSpPr/>
                <p:nvPr/>
              </p:nvSpPr>
              <p:spPr>
                <a:xfrm>
                  <a:off x="5214960" y="4024440"/>
                  <a:ext cx="855720" cy="6746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w="539" h="425">
                      <a:moveTo>
                        <a:pt x="0" y="424"/>
                      </a:moveTo>
                      <a:lnTo>
                        <a:pt x="210" y="285"/>
                      </a:lnTo>
                      <a:lnTo>
                        <a:pt x="333" y="190"/>
                      </a:lnTo>
                      <a:lnTo>
                        <a:pt x="467" y="73"/>
                      </a:lnTo>
                      <a:lnTo>
                        <a:pt x="538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11"/>
                <p:cNvSpPr/>
                <p:nvPr/>
              </p:nvSpPr>
              <p:spPr>
                <a:xfrm>
                  <a:off x="6068880" y="3638520"/>
                  <a:ext cx="324000" cy="38736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204" h="244">
                      <a:moveTo>
                        <a:pt x="0" y="243"/>
                      </a:moveTo>
                      <a:lnTo>
                        <a:pt x="54" y="191"/>
                      </a:lnTo>
                      <a:lnTo>
                        <a:pt x="107" y="130"/>
                      </a:lnTo>
                      <a:lnTo>
                        <a:pt x="161" y="60"/>
                      </a:lnTo>
                      <a:lnTo>
                        <a:pt x="20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Freeform 13"/>
              <p:cNvSpPr/>
              <p:nvPr/>
            </p:nvSpPr>
            <p:spPr>
              <a:xfrm>
                <a:off x="3476520" y="4464000"/>
                <a:ext cx="2478240" cy="1071720"/>
              </a:xfrm>
              <a:custGeom>
                <a:avLst/>
                <a:gdLst>
                  <a:gd name="textAreaLeft" fmla="*/ 0 w 2478240"/>
                  <a:gd name="textAreaRight" fmla="*/ 2478600 w 2478240"/>
                  <a:gd name="textAreaTop" fmla="*/ 0 h 1071720"/>
                  <a:gd name="textAreaBottom" fmla="*/ 1072080 h 1071720"/>
                </a:gdLst>
                <a:ahLst/>
                <a:rect l="textAreaLeft" t="textAreaTop" r="textAreaRight" b="textAreaBottom"/>
                <a:pathLst>
                  <a:path w="1561" h="675">
                    <a:moveTo>
                      <a:pt x="0" y="674"/>
                    </a:moveTo>
                    <a:lnTo>
                      <a:pt x="156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14"/>
              <p:cNvSpPr/>
              <p:nvPr/>
            </p:nvSpPr>
            <p:spPr>
              <a:xfrm>
                <a:off x="4505400" y="50817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15"/>
              <p:cNvSpPr/>
              <p:nvPr/>
            </p:nvSpPr>
            <p:spPr>
              <a:xfrm flipH="1">
                <a:off x="2371320" y="5092560"/>
                <a:ext cx="213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16"/>
              <p:cNvSpPr/>
              <p:nvPr/>
            </p:nvSpPr>
            <p:spPr>
              <a:xfrm>
                <a:off x="4336560" y="557856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17"/>
              <p:cNvSpPr/>
              <p:nvPr/>
            </p:nvSpPr>
            <p:spPr>
              <a:xfrm>
                <a:off x="2025360" y="480060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18"/>
              <p:cNvSpPr/>
              <p:nvPr/>
            </p:nvSpPr>
            <p:spPr>
              <a:xfrm>
                <a:off x="5741280" y="4521240"/>
                <a:ext cx="1934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lope =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19"/>
              <p:cNvSpPr/>
              <p:nvPr/>
            </p:nvSpPr>
            <p:spPr>
              <a:xfrm>
                <a:off x="5224680" y="5549760"/>
                <a:ext cx="2196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tock pric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9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5969-4FC8-4192-9AA6-F8259578D9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Implied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lied volatility of an option is the volatility for which the Black-Scholes price equals the marke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 a one-to-one correspondence between prices and implied vola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rs and brokers often quote implied volatilities rather than dollar pric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C26C-9109-4ACC-9305-CEBFF28C029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c1302"/>
                </a:solidFill>
                <a:latin typeface="Times New Roman"/>
              </a:rPr>
              <a:t>The VIX Index of S&amp;P 500 Implied Volatility; Jan. 2004 to Sept. 2009</a:t>
            </a:r>
            <a:endParaRPr b="1" lang="en-US" sz="36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0AF3-6199-4A17-AFFC-F488BEDFB4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3" descr=""/>
          <p:cNvPicPr/>
          <p:nvPr/>
        </p:nvPicPr>
        <p:blipFill>
          <a:blip r:embed="rId1"/>
          <a:stretch/>
        </p:blipFill>
        <p:spPr>
          <a:xfrm>
            <a:off x="361800" y="1698480"/>
            <a:ext cx="71056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olatility Smi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64304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atility smile shows the variation of the implied volatility with the 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smile is the same whether calculated from European call options or European put options. (This follows from put-call parity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A5B1-EB3C-4FFD-9A89-4E4649451E0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53264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Foreign Currency Options</a:t>
            </a: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 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990" name="Group 1027"/>
          <p:cNvGrpSpPr/>
          <p:nvPr/>
        </p:nvGrpSpPr>
        <p:grpSpPr>
          <a:xfrm>
            <a:off x="2743200" y="2438280"/>
            <a:ext cx="3670200" cy="3280680"/>
            <a:chOff x="2743200" y="2438280"/>
            <a:chExt cx="3670200" cy="3280680"/>
          </a:xfrm>
        </p:grpSpPr>
        <p:sp>
          <p:nvSpPr>
            <p:cNvPr id="991" name="Line 1028"/>
            <p:cNvSpPr/>
            <p:nvPr/>
          </p:nvSpPr>
          <p:spPr>
            <a:xfrm>
              <a:off x="2743200" y="2680920"/>
              <a:ext cx="0" cy="261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029"/>
            <p:cNvSpPr/>
            <p:nvPr/>
          </p:nvSpPr>
          <p:spPr>
            <a:xfrm>
              <a:off x="2743200" y="5292360"/>
              <a:ext cx="36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030"/>
            <p:cNvSpPr/>
            <p:nvPr/>
          </p:nvSpPr>
          <p:spPr>
            <a:xfrm>
              <a:off x="2804400" y="2438280"/>
              <a:ext cx="116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1031"/>
            <p:cNvSpPr/>
            <p:nvPr/>
          </p:nvSpPr>
          <p:spPr>
            <a:xfrm>
              <a:off x="2805120" y="2858760"/>
              <a:ext cx="13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lat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1032"/>
            <p:cNvSpPr/>
            <p:nvPr/>
          </p:nvSpPr>
          <p:spPr>
            <a:xfrm>
              <a:off x="5403960" y="4836960"/>
              <a:ext cx="96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033"/>
            <p:cNvSpPr/>
            <p:nvPr/>
          </p:nvSpPr>
          <p:spPr>
            <a:xfrm>
              <a:off x="5404320" y="5260680"/>
              <a:ext cx="87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1034"/>
          <p:cNvGrpSpPr/>
          <p:nvPr/>
        </p:nvGrpSpPr>
        <p:grpSpPr>
          <a:xfrm>
            <a:off x="2762280" y="3505320"/>
            <a:ext cx="3263760" cy="610920"/>
            <a:chOff x="2762280" y="3505320"/>
            <a:chExt cx="3263760" cy="610920"/>
          </a:xfrm>
        </p:grpSpPr>
        <p:sp>
          <p:nvSpPr>
            <p:cNvPr id="998" name="Freeform 1035"/>
            <p:cNvSpPr/>
            <p:nvPr/>
          </p:nvSpPr>
          <p:spPr>
            <a:xfrm>
              <a:off x="2762280" y="3510000"/>
              <a:ext cx="474480" cy="33336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99" h="210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5"/>
                  </a:lnTo>
                  <a:lnTo>
                    <a:pt x="30" y="18"/>
                  </a:lnTo>
                  <a:lnTo>
                    <a:pt x="90" y="73"/>
                  </a:lnTo>
                  <a:lnTo>
                    <a:pt x="153" y="124"/>
                  </a:lnTo>
                  <a:lnTo>
                    <a:pt x="235" y="179"/>
                  </a:lnTo>
                  <a:lnTo>
                    <a:pt x="268" y="191"/>
                  </a:lnTo>
                  <a:lnTo>
                    <a:pt x="298" y="20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36"/>
            <p:cNvSpPr/>
            <p:nvPr/>
          </p:nvSpPr>
          <p:spPr>
            <a:xfrm>
              <a:off x="3243240" y="3841920"/>
              <a:ext cx="792360" cy="2538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99" h="160">
                  <a:moveTo>
                    <a:pt x="0" y="0"/>
                  </a:moveTo>
                  <a:lnTo>
                    <a:pt x="141" y="69"/>
                  </a:lnTo>
                  <a:lnTo>
                    <a:pt x="337" y="126"/>
                  </a:lnTo>
                  <a:lnTo>
                    <a:pt x="498" y="1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37"/>
            <p:cNvSpPr/>
            <p:nvPr/>
          </p:nvSpPr>
          <p:spPr>
            <a:xfrm>
              <a:off x="4033800" y="4071960"/>
              <a:ext cx="833400" cy="4428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25" h="28">
                  <a:moveTo>
                    <a:pt x="0" y="15"/>
                  </a:moveTo>
                  <a:lnTo>
                    <a:pt x="174" y="27"/>
                  </a:lnTo>
                  <a:lnTo>
                    <a:pt x="305" y="27"/>
                  </a:lnTo>
                  <a:lnTo>
                    <a:pt x="5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38"/>
            <p:cNvSpPr/>
            <p:nvPr/>
          </p:nvSpPr>
          <p:spPr>
            <a:xfrm>
              <a:off x="4865760" y="3767040"/>
              <a:ext cx="803160" cy="30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06" h="193">
                  <a:moveTo>
                    <a:pt x="0" y="192"/>
                  </a:moveTo>
                  <a:lnTo>
                    <a:pt x="187" y="146"/>
                  </a:lnTo>
                  <a:lnTo>
                    <a:pt x="301" y="107"/>
                  </a:lnTo>
                  <a:lnTo>
                    <a:pt x="433" y="43"/>
                  </a:lnTo>
                  <a:lnTo>
                    <a:pt x="50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39"/>
            <p:cNvSpPr/>
            <p:nvPr/>
          </p:nvSpPr>
          <p:spPr>
            <a:xfrm>
              <a:off x="5667480" y="3505320"/>
              <a:ext cx="358560" cy="263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6" h="166">
                  <a:moveTo>
                    <a:pt x="0" y="165"/>
                  </a:moveTo>
                  <a:lnTo>
                    <a:pt x="54" y="135"/>
                  </a:lnTo>
                  <a:lnTo>
                    <a:pt x="113" y="93"/>
                  </a:lnTo>
                  <a:lnTo>
                    <a:pt x="173" y="45"/>
                  </a:lnTo>
                  <a:lnTo>
                    <a:pt x="22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C3BB-4725-4C9D-A889-0D316ABB2C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05" name="Picture 3" descr=""/>
          <p:cNvPicPr/>
          <p:nvPr/>
        </p:nvPicPr>
        <p:blipFill>
          <a:blip r:embed="rId1"/>
          <a:stretch/>
        </p:blipFill>
        <p:spPr>
          <a:xfrm>
            <a:off x="1219320" y="2146320"/>
            <a:ext cx="7010280" cy="3870360"/>
          </a:xfrm>
          <a:prstGeom prst="rect">
            <a:avLst/>
          </a:prstGeom>
          <a:ln w="0">
            <a:noFill/>
          </a:ln>
        </p:spPr>
      </p:pic>
      <p:sp>
        <p:nvSpPr>
          <p:cNvPr id="10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DC6A-6FB8-40CE-95E0-33A9AB339B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4038480" y="2971800"/>
            <a:ext cx="289584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Properties of 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ails are heavier than the log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“more peaked” than the normal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90F8-8DF8-42E2-BA87-C317A8A793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2" name="Line 4"/>
          <p:cNvSpPr/>
          <p:nvPr/>
        </p:nvSpPr>
        <p:spPr>
          <a:xfrm>
            <a:off x="2743200" y="246852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5"/>
          <p:cNvSpPr/>
          <p:nvPr/>
        </p:nvSpPr>
        <p:spPr>
          <a:xfrm>
            <a:off x="2743200" y="528804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6"/>
          <p:cNvSpPr/>
          <p:nvPr/>
        </p:nvSpPr>
        <p:spPr>
          <a:xfrm>
            <a:off x="2804400" y="220968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2803680" y="2590920"/>
            <a:ext cx="146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8"/>
          <p:cNvSpPr/>
          <p:nvPr/>
        </p:nvSpPr>
        <p:spPr>
          <a:xfrm>
            <a:off x="5394240" y="4800600"/>
            <a:ext cx="96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9"/>
          <p:cNvSpPr/>
          <p:nvPr/>
        </p:nvSpPr>
        <p:spPr>
          <a:xfrm>
            <a:off x="5394600" y="5257800"/>
            <a:ext cx="87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10"/>
          <p:cNvGrpSpPr/>
          <p:nvPr/>
        </p:nvGrpSpPr>
        <p:grpSpPr>
          <a:xfrm>
            <a:off x="2941560" y="3355920"/>
            <a:ext cx="2471760" cy="1438200"/>
            <a:chOff x="2941560" y="3355920"/>
            <a:chExt cx="2471760" cy="1438200"/>
          </a:xfrm>
        </p:grpSpPr>
        <p:sp>
          <p:nvSpPr>
            <p:cNvPr id="1019" name="Freeform 11"/>
            <p:cNvSpPr/>
            <p:nvPr/>
          </p:nvSpPr>
          <p:spPr>
            <a:xfrm>
              <a:off x="2941560" y="3355920"/>
              <a:ext cx="325440" cy="41292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05" h="260">
                  <a:moveTo>
                    <a:pt x="0" y="0"/>
                  </a:moveTo>
                  <a:lnTo>
                    <a:pt x="6" y="3"/>
                  </a:lnTo>
                  <a:lnTo>
                    <a:pt x="8" y="9"/>
                  </a:lnTo>
                  <a:lnTo>
                    <a:pt x="13" y="14"/>
                  </a:lnTo>
                  <a:lnTo>
                    <a:pt x="17" y="20"/>
                  </a:lnTo>
                  <a:lnTo>
                    <a:pt x="21" y="24"/>
                  </a:lnTo>
                  <a:lnTo>
                    <a:pt x="60" y="84"/>
                  </a:lnTo>
                  <a:lnTo>
                    <a:pt x="101" y="145"/>
                  </a:lnTo>
                  <a:lnTo>
                    <a:pt x="157" y="213"/>
                  </a:lnTo>
                  <a:lnTo>
                    <a:pt x="183" y="234"/>
                  </a:lnTo>
                  <a:lnTo>
                    <a:pt x="204" y="2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"/>
            <p:cNvSpPr/>
            <p:nvPr/>
          </p:nvSpPr>
          <p:spPr>
            <a:xfrm>
              <a:off x="3273480" y="3772080"/>
              <a:ext cx="625320" cy="501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94" h="316">
                  <a:moveTo>
                    <a:pt x="0" y="0"/>
                  </a:moveTo>
                  <a:lnTo>
                    <a:pt x="105" y="104"/>
                  </a:lnTo>
                  <a:lnTo>
                    <a:pt x="260" y="225"/>
                  </a:lnTo>
                  <a:lnTo>
                    <a:pt x="393" y="31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3"/>
            <p:cNvSpPr/>
            <p:nvPr/>
          </p:nvSpPr>
          <p:spPr>
            <a:xfrm>
              <a:off x="3897360" y="4272120"/>
              <a:ext cx="735120" cy="35532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463" h="224">
                  <a:moveTo>
                    <a:pt x="0" y="0"/>
                  </a:moveTo>
                  <a:lnTo>
                    <a:pt x="149" y="85"/>
                  </a:lnTo>
                  <a:lnTo>
                    <a:pt x="262" y="143"/>
                  </a:lnTo>
                  <a:lnTo>
                    <a:pt x="462" y="2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4"/>
            <p:cNvSpPr/>
            <p:nvPr/>
          </p:nvSpPr>
          <p:spPr>
            <a:xfrm>
              <a:off x="4630680" y="4626000"/>
              <a:ext cx="782640" cy="1681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3" h="106">
                  <a:moveTo>
                    <a:pt x="0" y="0"/>
                  </a:moveTo>
                  <a:lnTo>
                    <a:pt x="174" y="54"/>
                  </a:lnTo>
                  <a:lnTo>
                    <a:pt x="284" y="79"/>
                  </a:lnTo>
                  <a:lnTo>
                    <a:pt x="417" y="99"/>
                  </a:lnTo>
                  <a:lnTo>
                    <a:pt x="492" y="10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476-CBB4-42F0-BB7A-135E7F5AB1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25" name="Picture 3" descr=""/>
          <p:cNvPicPr/>
          <p:nvPr/>
        </p:nvPicPr>
        <p:blipFill>
          <a:blip r:embed="rId1"/>
          <a:stretch/>
        </p:blipFill>
        <p:spPr>
          <a:xfrm>
            <a:off x="914400" y="2146320"/>
            <a:ext cx="6858000" cy="3786120"/>
          </a:xfrm>
          <a:prstGeom prst="rect">
            <a:avLst/>
          </a:prstGeom>
          <a:ln w="0">
            <a:noFill/>
          </a:ln>
        </p:spPr>
      </p:pic>
      <p:sp>
        <p:nvSpPr>
          <p:cNvPr id="10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2A60-9562-40EC-BC92-2EFDA053AF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 flipV="1">
            <a:off x="3657600" y="3048120"/>
            <a:ext cx="2743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i)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638280" y="4800600"/>
            <a:ext cx="8082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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a normal distribution with me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vari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1024"/>
              <p:cNvSpPr txBox="1"/>
              <p:nvPr/>
            </p:nvSpPr>
            <p:spPr>
              <a:xfrm>
                <a:off x="495360" y="1555920"/>
                <a:ext cx="7008840" cy="29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CC53-BCA9-424F-A6B2-7B61FBFB21E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Distribu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4"/>
              <p:cNvSpPr txBox="1"/>
              <p:nvPr/>
            </p:nvSpPr>
            <p:spPr>
              <a:xfrm>
                <a:off x="2070000" y="4800600"/>
                <a:ext cx="51008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mT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1" name="Rectangle 5"/>
          <p:cNvSpPr/>
          <p:nvPr/>
        </p:nvSpPr>
        <p:spPr>
          <a:xfrm>
            <a:off x="1371600" y="2514600"/>
            <a:ext cx="30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6"/>
          <p:cNvGraphicFramePr/>
          <p:nvPr/>
        </p:nvGraphicFramePr>
        <p:xfrm>
          <a:off x="1519200" y="1390680"/>
          <a:ext cx="60865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390680"/>
                    <a:ext cx="60865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7"/>
          <p:cNvGraphicFramePr/>
          <p:nvPr/>
        </p:nvGraphicFramePr>
        <p:xfrm>
          <a:off x="1544760" y="2612880"/>
          <a:ext cx="3673440" cy="11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4760" y="2612880"/>
                    <a:ext cx="36734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8"/>
          <p:cNvGraphicFramePr/>
          <p:nvPr/>
        </p:nvGraphicFramePr>
        <p:xfrm>
          <a:off x="1905120" y="1295280"/>
          <a:ext cx="7237440" cy="4114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295280"/>
                    <a:ext cx="723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7365-1DA9-4872-B281-38336A32DFF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is the standard deviation of the continuously compounded rate of return in 1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ndard deviation of the return in tim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024"/>
              <p:cNvSpPr txBox="1"/>
              <p:nvPr/>
            </p:nvSpPr>
            <p:spPr>
              <a:xfrm>
                <a:off x="3124080" y="3733920"/>
                <a:ext cx="976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2428-A023-48F8-AC4E-FC631D1E52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Concepts Underlying Black-Schole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8680" y="1719360"/>
            <a:ext cx="77677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on price and the stock price depend on the same underlying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orm a portfolio consisting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k and the 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eliminates this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tfolio is instantaneously riskless and must instantaneously earn the risk-fre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6A1B-6123-459D-A6B7-78294DEB7F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762120" y="1981080"/>
            <a:ext cx="70866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et us derive the Black-Scholes Eq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2T05:06:26Z</dcterms:created>
  <dc:creator>John C. Hull</dc:creator>
  <dc:description>Copyright 2010 by John C. Hull.
All rights reserved. Published 2010.</dc:description>
  <cp:keywords>Chapter 13</cp:keywords>
  <dc:language>en-US</dc:language>
  <cp:lastModifiedBy>VCHARLIN</cp:lastModifiedBy>
  <cp:lastPrinted>2001-05-03T13:08:45Z</cp:lastPrinted>
  <dcterms:modified xsi:type="dcterms:W3CDTF">2010-11-18T22:34:21Z</dcterms:modified>
  <cp:revision>47</cp:revision>
  <dc:subject>Fundamentals of Futures and Options Markets, 7E</dc:subject>
  <dc:title>Valuing Stock Options: The Black-Scholes-Merton Model</dc:title>
</cp:coreProperties>
</file>