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dt" idx="3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ftr" idx="38"/>
          </p:nvPr>
        </p:nvSpPr>
        <p:spPr>
          <a:xfrm>
            <a:off x="-36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sldNum" idx="39"/>
          </p:nvPr>
        </p:nvSpPr>
        <p:spPr>
          <a:xfrm>
            <a:off x="388584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AAC029-0D7D-4D25-AEA8-792602B397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 type="sldImg"/>
          </p:nvPr>
        </p:nvSpPr>
        <p:spPr>
          <a:xfrm>
            <a:off x="1127160" y="692280"/>
            <a:ext cx="4603680" cy="34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CDD4D71-FBDC-45A5-860E-AD128030B10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2D1634-62D0-4731-AB44-F5935616CB8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9196D0C-C6ED-475E-956D-3AA265A909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180286E-CC9C-469E-8B9A-875F102EFD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33D977B-3D6C-452F-8C60-F259C523B4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AC049E2-791C-4A43-A116-3DB7B90C74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E477E9-7770-46DD-8623-69C5EF4B8A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5D721C7-2963-4A47-BBF7-9F9381DB59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1F68C1E-E465-4F53-B4E0-6C871C5E7BC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Slide Number Placeholder 3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A328594-74D0-43B0-972D-6C91F7D380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3228-248C-4FD3-B836-8CD903BFD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36520" y="69696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3E2F-BE43-449D-BADF-81E172127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43BF-B8CE-4825-986A-BBAA0DF0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5378-9A6B-46A9-A484-155916C3D4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0C54-D409-423B-A1F0-1960B547F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C13E-8FA7-4BE4-8869-5F96EA7EB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27160" y="6904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98F457-A8C0-483C-AD9B-9047E257B1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C0302F-221A-4D82-83D5-D7C03940C3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200A5ED-61CF-47FD-B90B-A9C190D29B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5"/>
          <p:cNvSpPr/>
          <p:nvPr/>
        </p:nvSpPr>
        <p:spPr>
          <a:xfrm>
            <a:off x="3886200" y="874728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3E2DFE-DC8E-4877-A642-63A03C81715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28600" y="692280"/>
            <a:ext cx="4600800" cy="3449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73280"/>
            <a:ext cx="502920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F863-332B-4225-BF84-C0285CE3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21E-F131-47A4-BCB7-DB97E981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752ED-61DD-4918-B39C-95E3BA69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8F1DF-68CB-4CF1-9391-B827D91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782D1-75E8-452E-A478-8F06EAB9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E43B-3B5B-4AEA-822F-764F95C4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9FD78-3AE7-475F-9FD9-FB0A2388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0C1D3-1DBC-428F-BF0C-91FA6FAE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48BAC-27DB-493A-8BF4-69D3E25B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46AF0-B46E-4660-82ED-177F774D7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BC294-D11C-4EA1-A547-F7E254F3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DF402-06DB-4AA1-AA83-25C7D029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736D-77C9-472F-8273-556B01236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22C52-432D-4969-AB11-6BEBDAA6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7566D-D920-4208-AEEB-F9893804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E1B0E-E29C-4E72-A393-46CECE3E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B70F6-34AB-4D79-B1BE-6117A203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CCC1F-7F6F-4AE0-B45B-7C53A768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2ADE6A-23F2-4898-9EE0-6D4DCCC0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396BB7-A6F4-481B-BC78-7CE28B3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37849-8623-4428-A652-281AAD9A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1B587-7743-44D7-B140-662E0AD6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47013-757F-44D3-80AE-A05E6CBF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0FC9-AF6F-4F31-8B13-F4E734A7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34CB7-CC0E-4E85-96C4-36F2F6EC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7B69D-0862-44BB-8861-6BEA6A77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9A246-06B5-4739-9FB8-BF4E6919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313D-82CB-4E40-8FF6-4C367B84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B4ED7-5809-4F2E-BA9E-36128A95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157FB-0171-45E9-8404-E6000580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C6A04-44C5-4507-BEC9-0D2D9E0A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A7ED93-E358-4FDF-A722-1939B096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A55CA-9F18-4B08-9D08-FF89D91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F9290-7D15-4666-AD44-570654EC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672B-125F-4AEC-BEFE-79BD79E2A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D8CAD-CCB0-494B-A839-E4BE807B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9EDB1-2BBB-4845-AE08-7ABBA33BB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1DC5D-BF17-4E41-8828-7DDC36F1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E25C3-A37E-4648-BB3F-016D35AB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7C359-BF09-4C1E-9458-0A70942C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0758E-A9D6-44A1-ADDC-B8DA634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E1B0E-5C61-4473-997B-AC2B9CD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E10B9-7267-4A3C-A6F5-1E98B5B8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3789F-0B78-4829-A5EA-C7E6594B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771C8-8560-4F0B-8252-47F9AA40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F03B-4741-4EB8-A7B7-9FCA32365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6A629-9933-4670-9947-DC5DEE96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5D452-7057-421B-B191-48F4C2B4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EF2C8-F621-49D0-A0F4-D385F31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5427B4-1AEF-4561-BC02-14C2AAE6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260F3D-EDED-4CE6-9B3D-CD0EB10E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6766-5C91-4AE3-852B-9DB211A8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098C-76C8-48E6-8A56-74869741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B6A2-3D3F-4FCE-8746-B14F63D7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01D-3D13-4BA1-8BA8-DF25DF88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FBFE-BFC9-4204-81F9-67C534DF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5E1B-9F0F-46A8-A11B-6018B2B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2396-24B2-4FCC-8D96-4744EE3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82E8-AD7A-4C72-9B5A-8C7B6EF9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93D15-2AC3-4D7A-8089-F899F5F1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C03C-4B20-4B91-97C8-E361D9D9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13D5-DBFA-4756-9CB0-6500718B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9362-D5DB-49ED-B4DE-ADC64275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C89B-A555-4355-961B-566831DD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7C810-0276-4428-8333-62EE87F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357D-B299-439E-A203-5951F1E3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3598C-A285-4E31-8815-B9510290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722-3CC4-4780-9480-4BE7C3F6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DDA82-A712-485F-B981-00792F8C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C664-1FC2-4EC6-A1F0-BDAB3926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1364E-8BC8-409C-8746-676786A5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CAA2-0674-4A21-82CF-8CF43958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FE24-DF9D-44BE-B8A0-6CD0BCB9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3E5F-0795-4522-BB4B-736975D15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7A83C-490C-431E-A551-B296AE93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A507-8D1C-4589-BCA5-591CBFD9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28518-2F79-451D-BDDA-A8D0EA26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95FC-B529-4922-81F6-D36D4374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04A-32F0-42A5-BE81-B468163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CA2B8-6FEF-4F67-9FE0-290A66F6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19A0B-7C87-4436-B5F3-955CF8B4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5DDAC-4B36-44D9-96D0-EF23C088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13932-EE9D-4014-8425-E29000A3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5E62-3F8B-499C-BE2F-E6D8DF4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B9F7F-39B7-4DCC-8905-0AE237C0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7EF8A-28A2-4A21-A792-976EAC58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E863-B50F-4985-AC95-4565627A0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0B265-4F91-445B-B181-0AFB6FE4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4ED7-6C1A-4A65-8354-75B53D84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A14-6DCF-4871-A89C-D07D4D70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4AE1-ACBC-4E54-BA51-7F76708F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508FE-0E8B-4A86-8BA1-39968286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9A109-AF76-4BF2-8207-65BB492C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8699A-7923-45F7-95B7-BFF3417B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9207-393B-4DBD-9DA6-A58788AB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4CCB7-A592-40E3-8610-7C3BCFAC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D4DF7-19A8-44AF-AA44-4D9ACAAC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615F-B1AF-44FA-B1C5-B909542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32F1-E5BE-408C-B94A-22324B74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1056-57C0-4A6F-AAAB-4725ABB8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6EE-FC54-4E76-AA81-9F3C8E51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CBFB5-E1D1-4CC0-8C82-F29B41FE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649FB-32BF-4419-A003-CCCB0AB3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2944B-9C79-49FF-96E9-5645956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08F24-2C70-4C78-AE37-2BE9B8B44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3D501-728C-4EBB-9719-B7F6A8C3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FBF9F-DFB8-4497-92B4-8EAF2C86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3DD88-CD8E-45F8-99CD-E9C3EB7D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8C056-BD74-4796-86EC-B98EC894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46516-8478-4204-87A6-6B59414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38B97-27C9-4C7F-ABF7-D25289D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66B-F185-4533-92C4-A22CB6097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A51A8-72EB-4CB0-A768-E871B37D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58DF9-9EC0-4986-A43B-9ECF6974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B5C9-DF3F-4A19-8DAB-4AEB201A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223A-4C2F-4498-AA6D-4D02BF417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FF19-9CF0-41A1-BB98-15E32A338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46D5E-5143-4B7D-883D-BFBC42FC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632D-18D0-4CAE-A72E-3864CB55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356D3-6125-4A4B-AD08-618038F8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F7DA-2399-43FC-BAEC-C490A96A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089C-6929-4FFA-9D3E-B8AB937C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9199-A57B-448D-BE18-192BBDDB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05A9D-95AF-4A02-AEC9-91473E47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21D19-AA7D-4C8C-BA38-2F064FE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B82D5-10FB-4027-8DBB-EB9F293E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C08C6-CEC8-4A8C-9CB2-2D489268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DC70-D0F5-47B5-A198-2D3E354D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26D68-3A10-4CA0-AA35-C81A76C2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A0A62-C3BD-4714-8CAA-0FD1AFEF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8BB02-4DC2-426A-86A9-8E3487A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9B773-4DAD-4F4D-A0EA-02E3C29D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457FF-CAFB-474C-A291-5CCD6AFE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E11-F4CF-45E4-B120-AC0B2568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8ABEC-DD08-41BA-AD86-13FCF8A2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FFB1D-88AF-4BA9-8C65-8B5C2A0E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B7CC4-5AFC-4481-8FE0-1DF9AA74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98DAA-9358-4A7D-80EA-FF63ACC9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E5470-720F-4C87-B201-00A8E57F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7C683-AC6A-4BED-9FC2-479B04F8D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4A9C-90F1-4FC8-B56D-5CE90788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5AB24-7EFE-4759-8DCC-D627B5AE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D8505-6A13-40F5-9028-F89CB4D9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EDD8B-1935-4C86-9865-28CFEF1B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6B8-1CF0-4FFE-A12A-7393F4C740D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6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29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FFF-A414-4582-80AC-1BB3E2AD1E5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4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ftr" idx="32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79A1-B1D9-421D-94AB-ABC8EBF4CC0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81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76E1-FA0C-44DB-9F13-80CC3AE5E2A3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F5B2-48DB-45B2-A956-1353153663A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8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89B2-37BC-4B62-BE65-A7B70330BC2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1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5A5-B81B-4800-B0DD-9754421D7D5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9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4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4D80-72DD-4E22-95C1-933008A9E4BE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37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17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8121-6172-46C8-8F1C-B3264878F63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4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0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9F1-C74A-49A7-976F-B5CCAF84AA5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3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BAF-9CB1-40AC-99C5-4F9CD3146EA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94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ftr" idx="26"/>
          </p:nvPr>
        </p:nvSpPr>
        <p:spPr>
          <a:xfrm>
            <a:off x="25056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undamentals of Futures and Options Markets, 7th Ed, Ch 13, Copyright © John C. Hull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8B1D-7024-47D9-AFA2-08A7681EECBD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-Merton Formula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a stock whose price i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hort period of time of length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return on the stock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assumed to be normal with mea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expected return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vola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4"/>
              <p:cNvSpPr txBox="1"/>
              <p:nvPr/>
            </p:nvSpPr>
            <p:spPr>
              <a:xfrm>
                <a:off x="4092480" y="4267080"/>
                <a:ext cx="11858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C59A-7977-47ED-AA28-A9385D19235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1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3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5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9" name=""/>
          <p:cNvGraphicFramePr/>
          <p:nvPr/>
        </p:nvGraphicFramePr>
        <p:xfrm>
          <a:off x="914400" y="662040"/>
          <a:ext cx="7238880" cy="559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62040"/>
                    <a:ext cx="723888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1" name=""/>
          <p:cNvGraphicFramePr/>
          <p:nvPr/>
        </p:nvGraphicFramePr>
        <p:xfrm>
          <a:off x="457200" y="601560"/>
          <a:ext cx="77724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1560"/>
                    <a:ext cx="77724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33520" y="1790640"/>
            <a:ext cx="775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not app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Black-Schole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quation is independent of all variables affected by risk p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consistent with the risk-neutral valuation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357-7367-40DF-8ED5-F76D5136F43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Applying Risk-Neutral Valua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530000" y="1719360"/>
            <a:ext cx="60865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expected return from an asset is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expected payoff from the deri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ount at the risk-fre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D8F7-6D8A-4AA6-AF45-3781F46E468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447920" y="5791320"/>
            <a:ext cx="609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oper Black"/>
              </a:rPr>
              <a:t>VERY  VERY   IMPORTANT  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Black-Scholes Formulas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Object 3"/>
              <p:cNvSpPr txBox="1"/>
              <p:nvPr/>
            </p:nvSpPr>
            <p:spPr>
              <a:xfrm>
                <a:off x="739800" y="1949400"/>
                <a:ext cx="7664400" cy="38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+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σ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DCFF-0F4C-45ED-8A29-3CC8167742A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9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) Func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the probability that a normally distributed variable with a mean of zero and a standard deviation of 1 is less th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7BFD-D561-4B74-A2CA-EA4514BDB79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)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16292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ssumptions imply that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normally distributed with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the logarith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rmal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lognormal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1" name="Object 4"/>
              <p:cNvSpPr txBox="1"/>
              <p:nvPr/>
            </p:nvSpPr>
            <p:spPr>
              <a:xfrm>
                <a:off x="2514600" y="2514600"/>
                <a:ext cx="4114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12"/>
              <p:cNvSpPr txBox="1"/>
              <p:nvPr/>
            </p:nvSpPr>
            <p:spPr>
              <a:xfrm>
                <a:off x="4495680" y="3568680"/>
                <a:ext cx="9144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03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45FD-8C9D-4A2F-B28B-40EFE886E0A3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c1302"/>
                </a:solidFill>
                <a:latin typeface="Times New Roman"/>
              </a:rPr>
              <a:t>Properties of Black-Scholes Formula</a:t>
            </a:r>
            <a:br>
              <a:rPr sz="3500"/>
            </a:br>
            <a:endParaRPr b="1" lang="en-US" sz="35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larg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comes very sm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zero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nds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17AC-9B4C-4FFF-87C7-64108E19ACF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Delta of an OP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77760" y="1429920"/>
            <a:ext cx="7251840" cy="18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ta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s the rate of change of the option price with respect to the under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21"/>
          <p:cNvGrpSpPr/>
          <p:nvPr/>
        </p:nvGrpSpPr>
        <p:grpSpPr>
          <a:xfrm>
            <a:off x="2025360" y="2674800"/>
            <a:ext cx="5650560" cy="3483720"/>
            <a:chOff x="2025360" y="2674800"/>
            <a:chExt cx="5650560" cy="3483720"/>
          </a:xfrm>
        </p:grpSpPr>
        <p:sp>
          <p:nvSpPr>
            <p:cNvPr id="962" name="Rectangle 4"/>
            <p:cNvSpPr/>
            <p:nvPr/>
          </p:nvSpPr>
          <p:spPr>
            <a:xfrm>
              <a:off x="2121120" y="2674800"/>
              <a:ext cx="16070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Group 20"/>
            <p:cNvGrpSpPr/>
            <p:nvPr/>
          </p:nvGrpSpPr>
          <p:grpSpPr>
            <a:xfrm>
              <a:off x="2025360" y="3076560"/>
              <a:ext cx="5650560" cy="3081960"/>
              <a:chOff x="2025360" y="3076560"/>
              <a:chExt cx="5650560" cy="3081960"/>
            </a:xfrm>
          </p:grpSpPr>
          <p:sp>
            <p:nvSpPr>
              <p:cNvPr id="964" name="Line 5"/>
              <p:cNvSpPr/>
              <p:nvPr/>
            </p:nvSpPr>
            <p:spPr>
              <a:xfrm>
                <a:off x="2371680" y="3076560"/>
                <a:ext cx="0" cy="24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6"/>
              <p:cNvSpPr/>
              <p:nvPr/>
            </p:nvSpPr>
            <p:spPr>
              <a:xfrm>
                <a:off x="2371680" y="5543640"/>
                <a:ext cx="419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6" name="Group 12"/>
              <p:cNvGrpSpPr/>
              <p:nvPr/>
            </p:nvGrpSpPr>
            <p:grpSpPr>
              <a:xfrm>
                <a:off x="2371680" y="3638520"/>
                <a:ext cx="4021200" cy="1898640"/>
                <a:chOff x="2371680" y="3638520"/>
                <a:chExt cx="4021200" cy="1898640"/>
              </a:xfrm>
            </p:grpSpPr>
            <p:sp>
              <p:nvSpPr>
                <p:cNvPr id="967" name="Freeform 7"/>
                <p:cNvSpPr/>
                <p:nvPr/>
              </p:nvSpPr>
              <p:spPr>
                <a:xfrm>
                  <a:off x="2371680" y="5484960"/>
                  <a:ext cx="731880" cy="52200"/>
                </a:xfrm>
                <a:custGeom>
                  <a:avLst/>
                  <a:gdLst>
                    <a:gd name="textAreaLeft" fmla="*/ 0 w 731880"/>
                    <a:gd name="textAreaRight" fmla="*/ 732240 w 73188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461" h="33">
                      <a:moveTo>
                        <a:pt x="0" y="32"/>
                      </a:moveTo>
                      <a:lnTo>
                        <a:pt x="6" y="30"/>
                      </a:lnTo>
                      <a:lnTo>
                        <a:pt x="17" y="30"/>
                      </a:lnTo>
                      <a:lnTo>
                        <a:pt x="24" y="28"/>
                      </a:lnTo>
                      <a:lnTo>
                        <a:pt x="35" y="30"/>
                      </a:lnTo>
                      <a:lnTo>
                        <a:pt x="42" y="28"/>
                      </a:lnTo>
                      <a:lnTo>
                        <a:pt x="143" y="30"/>
                      </a:lnTo>
                      <a:lnTo>
                        <a:pt x="244" y="28"/>
                      </a:lnTo>
                      <a:lnTo>
                        <a:pt x="368" y="18"/>
                      </a:lnTo>
                      <a:lnTo>
                        <a:pt x="415" y="7"/>
                      </a:lnTo>
                      <a:lnTo>
                        <a:pt x="46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8"/>
                <p:cNvSpPr/>
                <p:nvPr/>
              </p:nvSpPr>
              <p:spPr>
                <a:xfrm>
                  <a:off x="3114720" y="5197320"/>
                  <a:ext cx="1087560" cy="284400"/>
                </a:xfrm>
                <a:custGeom>
                  <a:avLst/>
                  <a:gdLst>
                    <a:gd name="textAreaLeft" fmla="*/ 0 w 1087560"/>
                    <a:gd name="textAreaRight" fmla="*/ 1087920 w 1087560"/>
                    <a:gd name="textAreaTop" fmla="*/ 0 h 284400"/>
                    <a:gd name="textAreaBottom" fmla="*/ 284760 h 284400"/>
                  </a:gdLst>
                  <a:ahLst/>
                  <a:rect l="textAreaLeft" t="textAreaTop" r="textAreaRight" b="textAreaBottom"/>
                  <a:pathLst>
                    <a:path w="685" h="179">
                      <a:moveTo>
                        <a:pt x="0" y="178"/>
                      </a:moveTo>
                      <a:lnTo>
                        <a:pt x="204" y="143"/>
                      </a:lnTo>
                      <a:lnTo>
                        <a:pt x="469" y="69"/>
                      </a:lnTo>
                      <a:lnTo>
                        <a:pt x="684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"/>
                <p:cNvSpPr/>
                <p:nvPr/>
              </p:nvSpPr>
              <p:spPr>
                <a:xfrm>
                  <a:off x="4200480" y="4697280"/>
                  <a:ext cx="1015920" cy="501840"/>
                </a:xfrm>
                <a:custGeom>
                  <a:avLst/>
                  <a:gdLst>
                    <a:gd name="textAreaLeft" fmla="*/ 0 w 1015920"/>
                    <a:gd name="textAreaRight" fmla="*/ 1016280 w 1015920"/>
                    <a:gd name="textAreaTop" fmla="*/ 0 h 501840"/>
                    <a:gd name="textAreaBottom" fmla="*/ 502200 h 501840"/>
                  </a:gdLst>
                  <a:ahLst/>
                  <a:rect l="textAreaLeft" t="textAreaTop" r="textAreaRight" b="textAreaBottom"/>
                  <a:pathLst>
                    <a:path w="640" h="316">
                      <a:moveTo>
                        <a:pt x="0" y="315"/>
                      </a:moveTo>
                      <a:lnTo>
                        <a:pt x="220" y="224"/>
                      </a:lnTo>
                      <a:lnTo>
                        <a:pt x="381" y="146"/>
                      </a:lnTo>
                      <a:lnTo>
                        <a:pt x="63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0"/>
                <p:cNvSpPr/>
                <p:nvPr/>
              </p:nvSpPr>
              <p:spPr>
                <a:xfrm>
                  <a:off x="5214960" y="4024440"/>
                  <a:ext cx="855720" cy="674640"/>
                </a:xfrm>
                <a:custGeom>
                  <a:avLst/>
                  <a:gdLst>
                    <a:gd name="textAreaLeft" fmla="*/ 0 w 855720"/>
                    <a:gd name="textAreaRight" fmla="*/ 856080 w 855720"/>
                    <a:gd name="textAreaTop" fmla="*/ 0 h 674640"/>
                    <a:gd name="textAreaBottom" fmla="*/ 675000 h 674640"/>
                  </a:gdLst>
                  <a:ahLst/>
                  <a:rect l="textAreaLeft" t="textAreaTop" r="textAreaRight" b="textAreaBottom"/>
                  <a:pathLst>
                    <a:path w="539" h="425">
                      <a:moveTo>
                        <a:pt x="0" y="424"/>
                      </a:moveTo>
                      <a:lnTo>
                        <a:pt x="210" y="285"/>
                      </a:lnTo>
                      <a:lnTo>
                        <a:pt x="333" y="190"/>
                      </a:lnTo>
                      <a:lnTo>
                        <a:pt x="467" y="73"/>
                      </a:lnTo>
                      <a:lnTo>
                        <a:pt x="53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"/>
                <p:cNvSpPr/>
                <p:nvPr/>
              </p:nvSpPr>
              <p:spPr>
                <a:xfrm>
                  <a:off x="6068880" y="3638520"/>
                  <a:ext cx="324000" cy="387360"/>
                </a:xfrm>
                <a:custGeom>
                  <a:avLst/>
                  <a:gdLst>
                    <a:gd name="textAreaLeft" fmla="*/ 0 w 324000"/>
                    <a:gd name="textAreaRight" fmla="*/ 324360 w 324000"/>
                    <a:gd name="textAreaTop" fmla="*/ 0 h 387360"/>
                    <a:gd name="textAreaBottom" fmla="*/ 387720 h 387360"/>
                  </a:gdLst>
                  <a:ahLst/>
                  <a:rect l="textAreaLeft" t="textAreaTop" r="textAreaRight" b="textAreaBottom"/>
                  <a:pathLst>
                    <a:path w="204" h="244">
                      <a:moveTo>
                        <a:pt x="0" y="243"/>
                      </a:moveTo>
                      <a:lnTo>
                        <a:pt x="54" y="191"/>
                      </a:lnTo>
                      <a:lnTo>
                        <a:pt x="107" y="130"/>
                      </a:lnTo>
                      <a:lnTo>
                        <a:pt x="161" y="60"/>
                      </a:lnTo>
                      <a:lnTo>
                        <a:pt x="20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2" name="Freeform 13"/>
              <p:cNvSpPr/>
              <p:nvPr/>
            </p:nvSpPr>
            <p:spPr>
              <a:xfrm>
                <a:off x="3476520" y="4464000"/>
                <a:ext cx="2478240" cy="1071720"/>
              </a:xfrm>
              <a:custGeom>
                <a:avLst/>
                <a:gdLst>
                  <a:gd name="textAreaLeft" fmla="*/ 0 w 2478240"/>
                  <a:gd name="textAreaRight" fmla="*/ 2478600 w 2478240"/>
                  <a:gd name="textAreaTop" fmla="*/ 0 h 1071720"/>
                  <a:gd name="textAreaBottom" fmla="*/ 1072080 h 1071720"/>
                </a:gdLst>
                <a:ahLst/>
                <a:rect l="textAreaLeft" t="textAreaTop" r="textAreaRight" b="textAreaBottom"/>
                <a:pathLst>
                  <a:path w="1561" h="675">
                    <a:moveTo>
                      <a:pt x="0" y="674"/>
                    </a:moveTo>
                    <a:lnTo>
                      <a:pt x="156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Line 14"/>
              <p:cNvSpPr/>
              <p:nvPr/>
            </p:nvSpPr>
            <p:spPr>
              <a:xfrm>
                <a:off x="4505400" y="5081760"/>
                <a:ext cx="0" cy="461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15"/>
              <p:cNvSpPr/>
              <p:nvPr/>
            </p:nvSpPr>
            <p:spPr>
              <a:xfrm flipH="1">
                <a:off x="2371320" y="5092560"/>
                <a:ext cx="213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16"/>
              <p:cNvSpPr/>
              <p:nvPr/>
            </p:nvSpPr>
            <p:spPr>
              <a:xfrm>
                <a:off x="4336560" y="557856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Rectangle 17"/>
              <p:cNvSpPr/>
              <p:nvPr/>
            </p:nvSpPr>
            <p:spPr>
              <a:xfrm>
                <a:off x="2025360" y="4800600"/>
                <a:ext cx="45648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18"/>
              <p:cNvSpPr/>
              <p:nvPr/>
            </p:nvSpPr>
            <p:spPr>
              <a:xfrm>
                <a:off x="5741280" y="4521240"/>
                <a:ext cx="193464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lope = 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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Rectangle 19"/>
              <p:cNvSpPr/>
              <p:nvPr/>
            </p:nvSpPr>
            <p:spPr>
              <a:xfrm>
                <a:off x="5224680" y="5549760"/>
                <a:ext cx="2196720" cy="5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Stock pric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9" name="Slide Number Placeholder 2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E35C-EF90-41C8-AC25-488BF82C95B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Implied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lied volatility of an option is the volatility for which the Black-Scholes price equals the market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s a one-to-one correspondence between prices and implied vola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ers and brokers often quote implied volatilities rather than dollar pri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F56B-5B1F-494E-994E-FD5F435A5B8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7c1302"/>
                </a:solidFill>
                <a:latin typeface="Times New Roman"/>
              </a:rPr>
              <a:t>The VIX Index of S&amp;P 500 Implied Volatility; Jan. 2004 to Sept. 2009</a:t>
            </a:r>
            <a:endParaRPr b="1" lang="en-US" sz="36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B2EF-3A3C-4CEB-B664-560F6D20928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Picture 3" descr=""/>
          <p:cNvPicPr/>
          <p:nvPr/>
        </p:nvPicPr>
        <p:blipFill>
          <a:blip r:embed="rId1"/>
          <a:stretch/>
        </p:blipFill>
        <p:spPr>
          <a:xfrm>
            <a:off x="361800" y="1698480"/>
            <a:ext cx="71056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Volatility Smile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64304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atility smile shows the variation of the implied volatility with the 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smile is the same whether calculated from European call options or European put options. (This follows from put-call parity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6BBC-9DDB-4D4D-BC3A-B2F95008E4B0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53264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Foreign Currency Options</a:t>
            </a: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 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grpSp>
        <p:nvGrpSpPr>
          <p:cNvPr id="990" name="Group 1027"/>
          <p:cNvGrpSpPr/>
          <p:nvPr/>
        </p:nvGrpSpPr>
        <p:grpSpPr>
          <a:xfrm>
            <a:off x="2743200" y="2438280"/>
            <a:ext cx="3670200" cy="3280680"/>
            <a:chOff x="2743200" y="2438280"/>
            <a:chExt cx="3670200" cy="3280680"/>
          </a:xfrm>
        </p:grpSpPr>
        <p:sp>
          <p:nvSpPr>
            <p:cNvPr id="991" name="Line 1028"/>
            <p:cNvSpPr/>
            <p:nvPr/>
          </p:nvSpPr>
          <p:spPr>
            <a:xfrm>
              <a:off x="2743200" y="2680920"/>
              <a:ext cx="0" cy="261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1029"/>
            <p:cNvSpPr/>
            <p:nvPr/>
          </p:nvSpPr>
          <p:spPr>
            <a:xfrm>
              <a:off x="2743200" y="5292360"/>
              <a:ext cx="367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030"/>
            <p:cNvSpPr/>
            <p:nvPr/>
          </p:nvSpPr>
          <p:spPr>
            <a:xfrm>
              <a:off x="2804400" y="2438280"/>
              <a:ext cx="1166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mpli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1031"/>
            <p:cNvSpPr/>
            <p:nvPr/>
          </p:nvSpPr>
          <p:spPr>
            <a:xfrm>
              <a:off x="2805120" y="2858760"/>
              <a:ext cx="1317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olat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Rectangle 1032"/>
            <p:cNvSpPr/>
            <p:nvPr/>
          </p:nvSpPr>
          <p:spPr>
            <a:xfrm>
              <a:off x="5403960" y="4836960"/>
              <a:ext cx="963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ri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033"/>
            <p:cNvSpPr/>
            <p:nvPr/>
          </p:nvSpPr>
          <p:spPr>
            <a:xfrm>
              <a:off x="5404320" y="5260680"/>
              <a:ext cx="87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034"/>
          <p:cNvGrpSpPr/>
          <p:nvPr/>
        </p:nvGrpSpPr>
        <p:grpSpPr>
          <a:xfrm>
            <a:off x="2762280" y="3505320"/>
            <a:ext cx="3263760" cy="610920"/>
            <a:chOff x="2762280" y="3505320"/>
            <a:chExt cx="3263760" cy="610920"/>
          </a:xfrm>
        </p:grpSpPr>
        <p:sp>
          <p:nvSpPr>
            <p:cNvPr id="998" name="Freeform 1035"/>
            <p:cNvSpPr/>
            <p:nvPr/>
          </p:nvSpPr>
          <p:spPr>
            <a:xfrm>
              <a:off x="2762280" y="3510000"/>
              <a:ext cx="474480" cy="3333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299" h="210">
                  <a:moveTo>
                    <a:pt x="0" y="0"/>
                  </a:moveTo>
                  <a:lnTo>
                    <a:pt x="6" y="0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5"/>
                  </a:lnTo>
                  <a:lnTo>
                    <a:pt x="30" y="18"/>
                  </a:lnTo>
                  <a:lnTo>
                    <a:pt x="90" y="73"/>
                  </a:lnTo>
                  <a:lnTo>
                    <a:pt x="153" y="124"/>
                  </a:lnTo>
                  <a:lnTo>
                    <a:pt x="235" y="179"/>
                  </a:lnTo>
                  <a:lnTo>
                    <a:pt x="268" y="191"/>
                  </a:lnTo>
                  <a:lnTo>
                    <a:pt x="298" y="20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036"/>
            <p:cNvSpPr/>
            <p:nvPr/>
          </p:nvSpPr>
          <p:spPr>
            <a:xfrm>
              <a:off x="3243240" y="3841920"/>
              <a:ext cx="792360" cy="2538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99" h="160">
                  <a:moveTo>
                    <a:pt x="0" y="0"/>
                  </a:moveTo>
                  <a:lnTo>
                    <a:pt x="141" y="69"/>
                  </a:lnTo>
                  <a:lnTo>
                    <a:pt x="337" y="126"/>
                  </a:lnTo>
                  <a:lnTo>
                    <a:pt x="498" y="1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037"/>
            <p:cNvSpPr/>
            <p:nvPr/>
          </p:nvSpPr>
          <p:spPr>
            <a:xfrm>
              <a:off x="4033800" y="4071960"/>
              <a:ext cx="833400" cy="4428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525" h="28">
                  <a:moveTo>
                    <a:pt x="0" y="15"/>
                  </a:moveTo>
                  <a:lnTo>
                    <a:pt x="174" y="27"/>
                  </a:lnTo>
                  <a:lnTo>
                    <a:pt x="305" y="27"/>
                  </a:lnTo>
                  <a:lnTo>
                    <a:pt x="5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38"/>
            <p:cNvSpPr/>
            <p:nvPr/>
          </p:nvSpPr>
          <p:spPr>
            <a:xfrm>
              <a:off x="4865760" y="3767040"/>
              <a:ext cx="803160" cy="30636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06" h="193">
                  <a:moveTo>
                    <a:pt x="0" y="192"/>
                  </a:moveTo>
                  <a:lnTo>
                    <a:pt x="187" y="146"/>
                  </a:lnTo>
                  <a:lnTo>
                    <a:pt x="301" y="107"/>
                  </a:lnTo>
                  <a:lnTo>
                    <a:pt x="433" y="43"/>
                  </a:lnTo>
                  <a:lnTo>
                    <a:pt x="50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039"/>
            <p:cNvSpPr/>
            <p:nvPr/>
          </p:nvSpPr>
          <p:spPr>
            <a:xfrm>
              <a:off x="5667480" y="3505320"/>
              <a:ext cx="358560" cy="26352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6" h="166">
                  <a:moveTo>
                    <a:pt x="0" y="165"/>
                  </a:moveTo>
                  <a:lnTo>
                    <a:pt x="54" y="135"/>
                  </a:lnTo>
                  <a:lnTo>
                    <a:pt x="113" y="93"/>
                  </a:lnTo>
                  <a:lnTo>
                    <a:pt x="173" y="45"/>
                  </a:lnTo>
                  <a:lnTo>
                    <a:pt x="22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21F-3016-40D2-B883-AC9202FD53C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05" name="Picture 3" descr=""/>
          <p:cNvPicPr/>
          <p:nvPr/>
        </p:nvPicPr>
        <p:blipFill>
          <a:blip r:embed="rId1"/>
          <a:stretch/>
        </p:blipFill>
        <p:spPr>
          <a:xfrm>
            <a:off x="1219320" y="2146320"/>
            <a:ext cx="7010280" cy="3870360"/>
          </a:xfrm>
          <a:prstGeom prst="rect">
            <a:avLst/>
          </a:prstGeom>
          <a:ln w="0">
            <a:noFill/>
          </a:ln>
        </p:spPr>
      </p:pic>
      <p:sp>
        <p:nvSpPr>
          <p:cNvPr id="10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762A4-8E44-49FB-A582-A4C0DFD9442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4038480" y="2971800"/>
            <a:ext cx="289584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Properties of Implied Distribution for Foreign Currenc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ails are heavier than the lognormal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lso “more peaked” than the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5FFF-8E5F-4DAB-B4BD-8182AB6872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 Smile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1012" name="Line 4"/>
          <p:cNvSpPr/>
          <p:nvPr/>
        </p:nvSpPr>
        <p:spPr>
          <a:xfrm>
            <a:off x="2743200" y="246852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5"/>
          <p:cNvSpPr/>
          <p:nvPr/>
        </p:nvSpPr>
        <p:spPr>
          <a:xfrm>
            <a:off x="2743200" y="528804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6"/>
          <p:cNvSpPr/>
          <p:nvPr/>
        </p:nvSpPr>
        <p:spPr>
          <a:xfrm>
            <a:off x="2804400" y="2209680"/>
            <a:ext cx="116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7"/>
          <p:cNvSpPr/>
          <p:nvPr/>
        </p:nvSpPr>
        <p:spPr>
          <a:xfrm>
            <a:off x="2803680" y="2590920"/>
            <a:ext cx="1463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8"/>
          <p:cNvSpPr/>
          <p:nvPr/>
        </p:nvSpPr>
        <p:spPr>
          <a:xfrm>
            <a:off x="5394240" y="4800600"/>
            <a:ext cx="963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9"/>
          <p:cNvSpPr/>
          <p:nvPr/>
        </p:nvSpPr>
        <p:spPr>
          <a:xfrm>
            <a:off x="5394600" y="5257800"/>
            <a:ext cx="87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10"/>
          <p:cNvGrpSpPr/>
          <p:nvPr/>
        </p:nvGrpSpPr>
        <p:grpSpPr>
          <a:xfrm>
            <a:off x="2941560" y="3355920"/>
            <a:ext cx="2471760" cy="1438200"/>
            <a:chOff x="2941560" y="3355920"/>
            <a:chExt cx="2471760" cy="1438200"/>
          </a:xfrm>
        </p:grpSpPr>
        <p:sp>
          <p:nvSpPr>
            <p:cNvPr id="1019" name="Freeform 11"/>
            <p:cNvSpPr/>
            <p:nvPr/>
          </p:nvSpPr>
          <p:spPr>
            <a:xfrm>
              <a:off x="2941560" y="3355920"/>
              <a:ext cx="325440" cy="41292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05" h="260">
                  <a:moveTo>
                    <a:pt x="0" y="0"/>
                  </a:moveTo>
                  <a:lnTo>
                    <a:pt x="6" y="3"/>
                  </a:lnTo>
                  <a:lnTo>
                    <a:pt x="8" y="9"/>
                  </a:lnTo>
                  <a:lnTo>
                    <a:pt x="13" y="14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60" y="84"/>
                  </a:lnTo>
                  <a:lnTo>
                    <a:pt x="101" y="145"/>
                  </a:lnTo>
                  <a:lnTo>
                    <a:pt x="157" y="213"/>
                  </a:lnTo>
                  <a:lnTo>
                    <a:pt x="183" y="234"/>
                  </a:lnTo>
                  <a:lnTo>
                    <a:pt x="204" y="259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2"/>
            <p:cNvSpPr/>
            <p:nvPr/>
          </p:nvSpPr>
          <p:spPr>
            <a:xfrm>
              <a:off x="3273480" y="3772080"/>
              <a:ext cx="625320" cy="501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501480"/>
                <a:gd name="textAreaBottom" fmla="*/ 501840 h 501480"/>
              </a:gdLst>
              <a:ahLst/>
              <a:rect l="textAreaLeft" t="textAreaTop" r="textAreaRight" b="textAreaBottom"/>
              <a:pathLst>
                <a:path w="394" h="316">
                  <a:moveTo>
                    <a:pt x="0" y="0"/>
                  </a:moveTo>
                  <a:lnTo>
                    <a:pt x="105" y="104"/>
                  </a:lnTo>
                  <a:lnTo>
                    <a:pt x="260" y="225"/>
                  </a:lnTo>
                  <a:lnTo>
                    <a:pt x="393" y="31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3"/>
            <p:cNvSpPr/>
            <p:nvPr/>
          </p:nvSpPr>
          <p:spPr>
            <a:xfrm>
              <a:off x="3897360" y="4272120"/>
              <a:ext cx="735120" cy="35532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463" h="224">
                  <a:moveTo>
                    <a:pt x="0" y="0"/>
                  </a:moveTo>
                  <a:lnTo>
                    <a:pt x="149" y="85"/>
                  </a:lnTo>
                  <a:lnTo>
                    <a:pt x="262" y="143"/>
                  </a:lnTo>
                  <a:lnTo>
                    <a:pt x="462" y="223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4"/>
            <p:cNvSpPr/>
            <p:nvPr/>
          </p:nvSpPr>
          <p:spPr>
            <a:xfrm>
              <a:off x="4630680" y="4626000"/>
              <a:ext cx="782640" cy="168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493" h="106">
                  <a:moveTo>
                    <a:pt x="0" y="0"/>
                  </a:moveTo>
                  <a:lnTo>
                    <a:pt x="174" y="54"/>
                  </a:lnTo>
                  <a:lnTo>
                    <a:pt x="284" y="79"/>
                  </a:lnTo>
                  <a:lnTo>
                    <a:pt x="417" y="99"/>
                  </a:lnTo>
                  <a:lnTo>
                    <a:pt x="492" y="105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Slide Number Placeholder 1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3052-C8C2-4B4B-9B80-12437AFE7CE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Implied Distribution for Equity Option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pic>
        <p:nvPicPr>
          <p:cNvPr id="1025" name="Picture 3" descr=""/>
          <p:cNvPicPr/>
          <p:nvPr/>
        </p:nvPicPr>
        <p:blipFill>
          <a:blip r:embed="rId1"/>
          <a:stretch/>
        </p:blipFill>
        <p:spPr>
          <a:xfrm>
            <a:off x="914400" y="2146320"/>
            <a:ext cx="6858000" cy="3786120"/>
          </a:xfrm>
          <a:prstGeom prst="rect">
            <a:avLst/>
          </a:prstGeom>
          <a:ln w="0">
            <a:noFill/>
          </a:ln>
        </p:spPr>
      </p:pic>
      <p:sp>
        <p:nvSpPr>
          <p:cNvPr id="10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EB13-C4A9-4C3B-9523-FB60B30E26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 flipV="1">
            <a:off x="3657600" y="3048120"/>
            <a:ext cx="2743200" cy="12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Property (ii)</a:t>
            </a:r>
            <a:br>
              <a:rPr sz="3900"/>
            </a:b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638280" y="4800600"/>
            <a:ext cx="808200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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is a normal distribution with me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varianc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6" name="Object 1024"/>
              <p:cNvSpPr txBox="1"/>
              <p:nvPr/>
            </p:nvSpPr>
            <p:spPr>
              <a:xfrm>
                <a:off x="495360" y="1555920"/>
                <a:ext cx="7008840" cy="29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≈</m:t>
                        </m:r>
                        <m:r>
                          <m:t xml:space="preserve">φ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7B33-850B-49D3-A4DF-CCBFFC42A63D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Lognormal Distribution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Object 4"/>
              <p:cNvSpPr txBox="1"/>
              <p:nvPr/>
            </p:nvSpPr>
            <p:spPr>
              <a:xfrm>
                <a:off x="2070000" y="4800600"/>
                <a:ext cx="51008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                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mT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11" name="Rectangle 5"/>
          <p:cNvSpPr/>
          <p:nvPr/>
        </p:nvSpPr>
        <p:spPr>
          <a:xfrm>
            <a:off x="1371600" y="2514600"/>
            <a:ext cx="304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6"/>
          <p:cNvGraphicFramePr/>
          <p:nvPr/>
        </p:nvGraphicFramePr>
        <p:xfrm>
          <a:off x="1519200" y="1390680"/>
          <a:ext cx="608652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390680"/>
                    <a:ext cx="608652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7"/>
          <p:cNvGraphicFramePr/>
          <p:nvPr/>
        </p:nvGraphicFramePr>
        <p:xfrm>
          <a:off x="1544760" y="2612880"/>
          <a:ext cx="3673440" cy="1173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4760" y="2612880"/>
                    <a:ext cx="3673440" cy="11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8"/>
          <p:cNvGraphicFramePr/>
          <p:nvPr/>
        </p:nvGraphicFramePr>
        <p:xfrm>
          <a:off x="1905120" y="1295280"/>
          <a:ext cx="7237440" cy="41148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295280"/>
                    <a:ext cx="7237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Slide Number Placeholder 1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D823-7C51-4249-97E8-5F0680B344D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Times New Roman"/>
              </a:rPr>
              <a:t>The Volatility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2012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olatility is the standard deviation of the continuously compounded rate of return in 1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ndard deviation of the return in tim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1" name="Object 1024"/>
              <p:cNvSpPr txBox="1"/>
              <p:nvPr/>
            </p:nvSpPr>
            <p:spPr>
              <a:xfrm>
                <a:off x="3124080" y="3733920"/>
                <a:ext cx="9763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Δt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1775-753D-4EE4-8D80-B482ADF74C6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Times New Roman"/>
              </a:rPr>
              <a:t>The Concepts Underlying Black-Scholes</a:t>
            </a:r>
            <a:endParaRPr b="1" lang="en-US" sz="3900" spc="-1" strike="noStrike">
              <a:solidFill>
                <a:srgbClr val="7c1302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8680" y="1719360"/>
            <a:ext cx="7767720" cy="441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ption price and the stock price depend on the same underlying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form a portfolio consisting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ck and the o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eliminates this source of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rtfolio is instantaneously riskless and must instantaneously earn the risk-fre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8E6D-ED7E-44EA-A4B7-DAD6A55FB8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762120" y="1981080"/>
            <a:ext cx="70866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Let us derive the Black-Scholes Equ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7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9" name=""/>
          <p:cNvGraphicFramePr/>
          <p:nvPr/>
        </p:nvGraphicFramePr>
        <p:xfrm>
          <a:off x="1616040" y="1143000"/>
          <a:ext cx="5913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143000"/>
                    <a:ext cx="5913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2T05:06:26Z</dcterms:created>
  <dc:creator>John C. Hull</dc:creator>
  <dc:description>Copyright 2010 by John C. Hull.
All rights reserved. Published 2010.</dc:description>
  <cp:keywords>Chapter 13</cp:keywords>
  <dc:language>en-US</dc:language>
  <cp:lastModifiedBy>VCHARLIN</cp:lastModifiedBy>
  <cp:lastPrinted>2001-05-03T13:08:45Z</cp:lastPrinted>
  <dcterms:modified xsi:type="dcterms:W3CDTF">2010-11-18T22:34:21Z</dcterms:modified>
  <cp:revision>47</cp:revision>
  <dc:subject>Fundamentals of Futures and Options Markets, 7E</dc:subject>
  <dc:title>Valuing Stock Options: The Black-Scholes-Merton Model</dc:title>
</cp:coreProperties>
</file>