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AB9C-3D1A-4F25-A105-220E44920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7F2B2F-1E3B-4502-96BD-8AD4065A95F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D069D50-1076-434D-A6CF-9715F32E69F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38E800-809B-4C1D-BE71-9D06267D255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109B-4D9C-4B12-B0B5-7FF0B14E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5A7-1C86-47A6-AF81-BD867493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7309-C220-4D53-89B9-530BC3CA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50D-18AA-4A18-BE38-73C86AF7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B647-6139-418F-AAC1-7FFAE440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3261-9506-4F77-BA19-914DD932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7DF-829A-4DB2-8385-47F1720B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7C16-D166-41FF-B6F9-ED848E57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A486-C180-44D3-94C7-7F46FE3E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5E16-343B-404D-9CA0-24F84C15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FCC-74A3-4E98-B5A1-E7CC6F93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91EF-F8A9-474E-9DF4-12330B2C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4EEC-2AB3-4104-B2E1-9CFBA6E0B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RIVATIVES: MUCH MORE ON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Hull, Options, Futures and Other Derivatives, Prentice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ability of an Up 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1025640" y="1676520"/>
                <a:ext cx="7203960" cy="43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nondividend paying stock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for a stock index where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is the divide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yield on the index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currency where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foreig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risk-free rat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futures contrac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2B00-EB83-46A8-B152-668AA20F153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3880" y="762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ew reminders from the pas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600200"/>
            <a:ext cx="784872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rkov process is a particular stochastic process in which only the present value of the variable is relevant to predict its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rkov process is consistent with the weak version of the EM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case of Markov process. z follows a Wiener process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=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          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is small)       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~ N(0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      (ii)  the values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for any two different short intervals of time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1600200"/>
            <a:ext cx="784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case of Markov process. z follows a Wiener process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=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          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is small)       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~ N(0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      (ii)  the values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for any two different short intervals of time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4343400"/>
            <a:ext cx="5105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ollows from (i) + (ii)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 dev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  =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624852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follows a Markov process  (Brownian mo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1219320"/>
            <a:ext cx="49528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ized 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is a generalized Wiener process if we can stat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 = a  dt  +  b 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295280" y="31237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295280" y="3047760"/>
            <a:ext cx="10670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3962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742840" y="3047760"/>
            <a:ext cx="10666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800600"/>
            <a:ext cx="6019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iscrete fashion w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 a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+   b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follows a normal distribution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= a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 dev=  b  √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4400" y="1219320"/>
            <a:ext cx="67816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o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to process  is a generalized Wiener process where a and b are both functions of x and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 = a (x, t)  dt  +  b(x, t)  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37339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iscrete fashion w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 a(x,t)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+   b(x,t)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2120" y="914400"/>
            <a:ext cx="7162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l… The Bottom Lin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model the behavior of S  (S = stock price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514600"/>
            <a:ext cx="77724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 dt  +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 dz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/ S  = 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dt  +  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d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2895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atility of stock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723920" y="34290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09480"/>
            <a:ext cx="76201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– Consider a stock whose volatility is 30% per year and whose expected return is 15% per year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.15 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if S is the stock price at some point the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can be express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/  S  =  0.15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+  0.30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8080" y="685800"/>
            <a:ext cx="66294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 (to sum it up)…the discrete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/ S   =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+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ε√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the variance of the stochastic component of the return i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(consistent with previous, binomial,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, it can be shown tha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/ S   follows a normal distribution with  N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5410080"/>
            <a:ext cx="1752840" cy="685800"/>
          </a:xfrm>
          <a:prstGeom prst="rightArrow">
            <a:avLst>
              <a:gd name="adj1" fmla="val 50000"/>
              <a:gd name="adj2" fmla="val 63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55627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E CARLOS 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 rot="5400000">
            <a:off x="1722960" y="-656280"/>
            <a:ext cx="5270760" cy="78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 rot="5400000">
            <a:off x="1523880" y="-1295280"/>
            <a:ext cx="6172200" cy="90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off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Options (Terminal Valu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Options, Cost of option is NOT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rike pri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ice of asset at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53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54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57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69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72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FE72-68ED-4DBD-910B-A8BF317BD37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rot="5400000">
            <a:off x="2209680" y="-1371600"/>
            <a:ext cx="5181840" cy="86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124080" y="1143000"/>
            <a:ext cx="38102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derivation of Ito’s Le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 rot="5400000">
            <a:off x="1626480" y="263880"/>
            <a:ext cx="608976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19320" y="1633680"/>
            <a:ext cx="594360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 rot="5400000">
            <a:off x="2273400" y="246600"/>
            <a:ext cx="48704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1759-931C-4A0E-B53E-0F962412CF3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28195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 we choos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685800"/>
            <a:ext cx="8077320" cy="56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ractice, when we construct a binomial tree to represent the movements of a stock, we choose u and d, in such a way that we match the volatility of the sto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us assume that the expected return of the stock (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al world) i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volatility i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the stock has the value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time t=0;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ngth of the time step i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, and the stock moves up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denote p* the probability of moving up (in the re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1066680" y="1143000"/>
            <a:ext cx="2286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20574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52880" y="1219320"/>
            <a:ext cx="2286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213372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358128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 world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-Neutral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9810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9051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9144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9907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25146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4382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4724280"/>
            <a:ext cx="647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pected stock price at the end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i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l-GR" sz="24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1219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2362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791320"/>
            <a:ext cx="662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tree, the expected stock value  p* x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+ (1-p*)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371600"/>
            <a:ext cx="647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pected stock price at the end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i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l-GR" sz="24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438280"/>
            <a:ext cx="662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tree, the expected stock value  p* x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+ (1-p*)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4040" y="3236760"/>
            <a:ext cx="618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matching both, we get (after some algebra)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* =  (e</a:t>
            </a:r>
            <a:r>
              <a:rPr b="0" lang="el-GR" sz="44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-  d)  /  (u – 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16765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705720" y="251424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2209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533520"/>
            <a:ext cx="7239240" cy="61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olatility of the stock price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defined such tha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qrt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  is the st. deviation of the return on the stock price in a short period of time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the variance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can be express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 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+  (1- p*) 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[p*  u  +  (1-p*) d ]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forcing the stock volatility to match the tre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 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+  (1- p*) 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[p*  u  +  (1-p*) d ]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using the fact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 =  (e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d)  /  (u – d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et (after a few manipulations + neglecting second order term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8080" y="533520"/>
            <a:ext cx="72392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 = exp(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el-GR" sz="4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)   and   d = exp(-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σ </a:t>
            </a:r>
            <a:r>
              <a:rPr b="0" i="1" lang="el-GR" sz="4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914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914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236232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514600"/>
            <a:ext cx="52578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ly, the analysis from the previous class shows that we can replace the tree in the real world by the tree in the risk-neutral world as long as the probability of “going up” (p) is calculat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ing risk neutral probabili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  (a – d) / (u -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a = exp (r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57150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summary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osing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 of matching the volatility is to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volatility and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length of the time step. This is the approach us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x, Ross, and Rubins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024"/>
              <p:cNvSpPr txBox="1"/>
              <p:nvPr/>
            </p:nvSpPr>
            <p:spPr>
              <a:xfrm>
                <a:off x="2752560" y="2638440"/>
                <a:ext cx="31068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BC49-137E-4D7A-ACC4-9A279657E7D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3:10:01Z</dcterms:created>
  <dc:creator>VCHARLIN</dc:creator>
  <dc:description/>
  <dc:language>en-US</dc:language>
  <cp:lastModifiedBy>VCHARLIN</cp:lastModifiedBy>
  <dcterms:modified xsi:type="dcterms:W3CDTF">2010-11-18T22:13:34Z</dcterms:modified>
  <cp:revision>180</cp:revision>
  <dc:subject/>
  <dc:title>Slide 1</dc:title>
</cp:coreProperties>
</file>