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wmf" ContentType="image/x-wmf"/>
  <Override PartName="/ppt/media/image6.png" ContentType="image/png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843B1-21AB-4685-AB4E-82B746192D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95B68917-115B-430B-A2AC-4C7419DCDF91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E953837E-390F-45C3-9AFE-6B3FC23D46BF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2E31F32F-13C9-437E-AC08-5E1E253B6497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2AF0C-A4AF-4A0D-8E38-AA0D16586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B03C2-5B02-4287-9F6D-0175D666C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E5FBC-3571-486D-95AF-28E806425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41A5D-5477-48A6-AFAD-E2EFD4D28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261EF-EDDF-4782-89E5-0A11E39A1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1DB17-18CB-47F2-A86D-4DCB39AA8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4FED8-B80C-4673-BDDD-FE0C1E869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7AF55-4053-461F-AEDD-79E4C5EFD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97AFD-66C6-4A0A-AE85-09062BE10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7FF78-BC2D-4A22-9465-FC3CE239B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3BCCB-AD95-4268-9BFC-B5F40DEB2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8D70A-740B-4411-AB44-43E893A23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4D917-D3B5-430B-B175-ADB0A3095A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DERIVATIVES: MUCH MORE ON OP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720" y="4343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Referen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John C. Hull, Options, Futures and Other Derivatives, Prentice H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Probability of an Up Mo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Object 4"/>
              <p:cNvSpPr txBox="1"/>
              <p:nvPr/>
            </p:nvSpPr>
            <p:spPr>
              <a:xfrm>
                <a:off x="1025640" y="1676520"/>
                <a:ext cx="7203960" cy="431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a</m:t>
                            </m:r>
                            <m:r>
                              <m:t xml:space="preserve">−</m:t>
                            </m:r>
                            <m:r>
                              <m:t xml:space="preserve">d</m:t>
                            </m:r>
                          </m:num>
                          <m:den>
                            <m:r>
                              <m:t xml:space="preserve">u</m:t>
                            </m:r>
                            <m:r>
                              <m:t xml:space="preserve">−</m:t>
                            </m:r>
                            <m:r>
                              <m:t xml:space="preserve">d</m:t>
                            </m:r>
                          </m:den>
                        </m:f>
                      </m:e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rΔt</m:t>
                            </m:r>
                          </m:sup>
                        </m:sSup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for a nondividend paying stock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r</m:t>
                            </m:r>
                            <m:r>
                              <m:t xml:space="preserve">−</m:t>
                            </m:r>
                            <m:r>
                              <m:t xml:space="preserve">q</m:t>
                            </m:r>
                            <m:r>
                              <m:t xml:space="preserve">)</m:t>
                            </m:r>
                            <m:r>
                              <m:t xml:space="preserve">Δt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for a stock index where </m:t>
                        </m:r>
                        <m:r>
                          <m:t xml:space="preserve">q</m:t>
                        </m:r>
                        <m:r>
                          <m:rPr>
                            <m:lit/>
                            <m:nor/>
                          </m:rPr>
                          <m:t xml:space="preserve"> is the dividend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yield on the index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r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Δt</m:t>
                            </m:r>
                          </m:sup>
                        </m:sSup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for a currency where 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is the foreig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risk-free rate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for a futures contract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3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2184A-2A2C-4DCD-8598-B7B93F3B929D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523880" y="762120"/>
            <a:ext cx="708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few reminders from the past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57200" y="1600200"/>
            <a:ext cx="7848720" cy="42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Markov process is a particular stochastic process in which only the present value of the variable is relevant to predict its fu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Markov process is consistent with the weak version of the EM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ENER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special case of Markov process. z follows a Wiener process i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i)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 = 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ε√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              (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 is small)        and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~ N(0, 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       (ii)  the values of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for any two different short intervals of time ar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pend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457200" y="1600200"/>
            <a:ext cx="784872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ENER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special case of Markov process. z follows a Wiener process i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i)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 = 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ε√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              (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 is small)        and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~ N(0, 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       (ii)  the values of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for any two different short intervals of time ar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pend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219320" y="4343400"/>
            <a:ext cx="510516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follows from (i) + (ii) th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an of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=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 dev of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=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√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riance of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   = 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676520" y="6248520"/>
            <a:ext cx="647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 follows a Markov process  (Brownian mo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914400" y="1219320"/>
            <a:ext cx="4952880" cy="27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lized Wiener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is a generalized Wiener process if we can state th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x = a  dt  +  b d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t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1295280" y="3123720"/>
            <a:ext cx="22860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1295280" y="3047760"/>
            <a:ext cx="106704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666880" y="396252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ener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 flipV="1">
            <a:off x="2742840" y="3047760"/>
            <a:ext cx="106668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85800" y="4800600"/>
            <a:ext cx="601992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discrete fashion we h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=  a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  +   b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√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us,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follows a normal distribution wit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an = a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 dev=  b  √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914400" y="1219320"/>
            <a:ext cx="678168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to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 Ito process  is a generalized Wiener process where a and b are both functions of x and 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x = a (x, t)  dt  +  b(x, t)  d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981080" y="37339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discrete fashion we h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=  a(x,t) 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  +   b(x,t) 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√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762120" y="914400"/>
            <a:ext cx="71625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ll… The Bottom Line…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w do we model the behavior of S  (S = stock price)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62120" y="2514600"/>
            <a:ext cx="7772400" cy="32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S =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 dt  +  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 dz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S/ S  =  </a:t>
            </a:r>
            <a:r>
              <a:rPr b="0" lang="el-GR" sz="36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dt  +   </a:t>
            </a:r>
            <a:r>
              <a:rPr b="0" lang="el-GR" sz="36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d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029200" y="289548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atility of stock pr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4723920" y="3429000"/>
            <a:ext cx="30492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685800" y="609480"/>
            <a:ext cx="7620120" cy="27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– Consider a stock whose volatility is 30% per year and whose expected return is 15% per year  (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.15  and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.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if S is the stock price at some point then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can be expressed 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/  S  =  0.15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  +  0.30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ε√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838080" y="685800"/>
            <a:ext cx="6629400" cy="42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ly (to sum it up)…the discrete ver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 / S   =   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  + 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σε√Δ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ice that the variance of the stochastic component of the return is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  (consistent with previous, binomial, resul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ly, it can be shown that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/ S   follows a normal distribution with  N(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,  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σ√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09480" y="5410080"/>
            <a:ext cx="1752840" cy="685800"/>
          </a:xfrm>
          <a:prstGeom prst="rightArrow">
            <a:avLst>
              <a:gd name="adj1" fmla="val 50000"/>
              <a:gd name="adj2" fmla="val 6389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819520" y="5562720"/>
            <a:ext cx="36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NTE CARLOS !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 rot="5400000">
            <a:off x="1722960" y="-656280"/>
            <a:ext cx="5270760" cy="780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 rot="5400000">
            <a:off x="1523880" y="-1295280"/>
            <a:ext cx="6172200" cy="906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yoff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from Options (Terminal Value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uropean Options, Cost of option is NOT inclu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Strike price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Price of asset at matu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4"/>
          <p:cNvGrpSpPr/>
          <p:nvPr/>
        </p:nvGrpSpPr>
        <p:grpSpPr>
          <a:xfrm>
            <a:off x="1600200" y="2043000"/>
            <a:ext cx="6006600" cy="3884760"/>
            <a:chOff x="1600200" y="2043000"/>
            <a:chExt cx="6006600" cy="3884760"/>
          </a:xfrm>
        </p:grpSpPr>
        <p:grpSp>
          <p:nvGrpSpPr>
            <p:cNvPr id="53" name="Group 5"/>
            <p:cNvGrpSpPr/>
            <p:nvPr/>
          </p:nvGrpSpPr>
          <p:grpSpPr>
            <a:xfrm>
              <a:off x="1600200" y="2198520"/>
              <a:ext cx="2317680" cy="1700280"/>
              <a:chOff x="1600200" y="2198520"/>
              <a:chExt cx="2317680" cy="1700280"/>
            </a:xfrm>
          </p:grpSpPr>
          <p:sp>
            <p:nvSpPr>
              <p:cNvPr id="54" name="Line 6"/>
              <p:cNvSpPr/>
              <p:nvPr/>
            </p:nvSpPr>
            <p:spPr>
              <a:xfrm>
                <a:off x="1600200" y="2198520"/>
                <a:ext cx="0" cy="1700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7"/>
              <p:cNvSpPr/>
              <p:nvPr/>
            </p:nvSpPr>
            <p:spPr>
              <a:xfrm>
                <a:off x="1608120" y="3086280"/>
                <a:ext cx="2309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8"/>
            <p:cNvGrpSpPr/>
            <p:nvPr/>
          </p:nvGrpSpPr>
          <p:grpSpPr>
            <a:xfrm>
              <a:off x="5124600" y="2198520"/>
              <a:ext cx="2317680" cy="1700280"/>
              <a:chOff x="5124600" y="2198520"/>
              <a:chExt cx="2317680" cy="1700280"/>
            </a:xfrm>
          </p:grpSpPr>
          <p:sp>
            <p:nvSpPr>
              <p:cNvPr id="57" name="Line 9"/>
              <p:cNvSpPr/>
              <p:nvPr/>
            </p:nvSpPr>
            <p:spPr>
              <a:xfrm>
                <a:off x="5124600" y="2198520"/>
                <a:ext cx="0" cy="1700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Line 10"/>
              <p:cNvSpPr/>
              <p:nvPr/>
            </p:nvSpPr>
            <p:spPr>
              <a:xfrm>
                <a:off x="5132520" y="3086280"/>
                <a:ext cx="2309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" name="Rectangle 11"/>
            <p:cNvSpPr/>
            <p:nvPr/>
          </p:nvSpPr>
          <p:spPr>
            <a:xfrm>
              <a:off x="1642680" y="2043000"/>
              <a:ext cx="10454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ayof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12"/>
            <p:cNvSpPr/>
            <p:nvPr/>
          </p:nvSpPr>
          <p:spPr>
            <a:xfrm>
              <a:off x="5186160" y="2043000"/>
              <a:ext cx="10454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ayof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3"/>
            <p:cNvSpPr/>
            <p:nvPr/>
          </p:nvSpPr>
          <p:spPr>
            <a:xfrm>
              <a:off x="3630960" y="3110040"/>
              <a:ext cx="43272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4"/>
            <p:cNvSpPr/>
            <p:nvPr/>
          </p:nvSpPr>
          <p:spPr>
            <a:xfrm>
              <a:off x="7174080" y="3110040"/>
              <a:ext cx="43272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5"/>
            <p:cNvSpPr/>
            <p:nvPr/>
          </p:nvSpPr>
          <p:spPr>
            <a:xfrm>
              <a:off x="2527200" y="3090960"/>
              <a:ext cx="3841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6"/>
            <p:cNvSpPr/>
            <p:nvPr/>
          </p:nvSpPr>
          <p:spPr>
            <a:xfrm>
              <a:off x="6070680" y="2633760"/>
              <a:ext cx="3841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Line 17"/>
            <p:cNvSpPr/>
            <p:nvPr/>
          </p:nvSpPr>
          <p:spPr>
            <a:xfrm>
              <a:off x="1608120" y="3086280"/>
              <a:ext cx="1077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Line 18"/>
            <p:cNvSpPr/>
            <p:nvPr/>
          </p:nvSpPr>
          <p:spPr>
            <a:xfrm flipV="1">
              <a:off x="2700360" y="2336400"/>
              <a:ext cx="720720" cy="771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Line 19"/>
            <p:cNvSpPr/>
            <p:nvPr/>
          </p:nvSpPr>
          <p:spPr>
            <a:xfrm>
              <a:off x="5137200" y="3086280"/>
              <a:ext cx="1077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8" name="Group 20"/>
            <p:cNvGrpSpPr/>
            <p:nvPr/>
          </p:nvGrpSpPr>
          <p:grpSpPr>
            <a:xfrm>
              <a:off x="1600200" y="4227480"/>
              <a:ext cx="2317680" cy="1700280"/>
              <a:chOff x="1600200" y="4227480"/>
              <a:chExt cx="2317680" cy="1700280"/>
            </a:xfrm>
          </p:grpSpPr>
          <p:sp>
            <p:nvSpPr>
              <p:cNvPr id="69" name="Line 21"/>
              <p:cNvSpPr/>
              <p:nvPr/>
            </p:nvSpPr>
            <p:spPr>
              <a:xfrm>
                <a:off x="1600200" y="4227480"/>
                <a:ext cx="0" cy="1700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Line 22"/>
              <p:cNvSpPr/>
              <p:nvPr/>
            </p:nvSpPr>
            <p:spPr>
              <a:xfrm>
                <a:off x="1608120" y="5114880"/>
                <a:ext cx="2309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" name="Group 23"/>
            <p:cNvGrpSpPr/>
            <p:nvPr/>
          </p:nvGrpSpPr>
          <p:grpSpPr>
            <a:xfrm>
              <a:off x="5124600" y="4227480"/>
              <a:ext cx="2317680" cy="1700280"/>
              <a:chOff x="5124600" y="4227480"/>
              <a:chExt cx="2317680" cy="1700280"/>
            </a:xfrm>
          </p:grpSpPr>
          <p:sp>
            <p:nvSpPr>
              <p:cNvPr id="72" name="Line 24"/>
              <p:cNvSpPr/>
              <p:nvPr/>
            </p:nvSpPr>
            <p:spPr>
              <a:xfrm>
                <a:off x="5124600" y="4227480"/>
                <a:ext cx="0" cy="1700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Line 25"/>
              <p:cNvSpPr/>
              <p:nvPr/>
            </p:nvSpPr>
            <p:spPr>
              <a:xfrm>
                <a:off x="5132520" y="5114880"/>
                <a:ext cx="2309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4" name="Rectangle 26"/>
            <p:cNvSpPr/>
            <p:nvPr/>
          </p:nvSpPr>
          <p:spPr>
            <a:xfrm>
              <a:off x="1642680" y="4091040"/>
              <a:ext cx="10454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ayof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Rectangle 27"/>
            <p:cNvSpPr/>
            <p:nvPr/>
          </p:nvSpPr>
          <p:spPr>
            <a:xfrm>
              <a:off x="5186160" y="4091040"/>
              <a:ext cx="10454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ayof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Rectangle 28"/>
            <p:cNvSpPr/>
            <p:nvPr/>
          </p:nvSpPr>
          <p:spPr>
            <a:xfrm>
              <a:off x="3630960" y="5138640"/>
              <a:ext cx="43272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Rectangle 29"/>
            <p:cNvSpPr/>
            <p:nvPr/>
          </p:nvSpPr>
          <p:spPr>
            <a:xfrm>
              <a:off x="7174080" y="5138640"/>
              <a:ext cx="43272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Rectangle 30"/>
            <p:cNvSpPr/>
            <p:nvPr/>
          </p:nvSpPr>
          <p:spPr>
            <a:xfrm>
              <a:off x="2527200" y="5119560"/>
              <a:ext cx="3841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Rectangle 31"/>
            <p:cNvSpPr/>
            <p:nvPr/>
          </p:nvSpPr>
          <p:spPr>
            <a:xfrm>
              <a:off x="6070680" y="4662360"/>
              <a:ext cx="3841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Line 32"/>
            <p:cNvSpPr/>
            <p:nvPr/>
          </p:nvSpPr>
          <p:spPr>
            <a:xfrm flipV="1">
              <a:off x="5494320" y="5101920"/>
              <a:ext cx="722160" cy="772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Line 33"/>
            <p:cNvSpPr/>
            <p:nvPr/>
          </p:nvSpPr>
          <p:spPr>
            <a:xfrm>
              <a:off x="6242040" y="5114880"/>
              <a:ext cx="996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Line 34"/>
            <p:cNvSpPr/>
            <p:nvPr/>
          </p:nvSpPr>
          <p:spPr>
            <a:xfrm>
              <a:off x="2714760" y="5114880"/>
              <a:ext cx="1015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Line 35"/>
            <p:cNvSpPr/>
            <p:nvPr/>
          </p:nvSpPr>
          <p:spPr>
            <a:xfrm flipH="1" flipV="1">
              <a:off x="2028600" y="4443120"/>
              <a:ext cx="693720" cy="693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Line 36"/>
            <p:cNvSpPr/>
            <p:nvPr/>
          </p:nvSpPr>
          <p:spPr>
            <a:xfrm flipH="1" flipV="1">
              <a:off x="6216120" y="3068280"/>
              <a:ext cx="685800" cy="685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" name="Slide Number Placeholder 39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85072-B8B2-4F2B-96FB-E3764663057D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228600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Arial"/>
              </a:rPr>
              <a:t>LONG C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477120" y="220968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Arial"/>
              </a:rPr>
              <a:t>SHORT C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472428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Arial"/>
              </a:rPr>
              <a:t>LONG 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629400" y="434340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Arial"/>
              </a:rPr>
              <a:t>SHORT 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 rot="5400000">
            <a:off x="2209680" y="-1371600"/>
            <a:ext cx="5181840" cy="868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54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3124080" y="1143000"/>
            <a:ext cx="381024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PPEND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mple derivation of Ito’s Lem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 rot="5400000">
            <a:off x="1626480" y="263880"/>
            <a:ext cx="6089760" cy="63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1219320" y="1633680"/>
            <a:ext cx="5943600" cy="22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 rot="5400000">
            <a:off x="2273400" y="246600"/>
            <a:ext cx="4870440" cy="612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oosing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u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9FAEB-EFC5-4957-9E42-8DDE4C6F0D0A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990720" y="281952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 we choose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80880" y="685800"/>
            <a:ext cx="8077320" cy="569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practice, when we construct a binomial tree to represent the movements of a stock, we choose u and d, in such a way that we match the volatility of the stoc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et us assume that the expected return of the stock (i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real world) is </a:t>
            </a:r>
            <a:r>
              <a:rPr b="1" lang="el-GR" sz="20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 volatility is </a:t>
            </a:r>
            <a:r>
              <a:rPr b="1" lang="el-GR" sz="20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sume that the stock has the value S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t time t=0;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ength of the time step is </a:t>
            </a:r>
            <a:r>
              <a:rPr b="1" lang="el-GR" sz="20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, and the stock moves up o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wn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 denote p* the probability of moving up (in the real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orld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 flipV="1">
            <a:off x="1066680" y="1143000"/>
            <a:ext cx="22860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066680" y="20574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4952880" y="1219320"/>
            <a:ext cx="22860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952880" y="213372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447920" y="3581280"/>
            <a:ext cx="701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al world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-Neutral wor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343400" y="1981080"/>
            <a:ext cx="609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04920" y="1905120"/>
            <a:ext cx="609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352680" y="914400"/>
            <a:ext cx="914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238880" y="990720"/>
            <a:ext cx="914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429000" y="2514600"/>
            <a:ext cx="914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315200" y="2438280"/>
            <a:ext cx="914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85800" y="4724280"/>
            <a:ext cx="6477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expected stock price at the end of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, is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l-GR" sz="2400" spc="-1" strike="noStrike" baseline="30000">
                <a:solidFill>
                  <a:srgbClr val="000000"/>
                </a:solidFill>
                <a:latin typeface="Arial"/>
              </a:rPr>
              <a:t>μΔ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121932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410080" y="12193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523880" y="23623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- p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486400" y="25146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- 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04920" y="5791320"/>
            <a:ext cx="6629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the tree, the expected stock value  p* x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 + (1-p*)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685800" y="1371600"/>
            <a:ext cx="6477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expected stock price at the end of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, is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l-GR" sz="2400" spc="-1" strike="noStrike" baseline="30000">
                <a:solidFill>
                  <a:srgbClr val="000000"/>
                </a:solidFill>
                <a:latin typeface="Arial"/>
              </a:rPr>
              <a:t>μΔ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04920" y="2438280"/>
            <a:ext cx="6629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the tree, the expected stock value  p* x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 + (1-p*)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54040" y="3236760"/>
            <a:ext cx="6189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us, matching both, we get (after some algebra)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* =  (e</a:t>
            </a:r>
            <a:r>
              <a:rPr b="0" lang="el-GR" sz="4400" spc="-1" strike="noStrike" baseline="30000">
                <a:solidFill>
                  <a:srgbClr val="000000"/>
                </a:solidFill>
                <a:latin typeface="Arial"/>
              </a:rPr>
              <a:t>μΔ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-  d)  /  (u – d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172200" y="1676520"/>
            <a:ext cx="13716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6705720" y="2514240"/>
            <a:ext cx="7617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620120" y="22096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838080" y="533520"/>
            <a:ext cx="7239240" cy="61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volatility of the stock price (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is defined such that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qrt (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)  is the st. deviation of the return on the stock price in a short period of time (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ce, the variance,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, can be expressed 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* u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+  (1- p*) d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-  [p*  u  +  (1-p*) d ]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forcing the stock volatility to match the tree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* u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+  (1- p*) d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-  [p*  u  +  (1-p*) d ]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using the fact th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* =  (e</a:t>
            </a:r>
            <a:r>
              <a:rPr b="0" lang="el-GR" sz="1800" spc="-1" strike="noStrike" baseline="30000">
                <a:solidFill>
                  <a:srgbClr val="000000"/>
                </a:solidFill>
                <a:latin typeface="Arial"/>
              </a:rPr>
              <a:t>μΔ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-  d)  /  (u – d)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get (after a few manipulations + neglecting second order terms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838080" y="533520"/>
            <a:ext cx="723924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u = exp(</a:t>
            </a:r>
            <a:r>
              <a:rPr b="0" i="1" lang="el-GR" sz="32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0" i="1" lang="el-GR" sz="4000" spc="-1" strike="noStrike">
                <a:solidFill>
                  <a:srgbClr val="000000"/>
                </a:solidFill>
                <a:latin typeface="Arial"/>
              </a:rPr>
              <a:t>√</a:t>
            </a:r>
            <a:r>
              <a:rPr b="0" i="1" lang="el-GR" sz="32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)   and   d = exp(-</a:t>
            </a:r>
            <a:r>
              <a:rPr b="0" i="1" lang="el-GR" sz="3200" spc="-1" strike="noStrike">
                <a:solidFill>
                  <a:srgbClr val="000000"/>
                </a:solidFill>
                <a:latin typeface="Arial"/>
              </a:rPr>
              <a:t>σ </a:t>
            </a:r>
            <a:r>
              <a:rPr b="0" i="1" lang="el-GR" sz="4000" spc="-1" strike="noStrike">
                <a:solidFill>
                  <a:srgbClr val="000000"/>
                </a:solidFill>
                <a:latin typeface="Arial"/>
              </a:rPr>
              <a:t>√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l-GR" sz="32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895480" y="914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9144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143000" y="2362320"/>
            <a:ext cx="44956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066680" y="2514600"/>
            <a:ext cx="5257800" cy="369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itionally, the analysis from the previous class shows that we can replace the tree in the real world by the tree in the risk-neutral world as long as the probability of “going up” (p) is calculated 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using risk neutral probabilit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 =   (a – d) / (u - 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re a = exp (r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743200" y="5715000"/>
            <a:ext cx="228600" cy="533520"/>
          </a:xfrm>
          <a:prstGeom prst="upArrow">
            <a:avLst>
              <a:gd name="adj1" fmla="val 50000"/>
              <a:gd name="adj2" fmla="val 58346"/>
            </a:avLst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 summary…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oosing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u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way of matching the volatility is to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the volatility and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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the length of the time step. This is the approach used by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x, Ross, and Rubinste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Object 1024"/>
              <p:cNvSpPr txBox="1"/>
              <p:nvPr/>
            </p:nvSpPr>
            <p:spPr>
              <a:xfrm>
                <a:off x="2752560" y="2638440"/>
                <a:ext cx="3106800" cy="112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u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σ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Δt</m:t>
                                </m:r>
                              </m:e>
                            </m:rad>
                          </m:sup>
                        </m:sSup>
                      </m:e>
                      <m:e>
                        <m:r>
                          <m:t xml:space="preserve">d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/</m:t>
                        </m:r>
                        <m:r>
                          <m:t xml:space="preserve">u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σ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Δt</m:t>
                                </m:r>
                              </m:e>
                            </m:rad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7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8CB24-85EF-4CE8-8155-896CE7F5DB26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1T23:10:01Z</dcterms:created>
  <dc:creator>VCHARLIN</dc:creator>
  <dc:description/>
  <dc:language>en-US</dc:language>
  <cp:lastModifiedBy>VCHARLIN</cp:lastModifiedBy>
  <dcterms:modified xsi:type="dcterms:W3CDTF">2010-11-18T22:13:34Z</dcterms:modified>
  <cp:revision>180</cp:revision>
  <dc:subject/>
  <dc:title>Slide 1</dc:title>
</cp:coreProperties>
</file>