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BC40-B07A-444B-9F88-960C44279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9B967E-8E94-44E8-A8DA-0B9EA6D931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CE4D58-1A6B-40C9-A3FC-AC249E88FE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ED2D0E-18D4-4D8C-A7F0-C42C45DBA3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7FE-B483-4982-8D01-F437CA56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FF8-644A-41E2-9F2D-400DFD93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ABE-B806-4F8E-A485-FFA18C79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399-6AA3-4162-987E-206680BE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368-E2F3-40ED-B56C-478E98A8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3CB-926F-40C6-A1B8-FAC8ED2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DAD-E594-408F-AEA6-B16862A7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C28-7B11-4F0E-BEF4-2B326DFA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7A6-56E1-4279-B539-FCAB9FD9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BCD-D4BF-4E3B-9DF3-42473C0C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761-C057-4B94-997D-EB6DB11E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629-A1D8-47F0-A2A8-F35F29DD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FB1C-4679-43D1-916A-F1646A374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MUCH MORE O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ability of an Up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025640" y="1676520"/>
                <a:ext cx="7203960" cy="43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nondividend paying stoc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for a stock index where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is the divid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yield on the index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currency where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foreig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risk-free rat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 futures con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18FC-E4D5-4F97-A528-EED0DAD18B9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reminders from the pas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7848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a particular stochastic process in which only the present value of the variable is relevant to predict its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rkov process is consistent with the weak version of the EM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6002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case of Markov process. z follows a Wiener proces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         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is small)   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N(0,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    (ii)  the values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for any two different short intervals of time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343400"/>
            <a:ext cx="5105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llows from (i) + (ii)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 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62485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 follows a Markov process  (Brownian mo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219320"/>
            <a:ext cx="49528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zed 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a generalized Wiener process if we can stat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 dt  +  b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95280" y="3123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2952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962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n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742840" y="3047760"/>
            <a:ext cx="1066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6019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follows a normal distributio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=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=  b 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219320"/>
            <a:ext cx="6781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to process  is a generalized Wiener process where a and b are both functions of x and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 = a (x, t)  dt  +  b(x, t) 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7339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iscrete fashion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 a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 b(x,t)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2120" y="91440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… The Bottom Lin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model the behavior of S  (S = stock pric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514600"/>
            <a:ext cx="7772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t  +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dz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/ S  =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t  +  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2895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23920" y="34290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7620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– Consider a stock whose volatility is 30% per year and whose expected return is 15% per year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15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if S is the stock price at some point t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 S  =  0.1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+  0.30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685800"/>
            <a:ext cx="66294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(to sum it up)…the discret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/ S   =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+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ε√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variance of the stochastic component of the return i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(consistent with previous, binomial,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it can be shown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/ S   follows a normal distribution with  N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√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410080"/>
            <a:ext cx="1752840" cy="685800"/>
          </a:xfrm>
          <a:prstGeom prst="rightArrow">
            <a:avLst>
              <a:gd name="adj1" fmla="val 50000"/>
              <a:gd name="adj2" fmla="val 63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562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E CARLOS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5400000">
            <a:off x="1722960" y="-656280"/>
            <a:ext cx="527076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5400000">
            <a:off x="1523880" y="-1295280"/>
            <a:ext cx="617220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53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54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57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69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72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9F86-5576-4576-8965-81F4B734E4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5400000">
            <a:off x="2209680" y="-1371600"/>
            <a:ext cx="518184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1143000"/>
            <a:ext cx="3810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erivation of Ito’s 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1626480" y="263880"/>
            <a:ext cx="608976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1633680"/>
            <a:ext cx="59436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5400000">
            <a:off x="2273400" y="246600"/>
            <a:ext cx="48704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6551-3078-4600-A1CF-37B40B055A9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819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choos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685800"/>
            <a:ext cx="807732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actice, when we construct a binomial tree to represent the movements of a stock, we choose u and d, in such a way that we match the volatility of the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us assume that the expected return of the stock (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l world)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volatility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the stock has the valu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ime t=0;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the time step i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, and the stock moves up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enote p* the probability of moving up (in the re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1066680" y="11430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0574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12193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13372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581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world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-Neutr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810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9051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9144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9907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5146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438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72428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19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579132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371600"/>
            <a:ext cx="647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stock price at the end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i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l-GR" sz="2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438280"/>
            <a:ext cx="662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tree, the expected stock value  p* x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+ (1-p*)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4040" y="3236760"/>
            <a:ext cx="61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matching both, we get (after some algebra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44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-  d)  /  (u – 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676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705720" y="25142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533520"/>
            <a:ext cx="723924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olatility of the stock pric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defined such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r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  is the st. deviation of the return on the stock price in a short period of tim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the variance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, can be express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orcing the stock volatility to match the tre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+  (1- p*)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[p*  u  +  (1-p*) d 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using the fact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=  (e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μΔ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d)  /  (u – d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et (after a few manipulations + neglecting second order term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533520"/>
            <a:ext cx="7239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 = exp(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  and   d = exp(-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el-GR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914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3623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52578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the analysis from the previous class shows that we can replace the tree in the real world by the tree in the risk-neutral world as long as the probability of “going up” (p) is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risk neutral probabi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  (a – d) / (u -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 = exp (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715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ummary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matching the volatility is t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 an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ngth of the time step. This is the approach us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x, Ross, and Rubi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4"/>
              <p:cNvSpPr txBox="1"/>
              <p:nvPr/>
            </p:nvSpPr>
            <p:spPr>
              <a:xfrm>
                <a:off x="2752560" y="2638440"/>
                <a:ext cx="3106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1B2E-6344-49A3-8261-00E840F70E1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18T22:13:34Z</dcterms:modified>
  <cp:revision>180</cp:revision>
  <dc:subject/>
  <dc:title>Slide 1</dc:title>
</cp:coreProperties>
</file>