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BDDE-F629-49F4-AB76-7C043B21F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AAF4F49-A5CA-4215-AB51-C7DC31AE2B0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91879C9-BFEA-40E5-BBB4-FD2FAA166E7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601D3AC-9C33-48F7-92A2-3A8FB50A219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0190-6622-435C-897D-5A511F5A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A4E2-7B27-445F-8EFE-12AD7BEC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CC6F-5D73-49F0-AFD1-2EBDE4B5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CF0C-58FC-429D-8B63-8C818F23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B8C9-5744-4591-B065-EC4379CB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6E4E-836E-4BCF-91BD-7CB7D50B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DB5F-3D9F-470E-9279-105449B4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B66E-3D4D-4BCD-927C-891EC783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B237-EAC3-4C73-8504-D431EDE6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0465-7CF2-44D9-953C-4DD46128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4B95-5A8D-4838-B0BB-6AC85741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2E62-D7C6-403C-A8F7-FBB42E1B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FB00-DC03-436A-8172-D02D9C80D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ERIVATIVES: MUCH MORE ON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hn C. Hull, Options, Futures and Other Derivatives, Prentice 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ability of an Up M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1025640" y="1676520"/>
                <a:ext cx="7203960" cy="43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rΔ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nondividend paying stock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for a stock index where 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 is the divide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yield on the index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currency where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the foreig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risk-free rat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futures contrac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3F58-0321-4ECB-946C-FBB5124081A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3880" y="762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few reminders from the pas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600200"/>
            <a:ext cx="784872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rkov process is a particular stochastic process in which only the present value of the variable is relevant to predict its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rkov process is consistent with the weak version of the EM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EN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ial case of Markov process. z follows a Wiener process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 =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√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           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is small)       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~ N(0,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       (ii)  the values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for any two different short intervals of time a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1600200"/>
            <a:ext cx="7848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EN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ial case of Markov process. z follows a Wiener process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 =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√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           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is small)       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~ N(0,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       (ii)  the values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for any two different short intervals of time a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4343400"/>
            <a:ext cx="51051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follows from (i) + (ii)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 dev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√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   =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624852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 follows a Markov process  (Brownian mo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14400" y="1219320"/>
            <a:ext cx="495288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ized Wien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is a generalized Wiener process if we can stat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x = a  dt  +  b d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295280" y="31237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295280" y="3047760"/>
            <a:ext cx="10670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39625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en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742840" y="3047760"/>
            <a:ext cx="10666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4800600"/>
            <a:ext cx="60199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iscrete fashion we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 a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+   b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follows a normal distribution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= a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 dev=  b  √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14400" y="1219320"/>
            <a:ext cx="67816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o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to process  is a generalized Wiener process where a and b are both functions of x and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x = a (x, t)  dt  +  b(x, t)  d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81080" y="37339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iscrete fashion we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 a(x,t)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+   b(x,t)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62120" y="914400"/>
            <a:ext cx="7162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l… The Bottom Lin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 we model the behavior of S  (S = stock price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2514600"/>
            <a:ext cx="77724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 dt  +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 dz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S/ S  = 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dt  +  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d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28954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atility of stock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723920" y="34290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609480"/>
            <a:ext cx="762012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– Consider a stock whose volatility is 30% per year and whose expected return is 15% per year 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.15 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if S is the stock price at some point the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can be express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/  S  =  0.15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+  0.30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√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38080" y="685800"/>
            <a:ext cx="66294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ly (to sum it up)…the discrete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/ S   =  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 +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ε√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at the variance of the stochastic component of the return i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(consistent with previous, binomial, resu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ly, it can be shown that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/ S   follows a normal distribution with  N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,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√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5410080"/>
            <a:ext cx="1752840" cy="685800"/>
          </a:xfrm>
          <a:prstGeom prst="rightArrow">
            <a:avLst>
              <a:gd name="adj1" fmla="val 50000"/>
              <a:gd name="adj2" fmla="val 63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55627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E CARLOS 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 rot="5400000">
            <a:off x="1722960" y="-656280"/>
            <a:ext cx="5270760" cy="780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 rot="5400000">
            <a:off x="1523880" y="-1295280"/>
            <a:ext cx="6172200" cy="90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yoff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Options (Terminal Value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Options, Cost of option is NOT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trike pric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ice of asset at mat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1600200" y="2043000"/>
            <a:ext cx="6006600" cy="3884760"/>
            <a:chOff x="1600200" y="2043000"/>
            <a:chExt cx="6006600" cy="3884760"/>
          </a:xfrm>
        </p:grpSpPr>
        <p:grpSp>
          <p:nvGrpSpPr>
            <p:cNvPr id="53" name="Group 5"/>
            <p:cNvGrpSpPr/>
            <p:nvPr/>
          </p:nvGrpSpPr>
          <p:grpSpPr>
            <a:xfrm>
              <a:off x="1600200" y="2198520"/>
              <a:ext cx="2317680" cy="1700280"/>
              <a:chOff x="1600200" y="2198520"/>
              <a:chExt cx="2317680" cy="1700280"/>
            </a:xfrm>
          </p:grpSpPr>
          <p:sp>
            <p:nvSpPr>
              <p:cNvPr id="54" name="Line 6"/>
              <p:cNvSpPr/>
              <p:nvPr/>
            </p:nvSpPr>
            <p:spPr>
              <a:xfrm>
                <a:off x="16002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7"/>
              <p:cNvSpPr/>
              <p:nvPr/>
            </p:nvSpPr>
            <p:spPr>
              <a:xfrm>
                <a:off x="16081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8"/>
            <p:cNvGrpSpPr/>
            <p:nvPr/>
          </p:nvGrpSpPr>
          <p:grpSpPr>
            <a:xfrm>
              <a:off x="5124600" y="2198520"/>
              <a:ext cx="2317680" cy="1700280"/>
              <a:chOff x="5124600" y="2198520"/>
              <a:chExt cx="2317680" cy="1700280"/>
            </a:xfrm>
          </p:grpSpPr>
          <p:sp>
            <p:nvSpPr>
              <p:cNvPr id="57" name="Line 9"/>
              <p:cNvSpPr/>
              <p:nvPr/>
            </p:nvSpPr>
            <p:spPr>
              <a:xfrm>
                <a:off x="51246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10"/>
              <p:cNvSpPr/>
              <p:nvPr/>
            </p:nvSpPr>
            <p:spPr>
              <a:xfrm>
                <a:off x="51325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Rectangle 11"/>
            <p:cNvSpPr/>
            <p:nvPr/>
          </p:nvSpPr>
          <p:spPr>
            <a:xfrm>
              <a:off x="164268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518616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363096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4"/>
            <p:cNvSpPr/>
            <p:nvPr/>
          </p:nvSpPr>
          <p:spPr>
            <a:xfrm>
              <a:off x="717408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5"/>
            <p:cNvSpPr/>
            <p:nvPr/>
          </p:nvSpPr>
          <p:spPr>
            <a:xfrm>
              <a:off x="2527200" y="30909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6"/>
            <p:cNvSpPr/>
            <p:nvPr/>
          </p:nvSpPr>
          <p:spPr>
            <a:xfrm>
              <a:off x="6070680" y="26337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7"/>
            <p:cNvSpPr/>
            <p:nvPr/>
          </p:nvSpPr>
          <p:spPr>
            <a:xfrm>
              <a:off x="160812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8"/>
            <p:cNvSpPr/>
            <p:nvPr/>
          </p:nvSpPr>
          <p:spPr>
            <a:xfrm flipV="1">
              <a:off x="2700360" y="2336400"/>
              <a:ext cx="720720" cy="77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9"/>
            <p:cNvSpPr/>
            <p:nvPr/>
          </p:nvSpPr>
          <p:spPr>
            <a:xfrm>
              <a:off x="513720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20"/>
            <p:cNvGrpSpPr/>
            <p:nvPr/>
          </p:nvGrpSpPr>
          <p:grpSpPr>
            <a:xfrm>
              <a:off x="1600200" y="4227480"/>
              <a:ext cx="2317680" cy="1700280"/>
              <a:chOff x="1600200" y="4227480"/>
              <a:chExt cx="2317680" cy="1700280"/>
            </a:xfrm>
          </p:grpSpPr>
          <p:sp>
            <p:nvSpPr>
              <p:cNvPr id="69" name="Line 21"/>
              <p:cNvSpPr/>
              <p:nvPr/>
            </p:nvSpPr>
            <p:spPr>
              <a:xfrm>
                <a:off x="16002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22"/>
              <p:cNvSpPr/>
              <p:nvPr/>
            </p:nvSpPr>
            <p:spPr>
              <a:xfrm>
                <a:off x="16081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23"/>
            <p:cNvGrpSpPr/>
            <p:nvPr/>
          </p:nvGrpSpPr>
          <p:grpSpPr>
            <a:xfrm>
              <a:off x="5124600" y="4227480"/>
              <a:ext cx="2317680" cy="1700280"/>
              <a:chOff x="5124600" y="4227480"/>
              <a:chExt cx="2317680" cy="1700280"/>
            </a:xfrm>
          </p:grpSpPr>
          <p:sp>
            <p:nvSpPr>
              <p:cNvPr id="72" name="Line 24"/>
              <p:cNvSpPr/>
              <p:nvPr/>
            </p:nvSpPr>
            <p:spPr>
              <a:xfrm>
                <a:off x="51246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25"/>
              <p:cNvSpPr/>
              <p:nvPr/>
            </p:nvSpPr>
            <p:spPr>
              <a:xfrm>
                <a:off x="51325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Rectangle 26"/>
            <p:cNvSpPr/>
            <p:nvPr/>
          </p:nvSpPr>
          <p:spPr>
            <a:xfrm>
              <a:off x="164268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7"/>
            <p:cNvSpPr/>
            <p:nvPr/>
          </p:nvSpPr>
          <p:spPr>
            <a:xfrm>
              <a:off x="518616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8"/>
            <p:cNvSpPr/>
            <p:nvPr/>
          </p:nvSpPr>
          <p:spPr>
            <a:xfrm>
              <a:off x="363096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29"/>
            <p:cNvSpPr/>
            <p:nvPr/>
          </p:nvSpPr>
          <p:spPr>
            <a:xfrm>
              <a:off x="717408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0"/>
            <p:cNvSpPr/>
            <p:nvPr/>
          </p:nvSpPr>
          <p:spPr>
            <a:xfrm>
              <a:off x="2527200" y="51195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1"/>
            <p:cNvSpPr/>
            <p:nvPr/>
          </p:nvSpPr>
          <p:spPr>
            <a:xfrm>
              <a:off x="6070680" y="46623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32"/>
            <p:cNvSpPr/>
            <p:nvPr/>
          </p:nvSpPr>
          <p:spPr>
            <a:xfrm flipV="1">
              <a:off x="5494320" y="5101920"/>
              <a:ext cx="722160" cy="77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3"/>
            <p:cNvSpPr/>
            <p:nvPr/>
          </p:nvSpPr>
          <p:spPr>
            <a:xfrm>
              <a:off x="6242040" y="5114880"/>
              <a:ext cx="99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4"/>
            <p:cNvSpPr/>
            <p:nvPr/>
          </p:nvSpPr>
          <p:spPr>
            <a:xfrm>
              <a:off x="2714760" y="5114880"/>
              <a:ext cx="10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5"/>
            <p:cNvSpPr/>
            <p:nvPr/>
          </p:nvSpPr>
          <p:spPr>
            <a:xfrm flipH="1" flipV="1">
              <a:off x="2028600" y="4443120"/>
              <a:ext cx="693720" cy="69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6"/>
            <p:cNvSpPr/>
            <p:nvPr/>
          </p:nvSpPr>
          <p:spPr>
            <a:xfrm flipH="1" flipV="1">
              <a:off x="6216120" y="3068280"/>
              <a:ext cx="68580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D288-6B49-434C-BBBB-C000DDFABD0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286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2209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4343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 rot="5400000">
            <a:off x="2209680" y="-1371600"/>
            <a:ext cx="5181840" cy="86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124080" y="1143000"/>
            <a:ext cx="38102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le derivation of Ito’s Lem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 rot="5400000">
            <a:off x="1626480" y="263880"/>
            <a:ext cx="608976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19320" y="1633680"/>
            <a:ext cx="594360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 rot="5400000">
            <a:off x="2273400" y="246600"/>
            <a:ext cx="487044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ing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2A4D-E8A4-4B35-8C5B-6B7DD53BBED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28195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 we choos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685800"/>
            <a:ext cx="8077320" cy="56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practice, when we construct a binomial tree to represent the movements of a stock, we choose u and d, in such a way that we match the volatility of the sto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us assume that the expected return of the stock (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al world) is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 volatility is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that the stock has the value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 time t=0;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ngth of the time step is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, and the stock moves up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w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denote p* the probability of moving up (in the re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l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flipV="1">
            <a:off x="1066680" y="1143000"/>
            <a:ext cx="2286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20574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952880" y="1219320"/>
            <a:ext cx="2286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213372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358128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 world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-Neutral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19810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9051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91440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38880" y="9907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251460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43828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4724280"/>
            <a:ext cx="647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xpected stock price at the end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, i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l-GR" sz="2400" spc="-1" strike="noStrike" baseline="30000">
                <a:solidFill>
                  <a:srgbClr val="000000"/>
                </a:solidFill>
                <a:latin typeface="Arial"/>
              </a:rPr>
              <a:t>μΔ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12193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1219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2362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- 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-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5791320"/>
            <a:ext cx="6629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tree, the expected stock value  p* x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+ (1-p*)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1371600"/>
            <a:ext cx="647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xpected stock price at the end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, i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l-GR" sz="2400" spc="-1" strike="noStrike" baseline="30000">
                <a:solidFill>
                  <a:srgbClr val="000000"/>
                </a:solidFill>
                <a:latin typeface="Arial"/>
              </a:rPr>
              <a:t>μΔ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2438280"/>
            <a:ext cx="6629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tree, the expected stock value  p* x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+ (1-p*)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4040" y="3236760"/>
            <a:ext cx="618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matching both, we get (after some algebra)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* =  (e</a:t>
            </a:r>
            <a:r>
              <a:rPr b="0" lang="el-GR" sz="4400" spc="-1" strike="noStrike" baseline="30000">
                <a:solidFill>
                  <a:srgbClr val="000000"/>
                </a:solidFill>
                <a:latin typeface="Arial"/>
              </a:rPr>
              <a:t>μΔ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-  d)  /  (u – 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16765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705720" y="251424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2209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533520"/>
            <a:ext cx="7239240" cy="61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olatility of the stock price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defined such that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qrt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  is the st. deviation of the return on the stock price in a short period of time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, the variance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, can be express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 u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+  (1- p*) 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 [p*  u  +  (1-p*) d ]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forcing the stock volatility to match the tre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 u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+  (1- p*) 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 [p*  u  +  (1-p*) d ]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using the fact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 =  (e</a:t>
            </a:r>
            <a:r>
              <a:rPr b="0" lang="el-GR" sz="1800" spc="-1" strike="noStrike" baseline="30000">
                <a:solidFill>
                  <a:srgbClr val="000000"/>
                </a:solidFill>
                <a:latin typeface="Arial"/>
              </a:rPr>
              <a:t>μΔ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 d)  /  (u – d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get (after a few manipulations + neglecting second order terms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38080" y="533520"/>
            <a:ext cx="72392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 = exp(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i="1" lang="el-GR" sz="40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)   and   d = exp(-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σ </a:t>
            </a:r>
            <a:r>
              <a:rPr b="0" i="1" lang="el-GR" sz="40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914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914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2362320"/>
            <a:ext cx="4495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2514600"/>
            <a:ext cx="52578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ly, the analysis from the previous class shows that we can replace the tree in the real world by the tree in the risk-neutral world as long as the probability of “going up” (p) is calculat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sing risk neutral probabilit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  (a – d) / (u -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a = exp (r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571500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summary…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oosing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way of matching the volatility is to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volatility and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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length of the time step. This is the approach used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x, Ross, and Rubins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1024"/>
              <p:cNvSpPr txBox="1"/>
              <p:nvPr/>
            </p:nvSpPr>
            <p:spPr>
              <a:xfrm>
                <a:off x="2752560" y="2638440"/>
                <a:ext cx="31068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Δt</m:t>
                                </m:r>
                              </m:e>
                            </m:rad>
                          </m:sup>
                        </m:sSup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Δt</m:t>
                                </m:r>
                              </m:e>
                            </m:ra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FA59-EFC0-4D88-B1EE-E1DB7B63994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3:10:01Z</dcterms:created>
  <dc:creator>VCHARLIN</dc:creator>
  <dc:description/>
  <dc:language>en-US</dc:language>
  <cp:lastModifiedBy>VCHARLIN</cp:lastModifiedBy>
  <dcterms:modified xsi:type="dcterms:W3CDTF">2010-11-18T22:13:34Z</dcterms:modified>
  <cp:revision>180</cp:revision>
  <dc:subject/>
  <dc:title>Slide 1</dc:title>
</cp:coreProperties>
</file>