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1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5ED4-E070-47A7-9FF3-21DA9E605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741E9F5-29CE-4ADB-A581-ECCA3BCF10B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89D88AF-D9EC-4405-AEB1-D37F0BD18AC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8FC7DCC-C594-475F-A968-E098A2DE446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3887BDB-6FED-44AB-9E53-F5560D8F099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6E6D4BF-68EB-4C08-A6BE-4FC85E9F035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4F4C5FC-E0CD-4984-9425-8B577A1EEE0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3A08048-F138-4A4F-B39A-1E06C029BBB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A8B13C2-E804-47D2-BDC8-903022D846F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7CC22BF-D7FF-4B13-ABAB-95FF3F56CF3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95D3A39-E2FB-41BC-88B9-641FBA20DE5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3CF68E-864C-439A-A5B8-7CD81A96CF7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889D3AC-5873-4FE8-91C5-34C1FC7DA11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E688B4D-19C6-45E3-866A-5B469108AA4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ED757B1-13CB-45A4-BA50-4D99AACE69F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F9C819D-3CD5-43C4-9289-07D55E2C279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62E83B3-48EF-4B44-AED0-6B828012B7B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AF78787-4293-42BE-8127-C3E9DFA5069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DC13961-C531-4185-A65E-6E9D653CEBD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5B203C1-C52F-46F5-AE3F-516764D5FC1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14F38F1-3E0E-431A-9C8E-952DA314397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3305859-814C-4867-8512-2BBB33CE53B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BD31790-FA20-4CFD-BA31-4A0EC7A211F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EC42D3-586B-427F-B309-0B9DBCB8C81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1C06AC6-872C-425E-953A-C15E2591D7E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61FCCF-2704-4E41-866C-9A7234A6C59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9DFF9F-2517-4F84-8EE4-9F3747C30E5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F1D25E5-B63F-480E-9D22-A15E0BC9F6B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06448F3-A970-46CF-AB5D-C5761895512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63ECC82-5104-4DDA-8115-8037FD11335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9E35-4E22-4CFA-9E54-EF9EBA28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947C-D1BA-459E-82A4-CFC48AB9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D2C8-119C-49C6-9D5E-95E9E535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A471-FFA8-47CD-B806-9CC8D88F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5A6C-20D5-4E2C-A293-DD00AA05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2EBD-1BF4-42A1-A767-271BD1CF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A7FB-8253-4B9B-8C90-581BE47E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AB79-7E42-47CB-AACE-5088C78A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17B2-DEB4-49D1-B53E-4D9BAB9D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9988-B3F5-4FEB-8548-18780748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0A10-DCC9-4C44-B58F-205C2BC8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A104-A908-4E39-989F-57F6D482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B540-FCA0-4BA6-BF9B-767F25B36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ERIVATIVES: MORE ON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Hull, Options, Futures and Other Derivatives, Prentice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90720" y="1523880"/>
            <a:ext cx="6400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ADS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a position (long or short) in several options of the same type (calls or pu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ull Sprea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sing Call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35200" y="1634760"/>
            <a:ext cx="4114800" cy="25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2192400" y="228600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2192400" y="411480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 flipV="1">
            <a:off x="4021200" y="40384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"/>
          <p:cNvSpPr/>
          <p:nvPr/>
        </p:nvSpPr>
        <p:spPr>
          <a:xfrm flipV="1">
            <a:off x="5850000" y="40384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3784320" y="408456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181480" y="4084560"/>
            <a:ext cx="1484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2176560" y="2332080"/>
            <a:ext cx="113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6900840" y="3505320"/>
            <a:ext cx="566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2"/>
          <p:cNvSpPr/>
          <p:nvPr/>
        </p:nvSpPr>
        <p:spPr>
          <a:xfrm flipV="1">
            <a:off x="3929040" y="3000240"/>
            <a:ext cx="2000160" cy="2143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3"/>
          <p:cNvSpPr/>
          <p:nvPr/>
        </p:nvSpPr>
        <p:spPr>
          <a:xfrm flipV="1">
            <a:off x="3929040" y="2571840"/>
            <a:ext cx="2857680" cy="3000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 flipH="1">
            <a:off x="2214720" y="5572080"/>
            <a:ext cx="17143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5"/>
          <p:cNvSpPr/>
          <p:nvPr/>
        </p:nvSpPr>
        <p:spPr>
          <a:xfrm flipH="1">
            <a:off x="2214720" y="5143680"/>
            <a:ext cx="17143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5929200" y="3000240"/>
            <a:ext cx="1148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7"/>
          <p:cNvSpPr/>
          <p:nvPr/>
        </p:nvSpPr>
        <p:spPr>
          <a:xfrm flipH="1">
            <a:off x="2192400" y="36576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"/>
          <p:cNvSpPr/>
          <p:nvPr/>
        </p:nvSpPr>
        <p:spPr>
          <a:xfrm>
            <a:off x="5850000" y="3657600"/>
            <a:ext cx="121896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2999-0B54-46F6-8842-A976D0BF32A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10080" y="1447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182880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1447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657240" y="1981080"/>
            <a:ext cx="6094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6248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iration date is the same for both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ull Sprea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sing 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35200" y="1634760"/>
            <a:ext cx="4114800" cy="25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2FCC-841F-47E4-9C64-E7CB162625F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6248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iration date is the same for both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19"/>
          <p:cNvGrpSpPr/>
          <p:nvPr/>
        </p:nvGrpSpPr>
        <p:grpSpPr>
          <a:xfrm>
            <a:off x="1295280" y="1295280"/>
            <a:ext cx="5700960" cy="4286520"/>
            <a:chOff x="1295280" y="1295280"/>
            <a:chExt cx="5700960" cy="4286520"/>
          </a:xfrm>
        </p:grpSpPr>
        <p:sp>
          <p:nvSpPr>
            <p:cNvPr id="246" name="Rectangle 3"/>
            <p:cNvSpPr/>
            <p:nvPr/>
          </p:nvSpPr>
          <p:spPr>
            <a:xfrm>
              <a:off x="1295280" y="1295280"/>
              <a:ext cx="411480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"/>
            <p:cNvSpPr/>
            <p:nvPr/>
          </p:nvSpPr>
          <p:spPr>
            <a:xfrm>
              <a:off x="1760400" y="182880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5"/>
            <p:cNvSpPr/>
            <p:nvPr/>
          </p:nvSpPr>
          <p:spPr>
            <a:xfrm>
              <a:off x="1760400" y="3657600"/>
              <a:ext cx="518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6"/>
            <p:cNvSpPr/>
            <p:nvPr/>
          </p:nvSpPr>
          <p:spPr>
            <a:xfrm flipV="1">
              <a:off x="3589200" y="358128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7"/>
            <p:cNvSpPr/>
            <p:nvPr/>
          </p:nvSpPr>
          <p:spPr>
            <a:xfrm flipV="1">
              <a:off x="5418000" y="358128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8"/>
            <p:cNvSpPr/>
            <p:nvPr/>
          </p:nvSpPr>
          <p:spPr>
            <a:xfrm>
              <a:off x="3367080" y="3017880"/>
              <a:ext cx="7794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9"/>
            <p:cNvSpPr/>
            <p:nvPr/>
          </p:nvSpPr>
          <p:spPr>
            <a:xfrm>
              <a:off x="5181120" y="3017880"/>
              <a:ext cx="5738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0"/>
            <p:cNvSpPr/>
            <p:nvPr/>
          </p:nvSpPr>
          <p:spPr>
            <a:xfrm>
              <a:off x="1744560" y="1874880"/>
              <a:ext cx="1132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1"/>
            <p:cNvSpPr/>
            <p:nvPr/>
          </p:nvSpPr>
          <p:spPr>
            <a:xfrm>
              <a:off x="6476040" y="3017880"/>
              <a:ext cx="5202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2"/>
            <p:cNvSpPr/>
            <p:nvPr/>
          </p:nvSpPr>
          <p:spPr>
            <a:xfrm flipV="1">
              <a:off x="3509640" y="2742840"/>
              <a:ext cx="1908360" cy="1981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3"/>
            <p:cNvSpPr/>
            <p:nvPr/>
          </p:nvSpPr>
          <p:spPr>
            <a:xfrm flipH="1">
              <a:off x="1723680" y="4724280"/>
              <a:ext cx="1828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4"/>
            <p:cNvSpPr/>
            <p:nvPr/>
          </p:nvSpPr>
          <p:spPr>
            <a:xfrm>
              <a:off x="5418000" y="2743200"/>
              <a:ext cx="1312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5"/>
            <p:cNvSpPr/>
            <p:nvPr/>
          </p:nvSpPr>
          <p:spPr>
            <a:xfrm flipH="1">
              <a:off x="2295000" y="2367000"/>
              <a:ext cx="3071880" cy="3214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6"/>
            <p:cNvSpPr/>
            <p:nvPr/>
          </p:nvSpPr>
          <p:spPr>
            <a:xfrm>
              <a:off x="5367240" y="2367000"/>
              <a:ext cx="1438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7"/>
            <p:cNvSpPr/>
            <p:nvPr/>
          </p:nvSpPr>
          <p:spPr>
            <a:xfrm flipH="1" flipV="1">
              <a:off x="1931760" y="2257560"/>
              <a:ext cx="1649520" cy="1823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8"/>
            <p:cNvSpPr/>
            <p:nvPr/>
          </p:nvSpPr>
          <p:spPr>
            <a:xfrm>
              <a:off x="3581280" y="4081320"/>
              <a:ext cx="3143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4267080" y="5486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419720" y="4114440"/>
            <a:ext cx="14475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81480" y="1600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4952520" y="19051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ear Sprea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sing Ca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735200" y="1634760"/>
            <a:ext cx="4114800" cy="25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9B1A-EA40-48F8-AFC6-0894D56375C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6248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iration date is the same for both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>
            <a:off x="1600200" y="17524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1600200" y="35812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 flipV="1">
            <a:off x="3429000" y="35049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 flipV="1">
            <a:off x="5257800" y="35049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3192120" y="294156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5020920" y="294156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6392160" y="294156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2"/>
          <p:cNvSpPr/>
          <p:nvPr/>
        </p:nvSpPr>
        <p:spPr>
          <a:xfrm>
            <a:off x="1668600" y="2185920"/>
            <a:ext cx="17143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3"/>
          <p:cNvSpPr/>
          <p:nvPr/>
        </p:nvSpPr>
        <p:spPr>
          <a:xfrm>
            <a:off x="3382920" y="2185920"/>
            <a:ext cx="3119400" cy="3119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4"/>
          <p:cNvSpPr/>
          <p:nvPr/>
        </p:nvSpPr>
        <p:spPr>
          <a:xfrm>
            <a:off x="1609560" y="266688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5"/>
          <p:cNvSpPr/>
          <p:nvPr/>
        </p:nvSpPr>
        <p:spPr>
          <a:xfrm>
            <a:off x="3438360" y="2666880"/>
            <a:ext cx="1828800" cy="1828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6"/>
          <p:cNvSpPr/>
          <p:nvPr/>
        </p:nvSpPr>
        <p:spPr>
          <a:xfrm>
            <a:off x="5267160" y="4495680"/>
            <a:ext cx="1295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7"/>
          <p:cNvSpPr/>
          <p:nvPr/>
        </p:nvSpPr>
        <p:spPr>
          <a:xfrm flipH="1">
            <a:off x="1596960" y="4114800"/>
            <a:ext cx="36432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8"/>
          <p:cNvSpPr/>
          <p:nvPr/>
        </p:nvSpPr>
        <p:spPr>
          <a:xfrm flipV="1">
            <a:off x="5240160" y="2900160"/>
            <a:ext cx="1295640" cy="1214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ear Sprea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sing 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76520" y="1523880"/>
            <a:ext cx="4114800" cy="250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C992-8313-4C92-91BB-BB163D631AF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6248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iration date is the same for both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9"/>
          <p:cNvGrpSpPr/>
          <p:nvPr/>
        </p:nvGrpSpPr>
        <p:grpSpPr>
          <a:xfrm>
            <a:off x="1219320" y="1523880"/>
            <a:ext cx="5700960" cy="4191120"/>
            <a:chOff x="1219320" y="1523880"/>
            <a:chExt cx="5700960" cy="4191120"/>
          </a:xfrm>
        </p:grpSpPr>
        <p:sp>
          <p:nvSpPr>
            <p:cNvPr id="289" name="Rectangle 3"/>
            <p:cNvSpPr/>
            <p:nvPr/>
          </p:nvSpPr>
          <p:spPr>
            <a:xfrm>
              <a:off x="1219320" y="1523880"/>
              <a:ext cx="411480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4"/>
            <p:cNvSpPr/>
            <p:nvPr/>
          </p:nvSpPr>
          <p:spPr>
            <a:xfrm>
              <a:off x="1684440" y="205740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1684440" y="3886200"/>
              <a:ext cx="518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6"/>
            <p:cNvSpPr/>
            <p:nvPr/>
          </p:nvSpPr>
          <p:spPr>
            <a:xfrm flipV="1">
              <a:off x="3513240" y="380988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7"/>
            <p:cNvSpPr/>
            <p:nvPr/>
          </p:nvSpPr>
          <p:spPr>
            <a:xfrm flipV="1">
              <a:off x="5342040" y="380988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8"/>
            <p:cNvSpPr/>
            <p:nvPr/>
          </p:nvSpPr>
          <p:spPr>
            <a:xfrm>
              <a:off x="3276360" y="3855960"/>
              <a:ext cx="5738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9"/>
            <p:cNvSpPr/>
            <p:nvPr/>
          </p:nvSpPr>
          <p:spPr>
            <a:xfrm>
              <a:off x="5105160" y="3855960"/>
              <a:ext cx="5738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0"/>
            <p:cNvSpPr/>
            <p:nvPr/>
          </p:nvSpPr>
          <p:spPr>
            <a:xfrm>
              <a:off x="1668960" y="2103480"/>
              <a:ext cx="1132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1"/>
            <p:cNvSpPr/>
            <p:nvPr/>
          </p:nvSpPr>
          <p:spPr>
            <a:xfrm>
              <a:off x="6400080" y="3855960"/>
              <a:ext cx="5202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2"/>
            <p:cNvSpPr/>
            <p:nvPr/>
          </p:nvSpPr>
          <p:spPr>
            <a:xfrm>
              <a:off x="1694160" y="2971800"/>
              <a:ext cx="1828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3"/>
            <p:cNvSpPr/>
            <p:nvPr/>
          </p:nvSpPr>
          <p:spPr>
            <a:xfrm>
              <a:off x="3522960" y="2971800"/>
              <a:ext cx="1828800" cy="182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5351760" y="480060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 flipH="1" flipV="1">
              <a:off x="2558880" y="2352240"/>
              <a:ext cx="2786040" cy="27860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 flipV="1">
              <a:off x="5345280" y="5138640"/>
              <a:ext cx="1162080" cy="23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 flipH="1">
              <a:off x="1696680" y="3495600"/>
              <a:ext cx="1791000" cy="1762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8"/>
            <p:cNvSpPr/>
            <p:nvPr/>
          </p:nvSpPr>
          <p:spPr>
            <a:xfrm>
              <a:off x="3488040" y="3495600"/>
              <a:ext cx="3124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terfly Spread Using Call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1749600" y="1676520"/>
            <a:ext cx="4114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4"/>
          <p:cNvSpPr/>
          <p:nvPr/>
        </p:nvSpPr>
        <p:spPr>
          <a:xfrm>
            <a:off x="2214720" y="22096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2214720" y="4038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 flipV="1">
            <a:off x="40435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7"/>
          <p:cNvSpPr/>
          <p:nvPr/>
        </p:nvSpPr>
        <p:spPr>
          <a:xfrm flipV="1">
            <a:off x="58723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3806280" y="347508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5635080" y="347508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2198520" y="1928880"/>
            <a:ext cx="1133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6930360" y="347508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 flipV="1">
            <a:off x="49579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3"/>
          <p:cNvSpPr/>
          <p:nvPr/>
        </p:nvSpPr>
        <p:spPr>
          <a:xfrm>
            <a:off x="4720680" y="347508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4"/>
          <p:cNvSpPr/>
          <p:nvPr/>
        </p:nvSpPr>
        <p:spPr>
          <a:xfrm flipH="1">
            <a:off x="2227320" y="44956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5"/>
          <p:cNvSpPr/>
          <p:nvPr/>
        </p:nvSpPr>
        <p:spPr>
          <a:xfrm flipV="1">
            <a:off x="5884920" y="2428560"/>
            <a:ext cx="2044800" cy="2066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"/>
          <p:cNvSpPr/>
          <p:nvPr/>
        </p:nvSpPr>
        <p:spPr>
          <a:xfrm flipV="1">
            <a:off x="4056120" y="1785600"/>
            <a:ext cx="3159000" cy="3166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7"/>
          <p:cNvSpPr/>
          <p:nvPr/>
        </p:nvSpPr>
        <p:spPr>
          <a:xfrm flipH="1">
            <a:off x="2227320" y="4952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"/>
          <p:cNvSpPr/>
          <p:nvPr/>
        </p:nvSpPr>
        <p:spPr>
          <a:xfrm>
            <a:off x="2227320" y="29718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9"/>
          <p:cNvSpPr/>
          <p:nvPr/>
        </p:nvSpPr>
        <p:spPr>
          <a:xfrm>
            <a:off x="4970520" y="2971800"/>
            <a:ext cx="1314360" cy="2743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0"/>
          <p:cNvSpPr/>
          <p:nvPr/>
        </p:nvSpPr>
        <p:spPr>
          <a:xfrm>
            <a:off x="2227320" y="434340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1"/>
          <p:cNvSpPr/>
          <p:nvPr/>
        </p:nvSpPr>
        <p:spPr>
          <a:xfrm flipV="1">
            <a:off x="4056120" y="3429000"/>
            <a:ext cx="914400" cy="914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2"/>
          <p:cNvSpPr/>
          <p:nvPr/>
        </p:nvSpPr>
        <p:spPr>
          <a:xfrm>
            <a:off x="4970520" y="3429000"/>
            <a:ext cx="914400" cy="914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3"/>
          <p:cNvSpPr/>
          <p:nvPr/>
        </p:nvSpPr>
        <p:spPr>
          <a:xfrm>
            <a:off x="5884920" y="4343400"/>
            <a:ext cx="1371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2730-AE03-4FF7-AB49-046A7AA0B1D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6324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all, low strike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2286000" y="502884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486400" y="1066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all, high strike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696080" y="1371600"/>
            <a:ext cx="763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191120" y="5943600"/>
            <a:ext cx="3352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2 calls, strike price is halfway in between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343400" y="2971800"/>
            <a:ext cx="38088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terfly Spread Using Put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1749600" y="1676520"/>
            <a:ext cx="4114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"/>
          <p:cNvSpPr/>
          <p:nvPr/>
        </p:nvSpPr>
        <p:spPr>
          <a:xfrm>
            <a:off x="2214720" y="22096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"/>
          <p:cNvSpPr/>
          <p:nvPr/>
        </p:nvSpPr>
        <p:spPr>
          <a:xfrm>
            <a:off x="2214720" y="4038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6"/>
          <p:cNvSpPr/>
          <p:nvPr/>
        </p:nvSpPr>
        <p:spPr>
          <a:xfrm flipV="1">
            <a:off x="40435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7"/>
          <p:cNvSpPr/>
          <p:nvPr/>
        </p:nvSpPr>
        <p:spPr>
          <a:xfrm flipV="1">
            <a:off x="58723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3806280" y="347508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5635080" y="347508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928800" y="2255760"/>
            <a:ext cx="2403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6930360" y="347508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2"/>
          <p:cNvSpPr/>
          <p:nvPr/>
        </p:nvSpPr>
        <p:spPr>
          <a:xfrm flipV="1">
            <a:off x="49579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4720680" y="347508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4"/>
          <p:cNvSpPr/>
          <p:nvPr/>
        </p:nvSpPr>
        <p:spPr>
          <a:xfrm flipH="1">
            <a:off x="4000320" y="4495680"/>
            <a:ext cx="3238200" cy="5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5"/>
          <p:cNvSpPr/>
          <p:nvPr/>
        </p:nvSpPr>
        <p:spPr>
          <a:xfrm flipH="1" flipV="1">
            <a:off x="5857920" y="4929120"/>
            <a:ext cx="1380960" cy="23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6"/>
          <p:cNvSpPr/>
          <p:nvPr/>
        </p:nvSpPr>
        <p:spPr>
          <a:xfrm>
            <a:off x="4929120" y="2928960"/>
            <a:ext cx="2786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7"/>
          <p:cNvSpPr/>
          <p:nvPr/>
        </p:nvSpPr>
        <p:spPr>
          <a:xfrm>
            <a:off x="2227320" y="434340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8"/>
          <p:cNvSpPr/>
          <p:nvPr/>
        </p:nvSpPr>
        <p:spPr>
          <a:xfrm flipV="1">
            <a:off x="4056120" y="3429000"/>
            <a:ext cx="914400" cy="914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9"/>
          <p:cNvSpPr/>
          <p:nvPr/>
        </p:nvSpPr>
        <p:spPr>
          <a:xfrm>
            <a:off x="4970520" y="3429000"/>
            <a:ext cx="914400" cy="914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0"/>
          <p:cNvSpPr/>
          <p:nvPr/>
        </p:nvSpPr>
        <p:spPr>
          <a:xfrm>
            <a:off x="5884920" y="4343400"/>
            <a:ext cx="1371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1"/>
          <p:cNvSpPr/>
          <p:nvPr/>
        </p:nvSpPr>
        <p:spPr>
          <a:xfrm flipH="1" flipV="1">
            <a:off x="2209680" y="26668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2"/>
          <p:cNvSpPr/>
          <p:nvPr/>
        </p:nvSpPr>
        <p:spPr>
          <a:xfrm flipH="1" flipV="1">
            <a:off x="3276720" y="2362320"/>
            <a:ext cx="2590560" cy="2590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3"/>
          <p:cNvSpPr/>
          <p:nvPr/>
        </p:nvSpPr>
        <p:spPr>
          <a:xfrm flipH="1">
            <a:off x="3564000" y="2971800"/>
            <a:ext cx="1388880" cy="289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593B-FB8E-44EF-B019-71706E39F04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endar Spread Using Call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1863720" y="1638360"/>
            <a:ext cx="4114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2284560" y="21718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2284560" y="4000680"/>
            <a:ext cx="4997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2268720" y="2217600"/>
            <a:ext cx="113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6743160" y="342756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 flipV="1">
            <a:off x="5027760" y="392436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4782600" y="3970440"/>
            <a:ext cx="456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0"/>
          <p:cNvSpPr/>
          <p:nvPr/>
        </p:nvSpPr>
        <p:spPr>
          <a:xfrm flipH="1">
            <a:off x="2279520" y="30862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1"/>
          <p:cNvSpPr/>
          <p:nvPr/>
        </p:nvSpPr>
        <p:spPr>
          <a:xfrm>
            <a:off x="5022720" y="3086280"/>
            <a:ext cx="2028960" cy="2028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2281320" y="4924440"/>
            <a:ext cx="3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3"/>
          <p:cNvSpPr/>
          <p:nvPr/>
        </p:nvSpPr>
        <p:spPr>
          <a:xfrm>
            <a:off x="2446200" y="4923000"/>
            <a:ext cx="42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4"/>
          <p:cNvSpPr/>
          <p:nvPr/>
        </p:nvSpPr>
        <p:spPr>
          <a:xfrm>
            <a:off x="2638440" y="491976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5"/>
          <p:cNvSpPr/>
          <p:nvPr/>
        </p:nvSpPr>
        <p:spPr>
          <a:xfrm>
            <a:off x="2828880" y="491004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3024360" y="489420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7"/>
          <p:cNvSpPr/>
          <p:nvPr/>
        </p:nvSpPr>
        <p:spPr>
          <a:xfrm>
            <a:off x="3209760" y="4875120"/>
            <a:ext cx="4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8"/>
          <p:cNvSpPr/>
          <p:nvPr/>
        </p:nvSpPr>
        <p:spPr>
          <a:xfrm flipV="1">
            <a:off x="3400560" y="4847760"/>
            <a:ext cx="378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9"/>
          <p:cNvSpPr/>
          <p:nvPr/>
        </p:nvSpPr>
        <p:spPr>
          <a:xfrm flipV="1">
            <a:off x="3589200" y="4817880"/>
            <a:ext cx="5256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0"/>
          <p:cNvSpPr/>
          <p:nvPr/>
        </p:nvSpPr>
        <p:spPr>
          <a:xfrm flipV="1">
            <a:off x="3774960" y="4784400"/>
            <a:ext cx="381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1"/>
          <p:cNvSpPr/>
          <p:nvPr/>
        </p:nvSpPr>
        <p:spPr>
          <a:xfrm flipV="1">
            <a:off x="3960720" y="4751280"/>
            <a:ext cx="446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2"/>
          <p:cNvSpPr/>
          <p:nvPr/>
        </p:nvSpPr>
        <p:spPr>
          <a:xfrm flipV="1">
            <a:off x="4146480" y="4708080"/>
            <a:ext cx="4464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3"/>
          <p:cNvSpPr/>
          <p:nvPr/>
        </p:nvSpPr>
        <p:spPr>
          <a:xfrm flipV="1">
            <a:off x="4332240" y="4657320"/>
            <a:ext cx="3960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4"/>
          <p:cNvSpPr/>
          <p:nvPr/>
        </p:nvSpPr>
        <p:spPr>
          <a:xfrm flipV="1">
            <a:off x="4514760" y="4613400"/>
            <a:ext cx="4140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5"/>
          <p:cNvSpPr/>
          <p:nvPr/>
        </p:nvSpPr>
        <p:spPr>
          <a:xfrm flipV="1">
            <a:off x="4697280" y="4552560"/>
            <a:ext cx="4284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6"/>
          <p:cNvSpPr/>
          <p:nvPr/>
        </p:nvSpPr>
        <p:spPr>
          <a:xfrm flipV="1">
            <a:off x="4873680" y="4495680"/>
            <a:ext cx="4752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7"/>
          <p:cNvSpPr/>
          <p:nvPr/>
        </p:nvSpPr>
        <p:spPr>
          <a:xfrm flipV="1">
            <a:off x="5056200" y="4432320"/>
            <a:ext cx="4284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8"/>
          <p:cNvSpPr/>
          <p:nvPr/>
        </p:nvSpPr>
        <p:spPr>
          <a:xfrm flipV="1">
            <a:off x="5232240" y="4362480"/>
            <a:ext cx="4320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9"/>
          <p:cNvSpPr/>
          <p:nvPr/>
        </p:nvSpPr>
        <p:spPr>
          <a:xfrm flipV="1">
            <a:off x="5408640" y="4286160"/>
            <a:ext cx="3816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30"/>
          <p:cNvSpPr/>
          <p:nvPr/>
        </p:nvSpPr>
        <p:spPr>
          <a:xfrm flipV="1">
            <a:off x="5583240" y="4203360"/>
            <a:ext cx="3816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31"/>
          <p:cNvSpPr/>
          <p:nvPr/>
        </p:nvSpPr>
        <p:spPr>
          <a:xfrm flipV="1">
            <a:off x="5749920" y="4117680"/>
            <a:ext cx="3960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32"/>
          <p:cNvSpPr/>
          <p:nvPr/>
        </p:nvSpPr>
        <p:spPr>
          <a:xfrm flipV="1">
            <a:off x="5918040" y="4022640"/>
            <a:ext cx="38160" cy="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3"/>
          <p:cNvSpPr/>
          <p:nvPr/>
        </p:nvSpPr>
        <p:spPr>
          <a:xfrm flipV="1">
            <a:off x="6078600" y="3924360"/>
            <a:ext cx="38160" cy="2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4"/>
          <p:cNvSpPr/>
          <p:nvPr/>
        </p:nvSpPr>
        <p:spPr>
          <a:xfrm flipV="1">
            <a:off x="6237360" y="3822480"/>
            <a:ext cx="3636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5"/>
          <p:cNvSpPr/>
          <p:nvPr/>
        </p:nvSpPr>
        <p:spPr>
          <a:xfrm flipV="1">
            <a:off x="6392880" y="3713040"/>
            <a:ext cx="302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6"/>
          <p:cNvSpPr/>
          <p:nvPr/>
        </p:nvSpPr>
        <p:spPr>
          <a:xfrm flipV="1">
            <a:off x="6545160" y="3590640"/>
            <a:ext cx="3024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7"/>
          <p:cNvSpPr/>
          <p:nvPr/>
        </p:nvSpPr>
        <p:spPr>
          <a:xfrm flipV="1">
            <a:off x="6683400" y="3467160"/>
            <a:ext cx="39600" cy="3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8"/>
          <p:cNvSpPr/>
          <p:nvPr/>
        </p:nvSpPr>
        <p:spPr>
          <a:xfrm flipV="1">
            <a:off x="6821640" y="3325320"/>
            <a:ext cx="48960" cy="4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9"/>
          <p:cNvSpPr/>
          <p:nvPr/>
        </p:nvSpPr>
        <p:spPr>
          <a:xfrm flipV="1">
            <a:off x="7021440" y="3130200"/>
            <a:ext cx="38160" cy="4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0"/>
          <p:cNvSpPr/>
          <p:nvPr/>
        </p:nvSpPr>
        <p:spPr>
          <a:xfrm flipV="1">
            <a:off x="3033720" y="4057200"/>
            <a:ext cx="193680" cy="17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55"/>
          <p:cNvGrpSpPr/>
          <p:nvPr/>
        </p:nvGrpSpPr>
        <p:grpSpPr>
          <a:xfrm>
            <a:off x="2268360" y="3644640"/>
            <a:ext cx="2732040" cy="457560"/>
            <a:chOff x="2268360" y="3644640"/>
            <a:chExt cx="2732040" cy="457560"/>
          </a:xfrm>
        </p:grpSpPr>
        <p:sp>
          <p:nvSpPr>
            <p:cNvPr id="397" name="Line 41"/>
            <p:cNvSpPr/>
            <p:nvPr/>
          </p:nvSpPr>
          <p:spPr>
            <a:xfrm>
              <a:off x="2268360" y="4102200"/>
              <a:ext cx="160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42"/>
            <p:cNvSpPr/>
            <p:nvPr/>
          </p:nvSpPr>
          <p:spPr>
            <a:xfrm flipV="1">
              <a:off x="2433600" y="4096800"/>
              <a:ext cx="190440" cy="3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43"/>
            <p:cNvSpPr/>
            <p:nvPr/>
          </p:nvSpPr>
          <p:spPr>
            <a:xfrm flipV="1">
              <a:off x="2625480" y="4087800"/>
              <a:ext cx="19872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44"/>
            <p:cNvSpPr/>
            <p:nvPr/>
          </p:nvSpPr>
          <p:spPr>
            <a:xfrm flipV="1">
              <a:off x="2816280" y="4073400"/>
              <a:ext cx="193680" cy="14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45"/>
            <p:cNvSpPr/>
            <p:nvPr/>
          </p:nvSpPr>
          <p:spPr>
            <a:xfrm flipV="1">
              <a:off x="3197160" y="4030560"/>
              <a:ext cx="193680" cy="22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46"/>
            <p:cNvSpPr/>
            <p:nvPr/>
          </p:nvSpPr>
          <p:spPr>
            <a:xfrm flipV="1">
              <a:off x="3387600" y="4006800"/>
              <a:ext cx="198360" cy="22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47"/>
            <p:cNvSpPr/>
            <p:nvPr/>
          </p:nvSpPr>
          <p:spPr>
            <a:xfrm flipV="1">
              <a:off x="3576600" y="3968280"/>
              <a:ext cx="195120" cy="33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48"/>
            <p:cNvSpPr/>
            <p:nvPr/>
          </p:nvSpPr>
          <p:spPr>
            <a:xfrm flipV="1">
              <a:off x="3762360" y="3935520"/>
              <a:ext cx="195120" cy="31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49"/>
            <p:cNvSpPr/>
            <p:nvPr/>
          </p:nvSpPr>
          <p:spPr>
            <a:xfrm flipV="1">
              <a:off x="3948120" y="3897360"/>
              <a:ext cx="190440" cy="38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50"/>
            <p:cNvSpPr/>
            <p:nvPr/>
          </p:nvSpPr>
          <p:spPr>
            <a:xfrm flipV="1">
              <a:off x="4133880" y="3849480"/>
              <a:ext cx="190440" cy="4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51"/>
            <p:cNvSpPr/>
            <p:nvPr/>
          </p:nvSpPr>
          <p:spPr>
            <a:xfrm flipV="1">
              <a:off x="4319640" y="3801960"/>
              <a:ext cx="190440" cy="4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52"/>
            <p:cNvSpPr/>
            <p:nvPr/>
          </p:nvSpPr>
          <p:spPr>
            <a:xfrm flipV="1">
              <a:off x="4502160" y="3749400"/>
              <a:ext cx="188640" cy="50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53"/>
            <p:cNvSpPr/>
            <p:nvPr/>
          </p:nvSpPr>
          <p:spPr>
            <a:xfrm flipV="1">
              <a:off x="4684680" y="3687840"/>
              <a:ext cx="187200" cy="55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54"/>
            <p:cNvSpPr/>
            <p:nvPr/>
          </p:nvSpPr>
          <p:spPr>
            <a:xfrm flipV="1">
              <a:off x="4860720" y="3644640"/>
              <a:ext cx="139680" cy="42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61"/>
          <p:cNvGrpSpPr/>
          <p:nvPr/>
        </p:nvGrpSpPr>
        <p:grpSpPr>
          <a:xfrm>
            <a:off x="5022720" y="3648240"/>
            <a:ext cx="2019600" cy="571320"/>
            <a:chOff x="5022720" y="3648240"/>
            <a:chExt cx="2019600" cy="571320"/>
          </a:xfrm>
        </p:grpSpPr>
        <p:sp>
          <p:nvSpPr>
            <p:cNvPr id="412" name="Line 56"/>
            <p:cNvSpPr/>
            <p:nvPr/>
          </p:nvSpPr>
          <p:spPr>
            <a:xfrm>
              <a:off x="5022720" y="3648240"/>
              <a:ext cx="114624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57"/>
            <p:cNvSpPr/>
            <p:nvPr/>
          </p:nvSpPr>
          <p:spPr>
            <a:xfrm>
              <a:off x="6170760" y="4110120"/>
              <a:ext cx="152280" cy="47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58"/>
            <p:cNvSpPr/>
            <p:nvPr/>
          </p:nvSpPr>
          <p:spPr>
            <a:xfrm>
              <a:off x="6313320" y="4152960"/>
              <a:ext cx="176400" cy="38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59"/>
            <p:cNvSpPr/>
            <p:nvPr/>
          </p:nvSpPr>
          <p:spPr>
            <a:xfrm>
              <a:off x="6485040" y="4195800"/>
              <a:ext cx="176040" cy="1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60"/>
            <p:cNvSpPr/>
            <p:nvPr/>
          </p:nvSpPr>
          <p:spPr>
            <a:xfrm>
              <a:off x="6665760" y="4219560"/>
              <a:ext cx="376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Slide Number Placeholder 6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4E6C-2A74-4356-AFD4-35B3C63BFD2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62320" y="1600200"/>
            <a:ext cx="21333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352680" y="59436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all, same K ,  but much longer mat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 flipV="1">
            <a:off x="4038480" y="480024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76920" y="144792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assuming here that when the short-maturity option expires we sell the longer-maturity o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990720" y="1523880"/>
            <a:ext cx="6400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S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a position (long or short) in several options of different type (calls and pu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traddle Combina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749600" y="1676520"/>
            <a:ext cx="4114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2214720" y="22096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"/>
          <p:cNvSpPr/>
          <p:nvPr/>
        </p:nvSpPr>
        <p:spPr>
          <a:xfrm>
            <a:off x="2214720" y="4038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2198880" y="2255760"/>
            <a:ext cx="113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6930360" y="404640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 flipV="1">
            <a:off x="49579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4712760" y="4046400"/>
            <a:ext cx="456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0"/>
          <p:cNvSpPr/>
          <p:nvPr/>
        </p:nvSpPr>
        <p:spPr>
          <a:xfrm flipH="1">
            <a:off x="2209680" y="44956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1"/>
          <p:cNvSpPr/>
          <p:nvPr/>
        </p:nvSpPr>
        <p:spPr>
          <a:xfrm flipV="1">
            <a:off x="4952880" y="2209680"/>
            <a:ext cx="2286000" cy="2286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2"/>
          <p:cNvSpPr/>
          <p:nvPr/>
        </p:nvSpPr>
        <p:spPr>
          <a:xfrm>
            <a:off x="4952880" y="49528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"/>
          <p:cNvSpPr/>
          <p:nvPr/>
        </p:nvSpPr>
        <p:spPr>
          <a:xfrm flipH="1" flipV="1">
            <a:off x="2666880" y="2666880"/>
            <a:ext cx="2286000" cy="2286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4"/>
          <p:cNvSpPr/>
          <p:nvPr/>
        </p:nvSpPr>
        <p:spPr>
          <a:xfrm flipV="1">
            <a:off x="4952880" y="3124080"/>
            <a:ext cx="2286000" cy="228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 flipH="1" flipV="1">
            <a:off x="2195640" y="2637000"/>
            <a:ext cx="2743200" cy="2743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1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FC89-8F95-47C0-8649-F7E5A259BC7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066680" y="99072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buy a call and a put with same K, same expiration; Good if you expect a big change in the stock price (not sure which way will go howe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off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Options (Terminal Valu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Options, Cost of option is NOT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trike pri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ice of asset at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53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54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57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69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72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A03B-2701-4BDE-8511-9C136596C54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p &amp; Stra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28880" y="1634760"/>
            <a:ext cx="35049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4"/>
          <p:cNvSpPr/>
          <p:nvPr/>
        </p:nvSpPr>
        <p:spPr>
          <a:xfrm>
            <a:off x="1486080" y="236232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5"/>
          <p:cNvSpPr/>
          <p:nvPr/>
        </p:nvSpPr>
        <p:spPr>
          <a:xfrm>
            <a:off x="1486080" y="45720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1470240" y="2255760"/>
            <a:ext cx="113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688840" y="4008600"/>
            <a:ext cx="456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3915720" y="400860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9"/>
          <p:cNvSpPr/>
          <p:nvPr/>
        </p:nvSpPr>
        <p:spPr>
          <a:xfrm flipV="1">
            <a:off x="2857680" y="44956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0"/>
          <p:cNvSpPr/>
          <p:nvPr/>
        </p:nvSpPr>
        <p:spPr>
          <a:xfrm flipV="1">
            <a:off x="2857680" y="3581280"/>
            <a:ext cx="1447560" cy="144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1"/>
          <p:cNvSpPr/>
          <p:nvPr/>
        </p:nvSpPr>
        <p:spPr>
          <a:xfrm flipH="1" flipV="1">
            <a:off x="1825200" y="2707920"/>
            <a:ext cx="1032120" cy="2320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2"/>
          <p:cNvSpPr/>
          <p:nvPr/>
        </p:nvSpPr>
        <p:spPr>
          <a:xfrm>
            <a:off x="4915080" y="236232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3"/>
          <p:cNvSpPr/>
          <p:nvPr/>
        </p:nvSpPr>
        <p:spPr>
          <a:xfrm>
            <a:off x="4915080" y="45720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4"/>
          <p:cNvSpPr/>
          <p:nvPr/>
        </p:nvSpPr>
        <p:spPr>
          <a:xfrm>
            <a:off x="4899240" y="2255760"/>
            <a:ext cx="113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6117840" y="4008600"/>
            <a:ext cx="456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6"/>
          <p:cNvSpPr/>
          <p:nvPr/>
        </p:nvSpPr>
        <p:spPr>
          <a:xfrm>
            <a:off x="7344720" y="400860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7"/>
          <p:cNvSpPr/>
          <p:nvPr/>
        </p:nvSpPr>
        <p:spPr>
          <a:xfrm flipV="1">
            <a:off x="6286680" y="44956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8"/>
          <p:cNvSpPr/>
          <p:nvPr/>
        </p:nvSpPr>
        <p:spPr>
          <a:xfrm flipH="1" flipV="1">
            <a:off x="4915080" y="3657600"/>
            <a:ext cx="1371600" cy="1371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9"/>
          <p:cNvSpPr/>
          <p:nvPr/>
        </p:nvSpPr>
        <p:spPr>
          <a:xfrm flipV="1">
            <a:off x="6286680" y="2458800"/>
            <a:ext cx="1143000" cy="25700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0"/>
          <p:cNvSpPr/>
          <p:nvPr/>
        </p:nvSpPr>
        <p:spPr>
          <a:xfrm>
            <a:off x="2536560" y="5380200"/>
            <a:ext cx="1020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1"/>
          <p:cNvSpPr/>
          <p:nvPr/>
        </p:nvSpPr>
        <p:spPr>
          <a:xfrm>
            <a:off x="5889600" y="5380200"/>
            <a:ext cx="1155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2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A776-0635-4950-B829-AC232440D69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12193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p: long position in 1 call + 2 puts; same K, same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12193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p: long position in 2 calls + 1 put; same K, same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trangle Combina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1749600" y="1676520"/>
            <a:ext cx="4114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4"/>
          <p:cNvSpPr/>
          <p:nvPr/>
        </p:nvSpPr>
        <p:spPr>
          <a:xfrm>
            <a:off x="2214720" y="22096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5"/>
          <p:cNvSpPr/>
          <p:nvPr/>
        </p:nvSpPr>
        <p:spPr>
          <a:xfrm>
            <a:off x="2214720" y="4038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6"/>
          <p:cNvSpPr/>
          <p:nvPr/>
        </p:nvSpPr>
        <p:spPr>
          <a:xfrm flipV="1">
            <a:off x="40435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7"/>
          <p:cNvSpPr/>
          <p:nvPr/>
        </p:nvSpPr>
        <p:spPr>
          <a:xfrm flipV="1">
            <a:off x="5872320" y="3962160"/>
            <a:ext cx="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3806280" y="347508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5635080" y="3475080"/>
            <a:ext cx="57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2198160" y="2255760"/>
            <a:ext cx="113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6930360" y="408456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2"/>
          <p:cNvSpPr/>
          <p:nvPr/>
        </p:nvSpPr>
        <p:spPr>
          <a:xfrm flipH="1" flipV="1">
            <a:off x="4000680" y="4714920"/>
            <a:ext cx="3085920" cy="9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13"/>
          <p:cNvSpPr/>
          <p:nvPr/>
        </p:nvSpPr>
        <p:spPr>
          <a:xfrm flipH="1" flipV="1">
            <a:off x="2209680" y="28954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4"/>
          <p:cNvSpPr/>
          <p:nvPr/>
        </p:nvSpPr>
        <p:spPr>
          <a:xfrm flipH="1">
            <a:off x="2209680" y="44956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5"/>
          <p:cNvSpPr/>
          <p:nvPr/>
        </p:nvSpPr>
        <p:spPr>
          <a:xfrm flipV="1">
            <a:off x="5867280" y="3200400"/>
            <a:ext cx="1295640" cy="1295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6"/>
          <p:cNvSpPr/>
          <p:nvPr/>
        </p:nvSpPr>
        <p:spPr>
          <a:xfrm flipH="1" flipV="1">
            <a:off x="2209680" y="3352680"/>
            <a:ext cx="1828800" cy="1828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7"/>
          <p:cNvSpPr/>
          <p:nvPr/>
        </p:nvSpPr>
        <p:spPr>
          <a:xfrm flipV="1">
            <a:off x="5867280" y="3505320"/>
            <a:ext cx="1676520" cy="1676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8"/>
          <p:cNvSpPr/>
          <p:nvPr/>
        </p:nvSpPr>
        <p:spPr>
          <a:xfrm flipH="1">
            <a:off x="4038480" y="518148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89A3-9213-4DC2-A39B-329F2AB2A03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523880" y="13716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all + long put with same T, different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219320" y="990720"/>
            <a:ext cx="66294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 to Binomial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19320" y="1905120"/>
            <a:ext cx="396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Simple Binomial Mode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ock price is currently $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ree months it will be either $22 or $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4"/>
          <p:cNvSpPr/>
          <p:nvPr/>
        </p:nvSpPr>
        <p:spPr>
          <a:xfrm flipV="1">
            <a:off x="3338640" y="4035600"/>
            <a:ext cx="2111400" cy="615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"/>
          <p:cNvSpPr/>
          <p:nvPr/>
        </p:nvSpPr>
        <p:spPr>
          <a:xfrm>
            <a:off x="3338640" y="4626000"/>
            <a:ext cx="2111400" cy="617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6"/>
          <p:cNvSpPr/>
          <p:nvPr/>
        </p:nvSpPr>
        <p:spPr>
          <a:xfrm>
            <a:off x="5657760" y="3719520"/>
            <a:ext cx="288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Price = 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5572080" y="5057640"/>
            <a:ext cx="3314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Price = $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571680" y="4519440"/>
            <a:ext cx="284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price = 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AB72-06CF-4546-BF1A-18B2BB94716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Line 2"/>
          <p:cNvSpPr/>
          <p:nvPr/>
        </p:nvSpPr>
        <p:spPr>
          <a:xfrm flipV="1">
            <a:off x="3338640" y="3595320"/>
            <a:ext cx="2111400" cy="816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3"/>
          <p:cNvSpPr/>
          <p:nvPr/>
        </p:nvSpPr>
        <p:spPr>
          <a:xfrm>
            <a:off x="3338640" y="4375080"/>
            <a:ext cx="2111400" cy="816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5657760" y="3193920"/>
            <a:ext cx="288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Price = 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Price = $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5572080" y="4702320"/>
            <a:ext cx="3314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Price = $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Price = $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685800" y="4029120"/>
            <a:ext cx="273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price = 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Price=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 Call Op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868400"/>
            <a:ext cx="8534160" cy="422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3-month call option on the stock has a strike price of $ 2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ECAC-4FBD-4ACB-8004-A95C1B485A4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1401600">
            <a:off x="653760" y="4946400"/>
            <a:ext cx="1143000" cy="1295280"/>
          </a:xfrm>
          <a:prstGeom prst="upArrow">
            <a:avLst>
              <a:gd name="adj1" fmla="val 50000"/>
              <a:gd name="adj2" fmla="val 28331"/>
            </a:avLst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85800" y="1571760"/>
            <a:ext cx="7772400" cy="281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Portfol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a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1 call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folio is riskless when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1 = 18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8"/>
          <p:cNvGrpSpPr/>
          <p:nvPr/>
        </p:nvGrpSpPr>
        <p:grpSpPr>
          <a:xfrm>
            <a:off x="2481120" y="2803680"/>
            <a:ext cx="4219560" cy="1655280"/>
            <a:chOff x="2481120" y="2803680"/>
            <a:chExt cx="4219560" cy="1655280"/>
          </a:xfrm>
        </p:grpSpPr>
        <p:sp>
          <p:nvSpPr>
            <p:cNvPr id="503" name="Line 3"/>
            <p:cNvSpPr/>
            <p:nvPr/>
          </p:nvSpPr>
          <p:spPr>
            <a:xfrm>
              <a:off x="3487680" y="3556080"/>
              <a:ext cx="2005200" cy="63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4"/>
            <p:cNvSpPr/>
            <p:nvPr/>
          </p:nvSpPr>
          <p:spPr>
            <a:xfrm>
              <a:off x="5415120" y="2803680"/>
              <a:ext cx="1285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5"/>
            <p:cNvSpPr/>
            <p:nvPr/>
          </p:nvSpPr>
          <p:spPr>
            <a:xfrm>
              <a:off x="5453280" y="4000680"/>
              <a:ext cx="709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6"/>
            <p:cNvSpPr/>
            <p:nvPr/>
          </p:nvSpPr>
          <p:spPr>
            <a:xfrm>
              <a:off x="2481120" y="3390840"/>
              <a:ext cx="11588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7"/>
            <p:cNvSpPr/>
            <p:nvPr/>
          </p:nvSpPr>
          <p:spPr>
            <a:xfrm flipV="1">
              <a:off x="3487680" y="2916000"/>
              <a:ext cx="2005200" cy="63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685800" y="25668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 Us Set Up a Riskless 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1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9FE9-44B6-40AE-98AE-5C3633E5091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7913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value of the portfolio is the same no matter what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uing the Portfolio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isk-Free Rate is 1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87440" y="1647720"/>
            <a:ext cx="816912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skless portfolio 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0.25 sha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1 call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of the portfolio in 3 months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 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5 – 1 = $ 4.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of the portfolio today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– 0.12 x0.2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$ 4.36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9251-B92F-432D-87C0-04AB50362D1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63244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ly,  18 x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8 x  .25  =  $  4.5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648320" y="4267080"/>
            <a:ext cx="1828800" cy="198144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w We Value the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00080" y="1447920"/>
            <a:ext cx="7143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rtfolio tha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 0.25 sha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 1 o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orth $ 4.367  (TOD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of the shares is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5.000 (.25 x $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of the option is therefor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– c = $4.367 implie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DEB3-BF46-44FB-BC61-24BCD6A6051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066680" y="60958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=  $0.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r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9200" y="1600200"/>
            <a:ext cx="7905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rivative lasts for ti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is dependent on a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9"/>
          <p:cNvGrpSpPr/>
          <p:nvPr/>
        </p:nvGrpSpPr>
        <p:grpSpPr>
          <a:xfrm>
            <a:off x="4129920" y="3627360"/>
            <a:ext cx="2978280" cy="2582640"/>
            <a:chOff x="4129920" y="3627360"/>
            <a:chExt cx="2978280" cy="2582640"/>
          </a:xfrm>
        </p:grpSpPr>
        <p:sp>
          <p:nvSpPr>
            <p:cNvPr id="523" name="Line 4"/>
            <p:cNvSpPr/>
            <p:nvPr/>
          </p:nvSpPr>
          <p:spPr>
            <a:xfrm flipV="1">
              <a:off x="4527720" y="4146120"/>
              <a:ext cx="2004840" cy="73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5"/>
            <p:cNvSpPr/>
            <p:nvPr/>
          </p:nvSpPr>
          <p:spPr>
            <a:xfrm>
              <a:off x="4527720" y="4876920"/>
              <a:ext cx="2004840" cy="73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6"/>
            <p:cNvSpPr/>
            <p:nvPr/>
          </p:nvSpPr>
          <p:spPr>
            <a:xfrm>
              <a:off x="6499440" y="3627360"/>
              <a:ext cx="608760" cy="11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7"/>
            <p:cNvSpPr/>
            <p:nvPr/>
          </p:nvSpPr>
          <p:spPr>
            <a:xfrm>
              <a:off x="6499440" y="5075280"/>
              <a:ext cx="608760" cy="11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"/>
            <p:cNvSpPr/>
            <p:nvPr/>
          </p:nvSpPr>
          <p:spPr>
            <a:xfrm>
              <a:off x="4129920" y="4389480"/>
              <a:ext cx="3891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Slide Number Placeholder 1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84D6-43FA-4F24-9E4F-DCF1012470F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14400" y="3505320"/>
            <a:ext cx="205740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price of stock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, value of option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438280" y="39625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05120" y="5105520"/>
            <a:ext cx="220968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30240" bIns="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9480" y="624852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  &gt; 1  and   d &lt;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707880" y="251460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off from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7086240" y="3124080"/>
            <a:ext cx="6858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7009920" y="3200400"/>
            <a:ext cx="76212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portfolio that is lo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ares and short 1 deriv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rtfolio is riskless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0"/>
              <p:cNvSpPr txBox="1"/>
              <p:nvPr/>
            </p:nvSpPr>
            <p:spPr>
              <a:xfrm>
                <a:off x="3541680" y="5105520"/>
                <a:ext cx="22892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ƒ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S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9" name="Line 5"/>
          <p:cNvSpPr/>
          <p:nvPr/>
        </p:nvSpPr>
        <p:spPr>
          <a:xfrm>
            <a:off x="2971800" y="3371760"/>
            <a:ext cx="1857240" cy="371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5000760" y="2657520"/>
            <a:ext cx="1674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4943520" y="3600360"/>
            <a:ext cx="18478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8"/>
          <p:cNvSpPr/>
          <p:nvPr/>
        </p:nvSpPr>
        <p:spPr>
          <a:xfrm>
            <a:off x="2292480" y="337176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9"/>
          <p:cNvSpPr/>
          <p:nvPr/>
        </p:nvSpPr>
        <p:spPr>
          <a:xfrm flipV="1">
            <a:off x="2841480" y="2914560"/>
            <a:ext cx="213048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1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5389-CDA4-4BC4-89E7-88C9036420C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(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K, 0)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 (K-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0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(K-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0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 (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K, 0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93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94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97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109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4309-1C8E-4220-8E7A-24CBC62BC8A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11430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990720"/>
            <a:ext cx="121932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209680" y="1371600"/>
            <a:ext cx="990720" cy="2666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410080" y="1523880"/>
            <a:ext cx="990720" cy="2667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401480" y="1790640"/>
            <a:ext cx="634212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of the portfolio at ti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of the portfolio today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ƒ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expression for the portfolio value today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ƒ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r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4DD0-94BA-44D0-B619-67408521264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467480" y="3809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6705720" y="4191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 flipV="1">
            <a:off x="5334120" y="3809520"/>
            <a:ext cx="2286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14480" y="2028960"/>
            <a:ext cx="10469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ing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 ob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ƒ = [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ƒ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(1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ƒ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]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5"/>
              <p:cNvSpPr txBox="1"/>
              <p:nvPr/>
            </p:nvSpPr>
            <p:spPr>
              <a:xfrm>
                <a:off x="2362320" y="4419720"/>
                <a:ext cx="29718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EEE3-6C26-42C9-B2A3-D9A32AC8454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isk-Neutral 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538280"/>
            <a:ext cx="7772400" cy="36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ƒ = [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1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riabl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d (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 can be interpreted as the risk-neutral probabilities of up and down m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of a derivative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s expected payoff in a risk-neutral world discounted at the risk-fre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9"/>
          <p:cNvGrpSpPr/>
          <p:nvPr/>
        </p:nvGrpSpPr>
        <p:grpSpPr>
          <a:xfrm>
            <a:off x="3401280" y="3716280"/>
            <a:ext cx="2989080" cy="2582640"/>
            <a:chOff x="3401280" y="3716280"/>
            <a:chExt cx="2989080" cy="2582640"/>
          </a:xfrm>
        </p:grpSpPr>
        <p:sp>
          <p:nvSpPr>
            <p:cNvPr id="558" name="Line 4"/>
            <p:cNvSpPr/>
            <p:nvPr/>
          </p:nvSpPr>
          <p:spPr>
            <a:xfrm flipV="1">
              <a:off x="3798720" y="4235040"/>
              <a:ext cx="2005200" cy="73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5"/>
            <p:cNvSpPr/>
            <p:nvPr/>
          </p:nvSpPr>
          <p:spPr>
            <a:xfrm>
              <a:off x="3798720" y="4965840"/>
              <a:ext cx="2005200" cy="73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6"/>
            <p:cNvSpPr/>
            <p:nvPr/>
          </p:nvSpPr>
          <p:spPr>
            <a:xfrm>
              <a:off x="5771160" y="3716280"/>
              <a:ext cx="619200" cy="11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7"/>
            <p:cNvSpPr/>
            <p:nvPr/>
          </p:nvSpPr>
          <p:spPr>
            <a:xfrm>
              <a:off x="5771160" y="5164200"/>
              <a:ext cx="619200" cy="11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8"/>
            <p:cNvSpPr/>
            <p:nvPr/>
          </p:nvSpPr>
          <p:spPr>
            <a:xfrm>
              <a:off x="3401280" y="4478400"/>
              <a:ext cx="3891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Rectangle 10"/>
          <p:cNvSpPr/>
          <p:nvPr/>
        </p:nvSpPr>
        <p:spPr>
          <a:xfrm rot="20400000">
            <a:off x="4518360" y="406224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1"/>
          <p:cNvSpPr/>
          <p:nvPr/>
        </p:nvSpPr>
        <p:spPr>
          <a:xfrm rot="1140000">
            <a:off x="3808080" y="5395320"/>
            <a:ext cx="142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1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8F7B-1756-49D6-B3F2-93D015F5F47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rrelevance of Stock’s Expected Re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87440" y="1600200"/>
            <a:ext cx="81691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are valuing an option in terms of the underlying stock the expected return on the stock is ir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4603-B85A-43F4-8294-E797D236038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ginal Example Revis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295280" y="1447560"/>
            <a:ext cx="6539040" cy="38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isk-neutral prob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.12 x0.2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8(1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65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ly, we can use the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Object 0"/>
              <p:cNvSpPr txBox="1"/>
              <p:nvPr/>
            </p:nvSpPr>
            <p:spPr>
              <a:xfrm>
                <a:off x="2133720" y="4800600"/>
                <a:ext cx="46479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2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2" name="Line 5"/>
          <p:cNvSpPr/>
          <p:nvPr/>
        </p:nvSpPr>
        <p:spPr>
          <a:xfrm flipV="1">
            <a:off x="3959280" y="1654200"/>
            <a:ext cx="2004840" cy="730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6"/>
          <p:cNvSpPr/>
          <p:nvPr/>
        </p:nvSpPr>
        <p:spPr>
          <a:xfrm>
            <a:off x="3959280" y="2384280"/>
            <a:ext cx="2004840" cy="730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7"/>
          <p:cNvSpPr/>
          <p:nvPr/>
        </p:nvSpPr>
        <p:spPr>
          <a:xfrm>
            <a:off x="5923440" y="1225440"/>
            <a:ext cx="117720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8"/>
          <p:cNvSpPr/>
          <p:nvPr/>
        </p:nvSpPr>
        <p:spPr>
          <a:xfrm>
            <a:off x="6029280" y="2571840"/>
            <a:ext cx="168588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9"/>
          <p:cNvSpPr/>
          <p:nvPr/>
        </p:nvSpPr>
        <p:spPr>
          <a:xfrm>
            <a:off x="3561480" y="1987560"/>
            <a:ext cx="422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"/>
          <p:cNvSpPr/>
          <p:nvPr/>
        </p:nvSpPr>
        <p:spPr>
          <a:xfrm rot="20400000">
            <a:off x="4706640" y="15714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"/>
          <p:cNvSpPr/>
          <p:nvPr/>
        </p:nvSpPr>
        <p:spPr>
          <a:xfrm rot="1140000">
            <a:off x="4188240" y="2793600"/>
            <a:ext cx="112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1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BCD4-9F4C-4C51-A7D7-ECB0620102A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ing the Option Using Risk-Neutral 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the option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–0.12x0.25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  0.6523x1 + 0.3477x0 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6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11"/>
          <p:cNvGrpSpPr/>
          <p:nvPr/>
        </p:nvGrpSpPr>
        <p:grpSpPr>
          <a:xfrm>
            <a:off x="3504960" y="1920960"/>
            <a:ext cx="3538440" cy="2322000"/>
            <a:chOff x="3504960" y="1920960"/>
            <a:chExt cx="3538440" cy="2322000"/>
          </a:xfrm>
        </p:grpSpPr>
        <p:sp>
          <p:nvSpPr>
            <p:cNvPr id="583" name="Line 4"/>
            <p:cNvSpPr/>
            <p:nvPr/>
          </p:nvSpPr>
          <p:spPr>
            <a:xfrm flipV="1">
              <a:off x="3902040" y="2349000"/>
              <a:ext cx="2005200" cy="73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5"/>
            <p:cNvSpPr/>
            <p:nvPr/>
          </p:nvSpPr>
          <p:spPr>
            <a:xfrm>
              <a:off x="3902040" y="3079800"/>
              <a:ext cx="2005200" cy="73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6"/>
            <p:cNvSpPr/>
            <p:nvPr/>
          </p:nvSpPr>
          <p:spPr>
            <a:xfrm>
              <a:off x="5866200" y="1920960"/>
              <a:ext cx="1177200" cy="8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u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7"/>
            <p:cNvSpPr/>
            <p:nvPr/>
          </p:nvSpPr>
          <p:spPr>
            <a:xfrm>
              <a:off x="5866200" y="3368520"/>
              <a:ext cx="1177200" cy="8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8"/>
            <p:cNvSpPr/>
            <p:nvPr/>
          </p:nvSpPr>
          <p:spPr>
            <a:xfrm>
              <a:off x="3504960" y="2682720"/>
              <a:ext cx="337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9"/>
            <p:cNvSpPr/>
            <p:nvPr/>
          </p:nvSpPr>
          <p:spPr>
            <a:xfrm rot="20400000">
              <a:off x="3870360" y="2303280"/>
              <a:ext cx="11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65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10"/>
            <p:cNvSpPr/>
            <p:nvPr/>
          </p:nvSpPr>
          <p:spPr>
            <a:xfrm rot="1140000">
              <a:off x="3873240" y="3522600"/>
              <a:ext cx="11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347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Slide Number Placeholder 1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7D5D-C856-46F5-9704-89BD5E89D4C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962520" y="54864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value as before,  no arbitrage AND risk-neutral approach give same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 flipV="1">
            <a:off x="3047760" y="5638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-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wo-Step Examp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809720" y="1099800"/>
            <a:ext cx="5494320" cy="49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ime step is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1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20"/>
          <p:cNvGrpSpPr/>
          <p:nvPr/>
        </p:nvGrpSpPr>
        <p:grpSpPr>
          <a:xfrm>
            <a:off x="2262240" y="1149480"/>
            <a:ext cx="5324040" cy="3408840"/>
            <a:chOff x="2262240" y="1149480"/>
            <a:chExt cx="5324040" cy="3408840"/>
          </a:xfrm>
        </p:grpSpPr>
        <p:sp>
          <p:nvSpPr>
            <p:cNvPr id="596" name="Rectangle 4"/>
            <p:cNvSpPr/>
            <p:nvPr/>
          </p:nvSpPr>
          <p:spPr>
            <a:xfrm>
              <a:off x="2262240" y="257976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4"/>
            <p:cNvGrpSpPr/>
            <p:nvPr/>
          </p:nvGrpSpPr>
          <p:grpSpPr>
            <a:xfrm>
              <a:off x="2754360" y="1398600"/>
              <a:ext cx="3979800" cy="2889360"/>
              <a:chOff x="2754360" y="1398600"/>
              <a:chExt cx="3979800" cy="2889360"/>
            </a:xfrm>
          </p:grpSpPr>
          <p:grpSp>
            <p:nvGrpSpPr>
              <p:cNvPr id="598" name="Group 7"/>
              <p:cNvGrpSpPr/>
              <p:nvPr/>
            </p:nvGrpSpPr>
            <p:grpSpPr>
              <a:xfrm>
                <a:off x="2754360" y="2112480"/>
                <a:ext cx="2004840" cy="1460880"/>
                <a:chOff x="2754360" y="2112480"/>
                <a:chExt cx="2004840" cy="1460880"/>
              </a:xfrm>
            </p:grpSpPr>
            <p:sp>
              <p:nvSpPr>
                <p:cNvPr id="599" name="Line 5"/>
                <p:cNvSpPr/>
                <p:nvPr/>
              </p:nvSpPr>
              <p:spPr>
                <a:xfrm flipV="1">
                  <a:off x="2754360" y="2112480"/>
                  <a:ext cx="2004840" cy="730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Line 6"/>
                <p:cNvSpPr/>
                <p:nvPr/>
              </p:nvSpPr>
              <p:spPr>
                <a:xfrm>
                  <a:off x="2754360" y="2843280"/>
                  <a:ext cx="2004840" cy="730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1" name="Group 10"/>
              <p:cNvGrpSpPr/>
              <p:nvPr/>
            </p:nvGrpSpPr>
            <p:grpSpPr>
              <a:xfrm>
                <a:off x="4729320" y="1398600"/>
                <a:ext cx="2004840" cy="1460520"/>
                <a:chOff x="4729320" y="1398600"/>
                <a:chExt cx="2004840" cy="1460520"/>
              </a:xfrm>
            </p:grpSpPr>
            <p:sp>
              <p:nvSpPr>
                <p:cNvPr id="602" name="Line 8"/>
                <p:cNvSpPr/>
                <p:nvPr/>
              </p:nvSpPr>
              <p:spPr>
                <a:xfrm flipV="1">
                  <a:off x="4729320" y="1398600"/>
                  <a:ext cx="2004840" cy="730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Line 9"/>
                <p:cNvSpPr/>
                <p:nvPr/>
              </p:nvSpPr>
              <p:spPr>
                <a:xfrm>
                  <a:off x="4729320" y="2128680"/>
                  <a:ext cx="2004840" cy="730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Group 13"/>
              <p:cNvGrpSpPr/>
              <p:nvPr/>
            </p:nvGrpSpPr>
            <p:grpSpPr>
              <a:xfrm>
                <a:off x="4719600" y="2827440"/>
                <a:ext cx="2005200" cy="1460520"/>
                <a:chOff x="4719600" y="2827440"/>
                <a:chExt cx="2005200" cy="1460520"/>
              </a:xfrm>
            </p:grpSpPr>
            <p:sp>
              <p:nvSpPr>
                <p:cNvPr id="605" name="Line 11"/>
                <p:cNvSpPr/>
                <p:nvPr/>
              </p:nvSpPr>
              <p:spPr>
                <a:xfrm flipV="1">
                  <a:off x="4719600" y="2827440"/>
                  <a:ext cx="2005200" cy="730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Line 12"/>
                <p:cNvSpPr/>
                <p:nvPr/>
              </p:nvSpPr>
              <p:spPr>
                <a:xfrm>
                  <a:off x="4719600" y="3557520"/>
                  <a:ext cx="2005200" cy="730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7" name="Rectangle 15"/>
            <p:cNvSpPr/>
            <p:nvPr/>
          </p:nvSpPr>
          <p:spPr>
            <a:xfrm>
              <a:off x="4311720" y="164952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6"/>
            <p:cNvSpPr/>
            <p:nvPr/>
          </p:nvSpPr>
          <p:spPr>
            <a:xfrm>
              <a:off x="4326120" y="353520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17"/>
            <p:cNvSpPr/>
            <p:nvPr/>
          </p:nvSpPr>
          <p:spPr>
            <a:xfrm>
              <a:off x="6611760" y="1149480"/>
              <a:ext cx="974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4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18"/>
            <p:cNvSpPr/>
            <p:nvPr/>
          </p:nvSpPr>
          <p:spPr>
            <a:xfrm>
              <a:off x="6611760" y="2563920"/>
              <a:ext cx="974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.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19"/>
            <p:cNvSpPr/>
            <p:nvPr/>
          </p:nvSpPr>
          <p:spPr>
            <a:xfrm>
              <a:off x="6611760" y="3978360"/>
              <a:ext cx="974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6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Slide Number Placeholder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2F15-5D7F-4CA1-B73D-9F21B08C501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ing a Call Op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931680"/>
            <a:ext cx="7548480" cy="50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at node 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0.12x0.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.6523x3.2 + 0.3477x0) = 2.02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at node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0.12x0.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.6523x2.0257 + 0.3477x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1.28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2132640" y="2290680"/>
            <a:ext cx="11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8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14"/>
          <p:cNvGrpSpPr/>
          <p:nvPr/>
        </p:nvGrpSpPr>
        <p:grpSpPr>
          <a:xfrm>
            <a:off x="3044880" y="1590480"/>
            <a:ext cx="3979440" cy="2213280"/>
            <a:chOff x="3044880" y="1590480"/>
            <a:chExt cx="3979440" cy="2213280"/>
          </a:xfrm>
        </p:grpSpPr>
        <p:grpSp>
          <p:nvGrpSpPr>
            <p:cNvPr id="617" name="Group 7"/>
            <p:cNvGrpSpPr/>
            <p:nvPr/>
          </p:nvGrpSpPr>
          <p:grpSpPr>
            <a:xfrm>
              <a:off x="3044880" y="2138040"/>
              <a:ext cx="2004840" cy="1119600"/>
              <a:chOff x="3044880" y="2138040"/>
              <a:chExt cx="2004840" cy="1119600"/>
            </a:xfrm>
          </p:grpSpPr>
          <p:sp>
            <p:nvSpPr>
              <p:cNvPr id="618" name="Line 5"/>
              <p:cNvSpPr/>
              <p:nvPr/>
            </p:nvSpPr>
            <p:spPr>
              <a:xfrm flipV="1">
                <a:off x="3044880" y="2138040"/>
                <a:ext cx="2004840" cy="559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Line 6"/>
              <p:cNvSpPr/>
              <p:nvPr/>
            </p:nvSpPr>
            <p:spPr>
              <a:xfrm>
                <a:off x="3044880" y="2697480"/>
                <a:ext cx="2004840" cy="56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Group 10"/>
            <p:cNvGrpSpPr/>
            <p:nvPr/>
          </p:nvGrpSpPr>
          <p:grpSpPr>
            <a:xfrm>
              <a:off x="5019480" y="1590480"/>
              <a:ext cx="2004840" cy="1119600"/>
              <a:chOff x="5019480" y="1590480"/>
              <a:chExt cx="2004840" cy="1119600"/>
            </a:xfrm>
          </p:grpSpPr>
          <p:sp>
            <p:nvSpPr>
              <p:cNvPr id="621" name="Line 8"/>
              <p:cNvSpPr/>
              <p:nvPr/>
            </p:nvSpPr>
            <p:spPr>
              <a:xfrm flipV="1">
                <a:off x="5019480" y="1590480"/>
                <a:ext cx="2004840" cy="560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9"/>
              <p:cNvSpPr/>
              <p:nvPr/>
            </p:nvSpPr>
            <p:spPr>
              <a:xfrm>
                <a:off x="5019480" y="2151360"/>
                <a:ext cx="2004840" cy="55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3"/>
            <p:cNvGrpSpPr/>
            <p:nvPr/>
          </p:nvGrpSpPr>
          <p:grpSpPr>
            <a:xfrm>
              <a:off x="5010120" y="2684160"/>
              <a:ext cx="2004480" cy="1119600"/>
              <a:chOff x="5010120" y="2684160"/>
              <a:chExt cx="2004480" cy="1119600"/>
            </a:xfrm>
          </p:grpSpPr>
          <p:sp>
            <p:nvSpPr>
              <p:cNvPr id="624" name="Line 11"/>
              <p:cNvSpPr/>
              <p:nvPr/>
            </p:nvSpPr>
            <p:spPr>
              <a:xfrm flipV="1">
                <a:off x="5010120" y="2684160"/>
                <a:ext cx="2004480" cy="560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12"/>
              <p:cNvSpPr/>
              <p:nvPr/>
            </p:nvSpPr>
            <p:spPr>
              <a:xfrm>
                <a:off x="5010120" y="3245040"/>
                <a:ext cx="2004480" cy="55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6" name="Rectangle 15"/>
          <p:cNvSpPr/>
          <p:nvPr/>
        </p:nvSpPr>
        <p:spPr>
          <a:xfrm>
            <a:off x="4729320" y="171468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6"/>
          <p:cNvSpPr/>
          <p:nvPr/>
        </p:nvSpPr>
        <p:spPr>
          <a:xfrm>
            <a:off x="4829400" y="28224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7"/>
          <p:cNvSpPr/>
          <p:nvPr/>
        </p:nvSpPr>
        <p:spPr>
          <a:xfrm>
            <a:off x="6846840" y="1143000"/>
            <a:ext cx="77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8"/>
          <p:cNvSpPr/>
          <p:nvPr/>
        </p:nvSpPr>
        <p:spPr>
          <a:xfrm>
            <a:off x="6846840" y="2246400"/>
            <a:ext cx="77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9"/>
          <p:cNvSpPr/>
          <p:nvPr/>
        </p:nvSpPr>
        <p:spPr>
          <a:xfrm>
            <a:off x="6846840" y="3384720"/>
            <a:ext cx="77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20"/>
          <p:cNvSpPr/>
          <p:nvPr/>
        </p:nvSpPr>
        <p:spPr>
          <a:xfrm>
            <a:off x="4474080" y="2309760"/>
            <a:ext cx="1116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2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21"/>
          <p:cNvSpPr/>
          <p:nvPr/>
        </p:nvSpPr>
        <p:spPr>
          <a:xfrm>
            <a:off x="4790880" y="3332160"/>
            <a:ext cx="608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2"/>
          <p:cNvSpPr/>
          <p:nvPr/>
        </p:nvSpPr>
        <p:spPr>
          <a:xfrm>
            <a:off x="3375000" y="2506680"/>
            <a:ext cx="35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23"/>
          <p:cNvSpPr/>
          <p:nvPr/>
        </p:nvSpPr>
        <p:spPr>
          <a:xfrm>
            <a:off x="5410080" y="19843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24"/>
          <p:cNvSpPr/>
          <p:nvPr/>
        </p:nvSpPr>
        <p:spPr>
          <a:xfrm>
            <a:off x="5410080" y="307188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25"/>
          <p:cNvSpPr/>
          <p:nvPr/>
        </p:nvSpPr>
        <p:spPr>
          <a:xfrm>
            <a:off x="6249600" y="139068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6"/>
          <p:cNvSpPr/>
          <p:nvPr/>
        </p:nvSpPr>
        <p:spPr>
          <a:xfrm>
            <a:off x="6172200" y="2514600"/>
            <a:ext cx="38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27"/>
          <p:cNvSpPr/>
          <p:nvPr/>
        </p:nvSpPr>
        <p:spPr>
          <a:xfrm>
            <a:off x="6314760" y="3714840"/>
            <a:ext cx="340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2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20C8-9D01-42BF-A2D9-9DE0391A3D6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ut Option Example;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5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32040" y="1599840"/>
            <a:ext cx="3240000" cy="101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52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y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5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28"/>
          <p:cNvGrpSpPr/>
          <p:nvPr/>
        </p:nvGrpSpPr>
        <p:grpSpPr>
          <a:xfrm>
            <a:off x="2486160" y="2263680"/>
            <a:ext cx="5277960" cy="3065760"/>
            <a:chOff x="2486160" y="2263680"/>
            <a:chExt cx="5277960" cy="3065760"/>
          </a:xfrm>
        </p:grpSpPr>
        <p:sp>
          <p:nvSpPr>
            <p:cNvPr id="643" name="Rectangle 4"/>
            <p:cNvSpPr/>
            <p:nvPr/>
          </p:nvSpPr>
          <p:spPr>
            <a:xfrm>
              <a:off x="2486160" y="3411360"/>
              <a:ext cx="1116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19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Group 14"/>
            <p:cNvGrpSpPr/>
            <p:nvPr/>
          </p:nvGrpSpPr>
          <p:grpSpPr>
            <a:xfrm>
              <a:off x="3397320" y="2711520"/>
              <a:ext cx="3979800" cy="2212920"/>
              <a:chOff x="3397320" y="2711520"/>
              <a:chExt cx="3979800" cy="2212920"/>
            </a:xfrm>
          </p:grpSpPr>
          <p:grpSp>
            <p:nvGrpSpPr>
              <p:cNvPr id="645" name="Group 7"/>
              <p:cNvGrpSpPr/>
              <p:nvPr/>
            </p:nvGrpSpPr>
            <p:grpSpPr>
              <a:xfrm>
                <a:off x="3397320" y="3259080"/>
                <a:ext cx="2004840" cy="1119240"/>
                <a:chOff x="3397320" y="3259080"/>
                <a:chExt cx="2004840" cy="1119240"/>
              </a:xfrm>
            </p:grpSpPr>
            <p:sp>
              <p:nvSpPr>
                <p:cNvPr id="646" name="Line 5"/>
                <p:cNvSpPr/>
                <p:nvPr/>
              </p:nvSpPr>
              <p:spPr>
                <a:xfrm flipV="1">
                  <a:off x="3397320" y="3259080"/>
                  <a:ext cx="2004840" cy="558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Line 6"/>
                <p:cNvSpPr/>
                <p:nvPr/>
              </p:nvSpPr>
              <p:spPr>
                <a:xfrm>
                  <a:off x="3397320" y="3817800"/>
                  <a:ext cx="2004840" cy="560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8" name="Group 10"/>
              <p:cNvGrpSpPr/>
              <p:nvPr/>
            </p:nvGrpSpPr>
            <p:grpSpPr>
              <a:xfrm>
                <a:off x="5372280" y="2711520"/>
                <a:ext cx="2004840" cy="1119240"/>
                <a:chOff x="5372280" y="2711520"/>
                <a:chExt cx="2004840" cy="1119240"/>
              </a:xfrm>
            </p:grpSpPr>
            <p:sp>
              <p:nvSpPr>
                <p:cNvPr id="649" name="Line 8"/>
                <p:cNvSpPr/>
                <p:nvPr/>
              </p:nvSpPr>
              <p:spPr>
                <a:xfrm flipV="1">
                  <a:off x="5372280" y="2711520"/>
                  <a:ext cx="2004840" cy="560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Line 9"/>
                <p:cNvSpPr/>
                <p:nvPr/>
              </p:nvSpPr>
              <p:spPr>
                <a:xfrm>
                  <a:off x="5372280" y="3271680"/>
                  <a:ext cx="2004840" cy="559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" name="Group 13"/>
              <p:cNvGrpSpPr/>
              <p:nvPr/>
            </p:nvGrpSpPr>
            <p:grpSpPr>
              <a:xfrm>
                <a:off x="5362560" y="3804840"/>
                <a:ext cx="2005200" cy="1119600"/>
                <a:chOff x="5362560" y="3804840"/>
                <a:chExt cx="2005200" cy="1119600"/>
              </a:xfrm>
            </p:grpSpPr>
            <p:sp>
              <p:nvSpPr>
                <p:cNvPr id="652" name="Line 11"/>
                <p:cNvSpPr/>
                <p:nvPr/>
              </p:nvSpPr>
              <p:spPr>
                <a:xfrm flipV="1">
                  <a:off x="5362560" y="3804840"/>
                  <a:ext cx="2005200" cy="560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Line 12"/>
                <p:cNvSpPr/>
                <p:nvPr/>
              </p:nvSpPr>
              <p:spPr>
                <a:xfrm>
                  <a:off x="5362560" y="4365720"/>
                  <a:ext cx="2005200" cy="558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4" name="Rectangle 15"/>
            <p:cNvSpPr/>
            <p:nvPr/>
          </p:nvSpPr>
          <p:spPr>
            <a:xfrm>
              <a:off x="5081760" y="2835360"/>
              <a:ext cx="523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6"/>
            <p:cNvSpPr/>
            <p:nvPr/>
          </p:nvSpPr>
          <p:spPr>
            <a:xfrm>
              <a:off x="5181840" y="3943440"/>
              <a:ext cx="523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7"/>
            <p:cNvSpPr/>
            <p:nvPr/>
          </p:nvSpPr>
          <p:spPr>
            <a:xfrm>
              <a:off x="7240680" y="2263680"/>
              <a:ext cx="52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8"/>
            <p:cNvSpPr/>
            <p:nvPr/>
          </p:nvSpPr>
          <p:spPr>
            <a:xfrm>
              <a:off x="7240680" y="3367080"/>
              <a:ext cx="52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9"/>
            <p:cNvSpPr/>
            <p:nvPr/>
          </p:nvSpPr>
          <p:spPr>
            <a:xfrm>
              <a:off x="7240680" y="4505400"/>
              <a:ext cx="52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20"/>
            <p:cNvSpPr/>
            <p:nvPr/>
          </p:nvSpPr>
          <p:spPr>
            <a:xfrm>
              <a:off x="4826160" y="3430440"/>
              <a:ext cx="11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414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21"/>
            <p:cNvSpPr/>
            <p:nvPr/>
          </p:nvSpPr>
          <p:spPr>
            <a:xfrm>
              <a:off x="4869000" y="4495680"/>
              <a:ext cx="11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.46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22"/>
            <p:cNvSpPr/>
            <p:nvPr/>
          </p:nvSpPr>
          <p:spPr>
            <a:xfrm>
              <a:off x="3727440" y="3627360"/>
              <a:ext cx="35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23"/>
            <p:cNvSpPr/>
            <p:nvPr/>
          </p:nvSpPr>
          <p:spPr>
            <a:xfrm>
              <a:off x="5694480" y="3105000"/>
              <a:ext cx="35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24"/>
            <p:cNvSpPr/>
            <p:nvPr/>
          </p:nvSpPr>
          <p:spPr>
            <a:xfrm>
              <a:off x="5654160" y="419256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25"/>
            <p:cNvSpPr/>
            <p:nvPr/>
          </p:nvSpPr>
          <p:spPr>
            <a:xfrm>
              <a:off x="6602040" y="251136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26"/>
            <p:cNvSpPr/>
            <p:nvPr/>
          </p:nvSpPr>
          <p:spPr>
            <a:xfrm>
              <a:off x="6411960" y="3660840"/>
              <a:ext cx="35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27"/>
            <p:cNvSpPr/>
            <p:nvPr/>
          </p:nvSpPr>
          <p:spPr>
            <a:xfrm>
              <a:off x="6667200" y="4835520"/>
              <a:ext cx="340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Slide Number Placeholder 3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48A5-1928-43A7-BD75-4097310D41B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092240" y="1600200"/>
            <a:ext cx="69595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ta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the ratio of the change in the price of a stock option to the change in the price of the underlying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ries from node to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F469-BE26-4355-9253-5378B1014AA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1143000"/>
            <a:ext cx="6781680" cy="42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ng strategies using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ssume that the underlying asset is a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ptions are of the European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investigate different payoff functions (payoff =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(stock price) = F (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implicity we will assume that Profit = Payoff – co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way of matching the volatility is to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volatility and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length of the time step. This is the approach used by Cox, Ross, and Rubins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Object 1024"/>
              <p:cNvSpPr txBox="1"/>
              <p:nvPr/>
            </p:nvSpPr>
            <p:spPr>
              <a:xfrm>
                <a:off x="2752560" y="2638440"/>
                <a:ext cx="31068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sup>
                        </m:sSup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B2F7-904C-4B1A-9122-59F5FFAE07B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Footer Placeholder 4"/>
          <p:cNvSpPr/>
          <p:nvPr/>
        </p:nvSpPr>
        <p:spPr>
          <a:xfrm>
            <a:off x="25092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undamentals of Futures and Options Markets, 7th Ed, Ch 12, Copyright © John C. Hull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ability of an Up M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Object 4"/>
              <p:cNvSpPr txBox="1"/>
              <p:nvPr/>
            </p:nvSpPr>
            <p:spPr>
              <a:xfrm>
                <a:off x="1635120" y="2160720"/>
                <a:ext cx="5832360" cy="34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Δ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nondividend paying stock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for a stock index where 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is the divide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yield on the index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currency where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the foreig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risk-free rat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futures contrac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0ED4-1955-43AF-A733-FC1082FFF30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457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es using a single option + a stock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1716120" y="1785960"/>
            <a:ext cx="1440" cy="207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1716120" y="2887560"/>
            <a:ext cx="237492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752480" y="1935000"/>
            <a:ext cx="1067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784680" y="2894040"/>
            <a:ext cx="511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2631960" y="2924280"/>
            <a:ext cx="317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9"/>
          <p:cNvSpPr/>
          <p:nvPr/>
        </p:nvSpPr>
        <p:spPr>
          <a:xfrm flipV="1">
            <a:off x="1716120" y="2541600"/>
            <a:ext cx="1114560" cy="1055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2843280" y="2565360"/>
            <a:ext cx="826920" cy="180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 flipV="1">
            <a:off x="2825640" y="2840040"/>
            <a:ext cx="1800" cy="4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1720800" y="2779560"/>
            <a:ext cx="110484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2825640" y="2760840"/>
            <a:ext cx="851040" cy="804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 flipH="1">
            <a:off x="1720440" y="1854360"/>
            <a:ext cx="1941480" cy="1836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0" y="66294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4648320" y="655308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5715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 as a function of stock price for (i) each security; and (ii) the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257800" y="60958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7772400" y="60958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1828800"/>
            <a:ext cx="3200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vered c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position in a stock + a short position in a call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4343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3657240" y="2133720"/>
            <a:ext cx="19810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48769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057400" y="3428640"/>
            <a:ext cx="1371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457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es using a single option + a stock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66294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3"/>
          <p:cNvSpPr/>
          <p:nvPr/>
        </p:nvSpPr>
        <p:spPr>
          <a:xfrm>
            <a:off x="4648320" y="655308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5715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 as a function of stock price for (i) each security; and (ii) the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257800" y="60958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772400" y="60958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8"/>
          <p:cNvSpPr/>
          <p:nvPr/>
        </p:nvSpPr>
        <p:spPr>
          <a:xfrm flipH="1">
            <a:off x="3236760" y="2817720"/>
            <a:ext cx="1843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9"/>
          <p:cNvSpPr/>
          <p:nvPr/>
        </p:nvSpPr>
        <p:spPr>
          <a:xfrm flipH="1">
            <a:off x="5978520" y="3622680"/>
            <a:ext cx="184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5"/>
          <p:cNvSpPr/>
          <p:nvPr/>
        </p:nvSpPr>
        <p:spPr>
          <a:xfrm>
            <a:off x="1278000" y="1709640"/>
            <a:ext cx="0" cy="207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1278000" y="2811600"/>
            <a:ext cx="237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1371600" y="1752480"/>
            <a:ext cx="1066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3363840" y="2817720"/>
            <a:ext cx="511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2187720" y="2368440"/>
            <a:ext cx="38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405160" y="3137040"/>
            <a:ext cx="768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 flipH="1" flipV="1">
            <a:off x="1287360" y="2073240"/>
            <a:ext cx="1121040" cy="1060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2"/>
          <p:cNvSpPr/>
          <p:nvPr/>
        </p:nvSpPr>
        <p:spPr>
          <a:xfrm>
            <a:off x="1287360" y="2919240"/>
            <a:ext cx="111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3"/>
          <p:cNvSpPr/>
          <p:nvPr/>
        </p:nvSpPr>
        <p:spPr>
          <a:xfrm flipV="1">
            <a:off x="2400480" y="2214360"/>
            <a:ext cx="744480" cy="704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4"/>
          <p:cNvSpPr/>
          <p:nvPr/>
        </p:nvSpPr>
        <p:spPr>
          <a:xfrm>
            <a:off x="1287360" y="1944720"/>
            <a:ext cx="193068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5"/>
          <p:cNvSpPr/>
          <p:nvPr/>
        </p:nvSpPr>
        <p:spPr>
          <a:xfrm flipV="1">
            <a:off x="2400480" y="2768400"/>
            <a:ext cx="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all + short the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457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es using a single option + a stock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66294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4648320" y="655308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5715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 as a function of stock price for (i) each security; and (ii) the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257800" y="60958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772400" y="60958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9"/>
          <p:cNvSpPr/>
          <p:nvPr/>
        </p:nvSpPr>
        <p:spPr>
          <a:xfrm flipH="1">
            <a:off x="5978520" y="3622680"/>
            <a:ext cx="184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6"/>
          <p:cNvSpPr/>
          <p:nvPr/>
        </p:nvSpPr>
        <p:spPr>
          <a:xfrm>
            <a:off x="1030320" y="1830240"/>
            <a:ext cx="0" cy="2060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7"/>
          <p:cNvSpPr/>
          <p:nvPr/>
        </p:nvSpPr>
        <p:spPr>
          <a:xfrm>
            <a:off x="1049400" y="2916360"/>
            <a:ext cx="235584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8"/>
          <p:cNvSpPr/>
          <p:nvPr/>
        </p:nvSpPr>
        <p:spPr>
          <a:xfrm>
            <a:off x="1073160" y="1752480"/>
            <a:ext cx="83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9"/>
          <p:cNvSpPr/>
          <p:nvPr/>
        </p:nvSpPr>
        <p:spPr>
          <a:xfrm>
            <a:off x="3103560" y="2922480"/>
            <a:ext cx="5065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0"/>
          <p:cNvSpPr/>
          <p:nvPr/>
        </p:nvSpPr>
        <p:spPr>
          <a:xfrm>
            <a:off x="1981080" y="2467080"/>
            <a:ext cx="38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1015920" y="3019320"/>
            <a:ext cx="113184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2"/>
          <p:cNvSpPr/>
          <p:nvPr/>
        </p:nvSpPr>
        <p:spPr>
          <a:xfrm flipV="1">
            <a:off x="2176560" y="2288880"/>
            <a:ext cx="776160" cy="739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3"/>
          <p:cNvSpPr/>
          <p:nvPr/>
        </p:nvSpPr>
        <p:spPr>
          <a:xfrm flipV="1">
            <a:off x="2184480" y="2870280"/>
            <a:ext cx="0" cy="4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4"/>
          <p:cNvSpPr/>
          <p:nvPr/>
        </p:nvSpPr>
        <p:spPr>
          <a:xfrm flipH="1" flipV="1">
            <a:off x="1015920" y="2011320"/>
            <a:ext cx="1144800" cy="109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5"/>
          <p:cNvSpPr/>
          <p:nvPr/>
        </p:nvSpPr>
        <p:spPr>
          <a:xfrm>
            <a:off x="2190600" y="3137040"/>
            <a:ext cx="736920" cy="2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6"/>
          <p:cNvSpPr/>
          <p:nvPr/>
        </p:nvSpPr>
        <p:spPr>
          <a:xfrm flipV="1">
            <a:off x="1066680" y="2057400"/>
            <a:ext cx="1906560" cy="1806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0574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put + long the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457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es using a single option + a stock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0" y="66294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"/>
          <p:cNvSpPr/>
          <p:nvPr/>
        </p:nvSpPr>
        <p:spPr>
          <a:xfrm>
            <a:off x="4648320" y="655308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5715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 as a function of stock price for (i) each security; and (ii) the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257800" y="60958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772400" y="60958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9"/>
          <p:cNvSpPr/>
          <p:nvPr/>
        </p:nvSpPr>
        <p:spPr>
          <a:xfrm flipH="1">
            <a:off x="2057400" y="1371600"/>
            <a:ext cx="184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20574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put + short the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7"/>
          <p:cNvSpPr/>
          <p:nvPr/>
        </p:nvSpPr>
        <p:spPr>
          <a:xfrm>
            <a:off x="1395360" y="1784520"/>
            <a:ext cx="0" cy="2062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8"/>
          <p:cNvSpPr/>
          <p:nvPr/>
        </p:nvSpPr>
        <p:spPr>
          <a:xfrm>
            <a:off x="1395360" y="2874960"/>
            <a:ext cx="237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0"/>
          <p:cNvSpPr/>
          <p:nvPr/>
        </p:nvSpPr>
        <p:spPr>
          <a:xfrm>
            <a:off x="3481560" y="2881440"/>
            <a:ext cx="5108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1"/>
          <p:cNvSpPr/>
          <p:nvPr/>
        </p:nvSpPr>
        <p:spPr>
          <a:xfrm>
            <a:off x="2305080" y="2855880"/>
            <a:ext cx="38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2"/>
          <p:cNvSpPr/>
          <p:nvPr/>
        </p:nvSpPr>
        <p:spPr>
          <a:xfrm>
            <a:off x="1393920" y="2778120"/>
            <a:ext cx="1128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3"/>
          <p:cNvSpPr/>
          <p:nvPr/>
        </p:nvSpPr>
        <p:spPr>
          <a:xfrm flipH="1" flipV="1">
            <a:off x="2522160" y="2761920"/>
            <a:ext cx="903240" cy="855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4"/>
          <p:cNvSpPr/>
          <p:nvPr/>
        </p:nvSpPr>
        <p:spPr>
          <a:xfrm>
            <a:off x="1374840" y="1876320"/>
            <a:ext cx="2050920" cy="1943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5"/>
          <p:cNvSpPr/>
          <p:nvPr/>
        </p:nvSpPr>
        <p:spPr>
          <a:xfrm flipV="1">
            <a:off x="2517840" y="2828520"/>
            <a:ext cx="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6"/>
          <p:cNvSpPr/>
          <p:nvPr/>
        </p:nvSpPr>
        <p:spPr>
          <a:xfrm>
            <a:off x="2516040" y="2658960"/>
            <a:ext cx="8827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7"/>
          <p:cNvSpPr/>
          <p:nvPr/>
        </p:nvSpPr>
        <p:spPr>
          <a:xfrm flipH="1">
            <a:off x="1404720" y="2637000"/>
            <a:ext cx="1112760" cy="1054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8"/>
          <p:cNvSpPr/>
          <p:nvPr/>
        </p:nvSpPr>
        <p:spPr>
          <a:xfrm>
            <a:off x="1371600" y="1447920"/>
            <a:ext cx="83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47920" y="3733920"/>
            <a:ext cx="64767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4800" spc="-1" strike="noStrike" baseline="30000">
                <a:solidFill>
                  <a:srgbClr val="000000"/>
                </a:solidFill>
                <a:latin typeface="Arial"/>
              </a:rPr>
              <a:t>-rT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106668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Put-Call Parity for European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3:10:01Z</dcterms:created>
  <dc:creator>VCHARLIN</dc:creator>
  <dc:description/>
  <dc:language>en-US</dc:language>
  <cp:lastModifiedBy>VCHARLIN</cp:lastModifiedBy>
  <dcterms:modified xsi:type="dcterms:W3CDTF">2010-11-15T00:35:19Z</dcterms:modified>
  <cp:revision>143</cp:revision>
  <dc:subject/>
  <dc:title>Slide 1</dc:title>
</cp:coreProperties>
</file>