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EF9-45A6-4ABC-B24A-1FD36EEB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CF23A7-65A5-4064-A438-C9F70B1C3E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9F5932-C834-48D4-B6E1-C3CE34B340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A45E43-2F85-411E-A97E-DF72CED077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C4EC9-AB06-4310-96FA-8462C1C52C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C617AE-6B93-4500-AE48-E5B30B9482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812197-3B52-454B-8921-2D8480F507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DB0DC0-89D4-44A2-B131-572E5F4B94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10BFAE-CA94-4588-915C-C13E31CF6B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9B6B73-C5CC-4FC7-8CCE-476F8CCAEF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A7EB9B-A16C-4163-954B-0614AF08CF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CE9B67-0D2A-4ED5-91D5-FC6CEED319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150A40-B14F-4990-8240-1354B3675C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E18E2D-4C0B-4DE8-90FC-902C46C17D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A7F2BE-6425-4127-946C-659AC3F975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346D3B-3800-417B-968A-A91BBEB61A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ADA392-4C9A-4B40-A1F4-349E13E38E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CEFA74-2C42-48AD-BD09-24B140FE13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A0C746-4859-4D86-88A0-8AFFE02ADA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3B6C5B-09B0-4176-AA01-B149516EDA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132C00-0F06-437E-B432-B40D2C0486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75B04D-9594-48E4-A892-C3A610A192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9C0EA9-33C5-42BE-83EE-A0426B7DB4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312A18-85D9-449A-AA4F-AB3BF17AA4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D72472-8055-4AFB-A55E-138B901D4E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A30E75-A9EF-448E-A26A-2B7BFE4F0B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2E5511-C727-4511-B394-554C627855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DD4EFE-50CD-4757-9C0B-EF0CB07A65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72FC04-CCBF-40EB-94CA-6EA6A44DD2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D22CE6-E5BD-4D4A-B56A-56FA1CC828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0BB-3EDF-4711-8BC5-2D591062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EDC-7CC9-4A13-B15E-9C55C6A1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B27-889A-4C05-9270-8348A6EF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189-EBCC-4315-8050-F7604A45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C56-1A7F-46E9-8961-97C10A7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642-2472-45FD-9E9F-5BA3C712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A60-31F2-4646-AB9F-7B07A0A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B20-DD15-4639-A313-FBDF855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C66-868F-44B0-9934-B8712E9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BDF-3760-4575-A051-2259857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1E6-A79F-41DD-8E08-3936819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404-1E7C-43EA-ABD7-2BF675F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176-2806-40A2-8186-29D101B8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the same type (calls or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19240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192400" y="4114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0212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58500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784320" y="4084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81480" y="4084560"/>
            <a:ext cx="1484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176560" y="233208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00840" y="3505320"/>
            <a:ext cx="566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3929040" y="3000240"/>
            <a:ext cx="2000160" cy="214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V="1">
            <a:off x="3929040" y="2571840"/>
            <a:ext cx="2857680" cy="300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2214720" y="557208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214720" y="5143680"/>
            <a:ext cx="171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929200" y="3000240"/>
            <a:ext cx="1148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19240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850000" y="3657600"/>
            <a:ext cx="121896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752-A43C-40B1-8136-DB5156A905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828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657240" y="198108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BC91-5485-4E8B-80A2-D2DCA88D80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1295280" y="1295280"/>
            <a:ext cx="5700960" cy="4286520"/>
            <a:chOff x="1295280" y="1295280"/>
            <a:chExt cx="5700960" cy="4286520"/>
          </a:xfrm>
        </p:grpSpPr>
        <p:sp>
          <p:nvSpPr>
            <p:cNvPr id="246" name="Rectangle 3"/>
            <p:cNvSpPr/>
            <p:nvPr/>
          </p:nvSpPr>
          <p:spPr>
            <a:xfrm>
              <a:off x="1295280" y="1295280"/>
              <a:ext cx="4114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760400" y="18288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760400" y="36576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 flipV="1">
              <a:off x="35892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54180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3367080" y="3017880"/>
              <a:ext cx="779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5181120" y="30178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1744560" y="18748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476040" y="30178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V="1">
              <a:off x="3509640" y="2742840"/>
              <a:ext cx="1908360" cy="19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 flipH="1">
              <a:off x="1723680" y="472428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5418000" y="27432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>
              <a:off x="2295000" y="2367000"/>
              <a:ext cx="3071880" cy="3214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5367240" y="236700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 flipH="1" flipV="1">
              <a:off x="1931760" y="2257560"/>
              <a:ext cx="1649520" cy="18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3581280" y="4081320"/>
              <a:ext cx="314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267080" y="5486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19720" y="411444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52520" y="19051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AE5-69DC-485E-9FD3-19072AA5A7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1600200" y="35812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34290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V="1">
            <a:off x="52578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1921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0209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392160" y="2941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1668600" y="21859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3382920" y="2185920"/>
            <a:ext cx="311940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609560" y="26668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438360" y="26668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5267160" y="44956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1596960" y="411480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5240160" y="2900160"/>
            <a:ext cx="1295640" cy="121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411480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BA6F-3E9F-4FDF-A146-DEE8C26A20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219320" y="1523880"/>
            <a:ext cx="5700960" cy="4191120"/>
            <a:chOff x="1219320" y="1523880"/>
            <a:chExt cx="5700960" cy="4191120"/>
          </a:xfrm>
        </p:grpSpPr>
        <p:sp>
          <p:nvSpPr>
            <p:cNvPr id="289" name="Rectangle 3"/>
            <p:cNvSpPr/>
            <p:nvPr/>
          </p:nvSpPr>
          <p:spPr>
            <a:xfrm>
              <a:off x="1219320" y="1523880"/>
              <a:ext cx="4114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684440" y="20574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684440" y="38862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V="1">
              <a:off x="35132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 flipV="1">
              <a:off x="53420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32763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1051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668960" y="21034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6400080" y="38559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1694160" y="297180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522960" y="2971800"/>
              <a:ext cx="182880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5351760" y="48006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 flipV="1">
              <a:off x="2558880" y="2352240"/>
              <a:ext cx="2786040" cy="278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5345280" y="5138640"/>
              <a:ext cx="1162080" cy="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 flipH="1">
              <a:off x="1696680" y="3495600"/>
              <a:ext cx="1791000" cy="1762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488040" y="34956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fly Spread Using Cal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198520" y="1928880"/>
            <a:ext cx="1133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H="1">
            <a:off x="222732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 flipV="1">
            <a:off x="5884920" y="2428560"/>
            <a:ext cx="2044800" cy="2066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4056120" y="1785600"/>
            <a:ext cx="3159000" cy="3166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22273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227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4970520" y="2971800"/>
            <a:ext cx="1314360" cy="274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51D-E07C-4983-A26F-53DD9B3BB7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low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286000" y="50288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high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137160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5943600"/>
            <a:ext cx="33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2 calls, strike price is halfway in betwee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343400" y="2971800"/>
            <a:ext cx="3808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terfly Spread Using Pu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928800" y="2255760"/>
            <a:ext cx="240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 flipH="1">
            <a:off x="4000320" y="4495680"/>
            <a:ext cx="323820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 flipH="1" flipV="1">
            <a:off x="5857920" y="4929120"/>
            <a:ext cx="1380960" cy="2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4929120" y="2928960"/>
            <a:ext cx="278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1"/>
          <p:cNvSpPr/>
          <p:nvPr/>
        </p:nvSpPr>
        <p:spPr>
          <a:xfrm flipH="1" flipV="1">
            <a:off x="2209680" y="26668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2"/>
          <p:cNvSpPr/>
          <p:nvPr/>
        </p:nvSpPr>
        <p:spPr>
          <a:xfrm flipH="1" flipV="1">
            <a:off x="3276720" y="2362320"/>
            <a:ext cx="259056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3564000" y="2971800"/>
            <a:ext cx="138888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DD5-0649-4C44-9731-D0B7C26066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Spread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863720" y="163836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2284560" y="2171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2284560" y="4000680"/>
            <a:ext cx="499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268720" y="221760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6743160" y="3427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 flipV="1">
            <a:off x="5027760" y="3924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782600" y="397044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2279520" y="3086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5022720" y="3086280"/>
            <a:ext cx="2028960" cy="20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2281320" y="492444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2446200" y="4923000"/>
            <a:ext cx="4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2638440" y="4919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2828880" y="491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3024360" y="489420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3209760" y="48751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 flipV="1">
            <a:off x="3400560" y="4847760"/>
            <a:ext cx="37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3589200" y="4817880"/>
            <a:ext cx="525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V="1">
            <a:off x="3774960" y="4784400"/>
            <a:ext cx="38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3960720" y="4751280"/>
            <a:ext cx="44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4146480" y="4708080"/>
            <a:ext cx="44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"/>
          <p:cNvSpPr/>
          <p:nvPr/>
        </p:nvSpPr>
        <p:spPr>
          <a:xfrm flipV="1">
            <a:off x="4332240" y="4657320"/>
            <a:ext cx="39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4514760" y="4613400"/>
            <a:ext cx="41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5"/>
          <p:cNvSpPr/>
          <p:nvPr/>
        </p:nvSpPr>
        <p:spPr>
          <a:xfrm flipV="1">
            <a:off x="4697280" y="4552560"/>
            <a:ext cx="42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4873680" y="4495680"/>
            <a:ext cx="47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7"/>
          <p:cNvSpPr/>
          <p:nvPr/>
        </p:nvSpPr>
        <p:spPr>
          <a:xfrm flipV="1">
            <a:off x="5056200" y="4432320"/>
            <a:ext cx="42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5232240" y="4362480"/>
            <a:ext cx="432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 flipV="1">
            <a:off x="5408640" y="4286160"/>
            <a:ext cx="381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583240" y="4203360"/>
            <a:ext cx="381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49920" y="4117680"/>
            <a:ext cx="396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 flipV="1">
            <a:off x="5918040" y="4022640"/>
            <a:ext cx="381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 flipV="1">
            <a:off x="6078600" y="3924360"/>
            <a:ext cx="3816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 flipV="1">
            <a:off x="6237360" y="3822480"/>
            <a:ext cx="363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 flipV="1">
            <a:off x="6392880" y="371304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 flipV="1">
            <a:off x="6545160" y="3590640"/>
            <a:ext cx="30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 flipV="1">
            <a:off x="6683400" y="3467160"/>
            <a:ext cx="3960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 flipV="1">
            <a:off x="6821640" y="3325320"/>
            <a:ext cx="489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 flipV="1">
            <a:off x="7021440" y="3130200"/>
            <a:ext cx="381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 flipV="1">
            <a:off x="3033720" y="4057200"/>
            <a:ext cx="19368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2268360" y="3644640"/>
            <a:ext cx="2732040" cy="457560"/>
            <a:chOff x="2268360" y="3644640"/>
            <a:chExt cx="2732040" cy="457560"/>
          </a:xfrm>
        </p:grpSpPr>
        <p:sp>
          <p:nvSpPr>
            <p:cNvPr id="397" name="Line 41"/>
            <p:cNvSpPr/>
            <p:nvPr/>
          </p:nvSpPr>
          <p:spPr>
            <a:xfrm>
              <a:off x="2268360" y="4102200"/>
              <a:ext cx="16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 flipV="1">
              <a:off x="2433600" y="4096800"/>
              <a:ext cx="19044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 flipV="1">
              <a:off x="2625480" y="4087800"/>
              <a:ext cx="1987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 flipV="1">
              <a:off x="2816280" y="4073400"/>
              <a:ext cx="19368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V="1">
              <a:off x="3197160" y="4030560"/>
              <a:ext cx="19368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6"/>
            <p:cNvSpPr/>
            <p:nvPr/>
          </p:nvSpPr>
          <p:spPr>
            <a:xfrm flipV="1">
              <a:off x="3387600" y="4006800"/>
              <a:ext cx="19836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 flipV="1">
              <a:off x="3576600" y="3968280"/>
              <a:ext cx="1951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3762360" y="3935520"/>
              <a:ext cx="195120" cy="3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3948120" y="3897360"/>
              <a:ext cx="19044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4133880" y="384948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4319640" y="380196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4502160" y="3749400"/>
              <a:ext cx="18864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4684680" y="3687840"/>
              <a:ext cx="187200" cy="5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4860720" y="3644640"/>
              <a:ext cx="1396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1"/>
          <p:cNvGrpSpPr/>
          <p:nvPr/>
        </p:nvGrpSpPr>
        <p:grpSpPr>
          <a:xfrm>
            <a:off x="5022720" y="3648240"/>
            <a:ext cx="2019600" cy="571320"/>
            <a:chOff x="5022720" y="3648240"/>
            <a:chExt cx="2019600" cy="571320"/>
          </a:xfrm>
        </p:grpSpPr>
        <p:sp>
          <p:nvSpPr>
            <p:cNvPr id="412" name="Line 56"/>
            <p:cNvSpPr/>
            <p:nvPr/>
          </p:nvSpPr>
          <p:spPr>
            <a:xfrm>
              <a:off x="5022720" y="3648240"/>
              <a:ext cx="114624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>
              <a:off x="6170760" y="4110120"/>
              <a:ext cx="152280" cy="47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>
              <a:off x="6313320" y="4152960"/>
              <a:ext cx="17640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>
              <a:off x="6485040" y="4195800"/>
              <a:ext cx="1760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65760" y="4219560"/>
              <a:ext cx="376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Slide Number Placeholder 6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A3E6-12D4-4EC7-A13A-AF617177B5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1600200"/>
            <a:ext cx="2133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same K ,  but much longer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038480" y="48002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14479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ssuming here that when the short-maturity option expires we sell the longer-maturity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different type (calls and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dd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19888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930360" y="40464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712760" y="40464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2209680" y="4495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 flipV="1">
            <a:off x="4952880" y="22096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4952880" y="495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2666880" y="26668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 flipV="1">
            <a:off x="4952880" y="3124080"/>
            <a:ext cx="2286000" cy="228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 flipH="1" flipV="1">
            <a:off x="2195640" y="2637000"/>
            <a:ext cx="274320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A14D-D221-4BCD-B46C-C55C3F5570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9907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uy a call and a put with same K, same expiration; Good if you expect a big change in the stock price (not sure which way will go how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850-3FE0-4417-9B7B-5E01EDBE5E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&amp; Str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634760"/>
            <a:ext cx="35049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1486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1486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470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688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915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 flipV="1">
            <a:off x="2857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857680" y="3581280"/>
            <a:ext cx="1447560" cy="144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H="1" flipV="1">
            <a:off x="1825200" y="2707920"/>
            <a:ext cx="1032120" cy="23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4915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4915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899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6117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7344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6286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 flipH="1" flipV="1">
            <a:off x="4915080" y="3657600"/>
            <a:ext cx="137160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 flipV="1">
            <a:off x="6286680" y="2458800"/>
            <a:ext cx="1143000" cy="257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2536560" y="5380200"/>
            <a:ext cx="102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889600" y="5380200"/>
            <a:ext cx="11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038-8AAF-47E7-BB74-97C4BD221D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: long position in 1 call + 2 puts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1219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: long position in 2 calls + 1 put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ng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19816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930360" y="4084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 flipH="1" flipV="1">
            <a:off x="4000680" y="4714920"/>
            <a:ext cx="3085920" cy="9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 flipH="1" flipV="1">
            <a:off x="2209680" y="28954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 flipH="1">
            <a:off x="220968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 flipV="1">
            <a:off x="5867280" y="3200400"/>
            <a:ext cx="1295640" cy="129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 flipH="1" flipV="1">
            <a:off x="2209680" y="33526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 flipV="1">
            <a:off x="5867280" y="3505320"/>
            <a:ext cx="167652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 flipH="1">
            <a:off x="4038480" y="5181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E49-CD18-4ABD-B7DA-17D9FB5A6C2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1371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long put with same T, differen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219320" y="99072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Binomia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imple Binomial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ck price is currently $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ree months it will be either $22 or $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 flipV="1">
            <a:off x="3338640" y="4035600"/>
            <a:ext cx="2111400" cy="61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3338640" y="4626000"/>
            <a:ext cx="2111400" cy="61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5657760" y="37195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572080" y="5057640"/>
            <a:ext cx="33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571680" y="4519440"/>
            <a:ext cx="284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9C27-33FC-427B-822A-B3F39E5CF2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 flipV="1">
            <a:off x="3338640" y="359532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3338640" y="437508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657760" y="31939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5572080" y="4702320"/>
            <a:ext cx="33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85800" y="402912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Price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all O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868400"/>
            <a:ext cx="853416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-month call option on the stock has a strike price of $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6A79-9AD1-4618-8F09-9A2E0F7F7C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01600">
            <a:off x="653760" y="4946400"/>
            <a:ext cx="1143000" cy="1295280"/>
          </a:xfrm>
          <a:prstGeom prst="upArrow">
            <a:avLst>
              <a:gd name="adj1" fmla="val 50000"/>
              <a:gd name="adj2" fmla="val 28331"/>
            </a:avLst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28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folio is riskless whe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1 = 1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481120" y="2803680"/>
            <a:ext cx="4219560" cy="1655280"/>
            <a:chOff x="2481120" y="2803680"/>
            <a:chExt cx="4219560" cy="1655280"/>
          </a:xfrm>
        </p:grpSpPr>
        <p:sp>
          <p:nvSpPr>
            <p:cNvPr id="503" name="Line 3"/>
            <p:cNvSpPr/>
            <p:nvPr/>
          </p:nvSpPr>
          <p:spPr>
            <a:xfrm>
              <a:off x="3487680" y="3556080"/>
              <a:ext cx="2005200" cy="63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5415120" y="2803680"/>
              <a:ext cx="128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5453280" y="40006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2481120" y="3390840"/>
              <a:ext cx="1158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 flipV="1">
              <a:off x="3487680" y="2916000"/>
              <a:ext cx="200520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Set Up a Riskles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79B-9227-4D4D-9257-827AFD0FC7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7913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value of the portfolio is the same no matter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ing the Portfolio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isk-Free Rate is 1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7440" y="1647720"/>
            <a:ext cx="816912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less portfolio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in 3 month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5 – 1 = $ 4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 0.12 x0.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$ 4.3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91E-BDB2-4144-A6F0-93B44EA38F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 18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 x  .25  =  $  4.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4267080"/>
            <a:ext cx="1828800" cy="198144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We Value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7143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folio t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1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orth $ 4.367 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shares i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.000 (.25 x $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option is therefo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– c = $4.367 impli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579-4BF2-4FA1-BE38-A66B1D5F46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6095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=  $0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ative lasts for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dependent on a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4129920" y="3627360"/>
            <a:ext cx="2978280" cy="2582640"/>
            <a:chOff x="4129920" y="3627360"/>
            <a:chExt cx="2978280" cy="2582640"/>
          </a:xfrm>
        </p:grpSpPr>
        <p:sp>
          <p:nvSpPr>
            <p:cNvPr id="523" name="Line 4"/>
            <p:cNvSpPr/>
            <p:nvPr/>
          </p:nvSpPr>
          <p:spPr>
            <a:xfrm flipV="1">
              <a:off x="4527720" y="4146120"/>
              <a:ext cx="20048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"/>
            <p:cNvSpPr/>
            <p:nvPr/>
          </p:nvSpPr>
          <p:spPr>
            <a:xfrm>
              <a:off x="4527720" y="4876920"/>
              <a:ext cx="200484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6499440" y="362736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499440" y="507528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129920" y="438948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80D2-A149-4C8B-BA2C-E2B090149F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505320"/>
            <a:ext cx="20574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price of st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value of optio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39625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624852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 &gt; 1  and   d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07880" y="25146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from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86240" y="3124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09920" y="32004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 that is 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 and short 1 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folio is riskles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0"/>
              <p:cNvSpPr txBox="1"/>
              <p:nvPr/>
            </p:nvSpPr>
            <p:spPr>
              <a:xfrm>
                <a:off x="3541680" y="5105520"/>
                <a:ext cx="2289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ƒ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Line 5"/>
          <p:cNvSpPr/>
          <p:nvPr/>
        </p:nvSpPr>
        <p:spPr>
          <a:xfrm>
            <a:off x="2971800" y="3371760"/>
            <a:ext cx="185724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000760" y="2657520"/>
            <a:ext cx="1674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943520" y="3600360"/>
            <a:ext cx="1847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2292480" y="33717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 flipV="1">
            <a:off x="2841480" y="2914560"/>
            <a:ext cx="21304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D066-5CFD-45A9-9283-0D706D304B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9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9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9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10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6824-4545-4D82-8E9C-8B14DCC770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01480" y="1790640"/>
            <a:ext cx="634212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pression for the portfolio value today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7E71-4FFC-4BEF-983F-CB2A12695E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7057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5334120" y="38095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14480" y="2028960"/>
            <a:ext cx="1046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5"/>
              <p:cNvSpPr txBox="1"/>
              <p:nvPr/>
            </p:nvSpPr>
            <p:spPr>
              <a:xfrm>
                <a:off x="2362320" y="4419720"/>
                <a:ext cx="2971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AB25-8066-41A5-821A-9575BADBB6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k-Neutral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can be interpreted as the risk-neutral probabilities of up and down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derivativ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expected payoff in a risk-neutral world discounted at the risk-fre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3401280" y="3716280"/>
            <a:ext cx="2989080" cy="2582640"/>
            <a:chOff x="3401280" y="3716280"/>
            <a:chExt cx="2989080" cy="2582640"/>
          </a:xfrm>
        </p:grpSpPr>
        <p:sp>
          <p:nvSpPr>
            <p:cNvPr id="558" name="Line 4"/>
            <p:cNvSpPr/>
            <p:nvPr/>
          </p:nvSpPr>
          <p:spPr>
            <a:xfrm flipV="1">
              <a:off x="3798720" y="423504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798720" y="496584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5771160" y="371628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771160" y="516420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3401280" y="447840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0"/>
          <p:cNvSpPr/>
          <p:nvPr/>
        </p:nvSpPr>
        <p:spPr>
          <a:xfrm rot="20400000">
            <a:off x="4518360" y="40622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 rot="1140000">
            <a:off x="3808080" y="5395320"/>
            <a:ext cx="142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863-FC75-4118-A5FA-A83FBFAD99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relevance of Stock’s Expecte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744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re valuing an option in terms of the underlying stock the expected return on the stock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60BC-DFAE-41E2-8DAB-67B39FCAB0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Example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53904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isk-neutr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12 x0.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5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we can use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2133720" y="4800600"/>
                <a:ext cx="4647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5"/>
          <p:cNvSpPr/>
          <p:nvPr/>
        </p:nvSpPr>
        <p:spPr>
          <a:xfrm flipV="1">
            <a:off x="3959280" y="1654200"/>
            <a:ext cx="2004840" cy="73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3959280" y="2384280"/>
            <a:ext cx="2004840" cy="73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5923440" y="1225440"/>
            <a:ext cx="1177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6029280" y="2571840"/>
            <a:ext cx="1685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561480" y="1987560"/>
            <a:ext cx="4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 rot="20400000">
            <a:off x="4706640" y="15714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140000">
            <a:off x="4188240" y="2793600"/>
            <a:ext cx="11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FD8-44A8-4F2A-9E54-51A3B490F5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ing the Option Using Risk-Neutral 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op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–0.12x0.2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 0.6523x1 + 0.3477x0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6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1"/>
          <p:cNvGrpSpPr/>
          <p:nvPr/>
        </p:nvGrpSpPr>
        <p:grpSpPr>
          <a:xfrm>
            <a:off x="3504960" y="1920960"/>
            <a:ext cx="3538440" cy="2322000"/>
            <a:chOff x="3504960" y="1920960"/>
            <a:chExt cx="3538440" cy="2322000"/>
          </a:xfrm>
        </p:grpSpPr>
        <p:sp>
          <p:nvSpPr>
            <p:cNvPr id="583" name="Line 4"/>
            <p:cNvSpPr/>
            <p:nvPr/>
          </p:nvSpPr>
          <p:spPr>
            <a:xfrm flipV="1">
              <a:off x="3902040" y="234900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3902040" y="307980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6"/>
            <p:cNvSpPr/>
            <p:nvPr/>
          </p:nvSpPr>
          <p:spPr>
            <a:xfrm>
              <a:off x="5866200" y="192096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"/>
            <p:cNvSpPr/>
            <p:nvPr/>
          </p:nvSpPr>
          <p:spPr>
            <a:xfrm>
              <a:off x="5866200" y="336852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3504960" y="2682720"/>
              <a:ext cx="337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 rot="20400000">
              <a:off x="3870360" y="23032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5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 rot="1140000">
              <a:off x="3873240" y="352260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4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CD35-E676-4693-93B2-741441D010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value as before,  no arbitrage AND risk-neutral approach give sam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304776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wo-Step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809720" y="1099800"/>
            <a:ext cx="549432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step is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0"/>
          <p:cNvGrpSpPr/>
          <p:nvPr/>
        </p:nvGrpSpPr>
        <p:grpSpPr>
          <a:xfrm>
            <a:off x="2262240" y="1149480"/>
            <a:ext cx="5324040" cy="3408840"/>
            <a:chOff x="2262240" y="1149480"/>
            <a:chExt cx="5324040" cy="3408840"/>
          </a:xfrm>
        </p:grpSpPr>
        <p:sp>
          <p:nvSpPr>
            <p:cNvPr id="596" name="Rectangle 4"/>
            <p:cNvSpPr/>
            <p:nvPr/>
          </p:nvSpPr>
          <p:spPr>
            <a:xfrm>
              <a:off x="2262240" y="25797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4"/>
            <p:cNvGrpSpPr/>
            <p:nvPr/>
          </p:nvGrpSpPr>
          <p:grpSpPr>
            <a:xfrm>
              <a:off x="2754360" y="1398600"/>
              <a:ext cx="3979800" cy="2889360"/>
              <a:chOff x="2754360" y="1398600"/>
              <a:chExt cx="3979800" cy="2889360"/>
            </a:xfrm>
          </p:grpSpPr>
          <p:grpSp>
            <p:nvGrpSpPr>
              <p:cNvPr id="598" name="Group 7"/>
              <p:cNvGrpSpPr/>
              <p:nvPr/>
            </p:nvGrpSpPr>
            <p:grpSpPr>
              <a:xfrm>
                <a:off x="2754360" y="2112480"/>
                <a:ext cx="2004840" cy="1460880"/>
                <a:chOff x="2754360" y="2112480"/>
                <a:chExt cx="2004840" cy="1460880"/>
              </a:xfrm>
            </p:grpSpPr>
            <p:sp>
              <p:nvSpPr>
                <p:cNvPr id="599" name="Line 5"/>
                <p:cNvSpPr/>
                <p:nvPr/>
              </p:nvSpPr>
              <p:spPr>
                <a:xfrm flipV="1">
                  <a:off x="2754360" y="21124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6"/>
                <p:cNvSpPr/>
                <p:nvPr/>
              </p:nvSpPr>
              <p:spPr>
                <a:xfrm>
                  <a:off x="2754360" y="284328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10"/>
              <p:cNvGrpSpPr/>
              <p:nvPr/>
            </p:nvGrpSpPr>
            <p:grpSpPr>
              <a:xfrm>
                <a:off x="4729320" y="1398600"/>
                <a:ext cx="2004840" cy="1460520"/>
                <a:chOff x="4729320" y="1398600"/>
                <a:chExt cx="2004840" cy="1460520"/>
              </a:xfrm>
            </p:grpSpPr>
            <p:sp>
              <p:nvSpPr>
                <p:cNvPr id="602" name="Line 8"/>
                <p:cNvSpPr/>
                <p:nvPr/>
              </p:nvSpPr>
              <p:spPr>
                <a:xfrm flipV="1">
                  <a:off x="4729320" y="139860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9"/>
                <p:cNvSpPr/>
                <p:nvPr/>
              </p:nvSpPr>
              <p:spPr>
                <a:xfrm>
                  <a:off x="4729320" y="21286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3"/>
              <p:cNvGrpSpPr/>
              <p:nvPr/>
            </p:nvGrpSpPr>
            <p:grpSpPr>
              <a:xfrm>
                <a:off x="4719600" y="2827440"/>
                <a:ext cx="2005200" cy="1460520"/>
                <a:chOff x="4719600" y="2827440"/>
                <a:chExt cx="2005200" cy="1460520"/>
              </a:xfrm>
            </p:grpSpPr>
            <p:sp>
              <p:nvSpPr>
                <p:cNvPr id="605" name="Line 11"/>
                <p:cNvSpPr/>
                <p:nvPr/>
              </p:nvSpPr>
              <p:spPr>
                <a:xfrm flipV="1">
                  <a:off x="4719600" y="2827440"/>
                  <a:ext cx="200520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"/>
                <p:cNvSpPr/>
                <p:nvPr/>
              </p:nvSpPr>
              <p:spPr>
                <a:xfrm>
                  <a:off x="4719600" y="3557520"/>
                  <a:ext cx="200520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15"/>
            <p:cNvSpPr/>
            <p:nvPr/>
          </p:nvSpPr>
          <p:spPr>
            <a:xfrm>
              <a:off x="4311720" y="16495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4326120" y="35352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7"/>
            <p:cNvSpPr/>
            <p:nvPr/>
          </p:nvSpPr>
          <p:spPr>
            <a:xfrm>
              <a:off x="6611760" y="114948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8"/>
            <p:cNvSpPr/>
            <p:nvPr/>
          </p:nvSpPr>
          <p:spPr>
            <a:xfrm>
              <a:off x="6611760" y="256392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611760" y="397836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7DD-35E1-4E22-96EB-95C38D7683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a Call Op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931680"/>
            <a:ext cx="7548480" cy="50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3.2 + 0.3477x0) = 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2.0257 + 0.3477x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132640" y="229068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044880" y="1590480"/>
            <a:ext cx="3979440" cy="2213280"/>
            <a:chOff x="3044880" y="1590480"/>
            <a:chExt cx="3979440" cy="2213280"/>
          </a:xfrm>
        </p:grpSpPr>
        <p:grpSp>
          <p:nvGrpSpPr>
            <p:cNvPr id="617" name="Group 7"/>
            <p:cNvGrpSpPr/>
            <p:nvPr/>
          </p:nvGrpSpPr>
          <p:grpSpPr>
            <a:xfrm>
              <a:off x="3044880" y="2138040"/>
              <a:ext cx="2004840" cy="1119600"/>
              <a:chOff x="3044880" y="2138040"/>
              <a:chExt cx="2004840" cy="1119600"/>
            </a:xfrm>
          </p:grpSpPr>
          <p:sp>
            <p:nvSpPr>
              <p:cNvPr id="618" name="Line 5"/>
              <p:cNvSpPr/>
              <p:nvPr/>
            </p:nvSpPr>
            <p:spPr>
              <a:xfrm flipV="1">
                <a:off x="3044880" y="2138040"/>
                <a:ext cx="2004840" cy="55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6"/>
              <p:cNvSpPr/>
              <p:nvPr/>
            </p:nvSpPr>
            <p:spPr>
              <a:xfrm>
                <a:off x="3044880" y="2697480"/>
                <a:ext cx="2004840" cy="56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5019480" y="1590480"/>
              <a:ext cx="2004840" cy="1119600"/>
              <a:chOff x="5019480" y="1590480"/>
              <a:chExt cx="2004840" cy="1119600"/>
            </a:xfrm>
          </p:grpSpPr>
          <p:sp>
            <p:nvSpPr>
              <p:cNvPr id="621" name="Line 8"/>
              <p:cNvSpPr/>
              <p:nvPr/>
            </p:nvSpPr>
            <p:spPr>
              <a:xfrm flipV="1">
                <a:off x="5019480" y="1590480"/>
                <a:ext cx="200484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"/>
              <p:cNvSpPr/>
              <p:nvPr/>
            </p:nvSpPr>
            <p:spPr>
              <a:xfrm>
                <a:off x="5019480" y="2151360"/>
                <a:ext cx="200484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3"/>
            <p:cNvGrpSpPr/>
            <p:nvPr/>
          </p:nvGrpSpPr>
          <p:grpSpPr>
            <a:xfrm>
              <a:off x="5010120" y="2684160"/>
              <a:ext cx="2004480" cy="1119600"/>
              <a:chOff x="5010120" y="2684160"/>
              <a:chExt cx="2004480" cy="1119600"/>
            </a:xfrm>
          </p:grpSpPr>
          <p:sp>
            <p:nvSpPr>
              <p:cNvPr id="624" name="Line 11"/>
              <p:cNvSpPr/>
              <p:nvPr/>
            </p:nvSpPr>
            <p:spPr>
              <a:xfrm flipV="1">
                <a:off x="5010120" y="2684160"/>
                <a:ext cx="200448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2"/>
              <p:cNvSpPr/>
              <p:nvPr/>
            </p:nvSpPr>
            <p:spPr>
              <a:xfrm>
                <a:off x="5010120" y="3245040"/>
                <a:ext cx="200448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Rectangle 15"/>
          <p:cNvSpPr/>
          <p:nvPr/>
        </p:nvSpPr>
        <p:spPr>
          <a:xfrm>
            <a:off x="4729320" y="17146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4829400" y="28224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6846840" y="11430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846840" y="22464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6846840" y="338472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4474080" y="230976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4790880" y="333216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3375000" y="25066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5410080" y="1984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5410080" y="3071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6249600" y="13906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172200" y="25146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6314760" y="371484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2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7B25-4EC7-476C-A468-4F4685E3BD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ut Option Example;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5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32040" y="1599840"/>
            <a:ext cx="32400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8"/>
          <p:cNvGrpSpPr/>
          <p:nvPr/>
        </p:nvGrpSpPr>
        <p:grpSpPr>
          <a:xfrm>
            <a:off x="2486160" y="2263680"/>
            <a:ext cx="5277960" cy="3065760"/>
            <a:chOff x="2486160" y="2263680"/>
            <a:chExt cx="5277960" cy="3065760"/>
          </a:xfrm>
        </p:grpSpPr>
        <p:sp>
          <p:nvSpPr>
            <p:cNvPr id="643" name="Rectangle 4"/>
            <p:cNvSpPr/>
            <p:nvPr/>
          </p:nvSpPr>
          <p:spPr>
            <a:xfrm>
              <a:off x="2486160" y="3411360"/>
              <a:ext cx="111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19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4"/>
            <p:cNvGrpSpPr/>
            <p:nvPr/>
          </p:nvGrpSpPr>
          <p:grpSpPr>
            <a:xfrm>
              <a:off x="3397320" y="2711520"/>
              <a:ext cx="3979800" cy="2212920"/>
              <a:chOff x="3397320" y="2711520"/>
              <a:chExt cx="3979800" cy="2212920"/>
            </a:xfrm>
          </p:grpSpPr>
          <p:grpSp>
            <p:nvGrpSpPr>
              <p:cNvPr id="645" name="Group 7"/>
              <p:cNvGrpSpPr/>
              <p:nvPr/>
            </p:nvGrpSpPr>
            <p:grpSpPr>
              <a:xfrm>
                <a:off x="3397320" y="3259080"/>
                <a:ext cx="2004840" cy="1119240"/>
                <a:chOff x="3397320" y="3259080"/>
                <a:chExt cx="2004840" cy="1119240"/>
              </a:xfrm>
            </p:grpSpPr>
            <p:sp>
              <p:nvSpPr>
                <p:cNvPr id="646" name="Line 5"/>
                <p:cNvSpPr/>
                <p:nvPr/>
              </p:nvSpPr>
              <p:spPr>
                <a:xfrm flipV="1">
                  <a:off x="3397320" y="3259080"/>
                  <a:ext cx="200484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6"/>
                <p:cNvSpPr/>
                <p:nvPr/>
              </p:nvSpPr>
              <p:spPr>
                <a:xfrm>
                  <a:off x="3397320" y="3817800"/>
                  <a:ext cx="200484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10"/>
              <p:cNvGrpSpPr/>
              <p:nvPr/>
            </p:nvGrpSpPr>
            <p:grpSpPr>
              <a:xfrm>
                <a:off x="5372280" y="2711520"/>
                <a:ext cx="2004840" cy="1119240"/>
                <a:chOff x="5372280" y="2711520"/>
                <a:chExt cx="2004840" cy="1119240"/>
              </a:xfrm>
            </p:grpSpPr>
            <p:sp>
              <p:nvSpPr>
                <p:cNvPr id="649" name="Line 8"/>
                <p:cNvSpPr/>
                <p:nvPr/>
              </p:nvSpPr>
              <p:spPr>
                <a:xfrm flipV="1">
                  <a:off x="5372280" y="2711520"/>
                  <a:ext cx="2004840" cy="560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9"/>
                <p:cNvSpPr/>
                <p:nvPr/>
              </p:nvSpPr>
              <p:spPr>
                <a:xfrm>
                  <a:off x="5372280" y="3271680"/>
                  <a:ext cx="2004840" cy="559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13"/>
              <p:cNvGrpSpPr/>
              <p:nvPr/>
            </p:nvGrpSpPr>
            <p:grpSpPr>
              <a:xfrm>
                <a:off x="5362560" y="3804840"/>
                <a:ext cx="2005200" cy="1119600"/>
                <a:chOff x="5362560" y="3804840"/>
                <a:chExt cx="2005200" cy="1119600"/>
              </a:xfrm>
            </p:grpSpPr>
            <p:sp>
              <p:nvSpPr>
                <p:cNvPr id="652" name="Line 11"/>
                <p:cNvSpPr/>
                <p:nvPr/>
              </p:nvSpPr>
              <p:spPr>
                <a:xfrm flipV="1">
                  <a:off x="5362560" y="3804840"/>
                  <a:ext cx="200520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"/>
                <p:cNvSpPr/>
                <p:nvPr/>
              </p:nvSpPr>
              <p:spPr>
                <a:xfrm>
                  <a:off x="5362560" y="4365720"/>
                  <a:ext cx="200520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Rectangle 15"/>
            <p:cNvSpPr/>
            <p:nvPr/>
          </p:nvSpPr>
          <p:spPr>
            <a:xfrm>
              <a:off x="5081760" y="283536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5181840" y="39434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7240680" y="22636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7240680" y="33670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7240680" y="450540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4826160" y="343044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869000" y="44956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.46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3727440" y="36273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5694480" y="31050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5654160" y="41925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5"/>
            <p:cNvSpPr/>
            <p:nvPr/>
          </p:nvSpPr>
          <p:spPr>
            <a:xfrm>
              <a:off x="6602040" y="2511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6"/>
            <p:cNvSpPr/>
            <p:nvPr/>
          </p:nvSpPr>
          <p:spPr>
            <a:xfrm>
              <a:off x="6411960" y="36608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6667200" y="483552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Slide Number Placeholder 3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E401-15A6-497A-9A5E-FA61393777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92240" y="1600200"/>
            <a:ext cx="6959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ratio of the change in the price of a stock option to the change in the price of the underly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es from node to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4217-82F8-4A01-9731-2389065D81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143000"/>
            <a:ext cx="67816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strategies us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he underlying asset is a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of the Europe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nvestigate different payoff functions (payoff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stock price) = F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 we will assume that Profit = Payoff –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9C4-9C8A-410B-8BDC-968A902579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12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4"/>
              <p:cNvSpPr txBox="1"/>
              <p:nvPr/>
            </p:nvSpPr>
            <p:spPr>
              <a:xfrm>
                <a:off x="1635120" y="2160720"/>
                <a:ext cx="5832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BDA-78BC-4991-AA9A-1EDA62E7556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16120" y="1785960"/>
            <a:ext cx="144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716120" y="2887560"/>
            <a:ext cx="2374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19350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84680" y="289404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31960" y="2924280"/>
            <a:ext cx="3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1716120" y="2541600"/>
            <a:ext cx="1114560" cy="105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843280" y="2565360"/>
            <a:ext cx="826920" cy="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2825640" y="2840040"/>
            <a:ext cx="180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720800" y="277956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825640" y="2760840"/>
            <a:ext cx="851040" cy="80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1720440" y="1854360"/>
            <a:ext cx="1941480" cy="18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8288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osition in a stock + a short position in a cal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657240" y="2133720"/>
            <a:ext cx="19810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057400" y="34286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 flipH="1">
            <a:off x="3236760" y="2817720"/>
            <a:ext cx="1843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278000" y="170964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278000" y="2811600"/>
            <a:ext cx="23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371600" y="1752480"/>
            <a:ext cx="10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363840" y="281772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187720" y="236844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405160" y="3137040"/>
            <a:ext cx="768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H="1" flipV="1">
            <a:off x="1287360" y="2073240"/>
            <a:ext cx="1121040" cy="106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1287360" y="2919240"/>
            <a:ext cx="111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2400480" y="2214360"/>
            <a:ext cx="744480" cy="70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287360" y="1944720"/>
            <a:ext cx="193068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2400480" y="276840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030320" y="1830240"/>
            <a:ext cx="0" cy="20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1049400" y="2916360"/>
            <a:ext cx="23558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073160" y="175248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3103560" y="2922480"/>
            <a:ext cx="506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981080" y="2467080"/>
            <a:ext cx="38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015920" y="3019320"/>
            <a:ext cx="11318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2176560" y="2288880"/>
            <a:ext cx="776160" cy="73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2184480" y="2870280"/>
            <a:ext cx="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 flipH="1" flipV="1">
            <a:off x="1015920" y="2011320"/>
            <a:ext cx="1144800" cy="10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90600" y="3137040"/>
            <a:ext cx="73692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1066680" y="2057400"/>
            <a:ext cx="1906560" cy="180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+ long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9"/>
          <p:cNvSpPr/>
          <p:nvPr/>
        </p:nvSpPr>
        <p:spPr>
          <a:xfrm flipH="1">
            <a:off x="2057400" y="137160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1395360" y="1784520"/>
            <a:ext cx="0" cy="206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>
            <a:off x="1395360" y="2874960"/>
            <a:ext cx="23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3481560" y="2881440"/>
            <a:ext cx="510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2305080" y="285588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1393920" y="2778120"/>
            <a:ext cx="11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3"/>
          <p:cNvSpPr/>
          <p:nvPr/>
        </p:nvSpPr>
        <p:spPr>
          <a:xfrm flipH="1" flipV="1">
            <a:off x="2522160" y="2761920"/>
            <a:ext cx="903240" cy="855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1374840" y="1876320"/>
            <a:ext cx="2050920" cy="194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5"/>
          <p:cNvSpPr/>
          <p:nvPr/>
        </p:nvSpPr>
        <p:spPr>
          <a:xfrm flipV="1">
            <a:off x="2517840" y="282852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2516040" y="2658960"/>
            <a:ext cx="882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1404720" y="2637000"/>
            <a:ext cx="1112760" cy="1054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1371600" y="144792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733920"/>
            <a:ext cx="647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0666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Put-Call Parity for Europe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5T00:35:19Z</dcterms:modified>
  <cp:revision>143</cp:revision>
  <dc:subject/>
  <dc:title>Slide 1</dc:title>
</cp:coreProperties>
</file>