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231C-7456-4267-8141-62C97262B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8A1911-9D47-4387-9ED0-3D7448F191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67426C-6979-4EA1-8B31-9094511587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FB72A4-9A97-415C-9697-07BB60CBFD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929A04-09E3-4ECD-8B3F-64086D4442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3F9D61-0C4B-4E6A-855A-9AA8F88326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C1643F-8CE1-4A7A-AC7D-80D2D1F162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7DFF00-9027-4403-8645-ACEE9D5BE2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216C72-65DC-493C-8ED7-2164BECCAB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A60D3B-3C23-46E9-AB0B-129F6C43D5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52C131-553D-4FC9-9E63-89531FBF4F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3A85F1-5CE7-4B3E-805E-D3C9AF060E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47E45A-2BF9-4FF6-809E-22C8F60106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1E449E-E3BD-499C-8C63-52ACDE72BF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569946-0CD3-453F-9C92-98CC48ABF6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2CCB56-6330-401B-8167-4C3DC0B0FE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FA685C-69F4-4C60-B95B-ACB0AEBB35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F55B60-50D0-49CC-A2FD-A8A06CD2A8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250C89-3B00-45CC-9EE2-C7D2574781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531771-F797-41E0-A86C-F6BD28973E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10A5D1-C2DE-4360-BD2B-1B6002C9A3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80476E-570C-42D0-BDE9-C564713DC2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6C65A0-5949-453F-BE42-D71560D4AA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8190DB-F6B5-498D-B9F0-D8341CB4B7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654104-3752-448D-BB21-B58709556A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6B3437-8B55-4A73-A904-4760A69DA9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A6AC51-A3D9-40B5-8D06-35D97F0040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1E58B2-71AA-4FCB-B42A-0D95C99B3E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6EB57E-D7BC-4F7C-9EAA-56FACE6EED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5A799D-DD0D-453B-973F-5C3B65DC2D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8F9-1C8E-4BD9-B776-6DBCE790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101-FD7C-4C36-ACCC-1173256F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805-8AD9-4EF0-BFE7-038CD3E9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BFD-751F-494D-B6D8-D7EC75A9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CE1-1EB2-4C2B-89C0-DD05D002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947-0588-4462-8F1F-FF3F1E85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B6B-86AE-4D73-952F-30A203D2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955-8170-4283-9896-E32B8251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CB6-9380-4787-B87C-8206E995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EFA-65AC-45B3-AE7C-868DF928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A94-C0AD-4C2A-B046-EACAA0EF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A1E-948E-40AF-8B05-FF99620C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02CB-FFD6-4373-8103-20FFB845E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MORE 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90720" y="15238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 position (long or short) in several options of the same type (calls or 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ll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Ca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192400" y="22860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192400" y="411480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4021200" y="40384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5850000" y="40384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784320" y="4084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181480" y="4084560"/>
            <a:ext cx="1484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176560" y="233208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6900840" y="3505320"/>
            <a:ext cx="566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 flipV="1">
            <a:off x="3929040" y="3000240"/>
            <a:ext cx="2000160" cy="214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 flipV="1">
            <a:off x="3929040" y="2571840"/>
            <a:ext cx="2857680" cy="3000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 flipH="1">
            <a:off x="2214720" y="557208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2214720" y="5143680"/>
            <a:ext cx="1714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5929200" y="3000240"/>
            <a:ext cx="1148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219240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5850000" y="3657600"/>
            <a:ext cx="121896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2A1A-16D4-4285-AEC3-04C75DF0CAC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1447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828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1447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657240" y="1981080"/>
            <a:ext cx="609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ll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DFA9-6BDB-4A77-9C22-E02D2DF7442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9"/>
          <p:cNvGrpSpPr/>
          <p:nvPr/>
        </p:nvGrpSpPr>
        <p:grpSpPr>
          <a:xfrm>
            <a:off x="1295280" y="1295280"/>
            <a:ext cx="5700960" cy="4286520"/>
            <a:chOff x="1295280" y="1295280"/>
            <a:chExt cx="5700960" cy="4286520"/>
          </a:xfrm>
        </p:grpSpPr>
        <p:sp>
          <p:nvSpPr>
            <p:cNvPr id="246" name="Rectangle 3"/>
            <p:cNvSpPr/>
            <p:nvPr/>
          </p:nvSpPr>
          <p:spPr>
            <a:xfrm>
              <a:off x="1295280" y="1295280"/>
              <a:ext cx="411480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760400" y="18288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760400" y="3657600"/>
              <a:ext cx="51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 flipV="1">
              <a:off x="3589200" y="35812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7"/>
            <p:cNvSpPr/>
            <p:nvPr/>
          </p:nvSpPr>
          <p:spPr>
            <a:xfrm flipV="1">
              <a:off x="5418000" y="35812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8"/>
            <p:cNvSpPr/>
            <p:nvPr/>
          </p:nvSpPr>
          <p:spPr>
            <a:xfrm>
              <a:off x="3367080" y="3017880"/>
              <a:ext cx="7794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9"/>
            <p:cNvSpPr/>
            <p:nvPr/>
          </p:nvSpPr>
          <p:spPr>
            <a:xfrm>
              <a:off x="5181120" y="301788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"/>
            <p:cNvSpPr/>
            <p:nvPr/>
          </p:nvSpPr>
          <p:spPr>
            <a:xfrm>
              <a:off x="1744560" y="187488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>
              <a:off x="6476040" y="301788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2"/>
            <p:cNvSpPr/>
            <p:nvPr/>
          </p:nvSpPr>
          <p:spPr>
            <a:xfrm flipV="1">
              <a:off x="3509640" y="2742840"/>
              <a:ext cx="1908360" cy="19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"/>
            <p:cNvSpPr/>
            <p:nvPr/>
          </p:nvSpPr>
          <p:spPr>
            <a:xfrm flipH="1">
              <a:off x="1723680" y="4724280"/>
              <a:ext cx="1828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4"/>
            <p:cNvSpPr/>
            <p:nvPr/>
          </p:nvSpPr>
          <p:spPr>
            <a:xfrm>
              <a:off x="5418000" y="2743200"/>
              <a:ext cx="1312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5"/>
            <p:cNvSpPr/>
            <p:nvPr/>
          </p:nvSpPr>
          <p:spPr>
            <a:xfrm flipH="1">
              <a:off x="2295000" y="2367000"/>
              <a:ext cx="3071880" cy="3214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5367240" y="2367000"/>
              <a:ext cx="1438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7"/>
            <p:cNvSpPr/>
            <p:nvPr/>
          </p:nvSpPr>
          <p:spPr>
            <a:xfrm flipH="1" flipV="1">
              <a:off x="1931760" y="2257560"/>
              <a:ext cx="1649520" cy="1823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8"/>
            <p:cNvSpPr/>
            <p:nvPr/>
          </p:nvSpPr>
          <p:spPr>
            <a:xfrm>
              <a:off x="3581280" y="4081320"/>
              <a:ext cx="3143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267080" y="5486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419720" y="4114440"/>
            <a:ext cx="14475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952520" y="19051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ar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Ca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60AB-121C-4DFB-8012-536B6FBE6EA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1600200" y="17524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1600200" y="35812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V="1">
            <a:off x="3429000" y="35049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V="1">
            <a:off x="5257800" y="35049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192120" y="2941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020920" y="2941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392160" y="2941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1668600" y="21859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3382920" y="2185920"/>
            <a:ext cx="311940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1609560" y="26668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3438360" y="2666880"/>
            <a:ext cx="1828800" cy="18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5267160" y="4495680"/>
            <a:ext cx="1295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 flipH="1">
            <a:off x="1596960" y="411480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 flipV="1">
            <a:off x="5240160" y="2900160"/>
            <a:ext cx="1295640" cy="121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ar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411480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6713-F039-4AC5-8E5A-487E9BA3675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9"/>
          <p:cNvGrpSpPr/>
          <p:nvPr/>
        </p:nvGrpSpPr>
        <p:grpSpPr>
          <a:xfrm>
            <a:off x="1219320" y="1523880"/>
            <a:ext cx="5700960" cy="4191120"/>
            <a:chOff x="1219320" y="1523880"/>
            <a:chExt cx="5700960" cy="4191120"/>
          </a:xfrm>
        </p:grpSpPr>
        <p:sp>
          <p:nvSpPr>
            <p:cNvPr id="289" name="Rectangle 3"/>
            <p:cNvSpPr/>
            <p:nvPr/>
          </p:nvSpPr>
          <p:spPr>
            <a:xfrm>
              <a:off x="1219320" y="1523880"/>
              <a:ext cx="41148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684440" y="20574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1684440" y="3886200"/>
              <a:ext cx="51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 flipV="1">
              <a:off x="3513240" y="38098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 flipV="1">
              <a:off x="5342040" y="38098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3276360" y="385596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105160" y="385596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1668960" y="210348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6400080" y="385596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>
              <a:off x="1694160" y="2971800"/>
              <a:ext cx="1828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3522960" y="2971800"/>
              <a:ext cx="182880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5351760" y="48006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 flipV="1">
              <a:off x="2558880" y="2352240"/>
              <a:ext cx="2786040" cy="2786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5345280" y="5138640"/>
              <a:ext cx="1162080" cy="23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 flipH="1">
              <a:off x="1696680" y="3495600"/>
              <a:ext cx="1791000" cy="1762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>
              <a:off x="3488040" y="349560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terfly Spread Using Cal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2198520" y="1928880"/>
            <a:ext cx="1133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6930360" y="347508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47206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H="1">
            <a:off x="222732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 flipV="1">
            <a:off x="5884920" y="2428560"/>
            <a:ext cx="2044800" cy="2066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 flipV="1">
            <a:off x="4056120" y="1785600"/>
            <a:ext cx="3159000" cy="3166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 flipH="1">
            <a:off x="2227320" y="4952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2227320" y="2971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4970520" y="2971800"/>
            <a:ext cx="1314360" cy="274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2227320" y="43434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1"/>
          <p:cNvSpPr/>
          <p:nvPr/>
        </p:nvSpPr>
        <p:spPr>
          <a:xfrm flipV="1">
            <a:off x="40561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2"/>
          <p:cNvSpPr/>
          <p:nvPr/>
        </p:nvSpPr>
        <p:spPr>
          <a:xfrm>
            <a:off x="49705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3"/>
          <p:cNvSpPr/>
          <p:nvPr/>
        </p:nvSpPr>
        <p:spPr>
          <a:xfrm>
            <a:off x="5884920" y="434340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A5DE-E932-4F9A-B4D4-A92800D546E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low strik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286000" y="502884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86400" y="1066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high strik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96080" y="1371600"/>
            <a:ext cx="76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5943600"/>
            <a:ext cx="3352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2 calls, strike price is halfway in between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343400" y="2971800"/>
            <a:ext cx="3808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terfly Spread Using Pu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928800" y="2255760"/>
            <a:ext cx="240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930360" y="347508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2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47206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4"/>
          <p:cNvSpPr/>
          <p:nvPr/>
        </p:nvSpPr>
        <p:spPr>
          <a:xfrm flipH="1">
            <a:off x="4000320" y="4495680"/>
            <a:ext cx="3238200" cy="5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5"/>
          <p:cNvSpPr/>
          <p:nvPr/>
        </p:nvSpPr>
        <p:spPr>
          <a:xfrm flipH="1" flipV="1">
            <a:off x="5857920" y="4929120"/>
            <a:ext cx="1380960" cy="23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4929120" y="2928960"/>
            <a:ext cx="2786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2227320" y="43434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8"/>
          <p:cNvSpPr/>
          <p:nvPr/>
        </p:nvSpPr>
        <p:spPr>
          <a:xfrm flipV="1">
            <a:off x="40561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9"/>
          <p:cNvSpPr/>
          <p:nvPr/>
        </p:nvSpPr>
        <p:spPr>
          <a:xfrm>
            <a:off x="49705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0"/>
          <p:cNvSpPr/>
          <p:nvPr/>
        </p:nvSpPr>
        <p:spPr>
          <a:xfrm>
            <a:off x="5884920" y="434340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1"/>
          <p:cNvSpPr/>
          <p:nvPr/>
        </p:nvSpPr>
        <p:spPr>
          <a:xfrm flipH="1" flipV="1">
            <a:off x="2209680" y="26668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2"/>
          <p:cNvSpPr/>
          <p:nvPr/>
        </p:nvSpPr>
        <p:spPr>
          <a:xfrm flipH="1" flipV="1">
            <a:off x="3276720" y="2362320"/>
            <a:ext cx="2590560" cy="259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3564000" y="2971800"/>
            <a:ext cx="138888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0FCE-3C70-4F99-9C53-174A90F1B23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endar Spread Using Ca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1863720" y="163836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2284560" y="2171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2284560" y="4000680"/>
            <a:ext cx="499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2268720" y="221760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6743160" y="3427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 flipV="1">
            <a:off x="5027760" y="392436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4782600" y="397044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2279520" y="3086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1"/>
          <p:cNvSpPr/>
          <p:nvPr/>
        </p:nvSpPr>
        <p:spPr>
          <a:xfrm>
            <a:off x="5022720" y="3086280"/>
            <a:ext cx="2028960" cy="20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2281320" y="4924440"/>
            <a:ext cx="3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2446200" y="4923000"/>
            <a:ext cx="42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4"/>
          <p:cNvSpPr/>
          <p:nvPr/>
        </p:nvSpPr>
        <p:spPr>
          <a:xfrm>
            <a:off x="2638440" y="49197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5"/>
          <p:cNvSpPr/>
          <p:nvPr/>
        </p:nvSpPr>
        <p:spPr>
          <a:xfrm>
            <a:off x="2828880" y="4910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3024360" y="489420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7"/>
          <p:cNvSpPr/>
          <p:nvPr/>
        </p:nvSpPr>
        <p:spPr>
          <a:xfrm>
            <a:off x="3209760" y="487512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8"/>
          <p:cNvSpPr/>
          <p:nvPr/>
        </p:nvSpPr>
        <p:spPr>
          <a:xfrm flipV="1">
            <a:off x="3400560" y="4847760"/>
            <a:ext cx="37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9"/>
          <p:cNvSpPr/>
          <p:nvPr/>
        </p:nvSpPr>
        <p:spPr>
          <a:xfrm flipV="1">
            <a:off x="3589200" y="4817880"/>
            <a:ext cx="525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0"/>
          <p:cNvSpPr/>
          <p:nvPr/>
        </p:nvSpPr>
        <p:spPr>
          <a:xfrm flipV="1">
            <a:off x="3774960" y="4784400"/>
            <a:ext cx="381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 flipV="1">
            <a:off x="3960720" y="4751280"/>
            <a:ext cx="446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2"/>
          <p:cNvSpPr/>
          <p:nvPr/>
        </p:nvSpPr>
        <p:spPr>
          <a:xfrm flipV="1">
            <a:off x="4146480" y="4708080"/>
            <a:ext cx="44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3"/>
          <p:cNvSpPr/>
          <p:nvPr/>
        </p:nvSpPr>
        <p:spPr>
          <a:xfrm flipV="1">
            <a:off x="4332240" y="4657320"/>
            <a:ext cx="396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4"/>
          <p:cNvSpPr/>
          <p:nvPr/>
        </p:nvSpPr>
        <p:spPr>
          <a:xfrm flipV="1">
            <a:off x="4514760" y="4613400"/>
            <a:ext cx="4140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5"/>
          <p:cNvSpPr/>
          <p:nvPr/>
        </p:nvSpPr>
        <p:spPr>
          <a:xfrm flipV="1">
            <a:off x="4697280" y="4552560"/>
            <a:ext cx="428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6"/>
          <p:cNvSpPr/>
          <p:nvPr/>
        </p:nvSpPr>
        <p:spPr>
          <a:xfrm flipV="1">
            <a:off x="4873680" y="4495680"/>
            <a:ext cx="4752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7"/>
          <p:cNvSpPr/>
          <p:nvPr/>
        </p:nvSpPr>
        <p:spPr>
          <a:xfrm flipV="1">
            <a:off x="5056200" y="4432320"/>
            <a:ext cx="428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5232240" y="4362480"/>
            <a:ext cx="432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9"/>
          <p:cNvSpPr/>
          <p:nvPr/>
        </p:nvSpPr>
        <p:spPr>
          <a:xfrm flipV="1">
            <a:off x="5408640" y="4286160"/>
            <a:ext cx="3816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0"/>
          <p:cNvSpPr/>
          <p:nvPr/>
        </p:nvSpPr>
        <p:spPr>
          <a:xfrm flipV="1">
            <a:off x="5583240" y="4203360"/>
            <a:ext cx="3816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1"/>
          <p:cNvSpPr/>
          <p:nvPr/>
        </p:nvSpPr>
        <p:spPr>
          <a:xfrm flipV="1">
            <a:off x="5749920" y="4117680"/>
            <a:ext cx="3960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 flipV="1">
            <a:off x="5918040" y="4022640"/>
            <a:ext cx="3816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3"/>
          <p:cNvSpPr/>
          <p:nvPr/>
        </p:nvSpPr>
        <p:spPr>
          <a:xfrm flipV="1">
            <a:off x="6078600" y="3924360"/>
            <a:ext cx="3816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4"/>
          <p:cNvSpPr/>
          <p:nvPr/>
        </p:nvSpPr>
        <p:spPr>
          <a:xfrm flipV="1">
            <a:off x="6237360" y="3822480"/>
            <a:ext cx="3636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5"/>
          <p:cNvSpPr/>
          <p:nvPr/>
        </p:nvSpPr>
        <p:spPr>
          <a:xfrm flipV="1">
            <a:off x="6392880" y="3713040"/>
            <a:ext cx="302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6"/>
          <p:cNvSpPr/>
          <p:nvPr/>
        </p:nvSpPr>
        <p:spPr>
          <a:xfrm flipV="1">
            <a:off x="6545160" y="3590640"/>
            <a:ext cx="30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7"/>
          <p:cNvSpPr/>
          <p:nvPr/>
        </p:nvSpPr>
        <p:spPr>
          <a:xfrm flipV="1">
            <a:off x="6683400" y="3467160"/>
            <a:ext cx="3960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8"/>
          <p:cNvSpPr/>
          <p:nvPr/>
        </p:nvSpPr>
        <p:spPr>
          <a:xfrm flipV="1">
            <a:off x="6821640" y="3325320"/>
            <a:ext cx="4896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9"/>
          <p:cNvSpPr/>
          <p:nvPr/>
        </p:nvSpPr>
        <p:spPr>
          <a:xfrm flipV="1">
            <a:off x="7021440" y="3130200"/>
            <a:ext cx="3816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0"/>
          <p:cNvSpPr/>
          <p:nvPr/>
        </p:nvSpPr>
        <p:spPr>
          <a:xfrm flipV="1">
            <a:off x="3033720" y="4057200"/>
            <a:ext cx="193680" cy="1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5"/>
          <p:cNvGrpSpPr/>
          <p:nvPr/>
        </p:nvGrpSpPr>
        <p:grpSpPr>
          <a:xfrm>
            <a:off x="2268360" y="3644640"/>
            <a:ext cx="2732040" cy="457560"/>
            <a:chOff x="2268360" y="3644640"/>
            <a:chExt cx="2732040" cy="457560"/>
          </a:xfrm>
        </p:grpSpPr>
        <p:sp>
          <p:nvSpPr>
            <p:cNvPr id="397" name="Line 41"/>
            <p:cNvSpPr/>
            <p:nvPr/>
          </p:nvSpPr>
          <p:spPr>
            <a:xfrm>
              <a:off x="2268360" y="4102200"/>
              <a:ext cx="160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 flipV="1">
              <a:off x="2433600" y="4096800"/>
              <a:ext cx="190440" cy="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 flipV="1">
              <a:off x="2625480" y="4087800"/>
              <a:ext cx="1987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44"/>
            <p:cNvSpPr/>
            <p:nvPr/>
          </p:nvSpPr>
          <p:spPr>
            <a:xfrm flipV="1">
              <a:off x="2816280" y="4073400"/>
              <a:ext cx="193680" cy="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45"/>
            <p:cNvSpPr/>
            <p:nvPr/>
          </p:nvSpPr>
          <p:spPr>
            <a:xfrm flipV="1">
              <a:off x="3197160" y="4030560"/>
              <a:ext cx="193680" cy="2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46"/>
            <p:cNvSpPr/>
            <p:nvPr/>
          </p:nvSpPr>
          <p:spPr>
            <a:xfrm flipV="1">
              <a:off x="3387600" y="4006800"/>
              <a:ext cx="198360" cy="2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47"/>
            <p:cNvSpPr/>
            <p:nvPr/>
          </p:nvSpPr>
          <p:spPr>
            <a:xfrm flipV="1">
              <a:off x="3576600" y="3968280"/>
              <a:ext cx="19512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8"/>
            <p:cNvSpPr/>
            <p:nvPr/>
          </p:nvSpPr>
          <p:spPr>
            <a:xfrm flipV="1">
              <a:off x="3762360" y="3935520"/>
              <a:ext cx="195120" cy="3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49"/>
            <p:cNvSpPr/>
            <p:nvPr/>
          </p:nvSpPr>
          <p:spPr>
            <a:xfrm flipV="1">
              <a:off x="3948120" y="3897360"/>
              <a:ext cx="190440" cy="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50"/>
            <p:cNvSpPr/>
            <p:nvPr/>
          </p:nvSpPr>
          <p:spPr>
            <a:xfrm flipV="1">
              <a:off x="4133880" y="3849480"/>
              <a:ext cx="190440" cy="4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51"/>
            <p:cNvSpPr/>
            <p:nvPr/>
          </p:nvSpPr>
          <p:spPr>
            <a:xfrm flipV="1">
              <a:off x="4319640" y="3801960"/>
              <a:ext cx="190440" cy="4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52"/>
            <p:cNvSpPr/>
            <p:nvPr/>
          </p:nvSpPr>
          <p:spPr>
            <a:xfrm flipV="1">
              <a:off x="4502160" y="3749400"/>
              <a:ext cx="188640" cy="50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3"/>
            <p:cNvSpPr/>
            <p:nvPr/>
          </p:nvSpPr>
          <p:spPr>
            <a:xfrm flipV="1">
              <a:off x="4684680" y="3687840"/>
              <a:ext cx="187200" cy="5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54"/>
            <p:cNvSpPr/>
            <p:nvPr/>
          </p:nvSpPr>
          <p:spPr>
            <a:xfrm flipV="1">
              <a:off x="4860720" y="3644640"/>
              <a:ext cx="13968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61"/>
          <p:cNvGrpSpPr/>
          <p:nvPr/>
        </p:nvGrpSpPr>
        <p:grpSpPr>
          <a:xfrm>
            <a:off x="5022720" y="3648240"/>
            <a:ext cx="2019600" cy="571320"/>
            <a:chOff x="5022720" y="3648240"/>
            <a:chExt cx="2019600" cy="571320"/>
          </a:xfrm>
        </p:grpSpPr>
        <p:sp>
          <p:nvSpPr>
            <p:cNvPr id="412" name="Line 56"/>
            <p:cNvSpPr/>
            <p:nvPr/>
          </p:nvSpPr>
          <p:spPr>
            <a:xfrm>
              <a:off x="5022720" y="3648240"/>
              <a:ext cx="114624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57"/>
            <p:cNvSpPr/>
            <p:nvPr/>
          </p:nvSpPr>
          <p:spPr>
            <a:xfrm>
              <a:off x="6170760" y="4110120"/>
              <a:ext cx="152280" cy="47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58"/>
            <p:cNvSpPr/>
            <p:nvPr/>
          </p:nvSpPr>
          <p:spPr>
            <a:xfrm>
              <a:off x="6313320" y="4152960"/>
              <a:ext cx="176400" cy="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59"/>
            <p:cNvSpPr/>
            <p:nvPr/>
          </p:nvSpPr>
          <p:spPr>
            <a:xfrm>
              <a:off x="6485040" y="4195800"/>
              <a:ext cx="176040" cy="1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60"/>
            <p:cNvSpPr/>
            <p:nvPr/>
          </p:nvSpPr>
          <p:spPr>
            <a:xfrm>
              <a:off x="6665760" y="4219560"/>
              <a:ext cx="376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Slide Number Placeholder 6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701E-E806-4F13-B4FF-0FAABF3143F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2320" y="1600200"/>
            <a:ext cx="21333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52680" y="5943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same K ,  but much longer 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4038480" y="48002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144792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assuming here that when the short-maturity option expires we sell the longer-maturity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90720" y="15238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 position (long or short) in several options of different type (calls and 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raddle Combin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219888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6930360" y="40464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4712760" y="40464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 flipH="1">
            <a:off x="2209680" y="44956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1"/>
          <p:cNvSpPr/>
          <p:nvPr/>
        </p:nvSpPr>
        <p:spPr>
          <a:xfrm flipV="1">
            <a:off x="4952880" y="2209680"/>
            <a:ext cx="2286000" cy="228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4952880" y="4952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 flipH="1" flipV="1">
            <a:off x="2666880" y="2666880"/>
            <a:ext cx="2286000" cy="228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4"/>
          <p:cNvSpPr/>
          <p:nvPr/>
        </p:nvSpPr>
        <p:spPr>
          <a:xfrm flipV="1">
            <a:off x="4952880" y="3124080"/>
            <a:ext cx="2286000" cy="228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 flipH="1" flipV="1">
            <a:off x="2195640" y="2637000"/>
            <a:ext cx="2743200" cy="2743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7B7E-1E5D-49DB-AA6D-94CDA3DFF33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9907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buy a call and a put with same K, same expiration; Good if you expect a big change in the stock price (not sure which way will go how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2674-C4A1-4007-B9C0-E874B68D77F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 &amp; Stra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28880" y="1634760"/>
            <a:ext cx="35049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"/>
          <p:cNvSpPr/>
          <p:nvPr/>
        </p:nvSpPr>
        <p:spPr>
          <a:xfrm>
            <a:off x="1486080" y="23623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1486080" y="45720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47024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688840" y="40086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915720" y="40086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"/>
          <p:cNvSpPr/>
          <p:nvPr/>
        </p:nvSpPr>
        <p:spPr>
          <a:xfrm flipV="1">
            <a:off x="2857680" y="44956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"/>
          <p:cNvSpPr/>
          <p:nvPr/>
        </p:nvSpPr>
        <p:spPr>
          <a:xfrm flipV="1">
            <a:off x="2857680" y="3581280"/>
            <a:ext cx="1447560" cy="144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1"/>
          <p:cNvSpPr/>
          <p:nvPr/>
        </p:nvSpPr>
        <p:spPr>
          <a:xfrm flipH="1" flipV="1">
            <a:off x="1825200" y="2707920"/>
            <a:ext cx="1032120" cy="232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2"/>
          <p:cNvSpPr/>
          <p:nvPr/>
        </p:nvSpPr>
        <p:spPr>
          <a:xfrm>
            <a:off x="4915080" y="23623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3"/>
          <p:cNvSpPr/>
          <p:nvPr/>
        </p:nvSpPr>
        <p:spPr>
          <a:xfrm>
            <a:off x="4915080" y="45720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89924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6117840" y="40086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7344720" y="40086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7"/>
          <p:cNvSpPr/>
          <p:nvPr/>
        </p:nvSpPr>
        <p:spPr>
          <a:xfrm flipV="1">
            <a:off x="6286680" y="44956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8"/>
          <p:cNvSpPr/>
          <p:nvPr/>
        </p:nvSpPr>
        <p:spPr>
          <a:xfrm flipH="1" flipV="1">
            <a:off x="4915080" y="3657600"/>
            <a:ext cx="137160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9"/>
          <p:cNvSpPr/>
          <p:nvPr/>
        </p:nvSpPr>
        <p:spPr>
          <a:xfrm flipV="1">
            <a:off x="6286680" y="2458800"/>
            <a:ext cx="1143000" cy="2570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2536560" y="5380200"/>
            <a:ext cx="1020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5889600" y="5380200"/>
            <a:ext cx="115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CC67-39B0-462D-9523-0536B2E70AF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219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p: long position in 1 call + 2 puts; same K, sa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1219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p: long position in 2 calls + 1 put; same K, sa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rangle Combin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19816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930360" y="4084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 flipH="1" flipV="1">
            <a:off x="4000680" y="4714920"/>
            <a:ext cx="3085920" cy="9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 flipH="1" flipV="1">
            <a:off x="2209680" y="28954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 flipH="1">
            <a:off x="220968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 flipV="1">
            <a:off x="5867280" y="3200400"/>
            <a:ext cx="1295640" cy="129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 flipH="1" flipV="1">
            <a:off x="2209680" y="3352680"/>
            <a:ext cx="1828800" cy="18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 flipV="1">
            <a:off x="5867280" y="3505320"/>
            <a:ext cx="1676520" cy="1676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 flipH="1">
            <a:off x="4038480" y="5181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4974-CB60-465C-9D0F-061161F86E3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13716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 + long put with same T, different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219320" y="990720"/>
            <a:ext cx="6629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Binomial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Simple Binomial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ock price is currently $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ree months it will be either $22 or $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"/>
          <p:cNvSpPr/>
          <p:nvPr/>
        </p:nvSpPr>
        <p:spPr>
          <a:xfrm flipV="1">
            <a:off x="3338640" y="4035600"/>
            <a:ext cx="2111400" cy="61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"/>
          <p:cNvSpPr/>
          <p:nvPr/>
        </p:nvSpPr>
        <p:spPr>
          <a:xfrm>
            <a:off x="3338640" y="4626000"/>
            <a:ext cx="2111400" cy="617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5657760" y="3719520"/>
            <a:ext cx="28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572080" y="5057640"/>
            <a:ext cx="3314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571680" y="4519440"/>
            <a:ext cx="284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8270-CD27-4807-A7F3-E467AD137D2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2"/>
          <p:cNvSpPr/>
          <p:nvPr/>
        </p:nvSpPr>
        <p:spPr>
          <a:xfrm flipV="1">
            <a:off x="3338640" y="3595320"/>
            <a:ext cx="2111400" cy="816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3338640" y="4375080"/>
            <a:ext cx="2111400" cy="816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5657760" y="3193920"/>
            <a:ext cx="28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Price = $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5572080" y="4702320"/>
            <a:ext cx="331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Price = $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685800" y="4029120"/>
            <a:ext cx="273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Price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Call Op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868400"/>
            <a:ext cx="8534160" cy="42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3-month call option on the stock has a strike price of $ 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5702-4A21-4659-8177-EC5A22788E4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401600">
            <a:off x="653760" y="4946400"/>
            <a:ext cx="1143000" cy="1295280"/>
          </a:xfrm>
          <a:prstGeom prst="upArrow">
            <a:avLst>
              <a:gd name="adj1" fmla="val 50000"/>
              <a:gd name="adj2" fmla="val 28331"/>
            </a:avLst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1571760"/>
            <a:ext cx="7772400" cy="28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Portfol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a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1 call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folio is riskless when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1 = 18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2481120" y="2803680"/>
            <a:ext cx="4219560" cy="1655280"/>
            <a:chOff x="2481120" y="2803680"/>
            <a:chExt cx="4219560" cy="1655280"/>
          </a:xfrm>
        </p:grpSpPr>
        <p:sp>
          <p:nvSpPr>
            <p:cNvPr id="503" name="Line 3"/>
            <p:cNvSpPr/>
            <p:nvPr/>
          </p:nvSpPr>
          <p:spPr>
            <a:xfrm>
              <a:off x="3487680" y="3556080"/>
              <a:ext cx="2005200" cy="63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5415120" y="2803680"/>
              <a:ext cx="128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5453280" y="400068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2481120" y="3390840"/>
              <a:ext cx="11588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7"/>
            <p:cNvSpPr/>
            <p:nvPr/>
          </p:nvSpPr>
          <p:spPr>
            <a:xfrm flipV="1">
              <a:off x="3487680" y="2916000"/>
              <a:ext cx="2005200" cy="6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Set Up a Riskless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9F4B-477B-48B3-878E-94DD9EF42C6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7913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value of the portfolio is the same no matter what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uing the Portfolio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isk-Free Rate is 1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87440" y="1647720"/>
            <a:ext cx="816912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kless portfolio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0.25 sh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1 call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portfolio in 3 months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5 – 1 = $ 4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portfolio today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– 0.12 x0.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$ 4.36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0434-FC8A-43F3-9BC5-960F5267765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63244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ly,  18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8 x  .25  =  $  4.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648320" y="4267080"/>
            <a:ext cx="1828800" cy="198144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We Value the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7143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folio tha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 0.25 sh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 1 o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orth $ 4.367  (TO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shares i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5.000 (.25 x $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option is therefor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– c = $4.367 implie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AEC3-D1F5-4FBB-83D4-FF113E2CCC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60958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=  $0.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9200" y="160020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ivative lasts for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s dependent on a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4129920" y="3627360"/>
            <a:ext cx="2978280" cy="2582640"/>
            <a:chOff x="4129920" y="3627360"/>
            <a:chExt cx="2978280" cy="2582640"/>
          </a:xfrm>
        </p:grpSpPr>
        <p:sp>
          <p:nvSpPr>
            <p:cNvPr id="523" name="Line 4"/>
            <p:cNvSpPr/>
            <p:nvPr/>
          </p:nvSpPr>
          <p:spPr>
            <a:xfrm flipV="1">
              <a:off x="4527720" y="4146120"/>
              <a:ext cx="200484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5"/>
            <p:cNvSpPr/>
            <p:nvPr/>
          </p:nvSpPr>
          <p:spPr>
            <a:xfrm>
              <a:off x="4527720" y="4876920"/>
              <a:ext cx="200484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6499440" y="3627360"/>
              <a:ext cx="60876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6499440" y="5075280"/>
              <a:ext cx="60876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4129920" y="438948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7E42-D99B-445C-9EEB-33A99D2C3B8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14400" y="3505320"/>
            <a:ext cx="20574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price of stock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value of optio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39625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05120" y="5105520"/>
            <a:ext cx="220968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624852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  &gt; 1  and   d &l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07880" y="251460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from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086240" y="31240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009920" y="3200400"/>
            <a:ext cx="7621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portfolio that is lo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ares and short 1 deri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folio is riskles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0"/>
              <p:cNvSpPr txBox="1"/>
              <p:nvPr/>
            </p:nvSpPr>
            <p:spPr>
              <a:xfrm>
                <a:off x="3541680" y="5105520"/>
                <a:ext cx="2289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ƒ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9" name="Line 5"/>
          <p:cNvSpPr/>
          <p:nvPr/>
        </p:nvSpPr>
        <p:spPr>
          <a:xfrm>
            <a:off x="2971800" y="3371760"/>
            <a:ext cx="1857240" cy="371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5000760" y="2657520"/>
            <a:ext cx="1674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4943520" y="3600360"/>
            <a:ext cx="1847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2292480" y="337176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 flipV="1">
            <a:off x="2841480" y="2914560"/>
            <a:ext cx="21304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90FF-9145-4C24-8195-B1FF1F43324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9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9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9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10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022E-9456-450F-A745-531DA28DD0C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990720"/>
            <a:ext cx="1219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09680" y="1371600"/>
            <a:ext cx="9907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10080" y="1523880"/>
            <a:ext cx="990720" cy="266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01480" y="1790640"/>
            <a:ext cx="634212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the portfolio 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the portfolio today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pression for the portfolio value today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D885-1498-45C2-8D4C-9A3A677E6B5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705720" y="4191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5334120" y="3809520"/>
            <a:ext cx="2286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14480" y="2028960"/>
            <a:ext cx="1046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ob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ƒ = [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ƒ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ƒ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5"/>
              <p:cNvSpPr txBox="1"/>
              <p:nvPr/>
            </p:nvSpPr>
            <p:spPr>
              <a:xfrm>
                <a:off x="2362320" y="4419720"/>
                <a:ext cx="29718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7A64-0C70-4221-8526-9929AADCC12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k-Neutral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53828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 = [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can be interpreted as the risk-neutral probabilities of up and down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a derivativ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expected payoff in a risk-neutral world discounted at the risk-fre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9"/>
          <p:cNvGrpSpPr/>
          <p:nvPr/>
        </p:nvGrpSpPr>
        <p:grpSpPr>
          <a:xfrm>
            <a:off x="3401280" y="3716280"/>
            <a:ext cx="2989080" cy="2582640"/>
            <a:chOff x="3401280" y="3716280"/>
            <a:chExt cx="2989080" cy="2582640"/>
          </a:xfrm>
        </p:grpSpPr>
        <p:sp>
          <p:nvSpPr>
            <p:cNvPr id="558" name="Line 4"/>
            <p:cNvSpPr/>
            <p:nvPr/>
          </p:nvSpPr>
          <p:spPr>
            <a:xfrm flipV="1">
              <a:off x="3798720" y="4235040"/>
              <a:ext cx="200520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5"/>
            <p:cNvSpPr/>
            <p:nvPr/>
          </p:nvSpPr>
          <p:spPr>
            <a:xfrm>
              <a:off x="3798720" y="4965840"/>
              <a:ext cx="200520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6"/>
            <p:cNvSpPr/>
            <p:nvPr/>
          </p:nvSpPr>
          <p:spPr>
            <a:xfrm>
              <a:off x="5771160" y="3716280"/>
              <a:ext cx="61920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7"/>
            <p:cNvSpPr/>
            <p:nvPr/>
          </p:nvSpPr>
          <p:spPr>
            <a:xfrm>
              <a:off x="5771160" y="5164200"/>
              <a:ext cx="61920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"/>
            <p:cNvSpPr/>
            <p:nvPr/>
          </p:nvSpPr>
          <p:spPr>
            <a:xfrm>
              <a:off x="3401280" y="447840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0"/>
          <p:cNvSpPr/>
          <p:nvPr/>
        </p:nvSpPr>
        <p:spPr>
          <a:xfrm rot="20400000">
            <a:off x="4518360" y="40622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 rot="1140000">
            <a:off x="3808080" y="5395320"/>
            <a:ext cx="142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C9C8-76A0-4715-9CAB-31EAB60F329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rrelevance of Stock’s Expected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87440" y="160020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are valuing an option in terms of the underlying stock the expected return on the stock is ir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FDA5-B9B6-4CAF-A1FD-62F36F36B6A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al Example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653904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isk-neutral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.12 x0.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8(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5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we can use the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0"/>
              <p:cNvSpPr txBox="1"/>
              <p:nvPr/>
            </p:nvSpPr>
            <p:spPr>
              <a:xfrm>
                <a:off x="2133720" y="4800600"/>
                <a:ext cx="46479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Line 5"/>
          <p:cNvSpPr/>
          <p:nvPr/>
        </p:nvSpPr>
        <p:spPr>
          <a:xfrm flipV="1">
            <a:off x="3959280" y="1654200"/>
            <a:ext cx="2004840" cy="73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6"/>
          <p:cNvSpPr/>
          <p:nvPr/>
        </p:nvSpPr>
        <p:spPr>
          <a:xfrm>
            <a:off x="3959280" y="2384280"/>
            <a:ext cx="2004840" cy="73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5923440" y="1225440"/>
            <a:ext cx="11772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6029280" y="2571840"/>
            <a:ext cx="16858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3561480" y="1987560"/>
            <a:ext cx="42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 rot="20400000">
            <a:off x="4706640" y="15714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 rot="1140000">
            <a:off x="4188240" y="2793600"/>
            <a:ext cx="11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0F9F-9ECE-4B41-A865-A7A703BC43B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ing the Option Using Risk-Neutral 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op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–0.12x0.25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 0.6523x1 + 0.3477x0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6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11"/>
          <p:cNvGrpSpPr/>
          <p:nvPr/>
        </p:nvGrpSpPr>
        <p:grpSpPr>
          <a:xfrm>
            <a:off x="3504960" y="1920960"/>
            <a:ext cx="3538440" cy="2322000"/>
            <a:chOff x="3504960" y="1920960"/>
            <a:chExt cx="3538440" cy="2322000"/>
          </a:xfrm>
        </p:grpSpPr>
        <p:sp>
          <p:nvSpPr>
            <p:cNvPr id="583" name="Line 4"/>
            <p:cNvSpPr/>
            <p:nvPr/>
          </p:nvSpPr>
          <p:spPr>
            <a:xfrm flipV="1">
              <a:off x="3902040" y="2349000"/>
              <a:ext cx="200520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3902040" y="3079800"/>
              <a:ext cx="200520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6"/>
            <p:cNvSpPr/>
            <p:nvPr/>
          </p:nvSpPr>
          <p:spPr>
            <a:xfrm>
              <a:off x="5866200" y="1920960"/>
              <a:ext cx="117720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7"/>
            <p:cNvSpPr/>
            <p:nvPr/>
          </p:nvSpPr>
          <p:spPr>
            <a:xfrm>
              <a:off x="5866200" y="3368520"/>
              <a:ext cx="117720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8"/>
            <p:cNvSpPr/>
            <p:nvPr/>
          </p:nvSpPr>
          <p:spPr>
            <a:xfrm>
              <a:off x="3504960" y="2682720"/>
              <a:ext cx="337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9"/>
            <p:cNvSpPr/>
            <p:nvPr/>
          </p:nvSpPr>
          <p:spPr>
            <a:xfrm rot="20400000">
              <a:off x="3870360" y="230328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65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0"/>
            <p:cNvSpPr/>
            <p:nvPr/>
          </p:nvSpPr>
          <p:spPr>
            <a:xfrm rot="1140000">
              <a:off x="3873240" y="352260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34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9FE8-60B5-46E1-908C-2BB33EC587A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5486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value as before,  no arbitrage AND risk-neutral approach give sam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3047760" y="5638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-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wo-Step Examp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809720" y="1099800"/>
            <a:ext cx="5494320" cy="49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step is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20"/>
          <p:cNvGrpSpPr/>
          <p:nvPr/>
        </p:nvGrpSpPr>
        <p:grpSpPr>
          <a:xfrm>
            <a:off x="2262240" y="1149480"/>
            <a:ext cx="5324040" cy="3408840"/>
            <a:chOff x="2262240" y="1149480"/>
            <a:chExt cx="5324040" cy="3408840"/>
          </a:xfrm>
        </p:grpSpPr>
        <p:sp>
          <p:nvSpPr>
            <p:cNvPr id="596" name="Rectangle 4"/>
            <p:cNvSpPr/>
            <p:nvPr/>
          </p:nvSpPr>
          <p:spPr>
            <a:xfrm>
              <a:off x="2262240" y="25797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4"/>
            <p:cNvGrpSpPr/>
            <p:nvPr/>
          </p:nvGrpSpPr>
          <p:grpSpPr>
            <a:xfrm>
              <a:off x="2754360" y="1398600"/>
              <a:ext cx="3979800" cy="2889360"/>
              <a:chOff x="2754360" y="1398600"/>
              <a:chExt cx="3979800" cy="2889360"/>
            </a:xfrm>
          </p:grpSpPr>
          <p:grpSp>
            <p:nvGrpSpPr>
              <p:cNvPr id="598" name="Group 7"/>
              <p:cNvGrpSpPr/>
              <p:nvPr/>
            </p:nvGrpSpPr>
            <p:grpSpPr>
              <a:xfrm>
                <a:off x="2754360" y="2112480"/>
                <a:ext cx="2004840" cy="1460880"/>
                <a:chOff x="2754360" y="2112480"/>
                <a:chExt cx="2004840" cy="1460880"/>
              </a:xfrm>
            </p:grpSpPr>
            <p:sp>
              <p:nvSpPr>
                <p:cNvPr id="599" name="Line 5"/>
                <p:cNvSpPr/>
                <p:nvPr/>
              </p:nvSpPr>
              <p:spPr>
                <a:xfrm flipV="1">
                  <a:off x="2754360" y="2112480"/>
                  <a:ext cx="200484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6"/>
                <p:cNvSpPr/>
                <p:nvPr/>
              </p:nvSpPr>
              <p:spPr>
                <a:xfrm>
                  <a:off x="2754360" y="2843280"/>
                  <a:ext cx="200484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10"/>
              <p:cNvGrpSpPr/>
              <p:nvPr/>
            </p:nvGrpSpPr>
            <p:grpSpPr>
              <a:xfrm>
                <a:off x="4729320" y="1398600"/>
                <a:ext cx="2004840" cy="1460520"/>
                <a:chOff x="4729320" y="1398600"/>
                <a:chExt cx="2004840" cy="1460520"/>
              </a:xfrm>
            </p:grpSpPr>
            <p:sp>
              <p:nvSpPr>
                <p:cNvPr id="602" name="Line 8"/>
                <p:cNvSpPr/>
                <p:nvPr/>
              </p:nvSpPr>
              <p:spPr>
                <a:xfrm flipV="1">
                  <a:off x="4729320" y="1398600"/>
                  <a:ext cx="200484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9"/>
                <p:cNvSpPr/>
                <p:nvPr/>
              </p:nvSpPr>
              <p:spPr>
                <a:xfrm>
                  <a:off x="4729320" y="2128680"/>
                  <a:ext cx="200484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13"/>
              <p:cNvGrpSpPr/>
              <p:nvPr/>
            </p:nvGrpSpPr>
            <p:grpSpPr>
              <a:xfrm>
                <a:off x="4719600" y="2827440"/>
                <a:ext cx="2005200" cy="1460520"/>
                <a:chOff x="4719600" y="2827440"/>
                <a:chExt cx="2005200" cy="1460520"/>
              </a:xfrm>
            </p:grpSpPr>
            <p:sp>
              <p:nvSpPr>
                <p:cNvPr id="605" name="Line 11"/>
                <p:cNvSpPr/>
                <p:nvPr/>
              </p:nvSpPr>
              <p:spPr>
                <a:xfrm flipV="1">
                  <a:off x="4719600" y="2827440"/>
                  <a:ext cx="200520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"/>
                <p:cNvSpPr/>
                <p:nvPr/>
              </p:nvSpPr>
              <p:spPr>
                <a:xfrm>
                  <a:off x="4719600" y="3557520"/>
                  <a:ext cx="200520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7" name="Rectangle 15"/>
            <p:cNvSpPr/>
            <p:nvPr/>
          </p:nvSpPr>
          <p:spPr>
            <a:xfrm>
              <a:off x="4311720" y="16495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6"/>
            <p:cNvSpPr/>
            <p:nvPr/>
          </p:nvSpPr>
          <p:spPr>
            <a:xfrm>
              <a:off x="4326120" y="353520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7"/>
            <p:cNvSpPr/>
            <p:nvPr/>
          </p:nvSpPr>
          <p:spPr>
            <a:xfrm>
              <a:off x="6611760" y="114948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8"/>
            <p:cNvSpPr/>
            <p:nvPr/>
          </p:nvSpPr>
          <p:spPr>
            <a:xfrm>
              <a:off x="6611760" y="256392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.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6611760" y="397836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6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Slide Number Placeholder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2209-C259-4A97-914E-0454BB893B0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ing a Call Op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931680"/>
            <a:ext cx="7548480" cy="50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t nod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0.12x0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6523x3.2 + 0.3477x0) = 2.0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t nod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0.12x0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6523x2.0257 + 0.3477x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1.28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2132640" y="2290680"/>
            <a:ext cx="11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8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4"/>
          <p:cNvGrpSpPr/>
          <p:nvPr/>
        </p:nvGrpSpPr>
        <p:grpSpPr>
          <a:xfrm>
            <a:off x="3044880" y="1590480"/>
            <a:ext cx="3979440" cy="2213280"/>
            <a:chOff x="3044880" y="1590480"/>
            <a:chExt cx="3979440" cy="2213280"/>
          </a:xfrm>
        </p:grpSpPr>
        <p:grpSp>
          <p:nvGrpSpPr>
            <p:cNvPr id="617" name="Group 7"/>
            <p:cNvGrpSpPr/>
            <p:nvPr/>
          </p:nvGrpSpPr>
          <p:grpSpPr>
            <a:xfrm>
              <a:off x="3044880" y="2138040"/>
              <a:ext cx="2004840" cy="1119600"/>
              <a:chOff x="3044880" y="2138040"/>
              <a:chExt cx="2004840" cy="1119600"/>
            </a:xfrm>
          </p:grpSpPr>
          <p:sp>
            <p:nvSpPr>
              <p:cNvPr id="618" name="Line 5"/>
              <p:cNvSpPr/>
              <p:nvPr/>
            </p:nvSpPr>
            <p:spPr>
              <a:xfrm flipV="1">
                <a:off x="3044880" y="2138040"/>
                <a:ext cx="2004840" cy="55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6"/>
              <p:cNvSpPr/>
              <p:nvPr/>
            </p:nvSpPr>
            <p:spPr>
              <a:xfrm>
                <a:off x="3044880" y="2697480"/>
                <a:ext cx="2004840" cy="56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0"/>
            <p:cNvGrpSpPr/>
            <p:nvPr/>
          </p:nvGrpSpPr>
          <p:grpSpPr>
            <a:xfrm>
              <a:off x="5019480" y="1590480"/>
              <a:ext cx="2004840" cy="1119600"/>
              <a:chOff x="5019480" y="1590480"/>
              <a:chExt cx="2004840" cy="1119600"/>
            </a:xfrm>
          </p:grpSpPr>
          <p:sp>
            <p:nvSpPr>
              <p:cNvPr id="621" name="Line 8"/>
              <p:cNvSpPr/>
              <p:nvPr/>
            </p:nvSpPr>
            <p:spPr>
              <a:xfrm flipV="1">
                <a:off x="5019480" y="1590480"/>
                <a:ext cx="2004840" cy="56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9"/>
              <p:cNvSpPr/>
              <p:nvPr/>
            </p:nvSpPr>
            <p:spPr>
              <a:xfrm>
                <a:off x="5019480" y="2151360"/>
                <a:ext cx="2004840" cy="55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3"/>
            <p:cNvGrpSpPr/>
            <p:nvPr/>
          </p:nvGrpSpPr>
          <p:grpSpPr>
            <a:xfrm>
              <a:off x="5010120" y="2684160"/>
              <a:ext cx="2004480" cy="1119600"/>
              <a:chOff x="5010120" y="2684160"/>
              <a:chExt cx="2004480" cy="1119600"/>
            </a:xfrm>
          </p:grpSpPr>
          <p:sp>
            <p:nvSpPr>
              <p:cNvPr id="624" name="Line 11"/>
              <p:cNvSpPr/>
              <p:nvPr/>
            </p:nvSpPr>
            <p:spPr>
              <a:xfrm flipV="1">
                <a:off x="5010120" y="2684160"/>
                <a:ext cx="2004480" cy="56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2"/>
              <p:cNvSpPr/>
              <p:nvPr/>
            </p:nvSpPr>
            <p:spPr>
              <a:xfrm>
                <a:off x="5010120" y="3245040"/>
                <a:ext cx="2004480" cy="55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Rectangle 15"/>
          <p:cNvSpPr/>
          <p:nvPr/>
        </p:nvSpPr>
        <p:spPr>
          <a:xfrm>
            <a:off x="4729320" y="17146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6"/>
          <p:cNvSpPr/>
          <p:nvPr/>
        </p:nvSpPr>
        <p:spPr>
          <a:xfrm>
            <a:off x="4829400" y="28224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6846840" y="114300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6846840" y="224640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9"/>
          <p:cNvSpPr/>
          <p:nvPr/>
        </p:nvSpPr>
        <p:spPr>
          <a:xfrm>
            <a:off x="6846840" y="338472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4474080" y="2309760"/>
            <a:ext cx="111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4790880" y="333216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3375000" y="250668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5410080" y="19843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5410080" y="30718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5"/>
          <p:cNvSpPr/>
          <p:nvPr/>
        </p:nvSpPr>
        <p:spPr>
          <a:xfrm>
            <a:off x="6249600" y="139068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6"/>
          <p:cNvSpPr/>
          <p:nvPr/>
        </p:nvSpPr>
        <p:spPr>
          <a:xfrm>
            <a:off x="6172200" y="251460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6314760" y="3714840"/>
            <a:ext cx="34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2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7F20-4C68-4726-B729-4E68B04F24D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ut Option Example;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5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32040" y="1599840"/>
            <a:ext cx="324000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2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y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28"/>
          <p:cNvGrpSpPr/>
          <p:nvPr/>
        </p:nvGrpSpPr>
        <p:grpSpPr>
          <a:xfrm>
            <a:off x="2486160" y="2263680"/>
            <a:ext cx="5277960" cy="3065760"/>
            <a:chOff x="2486160" y="2263680"/>
            <a:chExt cx="5277960" cy="3065760"/>
          </a:xfrm>
        </p:grpSpPr>
        <p:sp>
          <p:nvSpPr>
            <p:cNvPr id="643" name="Rectangle 4"/>
            <p:cNvSpPr/>
            <p:nvPr/>
          </p:nvSpPr>
          <p:spPr>
            <a:xfrm>
              <a:off x="2486160" y="3411360"/>
              <a:ext cx="111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19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14"/>
            <p:cNvGrpSpPr/>
            <p:nvPr/>
          </p:nvGrpSpPr>
          <p:grpSpPr>
            <a:xfrm>
              <a:off x="3397320" y="2711520"/>
              <a:ext cx="3979800" cy="2212920"/>
              <a:chOff x="3397320" y="2711520"/>
              <a:chExt cx="3979800" cy="2212920"/>
            </a:xfrm>
          </p:grpSpPr>
          <p:grpSp>
            <p:nvGrpSpPr>
              <p:cNvPr id="645" name="Group 7"/>
              <p:cNvGrpSpPr/>
              <p:nvPr/>
            </p:nvGrpSpPr>
            <p:grpSpPr>
              <a:xfrm>
                <a:off x="3397320" y="3259080"/>
                <a:ext cx="2004840" cy="1119240"/>
                <a:chOff x="3397320" y="3259080"/>
                <a:chExt cx="2004840" cy="1119240"/>
              </a:xfrm>
            </p:grpSpPr>
            <p:sp>
              <p:nvSpPr>
                <p:cNvPr id="646" name="Line 5"/>
                <p:cNvSpPr/>
                <p:nvPr/>
              </p:nvSpPr>
              <p:spPr>
                <a:xfrm flipV="1">
                  <a:off x="3397320" y="3259080"/>
                  <a:ext cx="2004840" cy="55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Line 6"/>
                <p:cNvSpPr/>
                <p:nvPr/>
              </p:nvSpPr>
              <p:spPr>
                <a:xfrm>
                  <a:off x="3397320" y="3817800"/>
                  <a:ext cx="2004840" cy="560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Group 10"/>
              <p:cNvGrpSpPr/>
              <p:nvPr/>
            </p:nvGrpSpPr>
            <p:grpSpPr>
              <a:xfrm>
                <a:off x="5372280" y="2711520"/>
                <a:ext cx="2004840" cy="1119240"/>
                <a:chOff x="5372280" y="2711520"/>
                <a:chExt cx="2004840" cy="1119240"/>
              </a:xfrm>
            </p:grpSpPr>
            <p:sp>
              <p:nvSpPr>
                <p:cNvPr id="649" name="Line 8"/>
                <p:cNvSpPr/>
                <p:nvPr/>
              </p:nvSpPr>
              <p:spPr>
                <a:xfrm flipV="1">
                  <a:off x="5372280" y="2711520"/>
                  <a:ext cx="2004840" cy="560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9"/>
                <p:cNvSpPr/>
                <p:nvPr/>
              </p:nvSpPr>
              <p:spPr>
                <a:xfrm>
                  <a:off x="5372280" y="3271680"/>
                  <a:ext cx="2004840" cy="559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13"/>
              <p:cNvGrpSpPr/>
              <p:nvPr/>
            </p:nvGrpSpPr>
            <p:grpSpPr>
              <a:xfrm>
                <a:off x="5362560" y="3804840"/>
                <a:ext cx="2005200" cy="1119600"/>
                <a:chOff x="5362560" y="3804840"/>
                <a:chExt cx="2005200" cy="1119600"/>
              </a:xfrm>
            </p:grpSpPr>
            <p:sp>
              <p:nvSpPr>
                <p:cNvPr id="652" name="Line 11"/>
                <p:cNvSpPr/>
                <p:nvPr/>
              </p:nvSpPr>
              <p:spPr>
                <a:xfrm flipV="1">
                  <a:off x="5362560" y="3804840"/>
                  <a:ext cx="2005200" cy="560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"/>
                <p:cNvSpPr/>
                <p:nvPr/>
              </p:nvSpPr>
              <p:spPr>
                <a:xfrm>
                  <a:off x="5362560" y="4365720"/>
                  <a:ext cx="2005200" cy="55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Rectangle 15"/>
            <p:cNvSpPr/>
            <p:nvPr/>
          </p:nvSpPr>
          <p:spPr>
            <a:xfrm>
              <a:off x="5081760" y="283536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5181840" y="394344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7240680" y="226368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7240680" y="336708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9"/>
            <p:cNvSpPr/>
            <p:nvPr/>
          </p:nvSpPr>
          <p:spPr>
            <a:xfrm>
              <a:off x="7240680" y="450540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0"/>
            <p:cNvSpPr/>
            <p:nvPr/>
          </p:nvSpPr>
          <p:spPr>
            <a:xfrm>
              <a:off x="4826160" y="343044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41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1"/>
            <p:cNvSpPr/>
            <p:nvPr/>
          </p:nvSpPr>
          <p:spPr>
            <a:xfrm>
              <a:off x="4869000" y="449568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.46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2"/>
            <p:cNvSpPr/>
            <p:nvPr/>
          </p:nvSpPr>
          <p:spPr>
            <a:xfrm>
              <a:off x="3727440" y="362736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3"/>
            <p:cNvSpPr/>
            <p:nvPr/>
          </p:nvSpPr>
          <p:spPr>
            <a:xfrm>
              <a:off x="5694480" y="310500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4"/>
            <p:cNvSpPr/>
            <p:nvPr/>
          </p:nvSpPr>
          <p:spPr>
            <a:xfrm>
              <a:off x="5654160" y="419256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5"/>
            <p:cNvSpPr/>
            <p:nvPr/>
          </p:nvSpPr>
          <p:spPr>
            <a:xfrm>
              <a:off x="6602040" y="251136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6"/>
            <p:cNvSpPr/>
            <p:nvPr/>
          </p:nvSpPr>
          <p:spPr>
            <a:xfrm>
              <a:off x="6411960" y="366084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27"/>
            <p:cNvSpPr/>
            <p:nvPr/>
          </p:nvSpPr>
          <p:spPr>
            <a:xfrm>
              <a:off x="6667200" y="483552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Slide Number Placeholder 3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483C-16CD-460E-B0CF-8F7108087C7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92240" y="1600200"/>
            <a:ext cx="6959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ratio of the change in the price of a stock option to the change in the price of the underlying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es from node to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4B96-6871-4F10-A668-3E1554A505A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143000"/>
            <a:ext cx="678168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 strategies us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that the underlying asset is a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tions are of the Europea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investigate different payoff functions (payoff =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(stock price) = F 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implicity we will assume that Profit = Payoff – co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matching the volatility is t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. This is the approach used by Cox, Ross, and Rub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1024"/>
              <p:cNvSpPr txBox="1"/>
              <p:nvPr/>
            </p:nvSpPr>
            <p:spPr>
              <a:xfrm>
                <a:off x="2752560" y="2638440"/>
                <a:ext cx="3106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AD54-74FB-4D28-B1CB-4557BE64CC9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12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4"/>
              <p:cNvSpPr txBox="1"/>
              <p:nvPr/>
            </p:nvSpPr>
            <p:spPr>
              <a:xfrm>
                <a:off x="1635120" y="2160720"/>
                <a:ext cx="5832360" cy="34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ACC7-2A0F-4D7C-9149-5B90A8824C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1716120" y="1785960"/>
            <a:ext cx="1440" cy="207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1716120" y="2887560"/>
            <a:ext cx="23749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752480" y="193500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784680" y="2894040"/>
            <a:ext cx="51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631960" y="2924280"/>
            <a:ext cx="31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 flipV="1">
            <a:off x="1716120" y="2541600"/>
            <a:ext cx="1114560" cy="1055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2843280" y="2565360"/>
            <a:ext cx="826920" cy="1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2825640" y="2840040"/>
            <a:ext cx="1800" cy="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1720800" y="277956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825640" y="2760840"/>
            <a:ext cx="851040" cy="804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 flipH="1">
            <a:off x="1720440" y="1854360"/>
            <a:ext cx="1941480" cy="1836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1828800"/>
            <a:ext cx="3200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osition in a stock + a short position in a call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657240" y="2133720"/>
            <a:ext cx="19810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057400" y="34286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 flipH="1">
            <a:off x="3236760" y="2817720"/>
            <a:ext cx="1843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9"/>
          <p:cNvSpPr/>
          <p:nvPr/>
        </p:nvSpPr>
        <p:spPr>
          <a:xfrm flipH="1">
            <a:off x="5978520" y="362268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1278000" y="1709640"/>
            <a:ext cx="0" cy="207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1278000" y="2811600"/>
            <a:ext cx="23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1371600" y="1752480"/>
            <a:ext cx="106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363840" y="2817720"/>
            <a:ext cx="51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187720" y="236844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405160" y="3137040"/>
            <a:ext cx="768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 flipH="1" flipV="1">
            <a:off x="1287360" y="2073240"/>
            <a:ext cx="1121040" cy="1060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1287360" y="2919240"/>
            <a:ext cx="111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 flipV="1">
            <a:off x="2400480" y="2214360"/>
            <a:ext cx="744480" cy="704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1287360" y="1944720"/>
            <a:ext cx="193068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5"/>
          <p:cNvSpPr/>
          <p:nvPr/>
        </p:nvSpPr>
        <p:spPr>
          <a:xfrm flipV="1">
            <a:off x="2400480" y="276840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 + short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9"/>
          <p:cNvSpPr/>
          <p:nvPr/>
        </p:nvSpPr>
        <p:spPr>
          <a:xfrm flipH="1">
            <a:off x="5978520" y="362268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1030320" y="1830240"/>
            <a:ext cx="0" cy="20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1049400" y="2916360"/>
            <a:ext cx="23558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1073160" y="1752480"/>
            <a:ext cx="83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3103560" y="2922480"/>
            <a:ext cx="506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981080" y="2467080"/>
            <a:ext cx="38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015920" y="3019320"/>
            <a:ext cx="11318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 flipV="1">
            <a:off x="2176560" y="2288880"/>
            <a:ext cx="776160" cy="73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2184480" y="2870280"/>
            <a:ext cx="0" cy="4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4"/>
          <p:cNvSpPr/>
          <p:nvPr/>
        </p:nvSpPr>
        <p:spPr>
          <a:xfrm flipH="1" flipV="1">
            <a:off x="1015920" y="2011320"/>
            <a:ext cx="1144800" cy="109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2190600" y="3137040"/>
            <a:ext cx="736920" cy="2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 flipV="1">
            <a:off x="1066680" y="2057400"/>
            <a:ext cx="1906560" cy="180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057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 + long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9"/>
          <p:cNvSpPr/>
          <p:nvPr/>
        </p:nvSpPr>
        <p:spPr>
          <a:xfrm flipH="1">
            <a:off x="2057400" y="137160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057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t + short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7"/>
          <p:cNvSpPr/>
          <p:nvPr/>
        </p:nvSpPr>
        <p:spPr>
          <a:xfrm>
            <a:off x="1395360" y="1784520"/>
            <a:ext cx="0" cy="2062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8"/>
          <p:cNvSpPr/>
          <p:nvPr/>
        </p:nvSpPr>
        <p:spPr>
          <a:xfrm>
            <a:off x="1395360" y="2874960"/>
            <a:ext cx="237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3481560" y="2881440"/>
            <a:ext cx="510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2305080" y="285588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2"/>
          <p:cNvSpPr/>
          <p:nvPr/>
        </p:nvSpPr>
        <p:spPr>
          <a:xfrm>
            <a:off x="1393920" y="2778120"/>
            <a:ext cx="11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3"/>
          <p:cNvSpPr/>
          <p:nvPr/>
        </p:nvSpPr>
        <p:spPr>
          <a:xfrm flipH="1" flipV="1">
            <a:off x="2522160" y="2761920"/>
            <a:ext cx="903240" cy="855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4"/>
          <p:cNvSpPr/>
          <p:nvPr/>
        </p:nvSpPr>
        <p:spPr>
          <a:xfrm>
            <a:off x="1374840" y="1876320"/>
            <a:ext cx="2050920" cy="1943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5"/>
          <p:cNvSpPr/>
          <p:nvPr/>
        </p:nvSpPr>
        <p:spPr>
          <a:xfrm flipV="1">
            <a:off x="2517840" y="2828520"/>
            <a:ext cx="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2516040" y="2658960"/>
            <a:ext cx="882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1404720" y="2637000"/>
            <a:ext cx="1112760" cy="1054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1371600" y="1447920"/>
            <a:ext cx="83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3733920"/>
            <a:ext cx="6476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48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10666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Put-Call Parity for Europea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15T00:35:19Z</dcterms:modified>
  <cp:revision>143</cp:revision>
  <dc:subject/>
  <dc:title>Slide 1</dc:title>
</cp:coreProperties>
</file>