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1F6-992A-4ADC-BFDF-BA2D536F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48F1-C166-4F29-B982-3596AD87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53E-14CA-4F93-928B-81DE1C12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8D1-8232-4E4D-B805-B7476EC2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302C-A37D-4D8F-A6D9-C2C24DE2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92F6-170E-48FF-B102-A10C3B98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F797-D9CD-47C8-BA1F-0DCF86AA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A3C-20FF-44FD-917D-93C6148A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9C8-B2D2-4C89-8DA4-B58A5600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4D1-5C1F-479D-A5A1-BAFD44A5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D1A-24EA-409B-BF8F-E1ECA164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D6E-C532-47C9-88F7-7F5BE050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87A4-CCD4-488B-B10B-0BEA316F3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RIVATIVES: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Hull, Options, Futures and Other Derivatives, Prentic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ts Underl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hange-Traded Op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79240" y="2743200"/>
            <a:ext cx="397836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I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D6B5-D8EE-4599-AF60-3DD30B53B7D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ation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hange-Traded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14600" y="1935000"/>
            <a:ext cx="56275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iration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or Amer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or Put (option cl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DA89-4728-47CF-8286-2265CC5C0D9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28640" y="1976040"/>
            <a:ext cx="6972480" cy="387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eynes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-the-money 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the-money 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-of-the-money 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349B-D877-4379-A899-51A4BE791E8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1440" y="28080"/>
            <a:ext cx="7315200" cy="17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37920" y="1371600"/>
            <a:ext cx="372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call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put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ke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of o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atility of stock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428720" y="137160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Call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Put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Stock price at option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value of dividends during option’s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-free rate for matur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nt. co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0858-4636-4D05-92D7-023D7D55110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200" y="514080"/>
            <a:ext cx="782964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s, in the price of an option, when one variable increases, and all the others remain unal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71640" y="1571400"/>
            <a:ext cx="3892320" cy="390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"/>
          <p:cNvSpPr/>
          <p:nvPr/>
        </p:nvSpPr>
        <p:spPr>
          <a:xfrm>
            <a:off x="1422360" y="2819520"/>
            <a:ext cx="670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8"/>
          <p:cNvGrpSpPr/>
          <p:nvPr/>
        </p:nvGrpSpPr>
        <p:grpSpPr>
          <a:xfrm>
            <a:off x="1422360" y="2122560"/>
            <a:ext cx="6694560" cy="3579840"/>
            <a:chOff x="1422360" y="2122560"/>
            <a:chExt cx="6694560" cy="3579840"/>
          </a:xfrm>
        </p:grpSpPr>
        <p:sp>
          <p:nvSpPr>
            <p:cNvPr id="307" name="Rectangle 5"/>
            <p:cNvSpPr/>
            <p:nvPr/>
          </p:nvSpPr>
          <p:spPr>
            <a:xfrm>
              <a:off x="1428840" y="2122560"/>
              <a:ext cx="6681600" cy="32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1422360" y="2819520"/>
              <a:ext cx="6694560" cy="2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1428840" y="5699160"/>
              <a:ext cx="6681600" cy="32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Rectangle 9"/>
          <p:cNvSpPr/>
          <p:nvPr/>
        </p:nvSpPr>
        <p:spPr>
          <a:xfrm>
            <a:off x="3246120" y="2235240"/>
            <a:ext cx="36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4531680" y="22352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817960" y="223524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7108200" y="2235240"/>
            <a:ext cx="42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21"/>
          <p:cNvGrpSpPr/>
          <p:nvPr/>
        </p:nvGrpSpPr>
        <p:grpSpPr>
          <a:xfrm>
            <a:off x="1218960" y="2235240"/>
            <a:ext cx="1670400" cy="3419640"/>
            <a:chOff x="1218960" y="2235240"/>
            <a:chExt cx="1670400" cy="3419640"/>
          </a:xfrm>
        </p:grpSpPr>
        <p:sp>
          <p:nvSpPr>
            <p:cNvPr id="315" name="Rectangle 13"/>
            <p:cNvSpPr/>
            <p:nvPr/>
          </p:nvSpPr>
          <p:spPr>
            <a:xfrm>
              <a:off x="1218960" y="2235240"/>
              <a:ext cx="1670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Varia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20"/>
            <p:cNvGrpSpPr/>
            <p:nvPr/>
          </p:nvGrpSpPr>
          <p:grpSpPr>
            <a:xfrm>
              <a:off x="1607040" y="2867040"/>
              <a:ext cx="511560" cy="2787840"/>
              <a:chOff x="1607040" y="2867040"/>
              <a:chExt cx="511560" cy="2787840"/>
            </a:xfrm>
          </p:grpSpPr>
          <p:sp>
            <p:nvSpPr>
              <p:cNvPr id="317" name="Rectangle 14"/>
              <p:cNvSpPr/>
              <p:nvPr/>
            </p:nvSpPr>
            <p:spPr>
              <a:xfrm>
                <a:off x="1615680" y="2867040"/>
                <a:ext cx="502920" cy="6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5"/>
              <p:cNvSpPr/>
              <p:nvPr/>
            </p:nvSpPr>
            <p:spPr>
              <a:xfrm>
                <a:off x="1608480" y="3309840"/>
                <a:ext cx="4528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16"/>
              <p:cNvSpPr/>
              <p:nvPr/>
            </p:nvSpPr>
            <p:spPr>
              <a:xfrm>
                <a:off x="1607760" y="375300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7"/>
              <p:cNvSpPr/>
              <p:nvPr/>
            </p:nvSpPr>
            <p:spPr>
              <a:xfrm>
                <a:off x="1607040" y="4194000"/>
                <a:ext cx="4269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18"/>
              <p:cNvSpPr/>
              <p:nvPr/>
            </p:nvSpPr>
            <p:spPr>
              <a:xfrm>
                <a:off x="1608120" y="4635360"/>
                <a:ext cx="3398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19"/>
              <p:cNvSpPr/>
              <p:nvPr/>
            </p:nvSpPr>
            <p:spPr>
              <a:xfrm>
                <a:off x="1608120" y="5078520"/>
                <a:ext cx="4755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Rectangle 22"/>
          <p:cNvSpPr/>
          <p:nvPr/>
        </p:nvSpPr>
        <p:spPr>
          <a:xfrm>
            <a:off x="3190320" y="27162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5776200" y="27162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7122960" y="262080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5"/>
          <p:cNvSpPr/>
          <p:nvPr/>
        </p:nvSpPr>
        <p:spPr>
          <a:xfrm>
            <a:off x="4484160" y="31590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28"/>
          <p:cNvGrpSpPr/>
          <p:nvPr/>
        </p:nvGrpSpPr>
        <p:grpSpPr>
          <a:xfrm>
            <a:off x="3285720" y="3733920"/>
            <a:ext cx="1701000" cy="576360"/>
            <a:chOff x="3285720" y="3733920"/>
            <a:chExt cx="1701000" cy="576360"/>
          </a:xfrm>
        </p:grpSpPr>
        <p:sp>
          <p:nvSpPr>
            <p:cNvPr id="328" name="Rectangle 26"/>
            <p:cNvSpPr/>
            <p:nvPr/>
          </p:nvSpPr>
          <p:spPr>
            <a:xfrm>
              <a:off x="3285720" y="373392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7"/>
            <p:cNvSpPr/>
            <p:nvPr/>
          </p:nvSpPr>
          <p:spPr>
            <a:xfrm>
              <a:off x="4579560" y="373392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Rectangle 29"/>
          <p:cNvSpPr/>
          <p:nvPr/>
        </p:nvSpPr>
        <p:spPr>
          <a:xfrm>
            <a:off x="5776200" y="360036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7070040" y="360036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319032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2"/>
          <p:cNvSpPr/>
          <p:nvPr/>
        </p:nvSpPr>
        <p:spPr>
          <a:xfrm>
            <a:off x="448416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577620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4"/>
          <p:cNvSpPr/>
          <p:nvPr/>
        </p:nvSpPr>
        <p:spPr>
          <a:xfrm>
            <a:off x="707004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5"/>
          <p:cNvSpPr/>
          <p:nvPr/>
        </p:nvSpPr>
        <p:spPr>
          <a:xfrm>
            <a:off x="3190320" y="447048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6"/>
          <p:cNvSpPr/>
          <p:nvPr/>
        </p:nvSpPr>
        <p:spPr>
          <a:xfrm>
            <a:off x="4535280" y="438624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7"/>
          <p:cNvSpPr/>
          <p:nvPr/>
        </p:nvSpPr>
        <p:spPr>
          <a:xfrm>
            <a:off x="5776200" y="447048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8"/>
          <p:cNvSpPr/>
          <p:nvPr/>
        </p:nvSpPr>
        <p:spPr>
          <a:xfrm>
            <a:off x="7122960" y="438624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9"/>
          <p:cNvSpPr/>
          <p:nvPr/>
        </p:nvSpPr>
        <p:spPr>
          <a:xfrm>
            <a:off x="4535280" y="262080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0"/>
          <p:cNvSpPr/>
          <p:nvPr/>
        </p:nvSpPr>
        <p:spPr>
          <a:xfrm>
            <a:off x="3241440" y="30862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1"/>
          <p:cNvSpPr/>
          <p:nvPr/>
        </p:nvSpPr>
        <p:spPr>
          <a:xfrm>
            <a:off x="5829120" y="30862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2"/>
          <p:cNvSpPr/>
          <p:nvPr/>
        </p:nvSpPr>
        <p:spPr>
          <a:xfrm>
            <a:off x="7070040" y="31590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3"/>
          <p:cNvSpPr/>
          <p:nvPr/>
        </p:nvSpPr>
        <p:spPr>
          <a:xfrm>
            <a:off x="3241440" y="48196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4"/>
          <p:cNvSpPr/>
          <p:nvPr/>
        </p:nvSpPr>
        <p:spPr>
          <a:xfrm>
            <a:off x="4484160" y="49039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5"/>
          <p:cNvSpPr/>
          <p:nvPr/>
        </p:nvSpPr>
        <p:spPr>
          <a:xfrm>
            <a:off x="5829120" y="48196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6"/>
          <p:cNvSpPr/>
          <p:nvPr/>
        </p:nvSpPr>
        <p:spPr>
          <a:xfrm>
            <a:off x="7070040" y="49039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48"/>
          <p:cNvSpPr/>
          <p:nvPr/>
        </p:nvSpPr>
        <p:spPr>
          <a:xfrm>
            <a:off x="7010280" y="61722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CE1C-114F-4DD4-9F6F-82FFA28A2C8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52680" y="1676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                       Amer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6019920"/>
            <a:ext cx="3733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increases in value 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914400" y="3352680"/>
            <a:ext cx="243828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29200" y="5791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decreases in value if D 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3657600" y="5486400"/>
            <a:ext cx="13716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762120" y="533520"/>
            <a:ext cx="670536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Useful Relationship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call option can never be worth more than th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≤ 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00600" y="3581280"/>
            <a:ext cx="19051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≤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762120" y="533520"/>
            <a:ext cx="6705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ut option can never be worth more than 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 ≤ 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4419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 ≤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vs Europea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92280" y="1600200"/>
            <a:ext cx="595944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merican option is worth at least as much as the corresponding Europe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65B4-2615-4586-A8A8-8A8C6D098E7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143000" y="1143000"/>
            <a:ext cx="5410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European put we know that at maturity the put option cannot be worth more than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follows then, that today, the price cannot be more than the present value of K, t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 K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0560" y="542880"/>
            <a:ext cx="7777080" cy="18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 Bound for The Value of a European Call Option When There Are No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66440" y="2940120"/>
            <a:ext cx="647532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marL="17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–Ke </a:t>
            </a: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-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437F-735A-4D3C-B86C-A2A46B7A64E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525780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of on next page [using an arbitrage argume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ll is an option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t is an option to 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uropean option can be exercised only at the end of it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merican option can be exercised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92B7-1035-49CB-9D77-9C9E3B1BE9D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838080" y="76212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portfol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] a European call option + cash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] one share of th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990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3505320"/>
            <a:ext cx="670572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se of portfolio A, the cash can be invested at the risk-free rate, thus, at time = T, we will have K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two possible outcomes at time =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K, I will exercise the option (spend K) and now I have a stock whose value is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K    there is no point in exercising the option (option=worthless); so I end up with K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t time T, the value of portfolio A is    MAX (K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838080" y="76212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portfol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] a European call option + cash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] one share of th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990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3505320"/>
            <a:ext cx="6705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portfolio A is    MAX (K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(at time  T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the value of portfolio (B), at time = T, is obviously, 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4876920"/>
            <a:ext cx="81532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ly, (A) is more valuable than (B) at maturity  ((in other words, B can be equal to A but never more)), therefore, in the absence of arbitrage opportunities the same situation has to be valid today (time = 0); namely, (A) is more valuable than (B), t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–rT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&gt;  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0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Q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560" y="542880"/>
            <a:ext cx="7777080" cy="18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 Bound for The Value of a European Put Option When There Are No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666440" y="2940120"/>
            <a:ext cx="647532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marL="17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Ke </a:t>
            </a: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–rT  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1ABE-2531-434F-9E9C-542D9A3E201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525780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of on next page [using an arbitrage argume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838080" y="76212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portfol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] a European put option + one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D] cash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990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" y="3505320"/>
            <a:ext cx="670572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se of portfolio D, the cash can be invested at the risk-free rate, thus, at time = T, we will have K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two possible outcomes at time =T for position [C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 K, I will exercise the option (sell the stock at  K) and now I have a portfolio  whose  value is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K    there is no point in exercising the option (option=worthless); so I end up with a value =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t time T, the value of portfolio C is    MAX (K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19320" y="1295280"/>
            <a:ext cx="6476760" cy="71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 reasoning similar to the one employed before we conclud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 C is worth more than portfolio D (whose value, at T,  is K no matter what); and thus, the same should hold at time = 0 (to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 +  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&gt;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Value of A and C Portfol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428840" y="2143080"/>
          <a:ext cx="6095880" cy="2600280"/>
        </p:xfrm>
        <a:graphic>
          <a:graphicData uri="http://schemas.openxmlformats.org/drawingml/2006/table">
            <a:tbl>
              <a:tblPr/>
              <a:tblGrid>
                <a:gridCol w="1285920"/>
                <a:gridCol w="2286000"/>
                <a:gridCol w="1285920"/>
                <a:gridCol w="123804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&gt;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&lt;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folio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 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−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folio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− 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B5E5-29E9-4B0F-B89B-F0C2F3D719B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=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5105520"/>
            <a:ext cx="7696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tions are European (CANNOT be exercised before T), thus, since the value of the two portfolios( A and B)  is the same at time = T, they must have the same value today (time 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eads to the so-called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Put-Call Parity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portfolios are worth 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 at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therefore be worth the same today. This means that (today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i="1" lang="en-US" sz="5400" spc="-1" strike="noStrike" baseline="30000">
                <a:solidFill>
                  <a:srgbClr val="000000"/>
                </a:solidFill>
                <a:latin typeface="Times New Roman"/>
              </a:rPr>
              <a:t> -rT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099E-8283-4994-9E91-FA127668FB3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0880" y="56386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Options; No divid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676520" y="3962160"/>
            <a:ext cx="2514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Put-Call Parity Theorem (OR Result) Is Only Valid For EUROPEAN Options; For AMERICAN Options We Can Show That For The Case In Which There Are No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0F25-F67D-46FF-85E8-39D435FD5E2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2971800"/>
            <a:ext cx="815328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&lt;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&lt;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838080" y="685800"/>
            <a:ext cx="7696440" cy="65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ividends are included (D is the PV of the Dividend during the life of the option) then we hav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ean options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gt;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rican options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&lt;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&lt;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 Po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14520" y="2124000"/>
            <a:ext cx="5816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5656-DBFF-4CB1-A86F-FAB0A5E5ECD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Call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buying one European call option: option price = $5, strike price = $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1567080" y="2819520"/>
            <a:ext cx="6638040" cy="3200040"/>
            <a:chOff x="1567080" y="2819520"/>
            <a:chExt cx="6638040" cy="3200040"/>
          </a:xfrm>
        </p:grpSpPr>
        <p:sp>
          <p:nvSpPr>
            <p:cNvPr id="52" name="Line 5"/>
            <p:cNvSpPr/>
            <p:nvPr/>
          </p:nvSpPr>
          <p:spPr>
            <a:xfrm>
              <a:off x="1981080" y="2842200"/>
              <a:ext cx="0" cy="317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"/>
            <p:cNvSpPr/>
            <p:nvPr/>
          </p:nvSpPr>
          <p:spPr>
            <a:xfrm>
              <a:off x="2428920" y="5247720"/>
              <a:ext cx="537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7"/>
            <p:cNvSpPr/>
            <p:nvPr/>
          </p:nvSpPr>
          <p:spPr>
            <a:xfrm flipV="1">
              <a:off x="2298600" y="5095080"/>
              <a:ext cx="5724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"/>
            <p:cNvSpPr/>
            <p:nvPr/>
          </p:nvSpPr>
          <p:spPr>
            <a:xfrm flipH="1" flipV="1">
              <a:off x="2359080" y="5098320"/>
              <a:ext cx="6192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9"/>
            <p:cNvSpPr/>
            <p:nvPr/>
          </p:nvSpPr>
          <p:spPr>
            <a:xfrm flipH="1" flipV="1">
              <a:off x="2209320" y="5096520"/>
              <a:ext cx="81000" cy="28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0"/>
            <p:cNvSpPr/>
            <p:nvPr/>
          </p:nvSpPr>
          <p:spPr>
            <a:xfrm flipH="1">
              <a:off x="2160360" y="5113080"/>
              <a:ext cx="60120" cy="12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1"/>
            <p:cNvSpPr/>
            <p:nvPr/>
          </p:nvSpPr>
          <p:spPr>
            <a:xfrm flipH="1">
              <a:off x="1976040" y="525096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>
              <a:off x="1989000" y="45471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>
              <a:off x="1994040" y="38415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4"/>
            <p:cNvSpPr/>
            <p:nvPr/>
          </p:nvSpPr>
          <p:spPr>
            <a:xfrm>
              <a:off x="1987560" y="31503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5"/>
            <p:cNvSpPr/>
            <p:nvPr/>
          </p:nvSpPr>
          <p:spPr>
            <a:xfrm>
              <a:off x="25336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6"/>
            <p:cNvSpPr/>
            <p:nvPr/>
          </p:nvSpPr>
          <p:spPr>
            <a:xfrm>
              <a:off x="32194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7"/>
            <p:cNvSpPr/>
            <p:nvPr/>
          </p:nvSpPr>
          <p:spPr>
            <a:xfrm>
              <a:off x="390060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8"/>
            <p:cNvSpPr/>
            <p:nvPr/>
          </p:nvSpPr>
          <p:spPr>
            <a:xfrm>
              <a:off x="45910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52768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0"/>
            <p:cNvSpPr/>
            <p:nvPr/>
          </p:nvSpPr>
          <p:spPr>
            <a:xfrm>
              <a:off x="595800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1"/>
            <p:cNvSpPr/>
            <p:nvPr/>
          </p:nvSpPr>
          <p:spPr>
            <a:xfrm>
              <a:off x="664380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2"/>
            <p:cNvSpPr/>
            <p:nvPr/>
          </p:nvSpPr>
          <p:spPr>
            <a:xfrm>
              <a:off x="1990800" y="594360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3"/>
            <p:cNvSpPr/>
            <p:nvPr/>
          </p:nvSpPr>
          <p:spPr>
            <a:xfrm flipH="1">
              <a:off x="1976040" y="559800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4"/>
            <p:cNvSpPr/>
            <p:nvPr/>
          </p:nvSpPr>
          <p:spPr>
            <a:xfrm>
              <a:off x="2571840" y="5572080"/>
              <a:ext cx="2119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5"/>
            <p:cNvSpPr/>
            <p:nvPr/>
          </p:nvSpPr>
          <p:spPr>
            <a:xfrm flipV="1">
              <a:off x="4643280" y="3215160"/>
              <a:ext cx="2211480" cy="236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6"/>
            <p:cNvSpPr/>
            <p:nvPr/>
          </p:nvSpPr>
          <p:spPr>
            <a:xfrm>
              <a:off x="1567080" y="29134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7"/>
            <p:cNvSpPr/>
            <p:nvPr/>
          </p:nvSpPr>
          <p:spPr>
            <a:xfrm>
              <a:off x="1567080" y="36532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8"/>
            <p:cNvSpPr/>
            <p:nvPr/>
          </p:nvSpPr>
          <p:spPr>
            <a:xfrm>
              <a:off x="1586160" y="43570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9"/>
            <p:cNvSpPr/>
            <p:nvPr/>
          </p:nvSpPr>
          <p:spPr>
            <a:xfrm>
              <a:off x="1681200" y="50187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0"/>
            <p:cNvSpPr/>
            <p:nvPr/>
          </p:nvSpPr>
          <p:spPr>
            <a:xfrm>
              <a:off x="1604880" y="5369040"/>
              <a:ext cx="452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1"/>
            <p:cNvSpPr/>
            <p:nvPr/>
          </p:nvSpPr>
          <p:spPr>
            <a:xfrm>
              <a:off x="2324520" y="4687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2"/>
            <p:cNvSpPr/>
            <p:nvPr/>
          </p:nvSpPr>
          <p:spPr>
            <a:xfrm>
              <a:off x="3010320" y="4687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3"/>
            <p:cNvSpPr/>
            <p:nvPr/>
          </p:nvSpPr>
          <p:spPr>
            <a:xfrm>
              <a:off x="3677040" y="4687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4"/>
            <p:cNvSpPr/>
            <p:nvPr/>
          </p:nvSpPr>
          <p:spPr>
            <a:xfrm>
              <a:off x="4329720" y="4687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5"/>
            <p:cNvSpPr/>
            <p:nvPr/>
          </p:nvSpPr>
          <p:spPr>
            <a:xfrm>
              <a:off x="5015520" y="5330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6"/>
            <p:cNvSpPr/>
            <p:nvPr/>
          </p:nvSpPr>
          <p:spPr>
            <a:xfrm>
              <a:off x="5701320" y="5330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7"/>
            <p:cNvSpPr/>
            <p:nvPr/>
          </p:nvSpPr>
          <p:spPr>
            <a:xfrm>
              <a:off x="6387120" y="5330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8"/>
            <p:cNvSpPr/>
            <p:nvPr/>
          </p:nvSpPr>
          <p:spPr>
            <a:xfrm>
              <a:off x="2118240" y="281952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9"/>
            <p:cNvSpPr/>
            <p:nvPr/>
          </p:nvSpPr>
          <p:spPr>
            <a:xfrm>
              <a:off x="6108120" y="437652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Slide Number Placeholder 4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F7F4-9870-4FC3-9974-471536E86DE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Call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writing one European call option: option price = $5, strike price = 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1492560" y="2619360"/>
            <a:ext cx="6626520" cy="3413880"/>
            <a:chOff x="1492560" y="2619360"/>
            <a:chExt cx="6626520" cy="3413880"/>
          </a:xfrm>
        </p:grpSpPr>
        <p:sp>
          <p:nvSpPr>
            <p:cNvPr id="91" name="Rectangle 5"/>
            <p:cNvSpPr/>
            <p:nvPr/>
          </p:nvSpPr>
          <p:spPr>
            <a:xfrm>
              <a:off x="1492560" y="557856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1492560" y="490212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1492560" y="418140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1681200" y="35193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1681200" y="31971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"/>
            <p:cNvSpPr/>
            <p:nvPr/>
          </p:nvSpPr>
          <p:spPr>
            <a:xfrm>
              <a:off x="1981080" y="2708280"/>
              <a:ext cx="0" cy="319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1"/>
            <p:cNvSpPr/>
            <p:nvPr/>
          </p:nvSpPr>
          <p:spPr>
            <a:xfrm>
              <a:off x="2428920" y="3714840"/>
              <a:ext cx="537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2"/>
            <p:cNvSpPr/>
            <p:nvPr/>
          </p:nvSpPr>
          <p:spPr>
            <a:xfrm flipV="1">
              <a:off x="2298600" y="3565440"/>
              <a:ext cx="5724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3"/>
            <p:cNvSpPr/>
            <p:nvPr/>
          </p:nvSpPr>
          <p:spPr>
            <a:xfrm flipH="1" flipV="1">
              <a:off x="2359080" y="3568680"/>
              <a:ext cx="6192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4"/>
            <p:cNvSpPr/>
            <p:nvPr/>
          </p:nvSpPr>
          <p:spPr>
            <a:xfrm flipH="1" flipV="1">
              <a:off x="2209320" y="3566880"/>
              <a:ext cx="81000" cy="27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H="1">
              <a:off x="2160360" y="3583080"/>
              <a:ext cx="6012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H="1">
              <a:off x="1976040" y="371808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>
              <a:off x="25336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>
              <a:off x="32194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>
              <a:off x="390060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>
              <a:off x="45910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52768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>
              <a:off x="595800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>
              <a:off x="664380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4"/>
            <p:cNvSpPr/>
            <p:nvPr/>
          </p:nvSpPr>
          <p:spPr>
            <a:xfrm>
              <a:off x="1990800" y="43959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5"/>
            <p:cNvSpPr/>
            <p:nvPr/>
          </p:nvSpPr>
          <p:spPr>
            <a:xfrm>
              <a:off x="2343600" y="379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6"/>
            <p:cNvSpPr/>
            <p:nvPr/>
          </p:nvSpPr>
          <p:spPr>
            <a:xfrm>
              <a:off x="3029400" y="379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7"/>
            <p:cNvSpPr/>
            <p:nvPr/>
          </p:nvSpPr>
          <p:spPr>
            <a:xfrm>
              <a:off x="3715200" y="379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8"/>
            <p:cNvSpPr/>
            <p:nvPr/>
          </p:nvSpPr>
          <p:spPr>
            <a:xfrm>
              <a:off x="4329720" y="379584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9"/>
            <p:cNvSpPr/>
            <p:nvPr/>
          </p:nvSpPr>
          <p:spPr>
            <a:xfrm>
              <a:off x="5015520" y="3166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0"/>
            <p:cNvSpPr/>
            <p:nvPr/>
          </p:nvSpPr>
          <p:spPr>
            <a:xfrm>
              <a:off x="5701320" y="3166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6387120" y="3166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2118240" y="261936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6022080" y="380520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4"/>
            <p:cNvSpPr/>
            <p:nvPr/>
          </p:nvSpPr>
          <p:spPr>
            <a:xfrm flipH="1">
              <a:off x="1980720" y="339084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5"/>
            <p:cNvSpPr/>
            <p:nvPr/>
          </p:nvSpPr>
          <p:spPr>
            <a:xfrm>
              <a:off x="1992240" y="508788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6"/>
            <p:cNvSpPr/>
            <p:nvPr/>
          </p:nvSpPr>
          <p:spPr>
            <a:xfrm>
              <a:off x="1994040" y="57769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7"/>
            <p:cNvSpPr/>
            <p:nvPr/>
          </p:nvSpPr>
          <p:spPr>
            <a:xfrm>
              <a:off x="2500200" y="3429000"/>
              <a:ext cx="2071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8"/>
            <p:cNvSpPr/>
            <p:nvPr/>
          </p:nvSpPr>
          <p:spPr>
            <a:xfrm>
              <a:off x="4581360" y="3400560"/>
              <a:ext cx="2426040" cy="242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lide Number Placeholder 4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A0D0-E5E2-4B1B-A750-B8199D845DB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Put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buying a European put option: option price = $7, strike price = $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1567080" y="2709720"/>
            <a:ext cx="6638040" cy="3132360"/>
            <a:chOff x="1567080" y="2709720"/>
            <a:chExt cx="6638040" cy="3132360"/>
          </a:xfrm>
        </p:grpSpPr>
        <p:sp>
          <p:nvSpPr>
            <p:cNvPr id="129" name="Line 5"/>
            <p:cNvSpPr/>
            <p:nvPr/>
          </p:nvSpPr>
          <p:spPr>
            <a:xfrm>
              <a:off x="1981080" y="2732040"/>
              <a:ext cx="0" cy="31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>
              <a:off x="2428920" y="5089680"/>
              <a:ext cx="538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 flipV="1">
              <a:off x="2298600" y="4936680"/>
              <a:ext cx="5724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 flipH="1" flipV="1">
              <a:off x="2357280" y="4941360"/>
              <a:ext cx="669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 flipH="1" flipV="1">
              <a:off x="2209320" y="4936680"/>
              <a:ext cx="8100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 flipH="1">
              <a:off x="2157480" y="4954680"/>
              <a:ext cx="633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 flipH="1">
              <a:off x="1976040" y="508968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>
              <a:off x="1989000" y="44006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>
              <a:off x="1994040" y="37101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1987560" y="30337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>
              <a:off x="25336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6"/>
            <p:cNvSpPr/>
            <p:nvPr/>
          </p:nvSpPr>
          <p:spPr>
            <a:xfrm>
              <a:off x="32194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>
              <a:off x="390060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8"/>
            <p:cNvSpPr/>
            <p:nvPr/>
          </p:nvSpPr>
          <p:spPr>
            <a:xfrm>
              <a:off x="45910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9"/>
            <p:cNvSpPr/>
            <p:nvPr/>
          </p:nvSpPr>
          <p:spPr>
            <a:xfrm>
              <a:off x="52768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0"/>
            <p:cNvSpPr/>
            <p:nvPr/>
          </p:nvSpPr>
          <p:spPr>
            <a:xfrm>
              <a:off x="5958000" y="50166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1"/>
            <p:cNvSpPr/>
            <p:nvPr/>
          </p:nvSpPr>
          <p:spPr>
            <a:xfrm>
              <a:off x="664380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2"/>
            <p:cNvSpPr/>
            <p:nvPr/>
          </p:nvSpPr>
          <p:spPr>
            <a:xfrm>
              <a:off x="1989000" y="57675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3"/>
            <p:cNvSpPr/>
            <p:nvPr/>
          </p:nvSpPr>
          <p:spPr>
            <a:xfrm flipH="1">
              <a:off x="1976040" y="542916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4"/>
            <p:cNvSpPr/>
            <p:nvPr/>
          </p:nvSpPr>
          <p:spPr>
            <a:xfrm>
              <a:off x="1567080" y="28018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5"/>
            <p:cNvSpPr/>
            <p:nvPr/>
          </p:nvSpPr>
          <p:spPr>
            <a:xfrm>
              <a:off x="1567080" y="352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6"/>
            <p:cNvSpPr/>
            <p:nvPr/>
          </p:nvSpPr>
          <p:spPr>
            <a:xfrm>
              <a:off x="1586160" y="42148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7"/>
            <p:cNvSpPr/>
            <p:nvPr/>
          </p:nvSpPr>
          <p:spPr>
            <a:xfrm>
              <a:off x="1681200" y="48625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8"/>
            <p:cNvSpPr/>
            <p:nvPr/>
          </p:nvSpPr>
          <p:spPr>
            <a:xfrm>
              <a:off x="1604880" y="5354640"/>
              <a:ext cx="452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9"/>
            <p:cNvSpPr/>
            <p:nvPr/>
          </p:nvSpPr>
          <p:spPr>
            <a:xfrm>
              <a:off x="442152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0"/>
            <p:cNvSpPr/>
            <p:nvPr/>
          </p:nvSpPr>
          <p:spPr>
            <a:xfrm>
              <a:off x="371988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1"/>
            <p:cNvSpPr/>
            <p:nvPr/>
          </p:nvSpPr>
          <p:spPr>
            <a:xfrm>
              <a:off x="304344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2"/>
            <p:cNvSpPr/>
            <p:nvPr/>
          </p:nvSpPr>
          <p:spPr>
            <a:xfrm>
              <a:off x="236412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3"/>
            <p:cNvSpPr/>
            <p:nvPr/>
          </p:nvSpPr>
          <p:spPr>
            <a:xfrm>
              <a:off x="510084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4"/>
            <p:cNvSpPr/>
            <p:nvPr/>
          </p:nvSpPr>
          <p:spPr>
            <a:xfrm>
              <a:off x="575820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5"/>
            <p:cNvSpPr/>
            <p:nvPr/>
          </p:nvSpPr>
          <p:spPr>
            <a:xfrm>
              <a:off x="6387120" y="51102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36"/>
            <p:cNvSpPr/>
            <p:nvPr/>
          </p:nvSpPr>
          <p:spPr>
            <a:xfrm>
              <a:off x="2118240" y="270972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7"/>
            <p:cNvSpPr/>
            <p:nvPr/>
          </p:nvSpPr>
          <p:spPr>
            <a:xfrm>
              <a:off x="6108120" y="423396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8"/>
            <p:cNvSpPr/>
            <p:nvPr/>
          </p:nvSpPr>
          <p:spPr>
            <a:xfrm flipH="1">
              <a:off x="1922040" y="554364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9"/>
            <p:cNvSpPr/>
            <p:nvPr/>
          </p:nvSpPr>
          <p:spPr>
            <a:xfrm>
              <a:off x="4643280" y="5572080"/>
              <a:ext cx="2697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0"/>
            <p:cNvSpPr/>
            <p:nvPr/>
          </p:nvSpPr>
          <p:spPr>
            <a:xfrm flipH="1" flipV="1">
              <a:off x="2401920" y="3363480"/>
              <a:ext cx="2225520" cy="2225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Slide Number Placeholder 4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F80B-C4FD-4388-93E4-37F4220138B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Put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writing a European put option: option price = $7, strike price = $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1486080" y="2541600"/>
            <a:ext cx="6785640" cy="3535920"/>
            <a:chOff x="1486080" y="2541600"/>
            <a:chExt cx="6785640" cy="3535920"/>
          </a:xfrm>
        </p:grpSpPr>
        <p:sp>
          <p:nvSpPr>
            <p:cNvPr id="169" name="Rectangle 5"/>
            <p:cNvSpPr/>
            <p:nvPr/>
          </p:nvSpPr>
          <p:spPr>
            <a:xfrm>
              <a:off x="1487880" y="562284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1486080" y="494496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1487880" y="425916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1480" y="3105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1981080" y="2541600"/>
              <a:ext cx="0" cy="330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2428920" y="3803760"/>
              <a:ext cx="538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1"/>
            <p:cNvSpPr/>
            <p:nvPr/>
          </p:nvSpPr>
          <p:spPr>
            <a:xfrm flipV="1">
              <a:off x="2298600" y="3650760"/>
              <a:ext cx="5724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2"/>
            <p:cNvSpPr/>
            <p:nvPr/>
          </p:nvSpPr>
          <p:spPr>
            <a:xfrm flipH="1" flipV="1">
              <a:off x="2357280" y="3655800"/>
              <a:ext cx="669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3"/>
            <p:cNvSpPr/>
            <p:nvPr/>
          </p:nvSpPr>
          <p:spPr>
            <a:xfrm flipH="1" flipV="1">
              <a:off x="2209320" y="3650760"/>
              <a:ext cx="8100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4"/>
            <p:cNvSpPr/>
            <p:nvPr/>
          </p:nvSpPr>
          <p:spPr>
            <a:xfrm flipH="1">
              <a:off x="2157480" y="3668760"/>
              <a:ext cx="633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5"/>
            <p:cNvSpPr/>
            <p:nvPr/>
          </p:nvSpPr>
          <p:spPr>
            <a:xfrm flipH="1">
              <a:off x="1976040" y="380376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>
              <a:off x="1989000" y="31147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25336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>
              <a:off x="32194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390060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45910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1"/>
            <p:cNvSpPr/>
            <p:nvPr/>
          </p:nvSpPr>
          <p:spPr>
            <a:xfrm>
              <a:off x="52768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5958000" y="37306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64380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4"/>
            <p:cNvSpPr/>
            <p:nvPr/>
          </p:nvSpPr>
          <p:spPr>
            <a:xfrm>
              <a:off x="1989000" y="44816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5"/>
            <p:cNvSpPr/>
            <p:nvPr/>
          </p:nvSpPr>
          <p:spPr>
            <a:xfrm flipH="1">
              <a:off x="1976040" y="34560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6"/>
            <p:cNvSpPr/>
            <p:nvPr/>
          </p:nvSpPr>
          <p:spPr>
            <a:xfrm>
              <a:off x="1681200" y="35766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4383360" y="38131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3689640" y="3301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011760" y="3301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2327760" y="3301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5070960" y="38131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5751720" y="38131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3"/>
            <p:cNvSpPr/>
            <p:nvPr/>
          </p:nvSpPr>
          <p:spPr>
            <a:xfrm>
              <a:off x="6379200" y="38131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4"/>
            <p:cNvSpPr/>
            <p:nvPr/>
          </p:nvSpPr>
          <p:spPr>
            <a:xfrm>
              <a:off x="2118240" y="268128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5"/>
            <p:cNvSpPr/>
            <p:nvPr/>
          </p:nvSpPr>
          <p:spPr>
            <a:xfrm>
              <a:off x="6174720" y="294804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6"/>
            <p:cNvSpPr/>
            <p:nvPr/>
          </p:nvSpPr>
          <p:spPr>
            <a:xfrm flipH="1">
              <a:off x="1922040" y="333072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7"/>
            <p:cNvSpPr/>
            <p:nvPr/>
          </p:nvSpPr>
          <p:spPr>
            <a:xfrm>
              <a:off x="4618080" y="3327480"/>
              <a:ext cx="201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8"/>
            <p:cNvSpPr/>
            <p:nvPr/>
          </p:nvSpPr>
          <p:spPr>
            <a:xfrm flipH="1">
              <a:off x="2395080" y="3340080"/>
              <a:ext cx="2235240" cy="2133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9"/>
            <p:cNvSpPr/>
            <p:nvPr/>
          </p:nvSpPr>
          <p:spPr>
            <a:xfrm>
              <a:off x="1989000" y="51674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0"/>
            <p:cNvSpPr/>
            <p:nvPr/>
          </p:nvSpPr>
          <p:spPr>
            <a:xfrm>
              <a:off x="1989000" y="584820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Slide Number Placeholder 4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B568-1CF4-4639-A72C-C0EE2A7EE65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of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Options (Terminal Valu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Options, Cost of option i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rike pri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ice of asset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209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210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213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225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228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410B-0450-4A63-BA30-97FDB88C739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, 0)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(K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(K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,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249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250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253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265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268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D0D0-40D6-4679-827B-A68997E6243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066680"/>
            <a:ext cx="11430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95680" y="990720"/>
            <a:ext cx="121932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209680" y="1371600"/>
            <a:ext cx="990720" cy="2666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410080" y="1523880"/>
            <a:ext cx="990720" cy="2667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 </cp:lastModifiedBy>
  <dcterms:modified xsi:type="dcterms:W3CDTF">2010-11-07T15:36:13Z</dcterms:modified>
  <cp:revision>107</cp:revision>
  <dc:subject/>
  <dc:title>Slide 1</dc:title>
</cp:coreProperties>
</file>