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96F-BE1F-4E98-B71A-D7C80181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9B5-B109-4654-8A91-7CD19C82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CD3-827B-40F4-8EF9-35DCEE1A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0E1-9C8F-48F3-B9E5-C7B43851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35D-9F67-4F63-AAAE-84DAB3C6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232-A12D-4CD9-8DFC-733817A0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F60-B10B-40E8-B352-B0B7FE21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F50-4311-42B7-B2C4-8DF01397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076-83A8-400E-9542-78E0B5E3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85C4-611C-43D2-A04F-47DD16BB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1C6-F841-44CC-9D4D-0558E993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07E-DC4F-4C17-9252-286364DA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0E2C-7AC9-4591-8F9E-CEB05C022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 Underl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-Traded Op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79240" y="2743200"/>
            <a:ext cx="39783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9CC4-D897-4EBB-8F2B-97E4B33C303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tion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-Traded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14600" y="1935000"/>
            <a:ext cx="5627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ira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or 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r Put (option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2E4A-6C4A-43C1-9173-334DF7A4A35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28640" y="1976040"/>
            <a:ext cx="6972480" cy="387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eynes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-of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4FAD-3D77-43D0-AAC5-5A9DCE95802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1440" y="28080"/>
            <a:ext cx="7315200" cy="17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37920" y="1371600"/>
            <a:ext cx="372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call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put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ke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of o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ity of stock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28720" y="137160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Call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Put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Stock price at option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value of dividends during option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-free rate for matur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nt. co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8D5D-44E1-460C-9005-0028017EC07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200" y="514080"/>
            <a:ext cx="782964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s, in the price of an option, when one variable increases, and all the others remain unal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71640" y="1571400"/>
            <a:ext cx="3892320" cy="39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"/>
          <p:cNvSpPr/>
          <p:nvPr/>
        </p:nvSpPr>
        <p:spPr>
          <a:xfrm>
            <a:off x="1422360" y="2819520"/>
            <a:ext cx="670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1422360" y="2122560"/>
            <a:ext cx="6694560" cy="3579840"/>
            <a:chOff x="1422360" y="2122560"/>
            <a:chExt cx="6694560" cy="3579840"/>
          </a:xfrm>
        </p:grpSpPr>
        <p:sp>
          <p:nvSpPr>
            <p:cNvPr id="307" name="Rectangle 5"/>
            <p:cNvSpPr/>
            <p:nvPr/>
          </p:nvSpPr>
          <p:spPr>
            <a:xfrm>
              <a:off x="1428840" y="2122560"/>
              <a:ext cx="6681600" cy="32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1422360" y="2819520"/>
              <a:ext cx="6694560" cy="2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1428840" y="5699160"/>
              <a:ext cx="6681600" cy="32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9"/>
          <p:cNvSpPr/>
          <p:nvPr/>
        </p:nvSpPr>
        <p:spPr>
          <a:xfrm>
            <a:off x="3246120" y="2235240"/>
            <a:ext cx="36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4531680" y="22352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817960" y="22352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7108200" y="2235240"/>
            <a:ext cx="42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21"/>
          <p:cNvGrpSpPr/>
          <p:nvPr/>
        </p:nvGrpSpPr>
        <p:grpSpPr>
          <a:xfrm>
            <a:off x="1218960" y="2235240"/>
            <a:ext cx="1670400" cy="3419640"/>
            <a:chOff x="1218960" y="2235240"/>
            <a:chExt cx="1670400" cy="3419640"/>
          </a:xfrm>
        </p:grpSpPr>
        <p:sp>
          <p:nvSpPr>
            <p:cNvPr id="315" name="Rectangle 13"/>
            <p:cNvSpPr/>
            <p:nvPr/>
          </p:nvSpPr>
          <p:spPr>
            <a:xfrm>
              <a:off x="1218960" y="2235240"/>
              <a:ext cx="1670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20"/>
            <p:cNvGrpSpPr/>
            <p:nvPr/>
          </p:nvGrpSpPr>
          <p:grpSpPr>
            <a:xfrm>
              <a:off x="1607040" y="2867040"/>
              <a:ext cx="511560" cy="2787840"/>
              <a:chOff x="1607040" y="2867040"/>
              <a:chExt cx="511560" cy="2787840"/>
            </a:xfrm>
          </p:grpSpPr>
          <p:sp>
            <p:nvSpPr>
              <p:cNvPr id="317" name="Rectangle 14"/>
              <p:cNvSpPr/>
              <p:nvPr/>
            </p:nvSpPr>
            <p:spPr>
              <a:xfrm>
                <a:off x="1615680" y="2867040"/>
                <a:ext cx="502920" cy="6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5"/>
              <p:cNvSpPr/>
              <p:nvPr/>
            </p:nvSpPr>
            <p:spPr>
              <a:xfrm>
                <a:off x="1608480" y="3309840"/>
                <a:ext cx="4528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16"/>
              <p:cNvSpPr/>
              <p:nvPr/>
            </p:nvSpPr>
            <p:spPr>
              <a:xfrm>
                <a:off x="1607760" y="375300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7"/>
              <p:cNvSpPr/>
              <p:nvPr/>
            </p:nvSpPr>
            <p:spPr>
              <a:xfrm>
                <a:off x="1607040" y="4194000"/>
                <a:ext cx="4269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18"/>
              <p:cNvSpPr/>
              <p:nvPr/>
            </p:nvSpPr>
            <p:spPr>
              <a:xfrm>
                <a:off x="1608120" y="4635360"/>
                <a:ext cx="3398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9"/>
              <p:cNvSpPr/>
              <p:nvPr/>
            </p:nvSpPr>
            <p:spPr>
              <a:xfrm>
                <a:off x="1608120" y="5078520"/>
                <a:ext cx="4755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Rectangle 22"/>
          <p:cNvSpPr/>
          <p:nvPr/>
        </p:nvSpPr>
        <p:spPr>
          <a:xfrm>
            <a:off x="3190320" y="27162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5776200" y="27162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7122960" y="262080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4484160" y="31590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28"/>
          <p:cNvGrpSpPr/>
          <p:nvPr/>
        </p:nvGrpSpPr>
        <p:grpSpPr>
          <a:xfrm>
            <a:off x="3285720" y="3733920"/>
            <a:ext cx="1701000" cy="576360"/>
            <a:chOff x="3285720" y="3733920"/>
            <a:chExt cx="1701000" cy="576360"/>
          </a:xfrm>
        </p:grpSpPr>
        <p:sp>
          <p:nvSpPr>
            <p:cNvPr id="328" name="Rectangle 26"/>
            <p:cNvSpPr/>
            <p:nvPr/>
          </p:nvSpPr>
          <p:spPr>
            <a:xfrm>
              <a:off x="3285720" y="373392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7"/>
            <p:cNvSpPr/>
            <p:nvPr/>
          </p:nvSpPr>
          <p:spPr>
            <a:xfrm>
              <a:off x="4579560" y="373392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ctangle 29"/>
          <p:cNvSpPr/>
          <p:nvPr/>
        </p:nvSpPr>
        <p:spPr>
          <a:xfrm>
            <a:off x="5776200" y="360036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7070040" y="360036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319032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448416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577620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707004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3190320" y="447048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4535280" y="438624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7"/>
          <p:cNvSpPr/>
          <p:nvPr/>
        </p:nvSpPr>
        <p:spPr>
          <a:xfrm>
            <a:off x="5776200" y="447048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8"/>
          <p:cNvSpPr/>
          <p:nvPr/>
        </p:nvSpPr>
        <p:spPr>
          <a:xfrm>
            <a:off x="7122960" y="438624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9"/>
          <p:cNvSpPr/>
          <p:nvPr/>
        </p:nvSpPr>
        <p:spPr>
          <a:xfrm>
            <a:off x="4535280" y="262080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0"/>
          <p:cNvSpPr/>
          <p:nvPr/>
        </p:nvSpPr>
        <p:spPr>
          <a:xfrm>
            <a:off x="3241440" y="30862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5829120" y="30862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2"/>
          <p:cNvSpPr/>
          <p:nvPr/>
        </p:nvSpPr>
        <p:spPr>
          <a:xfrm>
            <a:off x="7070040" y="31590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3"/>
          <p:cNvSpPr/>
          <p:nvPr/>
        </p:nvSpPr>
        <p:spPr>
          <a:xfrm>
            <a:off x="3241440" y="48196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4484160" y="49039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5"/>
          <p:cNvSpPr/>
          <p:nvPr/>
        </p:nvSpPr>
        <p:spPr>
          <a:xfrm>
            <a:off x="5829120" y="48196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6"/>
          <p:cNvSpPr/>
          <p:nvPr/>
        </p:nvSpPr>
        <p:spPr>
          <a:xfrm>
            <a:off x="7070040" y="49039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8"/>
          <p:cNvSpPr/>
          <p:nvPr/>
        </p:nvSpPr>
        <p:spPr>
          <a:xfrm>
            <a:off x="7010280" y="6172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1654-2B17-4DEF-B3DB-A2D0B8A3AF5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1676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                       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6019920"/>
            <a:ext cx="3733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increases in value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914400" y="3352680"/>
            <a:ext cx="243828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29200" y="5791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decreases in value if D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3657600" y="5486400"/>
            <a:ext cx="13716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762120" y="533520"/>
            <a:ext cx="670536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Useful Relationship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all option can never be worth more than th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≤ 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3581280"/>
            <a:ext cx="19051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≤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62120" y="533520"/>
            <a:ext cx="6705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ut option can never be worth more than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 ≤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4419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≤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vs Europea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92280" y="1600200"/>
            <a:ext cx="595944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merican option is worth at least as much as the corresponding Europe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D8B6-E399-4454-8B45-A81112D2179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143000" y="1143000"/>
            <a:ext cx="5410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European put we know that at maturity the put option cannot be worth more than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follows then, that today, the price cannot be more than the present value of K, 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 K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0560" y="542880"/>
            <a:ext cx="777708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Bound for The Value of a European Call Option When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66440" y="2940120"/>
            <a:ext cx="647532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marL="17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–Ke 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1157-18CB-4964-86A7-E9E15D637B9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52578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of on next page [using an arbitrage argume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is an option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t is an option to 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uropean option can be exercised only at the end of it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merican option can be exercised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C8DA-222C-478B-8BC0-C7D8CB48FE7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] a European call option +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] one share of th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3505320"/>
            <a:ext cx="670572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portfolio A, the cash can be invested at the risk-free rate, thus, at time = T, we will have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wo possible outcomes at time =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K, I will exercise the option (spend K) and now I have a stock whose value is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K    there is no point in exercising the option (option=worthless); so I end up with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t time T, the value of portfolio A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] a European call option +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] one share of th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3505320"/>
            <a:ext cx="6705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portfolio A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(at time  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the value of portfolio (B), at time = T, is obviously, 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4876920"/>
            <a:ext cx="81532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, (A) is more valuable than (B) at maturity  ((in other words, B can be equal to A but never more)), therefore, in the absence of arbitrage opportunities the same situation has to be valid today (time = 0); namely, (A) is more valuable than (B), 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–rT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&gt;  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0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Q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560" y="542880"/>
            <a:ext cx="777708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Bound for The Value of a European Put Option When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666440" y="2940120"/>
            <a:ext cx="647532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marL="17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Ke 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–rT 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CCD8-AE83-4CB3-8DB7-589D42E02D8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52578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of on next page [using an arbitrage argume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] a European put option + on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D]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3505320"/>
            <a:ext cx="670572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portfolio D, the cash can be invested at the risk-free rate, thus, at time = T, we will have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wo possible outcomes at time =T for position [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 K, I will exercise the option (sell the stock at  K) and now I have a portfolio  whose  value is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K    there is no point in exercising the option (option=worthless); so I end up with a value =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t time T, the value of portfolio C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19320" y="1295280"/>
            <a:ext cx="6476760" cy="71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 reasoning similar to the one employed before we conclu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C is worth more than portfolio D (whose value, at T,  is K no matter what); and thus, the same should hold at time = 0 (to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 +  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&gt;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Value of A and C Portfol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428840" y="2143080"/>
          <a:ext cx="6095880" cy="2600280"/>
        </p:xfrm>
        <a:graphic>
          <a:graphicData uri="http://schemas.openxmlformats.org/drawingml/2006/table">
            <a:tbl>
              <a:tblPr/>
              <a:tblGrid>
                <a:gridCol w="1285920"/>
                <a:gridCol w="2286000"/>
                <a:gridCol w="1285920"/>
                <a:gridCol w="123804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gt;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lt;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−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− 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C015-AF5C-483B-BF73-324F235A48E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=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5105520"/>
            <a:ext cx="7696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tions are European (CANNOT be exercised before T), thus, since the value of the two portfolios( A and B)  is the same at time = T, they must have the same value today (time 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eads to the so-called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Put-Call Par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ortfolios are worth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therefore be worth the same today. This means that (today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5400" spc="-1" strike="noStrike" baseline="30000">
                <a:solidFill>
                  <a:srgbClr val="000000"/>
                </a:solidFill>
                <a:latin typeface="Times New Roman"/>
              </a:rPr>
              <a:t> -rT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F03E-D12F-4ACC-8412-51670899B94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Options; No divid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676520" y="3962160"/>
            <a:ext cx="2514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ut-Call Parity Theorem (OR Result) Is Only Valid For EUROPEAN Options; For AMERICAN Options We Can Show That For The Case In Which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A30C-DFFC-4FC1-9817-9A415E2650D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2971800"/>
            <a:ext cx="815328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&lt;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&lt;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838080" y="685800"/>
            <a:ext cx="769644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ividends are included (D is the PV of the Dividend during the life of the option) then we ha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ean option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gt;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 option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&lt;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&lt;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 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14520" y="2124000"/>
            <a:ext cx="5816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1664-00B2-4A9B-9440-1F8961178C8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Call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buying one European call option: option price = $5, strike price = $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1567080" y="2819520"/>
            <a:ext cx="6638040" cy="3200040"/>
            <a:chOff x="1567080" y="2819520"/>
            <a:chExt cx="6638040" cy="3200040"/>
          </a:xfrm>
        </p:grpSpPr>
        <p:sp>
          <p:nvSpPr>
            <p:cNvPr id="52" name="Line 5"/>
            <p:cNvSpPr/>
            <p:nvPr/>
          </p:nvSpPr>
          <p:spPr>
            <a:xfrm>
              <a:off x="1981080" y="2842200"/>
              <a:ext cx="0" cy="317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2428920" y="5247720"/>
              <a:ext cx="53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7"/>
            <p:cNvSpPr/>
            <p:nvPr/>
          </p:nvSpPr>
          <p:spPr>
            <a:xfrm flipV="1">
              <a:off x="2298600" y="5095080"/>
              <a:ext cx="5724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"/>
            <p:cNvSpPr/>
            <p:nvPr/>
          </p:nvSpPr>
          <p:spPr>
            <a:xfrm flipH="1" flipV="1">
              <a:off x="2359080" y="5098320"/>
              <a:ext cx="6192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9"/>
            <p:cNvSpPr/>
            <p:nvPr/>
          </p:nvSpPr>
          <p:spPr>
            <a:xfrm flipH="1" flipV="1">
              <a:off x="2209320" y="5096520"/>
              <a:ext cx="81000" cy="28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 flipH="1">
              <a:off x="2160360" y="5113080"/>
              <a:ext cx="60120" cy="12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 flipH="1">
              <a:off x="1976040" y="525096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1989000" y="45471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1994040" y="3841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4"/>
            <p:cNvSpPr/>
            <p:nvPr/>
          </p:nvSpPr>
          <p:spPr>
            <a:xfrm>
              <a:off x="1987560" y="31503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5"/>
            <p:cNvSpPr/>
            <p:nvPr/>
          </p:nvSpPr>
          <p:spPr>
            <a:xfrm>
              <a:off x="25336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6"/>
            <p:cNvSpPr/>
            <p:nvPr/>
          </p:nvSpPr>
          <p:spPr>
            <a:xfrm>
              <a:off x="32194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7"/>
            <p:cNvSpPr/>
            <p:nvPr/>
          </p:nvSpPr>
          <p:spPr>
            <a:xfrm>
              <a:off x="39006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8"/>
            <p:cNvSpPr/>
            <p:nvPr/>
          </p:nvSpPr>
          <p:spPr>
            <a:xfrm>
              <a:off x="45910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52768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0"/>
            <p:cNvSpPr/>
            <p:nvPr/>
          </p:nvSpPr>
          <p:spPr>
            <a:xfrm>
              <a:off x="59580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>
              <a:off x="66438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>
              <a:off x="1990800" y="59436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3"/>
            <p:cNvSpPr/>
            <p:nvPr/>
          </p:nvSpPr>
          <p:spPr>
            <a:xfrm flipH="1">
              <a:off x="1976040" y="559800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4"/>
            <p:cNvSpPr/>
            <p:nvPr/>
          </p:nvSpPr>
          <p:spPr>
            <a:xfrm>
              <a:off x="2571840" y="5572080"/>
              <a:ext cx="2119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5"/>
            <p:cNvSpPr/>
            <p:nvPr/>
          </p:nvSpPr>
          <p:spPr>
            <a:xfrm flipV="1">
              <a:off x="4643280" y="3215160"/>
              <a:ext cx="2211480" cy="236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6"/>
            <p:cNvSpPr/>
            <p:nvPr/>
          </p:nvSpPr>
          <p:spPr>
            <a:xfrm>
              <a:off x="1567080" y="29134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7"/>
            <p:cNvSpPr/>
            <p:nvPr/>
          </p:nvSpPr>
          <p:spPr>
            <a:xfrm>
              <a:off x="1567080" y="36532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8"/>
            <p:cNvSpPr/>
            <p:nvPr/>
          </p:nvSpPr>
          <p:spPr>
            <a:xfrm>
              <a:off x="1586160" y="43570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9"/>
            <p:cNvSpPr/>
            <p:nvPr/>
          </p:nvSpPr>
          <p:spPr>
            <a:xfrm>
              <a:off x="1681200" y="50187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0"/>
            <p:cNvSpPr/>
            <p:nvPr/>
          </p:nvSpPr>
          <p:spPr>
            <a:xfrm>
              <a:off x="1604880" y="5369040"/>
              <a:ext cx="452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1"/>
            <p:cNvSpPr/>
            <p:nvPr/>
          </p:nvSpPr>
          <p:spPr>
            <a:xfrm>
              <a:off x="232452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2"/>
            <p:cNvSpPr/>
            <p:nvPr/>
          </p:nvSpPr>
          <p:spPr>
            <a:xfrm>
              <a:off x="301032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3"/>
            <p:cNvSpPr/>
            <p:nvPr/>
          </p:nvSpPr>
          <p:spPr>
            <a:xfrm>
              <a:off x="367704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4"/>
            <p:cNvSpPr/>
            <p:nvPr/>
          </p:nvSpPr>
          <p:spPr>
            <a:xfrm>
              <a:off x="4329720" y="4687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5"/>
            <p:cNvSpPr/>
            <p:nvPr/>
          </p:nvSpPr>
          <p:spPr>
            <a:xfrm>
              <a:off x="50155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6"/>
            <p:cNvSpPr/>
            <p:nvPr/>
          </p:nvSpPr>
          <p:spPr>
            <a:xfrm>
              <a:off x="57013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"/>
            <p:cNvSpPr/>
            <p:nvPr/>
          </p:nvSpPr>
          <p:spPr>
            <a:xfrm>
              <a:off x="63871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8"/>
            <p:cNvSpPr/>
            <p:nvPr/>
          </p:nvSpPr>
          <p:spPr>
            <a:xfrm>
              <a:off x="2118240" y="281952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9"/>
            <p:cNvSpPr/>
            <p:nvPr/>
          </p:nvSpPr>
          <p:spPr>
            <a:xfrm>
              <a:off x="6108120" y="437652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Slide Number Placeholder 4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86E9-8BEE-4282-A7B6-49296026FFE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Call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writing one European call option: option price = $5, strike price = 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1492560" y="2619360"/>
            <a:ext cx="6626520" cy="3413880"/>
            <a:chOff x="1492560" y="2619360"/>
            <a:chExt cx="6626520" cy="3413880"/>
          </a:xfrm>
        </p:grpSpPr>
        <p:sp>
          <p:nvSpPr>
            <p:cNvPr id="91" name="Rectangle 5"/>
            <p:cNvSpPr/>
            <p:nvPr/>
          </p:nvSpPr>
          <p:spPr>
            <a:xfrm>
              <a:off x="1492560" y="55785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1492560" y="490212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1492560" y="418140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1681200" y="35193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1681200" y="31971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>
              <a:off x="1981080" y="2708280"/>
              <a:ext cx="0" cy="319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>
              <a:off x="2428920" y="3714840"/>
              <a:ext cx="53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2"/>
            <p:cNvSpPr/>
            <p:nvPr/>
          </p:nvSpPr>
          <p:spPr>
            <a:xfrm flipV="1">
              <a:off x="2298600" y="3565440"/>
              <a:ext cx="5724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3"/>
            <p:cNvSpPr/>
            <p:nvPr/>
          </p:nvSpPr>
          <p:spPr>
            <a:xfrm flipH="1" flipV="1">
              <a:off x="2359080" y="3568680"/>
              <a:ext cx="6192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H="1" flipV="1">
              <a:off x="2209320" y="3566880"/>
              <a:ext cx="81000" cy="27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H="1">
              <a:off x="2160360" y="3583080"/>
              <a:ext cx="6012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>
              <a:off x="1976040" y="37180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25336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>
              <a:off x="32194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9006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>
              <a:off x="45910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52768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>
              <a:off x="59580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>
              <a:off x="66438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>
              <a:off x="1990800" y="43959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5"/>
            <p:cNvSpPr/>
            <p:nvPr/>
          </p:nvSpPr>
          <p:spPr>
            <a:xfrm>
              <a:off x="23436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6"/>
            <p:cNvSpPr/>
            <p:nvPr/>
          </p:nvSpPr>
          <p:spPr>
            <a:xfrm>
              <a:off x="30294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7"/>
            <p:cNvSpPr/>
            <p:nvPr/>
          </p:nvSpPr>
          <p:spPr>
            <a:xfrm>
              <a:off x="37152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4329720" y="379584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50155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0"/>
            <p:cNvSpPr/>
            <p:nvPr/>
          </p:nvSpPr>
          <p:spPr>
            <a:xfrm>
              <a:off x="57013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63871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2118240" y="261936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6022080" y="380520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4"/>
            <p:cNvSpPr/>
            <p:nvPr/>
          </p:nvSpPr>
          <p:spPr>
            <a:xfrm flipH="1">
              <a:off x="1980720" y="339084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5"/>
            <p:cNvSpPr/>
            <p:nvPr/>
          </p:nvSpPr>
          <p:spPr>
            <a:xfrm>
              <a:off x="1992240" y="508788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6"/>
            <p:cNvSpPr/>
            <p:nvPr/>
          </p:nvSpPr>
          <p:spPr>
            <a:xfrm>
              <a:off x="1994040" y="57769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>
              <a:off x="2500200" y="3429000"/>
              <a:ext cx="2071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4581360" y="3400560"/>
              <a:ext cx="2426040" cy="242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lide Number Placeholder 4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9C72-928C-4FA2-A9CC-9EEA9C8535A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Put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buying a European put option: option price = $7, strike price = $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1567080" y="2709720"/>
            <a:ext cx="6638040" cy="3132360"/>
            <a:chOff x="1567080" y="2709720"/>
            <a:chExt cx="6638040" cy="3132360"/>
          </a:xfrm>
        </p:grpSpPr>
        <p:sp>
          <p:nvSpPr>
            <p:cNvPr id="129" name="Line 5"/>
            <p:cNvSpPr/>
            <p:nvPr/>
          </p:nvSpPr>
          <p:spPr>
            <a:xfrm>
              <a:off x="1981080" y="2732040"/>
              <a:ext cx="0" cy="31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>
              <a:off x="2428920" y="5089680"/>
              <a:ext cx="538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 flipV="1">
              <a:off x="2298600" y="4936680"/>
              <a:ext cx="5724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H="1" flipV="1">
              <a:off x="2357280" y="4941360"/>
              <a:ext cx="669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 flipH="1" flipV="1">
              <a:off x="2209320" y="4936680"/>
              <a:ext cx="8100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H="1">
              <a:off x="2157480" y="4954680"/>
              <a:ext cx="633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 flipH="1">
              <a:off x="1976040" y="50896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>
              <a:off x="1989000" y="4400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1994040" y="37101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1987560" y="30337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>
              <a:off x="25336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6"/>
            <p:cNvSpPr/>
            <p:nvPr/>
          </p:nvSpPr>
          <p:spPr>
            <a:xfrm>
              <a:off x="32194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>
              <a:off x="390060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8"/>
            <p:cNvSpPr/>
            <p:nvPr/>
          </p:nvSpPr>
          <p:spPr>
            <a:xfrm>
              <a:off x="45910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52768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0"/>
            <p:cNvSpPr/>
            <p:nvPr/>
          </p:nvSpPr>
          <p:spPr>
            <a:xfrm>
              <a:off x="5958000" y="50166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1"/>
            <p:cNvSpPr/>
            <p:nvPr/>
          </p:nvSpPr>
          <p:spPr>
            <a:xfrm>
              <a:off x="664380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2"/>
            <p:cNvSpPr/>
            <p:nvPr/>
          </p:nvSpPr>
          <p:spPr>
            <a:xfrm>
              <a:off x="1989000" y="5767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3"/>
            <p:cNvSpPr/>
            <p:nvPr/>
          </p:nvSpPr>
          <p:spPr>
            <a:xfrm flipH="1">
              <a:off x="1976040" y="542916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4"/>
            <p:cNvSpPr/>
            <p:nvPr/>
          </p:nvSpPr>
          <p:spPr>
            <a:xfrm>
              <a:off x="1567080" y="28018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5"/>
            <p:cNvSpPr/>
            <p:nvPr/>
          </p:nvSpPr>
          <p:spPr>
            <a:xfrm>
              <a:off x="1567080" y="352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6"/>
            <p:cNvSpPr/>
            <p:nvPr/>
          </p:nvSpPr>
          <p:spPr>
            <a:xfrm>
              <a:off x="1586160" y="42148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7"/>
            <p:cNvSpPr/>
            <p:nvPr/>
          </p:nvSpPr>
          <p:spPr>
            <a:xfrm>
              <a:off x="1681200" y="48625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8"/>
            <p:cNvSpPr/>
            <p:nvPr/>
          </p:nvSpPr>
          <p:spPr>
            <a:xfrm>
              <a:off x="1604880" y="5354640"/>
              <a:ext cx="452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9"/>
            <p:cNvSpPr/>
            <p:nvPr/>
          </p:nvSpPr>
          <p:spPr>
            <a:xfrm>
              <a:off x="442152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0"/>
            <p:cNvSpPr/>
            <p:nvPr/>
          </p:nvSpPr>
          <p:spPr>
            <a:xfrm>
              <a:off x="371988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1"/>
            <p:cNvSpPr/>
            <p:nvPr/>
          </p:nvSpPr>
          <p:spPr>
            <a:xfrm>
              <a:off x="304344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2"/>
            <p:cNvSpPr/>
            <p:nvPr/>
          </p:nvSpPr>
          <p:spPr>
            <a:xfrm>
              <a:off x="236412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3"/>
            <p:cNvSpPr/>
            <p:nvPr/>
          </p:nvSpPr>
          <p:spPr>
            <a:xfrm>
              <a:off x="510084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4"/>
            <p:cNvSpPr/>
            <p:nvPr/>
          </p:nvSpPr>
          <p:spPr>
            <a:xfrm>
              <a:off x="575820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5"/>
            <p:cNvSpPr/>
            <p:nvPr/>
          </p:nvSpPr>
          <p:spPr>
            <a:xfrm>
              <a:off x="6387120" y="51102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6"/>
            <p:cNvSpPr/>
            <p:nvPr/>
          </p:nvSpPr>
          <p:spPr>
            <a:xfrm>
              <a:off x="2118240" y="270972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7"/>
            <p:cNvSpPr/>
            <p:nvPr/>
          </p:nvSpPr>
          <p:spPr>
            <a:xfrm>
              <a:off x="6108120" y="423396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8"/>
            <p:cNvSpPr/>
            <p:nvPr/>
          </p:nvSpPr>
          <p:spPr>
            <a:xfrm flipH="1">
              <a:off x="1922040" y="554364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9"/>
            <p:cNvSpPr/>
            <p:nvPr/>
          </p:nvSpPr>
          <p:spPr>
            <a:xfrm>
              <a:off x="4643280" y="5572080"/>
              <a:ext cx="2697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0"/>
            <p:cNvSpPr/>
            <p:nvPr/>
          </p:nvSpPr>
          <p:spPr>
            <a:xfrm flipH="1" flipV="1">
              <a:off x="2401920" y="3363480"/>
              <a:ext cx="2225520" cy="2225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Slide Number Placeholder 4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36C7-E153-4B17-9644-081CFEAD4D2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Put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writing a European put option: option price = $7, strike price = $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1486080" y="2541600"/>
            <a:ext cx="6785640" cy="3535920"/>
            <a:chOff x="1486080" y="2541600"/>
            <a:chExt cx="6785640" cy="3535920"/>
          </a:xfrm>
        </p:grpSpPr>
        <p:sp>
          <p:nvSpPr>
            <p:cNvPr id="169" name="Rectangle 5"/>
            <p:cNvSpPr/>
            <p:nvPr/>
          </p:nvSpPr>
          <p:spPr>
            <a:xfrm>
              <a:off x="1487880" y="562284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1486080" y="49449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1487880" y="42591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1480" y="3105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1981080" y="2541600"/>
              <a:ext cx="0" cy="330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2428920" y="3803760"/>
              <a:ext cx="538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1"/>
            <p:cNvSpPr/>
            <p:nvPr/>
          </p:nvSpPr>
          <p:spPr>
            <a:xfrm flipV="1">
              <a:off x="2298600" y="3650760"/>
              <a:ext cx="5724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2"/>
            <p:cNvSpPr/>
            <p:nvPr/>
          </p:nvSpPr>
          <p:spPr>
            <a:xfrm flipH="1" flipV="1">
              <a:off x="2357280" y="3655800"/>
              <a:ext cx="669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 flipH="1" flipV="1">
              <a:off x="2209320" y="3650760"/>
              <a:ext cx="8100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4"/>
            <p:cNvSpPr/>
            <p:nvPr/>
          </p:nvSpPr>
          <p:spPr>
            <a:xfrm flipH="1">
              <a:off x="2157480" y="3668760"/>
              <a:ext cx="633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 flipH="1">
              <a:off x="1976040" y="380376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>
              <a:off x="1989000" y="31147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5336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2194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390060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45910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1"/>
            <p:cNvSpPr/>
            <p:nvPr/>
          </p:nvSpPr>
          <p:spPr>
            <a:xfrm>
              <a:off x="52768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5958000" y="3730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64380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4"/>
            <p:cNvSpPr/>
            <p:nvPr/>
          </p:nvSpPr>
          <p:spPr>
            <a:xfrm>
              <a:off x="1989000" y="4481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5"/>
            <p:cNvSpPr/>
            <p:nvPr/>
          </p:nvSpPr>
          <p:spPr>
            <a:xfrm flipH="1">
              <a:off x="1976040" y="34560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6"/>
            <p:cNvSpPr/>
            <p:nvPr/>
          </p:nvSpPr>
          <p:spPr>
            <a:xfrm>
              <a:off x="1681200" y="35766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438336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368964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01176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232776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507096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575172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3"/>
            <p:cNvSpPr/>
            <p:nvPr/>
          </p:nvSpPr>
          <p:spPr>
            <a:xfrm>
              <a:off x="6379200" y="38131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4"/>
            <p:cNvSpPr/>
            <p:nvPr/>
          </p:nvSpPr>
          <p:spPr>
            <a:xfrm>
              <a:off x="2118240" y="268128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5"/>
            <p:cNvSpPr/>
            <p:nvPr/>
          </p:nvSpPr>
          <p:spPr>
            <a:xfrm>
              <a:off x="6174720" y="294804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>
              <a:off x="1922040" y="333072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7"/>
            <p:cNvSpPr/>
            <p:nvPr/>
          </p:nvSpPr>
          <p:spPr>
            <a:xfrm>
              <a:off x="4618080" y="3327480"/>
              <a:ext cx="201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8"/>
            <p:cNvSpPr/>
            <p:nvPr/>
          </p:nvSpPr>
          <p:spPr>
            <a:xfrm flipH="1">
              <a:off x="2395080" y="3340080"/>
              <a:ext cx="2235240" cy="213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9"/>
            <p:cNvSpPr/>
            <p:nvPr/>
          </p:nvSpPr>
          <p:spPr>
            <a:xfrm>
              <a:off x="1989000" y="51674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0"/>
            <p:cNvSpPr/>
            <p:nvPr/>
          </p:nvSpPr>
          <p:spPr>
            <a:xfrm>
              <a:off x="1989000" y="58482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lide Number Placeholder 4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F8CC-DD4B-42B1-837D-72FE3D671AA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209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210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213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225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228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5523-8BC0-4B32-90F6-DCCE75DF8E5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249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250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253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265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268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DFCB-EE25-4A0F-84B4-B8A30DD73BE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06668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990720"/>
            <a:ext cx="12193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209680" y="1371600"/>
            <a:ext cx="990720" cy="266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410080" y="1523880"/>
            <a:ext cx="990720" cy="2667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 </cp:lastModifiedBy>
  <dcterms:modified xsi:type="dcterms:W3CDTF">2010-11-07T15:36:13Z</dcterms:modified>
  <cp:revision>107</cp:revision>
  <dc:subject/>
  <dc:title>Slide 1</dc:title>
</cp:coreProperties>
</file>