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9DF73-D244-4F1F-9744-334B3AD43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28D06-AD70-4C7C-8E38-BC0CFB973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D6E9B-9B0B-444F-AE96-16F941381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A6957-1618-4EE1-9E0E-F32BCD025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C8EBF-98DD-4DDA-8DEE-8CCC73C39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72CDA-BE31-4684-9899-35DA3CEFA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F3872-801E-47A6-A286-56D028613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25BCB-EEA6-4815-9919-6BF9C5C81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384BD-9BD5-40CB-9FE8-36EFCE37D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EBC6A-FC93-4BEB-A2FD-F40A67774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3AA8B-3244-4833-87B6-E5721693F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7E9B8-1ECC-4C46-B253-B116FD6D0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434C5-E5B1-4D36-8053-9BD43B8247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DERIVATIVES: FUTUR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90720" y="4343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Referen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John C. Hull, Options, Futures and Other Derivatives, Prentice H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762120" y="533520"/>
            <a:ext cx="7391160" cy="549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t us determine the CF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sider a company that must buy Q units (the quantity), at some future time= T, of a given ass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company wants to hedge the position by using a Futures contract of size 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u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762120" y="533520"/>
            <a:ext cx="739116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u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compan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ill take a long position in Futures (size H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ice F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t time T, close out the previous position by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aking a short position of size H, at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ice F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uy Q units of the asset, at time = T, at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ot price S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209680" y="1600200"/>
            <a:ext cx="457200" cy="1600200"/>
          </a:xfrm>
          <a:custGeom>
            <a:avLst/>
            <a:gdLst>
              <a:gd name="textAreaLeft" fmla="*/ 134280 w 457200"/>
              <a:gd name="textAreaRight" fmla="*/ 457560 w 457200"/>
              <a:gd name="textAreaTop" fmla="*/ 66600 h 1600200"/>
              <a:gd name="textAreaBottom" fmla="*/ 1533600 h 1600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5181480"/>
            <a:ext cx="2438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s the hedging component of the pos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762120" y="3047760"/>
            <a:ext cx="1295280" cy="1904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762120" y="533520"/>
            <a:ext cx="7391160" cy="50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previous hedge is called a “long hedge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et </a:t>
            </a:r>
            <a:r>
              <a:rPr b="1" lang="el-GR" sz="36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e the Net Outflow (“money out”) associated with the pos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us, </a:t>
            </a:r>
            <a:r>
              <a:rPr b="1" lang="el-GR" sz="44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= QS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– H (F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– F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1905120" y="4038120"/>
            <a:ext cx="99036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9000" y="5410080"/>
            <a:ext cx="305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y Q units at the spot pr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4609800" y="3543120"/>
            <a:ext cx="609480" cy="1752840"/>
          </a:xfrm>
          <a:custGeom>
            <a:avLst/>
            <a:gdLst>
              <a:gd name="textAreaLeft" fmla="*/ 0 w 609480"/>
              <a:gd name="textAreaRight" fmla="*/ 219960 w 609480"/>
              <a:gd name="textAreaTop" fmla="*/ 45720 h 1752840"/>
              <a:gd name="textAreaBottom" fmla="*/ 1707120 h 1752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638680" y="5181480"/>
            <a:ext cx="2362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low from closing out the futures po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5029200" y="4876560"/>
            <a:ext cx="3808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762120" y="533520"/>
            <a:ext cx="7391160" cy="73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ercise:  The situation of a company that needs to sell Q units of some asset at time = T and uses, to hedge, a Futures position of size H is analogous..   (This is referred to as a SHORT HEDG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 leads to the same expression for  </a:t>
            </a: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380880" y="380880"/>
            <a:ext cx="6705720" cy="17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st, the easy case, same asset and same T (“my T” and the delivery dat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is case there is no Basis Risk and clearly at Time = T we must h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905120"/>
            <a:ext cx="7391160" cy="69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this case we have th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Q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H (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F)  can be expressed as    (Q- H)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+  H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t Q, H, and F are known when we enter into the contract therefore, the only uncertainty comes from 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ch means that we can eliminate the uncertain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 taking H =  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H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the case in the previous silly exampl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summary, we have h =  1  (optimal hedge ratio)  when there is no basis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762120" y="533520"/>
            <a:ext cx="7619760" cy="62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the interesting case, we have Basis Risk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“problem” comes from the fact that in general at time = 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F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will not be the s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te  tha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Q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H (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F) can be re-written 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QS + Q[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S]  -  H (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F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new notation n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=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S     and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 =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  let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denote the correlation between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and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800600" y="4038480"/>
            <a:ext cx="2209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fference between spot price (today) and spot price at T for the ass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1828440" y="4495680"/>
            <a:ext cx="2895480" cy="45720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762120" y="533520"/>
            <a:ext cx="7619760" cy="633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we have th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QS + Q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  -  H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    and since   H  =  h 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QS + Q (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  -  h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t, as before, when we enter into the positions S and Q are kn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ch means that all the uncertainty in the CFs is due to the second te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ce, we need to minimize the variance of the second te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ly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Var (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  -  h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roach: choose h such that it minimizes the variance of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   -  h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ch is Var (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)  + h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Var (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)  - 2 h COV(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, 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762120" y="533520"/>
            <a:ext cx="7619760" cy="634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oose h such that it minimizes the variance of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   -  h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ch is Var (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)  + h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Var (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)  - 2 h COV(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, 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 determining the derivative with respect  to h and setting it 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h Var(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) = 2 COV(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, 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fter some algeb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*  = optimal hedge ratio  =COV(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, 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) /  Var (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 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 this leads to  (finall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*  =  optimal hedge ratio = 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(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0" lang="el-GR" sz="1800" spc="-1" strike="noStrike" baseline="-25000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/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0" lang="el-GR" sz="1800" spc="-1" strike="noStrike" baseline="-25000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NOTE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 this case, the st. dev. of the CFs is    Q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-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ρ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1/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762120" y="533520"/>
            <a:ext cx="76197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ice (or recall) that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represents the change in spot price during the period in question (namely [0, T]), whereas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 represents the change in the Futures price during the same peri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us, the optimal hedge ratio (h*) is the slope of the best-fit line when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is regressed against 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ypically,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and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 estimated from historical data  (we are hoping that the past will, somehow, be a good predictor of what happens in the futur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685800" y="838080"/>
            <a:ext cx="6705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 ZZZ airlines is to buy 2 million gallons of jet fuel in a month and decides to use heating oil futures for hedging.  We have data (last 15 months) regarding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 (change in Futures price in a month) versus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 (change in fuel price in a month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2819520" y="2971800"/>
            <a:ext cx="3657600" cy="315756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4114800" y="2438280"/>
            <a:ext cx="4495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          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33520" y="2743200"/>
            <a:ext cx="16761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, jet fu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, heating o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914400"/>
            <a:ext cx="685800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edging is probably the most important function served by a Futures cont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edging = to reduce the uncertainty of the cash flows (CFs) associated with a certain future need (or commitme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sic Idea =  Lock-In the price today to reduce (NOT eliminate, this is wishful thinking) the uncertain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743200" y="533520"/>
            <a:ext cx="3657600" cy="315756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533520" y="685800"/>
            <a:ext cx="16761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, jet fu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, heating o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457200" y="3886200"/>
                <a:ext cx="5943600" cy="94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ρ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nary>
                                  <m:naryPr>
                                    <m:chr m:val="∑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nary>
                              </m:e>
                            </m:nary>
                          </m:e>
                        </m:nary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n</m:t>
                                </m:r>
                                <m:nary>
                                  <m:naryPr>
                                    <m:chr m:val="∑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i</m:t>
                                            </m:r>
                                          </m:e>
                                          <m:sup>
                                            <m:r>
                                              <m:t xml:space="preserve">2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(</m:t>
                                    </m:r>
                                    <m:nary>
                                      <m:naryPr>
                                        <m:chr m:val="∑"/>
                                        <m:subHide m:val="1"/>
                                        <m:supHide m:val="1"/>
                                      </m:naryPr>
                                      <m:sub/>
                                      <m:sup/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p>
                                          <m:e>
                                            <m:r>
                                              <m:t xml:space="preserve">)</m:t>
                                            </m:r>
                                          </m:e>
                                          <m:sup>
                                            <m:r>
                                              <m:t xml:space="preserve">2</m:t>
                                            </m:r>
                                          </m:sup>
                                        </m:sSup>
                                      </m:e>
                                    </m:nary>
                                  </m:e>
                                </m:nary>
                              </m:e>
                            </m:d>
                          </m:e>
                        </m:rad>
                        <m:rad>
                          <m:radPr>
                            <m:degHide m:val="1"/>
                          </m:radPr>
                          <m:deg/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n</m:t>
                                </m:r>
                                <m:nary>
                                  <m:naryPr>
                                    <m:chr m:val="∑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i</m:t>
                                            </m:r>
                                          </m:e>
                                          <m:sup>
                                            <m:r>
                                              <m:t xml:space="preserve">2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(</m:t>
                                    </m:r>
                                    <m:nary>
                                      <m:naryPr>
                                        <m:chr m:val="∑"/>
                                        <m:subHide m:val="1"/>
                                        <m:supHide m:val="1"/>
                                      </m:naryPr>
                                      <m:sub/>
                                      <m:sup/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p>
                                          <m:e>
                                            <m:r>
                                              <m:t xml:space="preserve">)</m:t>
                                            </m:r>
                                          </m:e>
                                          <m:sup>
                                            <m:r>
                                              <m:t xml:space="preserve">2</m:t>
                                            </m:r>
                                          </m:sup>
                                        </m:sSup>
                                      </m:e>
                                    </m:nary>
                                  </m:e>
                                </m:nary>
                              </m:e>
                            </m:d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9" name=""/>
          <p:cNvSpPr/>
          <p:nvPr/>
        </p:nvSpPr>
        <p:spPr>
          <a:xfrm>
            <a:off x="232920" y="5257800"/>
            <a:ext cx="8798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is case, using the previous approximation we get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 .9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so, from these data, we can estimate Var(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) and Var(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), which are, respectively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191120" y="6019920"/>
            <a:ext cx="373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.0262)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and   (.0313)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143000" y="1371600"/>
            <a:ext cx="426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066680" y="1295280"/>
            <a:ext cx="6705720" cy="356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c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*  =  optimal hedge ratio = 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(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0" lang="el-GR" sz="1800" spc="-1" strike="noStrike" baseline="-25000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/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0" lang="el-GR" sz="1800" spc="-1" strike="noStrike" baseline="-25000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 .928 (.0263/  .0313) = .7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need H to be =   .78 x 2,000,000  =   1,560,000  gall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t each contract is for 42,000 gallon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then     H/42,000 = 37.14,  use  37  contra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85800" y="609480"/>
            <a:ext cx="7924680" cy="42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nother exa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ose you own a portfolio of stocks that mirrors the S&amp;P 100 (YES, 100) Ind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urrent S&amp;P 100 level is 500, and the portfolio is worth US$ 20 mill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want to hedge this portfolio using a Futures contract that references the S&amp;P 500 Index (a different Index, but closely related)  current level = 6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Futures Contract = 500 X (value of Inde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685800" y="609480"/>
            <a:ext cx="7924680" cy="59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nother exa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pose you own a portfolio of stocks that mirrors the S&amp;P 100 (YES, 100) Inde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urrent S&amp;P 100 level is 500, and the portfolio is worth US$ 20 mill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want to hedge this portfolio using a Futures contract that references the S&amp;P 500 Index (current level = 6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Futures Contract = 500 X (value of Inde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is cas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= 500;    F= 600;   Q = 20,000,000 / 500  =  4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ose (given data) that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.9; 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 40 and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5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optimal hedge ratio is (0.9) (40/50)  =  .7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H =  40,000 x .72 =  28,800; but one Futures contract is 500 un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ce,  we need approximately 28,800/500 =  58 contracts on the S&amp;P 500 to be shorted to hedge this portfol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685800" y="609480"/>
            <a:ext cx="7924680" cy="37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nother example  (CON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ith the hedge, the St Dev of the CFs has been reduced fr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Q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 1 600 00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Q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(1 - 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ρ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/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=   679,2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838080" y="914400"/>
            <a:ext cx="7391520" cy="71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:  Suppose is January 15 and you will need to buy 100,000 pounds of copper on May 15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ot price for Cu is 140 cents/ l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tures price for May 15 delivery is 120 cents/ l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ch contract (Cu) is for 25,000 lb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= take a long position in 4 May contra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 May 15 will p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 x 25,000 x 1.20  =  US$ 120,000 (no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certaint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o good to be true 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838080" y="1066680"/>
            <a:ext cx="6782040" cy="411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vious example was too “ideal”  (textbook cas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general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ract maturity can be different than “my day of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mitment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y” asset and the reference (underlying) asset in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Future contract could be differ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size of the contract might not fit me perfec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us, all these mismatches mean that the hedge will not be perfect (in general).  All these risks are known as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Basis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1066680"/>
            <a:ext cx="7391520" cy="55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us, the Key Issues a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w much uncertainty can actually be reduc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w can we achieve this goal (How do we “get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Plan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) Define a measure of the uncertainty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sociated with the C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) Figure out how to determine the C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)) Minimize uncertain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838080" y="1066680"/>
            <a:ext cx="6782040" cy="40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call that, if X and Y are both random variables, then we have th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ρ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X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=  COV (X, Y)  / 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r (a X) =  a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Var (X)  =  a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r (X + Y )  =  Var (X)  +  Var (Y)  + 2 COV (X, 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762120" y="533520"/>
            <a:ext cx="7391160" cy="531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NO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, spot price of asset to be hedg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, current price of Futures cont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, date of (my) market commit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, size of (my) commit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, size of Futures commit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spot price of asset at time T (unknown toda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Futures price at time T (unknown toda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62120" y="533520"/>
            <a:ext cx="7391160" cy="45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eep in mind that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)The assets might be different (for S and F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) The Futures contract might have a delivery date different than 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) H and Q might be differ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762120" y="533520"/>
            <a:ext cx="7391160" cy="51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eeping in mind those thing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mely, tha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)The assets might be different (for S and 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) The Futures contract might have a delivery date different than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) H and Q might be differ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determine the optimal hedge ratio h (h=H/Q) such that we can minimize the uncertainty associated with the CF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90920" y="3200400"/>
            <a:ext cx="2209680" cy="380880"/>
          </a:xfrm>
          <a:custGeom>
            <a:avLst/>
            <a:gdLst>
              <a:gd name="textAreaLeft" fmla="*/ 276120 w 2209680"/>
              <a:gd name="textAreaRight" fmla="*/ 1933560 w 22096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1T23:10:01Z</dcterms:created>
  <dc:creator>VCHARLIN</dc:creator>
  <dc:description/>
  <dc:language>en-US</dc:language>
  <cp:lastModifiedBy>VCHARLIN</cp:lastModifiedBy>
  <dcterms:modified xsi:type="dcterms:W3CDTF">2010-11-06T16:21:13Z</dcterms:modified>
  <cp:revision>68</cp:revision>
  <dc:subject/>
  <dc:title>Slide 1</dc:title>
</cp:coreProperties>
</file>