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45C-494B-4083-AADB-C16A8D7F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DEF-396C-4DCE-A8BE-2E7E761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C39-7C96-47FB-9448-930B6A9B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A64-2EF8-4601-831A-8CDB246C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43C-217F-411C-A08F-51ECC81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526-3025-4F4A-849A-5DD6794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25B-27D2-445E-8A05-0BFB9E4C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0B4-18A8-4BEB-9929-AB9AC28C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3C5-C11A-4210-B8BD-6D3D601B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019-B3B1-43F8-87E8-514786C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D73-B4DD-42EA-8C29-96AEF733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4AA-9D66-4F2E-9264-BF495998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C554-9BDE-429A-9A7C-B34BA376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FU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3911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determine the CF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 a company that must buy Q units (the quantity), at some future time= T, of a given as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wants to hedge the position by using a Futures contract of size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533520"/>
            <a:ext cx="73911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take a long position in Futures (size H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time T, close out the previous position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king a short position of size H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ce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 Q units of the asset, at time = T, 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ot price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600200"/>
            <a:ext cx="457200" cy="1600200"/>
          </a:xfrm>
          <a:custGeom>
            <a:avLst/>
            <a:gdLst>
              <a:gd name="textAreaLeft" fmla="*/ 134280 w 457200"/>
              <a:gd name="textAreaRight" fmla="*/ 457560 w 4572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1814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hedging component of the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3047760"/>
            <a:ext cx="12952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7391160" cy="50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vious hedge is called a “long hed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Net Outflow (“money out”) associated with th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905120" y="4038120"/>
            <a:ext cx="990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000" y="541008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Q units at the spo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609800" y="3543120"/>
            <a:ext cx="609480" cy="1752840"/>
          </a:xfrm>
          <a:custGeom>
            <a:avLst/>
            <a:gdLst>
              <a:gd name="textAreaLeft" fmla="*/ 0 w 609480"/>
              <a:gd name="textAreaRight" fmla="*/ 219960 w 6094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1814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ow from closing out the future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29200" y="48765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533520"/>
            <a:ext cx="739116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:  The situation of a company that needs to sell Q units of some asset at time = T and uses, to hedge, a Futures position of size H is analogous..   (This is referred to as a SHORT HE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leads to the same expression for 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67057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the easy case, same asset and same T (“my T” and the delivery 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there is no Basis Risk and clearly at Time = T we must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905120"/>
            <a:ext cx="739116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ase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 can be expressed as    (Q- H)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Q, H, and F are known when we enter into the contract therefore, the only uncertainty comes from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we can eliminate the uncertain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aking H = 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case in the previous silly examp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, we have h =  1  (optimal hedge ratio)  when there is no 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33520"/>
            <a:ext cx="7619760" cy="62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the interesting case, we have Basis Ris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problem” comes from the fact that in general at time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not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can be re-written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[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S]  -  H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new notation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    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l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note the correlation betwe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0384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ce between spot price (today) and spot price at T for the as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828440" y="4495680"/>
            <a:ext cx="28954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619760" cy="63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we have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 and since   H  =  h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QS + Q (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s before, when we enter into the positions S and Q ar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 that all the uncertainty in the CFs is due to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we need to minimize the variance of the seco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: 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761976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h such that it minimizes the varianc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-  h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 +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 - 2 h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termining the derivative with respect  to h and setting i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= 2 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ome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optimal hedge ratio  =COV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/  Var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this leads to  (fi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is case, the st. dev. of the CFs is    Q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5335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(or recall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epresents the change in spot price during the period in question (namely [0, T]), wherea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represents the change in the Futures price during the 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ptimal hedge ratio (h*) is the slope of the best-fit line wh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regressed against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estimated from historical data  (we are hoping that the past will, somehow, be a good predictor of what happens in the fu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838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ZZZ airlines is to buy 2 million gallons of jet fuel in a month and decides to use heating oil futures for hedging.  We have data (last 15 months) regard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(change in Futures price in a month) versu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(change in fuel price in a mon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14800" y="24382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        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91440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is probably the most important function served by a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dging = to reduce the uncertainty of the cash flows (CFs) associated with a certain future need (or commi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Idea =  Lock-In the price today to reduce (NOT eliminate, this is wishful thinking) the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657600" cy="3157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685800"/>
            <a:ext cx="167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jet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, heating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3886200"/>
                <a:ext cx="59436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32920" y="5257800"/>
            <a:ext cx="879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using the previous approximation we ge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.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rom these data, we can estimate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nd Var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, which are, respective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60199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0262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nd   (.0313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1371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295280"/>
            <a:ext cx="67057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*  =  optimal hedge ratio =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.928 (.0263/  .0313) = 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H to be =   .78 x 2,000,000  =   1,560,000  gall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contract is for 42,000 gall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n     H/42,000 = 37.14,  use  37 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9246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a different Index, but closely related)  current level =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792468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own a portfolio of stocks that mirrors the S&amp;P 100 (YES, 100)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S&amp;P 100 level is 500, and the portfolio is worth US$ 2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ant to hedge this portfolio using a Futures contract that references the S&amp;P 500 Index (current level = 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Futures Contract = 500 X (value of Ind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500;    F= 600;   Q = 20,000,000 / 500  =  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(given data) tha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.9;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0 an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mal hedge ratio is (0.9) (40/50)  =  .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H =  40,000 x .72 =  28,800; but one Futures contract is 500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 we need approximately 28,800/500 =  58 contracts on the S&amp;P 500 to be shorted to hedge this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7924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other example  (CO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the hedge, the St Dev of the CFs has been reduc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 1 6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1 -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=   679,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914400"/>
            <a:ext cx="7391520" cy="71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uppose is January 15 and you will need to buy 100,000 pounds of copper on May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 price for Cu is 14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s price for May 15 delivery is 120 cents/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ntract (Cu) is for 25,0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= take a long position in 4 May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ay 15 will p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x 25,000 x 1.20  =  US$ 120,000 (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good to be tru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67820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ous example was too “ideal”  (textbook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 maturity can be different than “my day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” asset and the reference (underlying) asset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uture contract could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ze of the contract might not fit me perf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all these mismatches mean that the hedge will not be perfect (in general).  All these risks are known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sis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066680"/>
            <a:ext cx="739152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Key Issu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uch uncertainty can actually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achieve this goal (How do we “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la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) Define a measure of the uncertain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d with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) Figure out how to determine the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) Minimiz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066680"/>
            <a:ext cx="67820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, if X and Y are both random variables, then we hav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 COV (X, Y)  /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a X)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 (X)  = 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 (X + Y )  =  Var (X)  +  Var (Y)  + 2 COV (X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533520"/>
            <a:ext cx="7391160" cy="53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spot price of asset to be he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, current price of Futur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, date of (my) market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, size of (my)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, size of Futures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pot price of asset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utures price at time T (unknown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3911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in mind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533520"/>
            <a:ext cx="739116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ing in mind those thing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ly,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The assets might be different (for S and 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Futures contract might have a delivery date different tha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H and Q might be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determine the optimal hedge ratio h (h=H/Q) such that we can minimize the uncertainty associated with the C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200400"/>
            <a:ext cx="2209680" cy="380880"/>
          </a:xfrm>
          <a:custGeom>
            <a:avLst/>
            <a:gdLst>
              <a:gd name="textAreaLeft" fmla="*/ 276120 w 2209680"/>
              <a:gd name="textAreaRight" fmla="*/ 1933560 w 2209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VCHARLIN</cp:lastModifiedBy>
  <dcterms:modified xsi:type="dcterms:W3CDTF">2010-11-06T16:21:13Z</dcterms:modified>
  <cp:revision>68</cp:revision>
  <dc:subject/>
  <dc:title>Slide 1</dc:title>
</cp:coreProperties>
</file>