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9C583-6AD5-443C-95DF-87279B882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91433-4975-44E0-8180-39D3B8BAD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68AF5-39DC-4595-B068-146F7F27C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59642-3CF8-4E6E-8AE8-23E899A4D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6EB8B-C02F-4A9A-BE1A-C25F051B3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99C12-2E15-4B11-B656-5492FC2AC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E6886-4DBC-48D2-9B1E-067430247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B0F6E-315B-48E5-AB1E-0CB441B32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B8E2A-E80C-4C42-A95D-F232ECCF9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857C8-4884-4BC8-97B5-64C65FE8D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E5F9D-0D2F-4CB1-9809-77B98A595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E3A3B-58F8-46B7-BFD6-9C345BD88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99B81-DD1E-4E05-A57E-FA772D2D37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0" y="2362320"/>
            <a:ext cx="5105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aluation of Companies With Lever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609480" y="380880"/>
            <a:ext cx="2881440" cy="39099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5791320" y="91440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fter tax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276360" y="1143000"/>
            <a:ext cx="2361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486400" y="182880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uming perpetual cash flows   PV of Perp = (CF)/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352680" y="20574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572000" y="2743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levered equity 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H="1" flipV="1">
            <a:off x="2057040" y="2209320"/>
            <a:ext cx="25909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495680" y="3733920"/>
            <a:ext cx="434340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V of Tax Shield =  T x 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x Debt / 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=   T x Deb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 flipV="1">
            <a:off x="3352320" y="3428640"/>
            <a:ext cx="11430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5800" y="5638680"/>
            <a:ext cx="586728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LUE OF THE FIR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= NPV (with no debt)   +  PV of financing bene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  1015  +  216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1143000" y="4343400"/>
            <a:ext cx="1447920" cy="13716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533520" y="609480"/>
            <a:ext cx="7619760" cy="29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FTE Approach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(AKA Residual CF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stimate CFs to levered Equ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n, estimate required return on equ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PV  CFs to equity + value of Deb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762120" y="380880"/>
            <a:ext cx="2971800" cy="36576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5410080" y="457200"/>
            <a:ext cx="2895840" cy="10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is left after paying the inter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 x 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721 x. 08 = 57.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504960" y="838080"/>
            <a:ext cx="19047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724280" y="2209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the equity gets after paying taxes (0.3 x 87.32 =  26.1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 flipV="1">
            <a:off x="3504960" y="2057040"/>
            <a:ext cx="10666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724280" y="3429000"/>
            <a:ext cx="1828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038480" y="3276720"/>
            <a:ext cx="487692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return on levered equ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 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 (1 – T) (D/E) (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3504960" y="2666520"/>
            <a:ext cx="6094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410080" y="4648320"/>
            <a:ext cx="32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 of levered equity  61.12/ .12 =  510.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 flipV="1">
            <a:off x="3505320" y="3200400"/>
            <a:ext cx="1828800" cy="175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62120" y="5791320"/>
            <a:ext cx="78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LUE OF THE FIR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Debt (721) +   Lev Equity (510.25) =   1231.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1447920" y="4114440"/>
            <a:ext cx="1447560" cy="16765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533520" y="609480"/>
            <a:ext cx="7619760" cy="29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WACC Approach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stimate CFs to both, debt and equity, comb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stimate WAC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PV CFs using WAC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6324480" y="3808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st of Deb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2667240" cy="352872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 flipH="1">
            <a:off x="2819520" y="685800"/>
            <a:ext cx="3504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867280" y="1295280"/>
            <a:ext cx="2590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 (OR Cost) of levered equity (from previous cas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H="1" flipV="1">
            <a:off x="2819160" y="1599840"/>
            <a:ext cx="28191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257800" y="3352680"/>
            <a:ext cx="342900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CC = (1- T) 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D/V 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E/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 flipV="1">
            <a:off x="2819160" y="2209680"/>
            <a:ext cx="236196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267080" y="419112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fter tax C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 flipV="1">
            <a:off x="2895480" y="2514600"/>
            <a:ext cx="144792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85800" y="5791320"/>
            <a:ext cx="792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LUE OF THE FIR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Free CFs to Firm/ WACC  =  101.5/ 0.08 = 1231.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990720" y="3885840"/>
            <a:ext cx="1295280" cy="19810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600200" y="1447920"/>
            <a:ext cx="2209680" cy="3047760"/>
          </a:xfrm>
          <a:prstGeom prst="rect">
            <a:avLst/>
          </a:prstGeom>
          <a:solidFill>
            <a:srgbClr val="c0c0c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52880" y="1447920"/>
            <a:ext cx="2210040" cy="3047760"/>
          </a:xfrm>
          <a:prstGeom prst="rect">
            <a:avLst/>
          </a:prstGeom>
          <a:solidFill>
            <a:srgbClr val="c0c0c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3657600"/>
            <a:ext cx="22100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971800" y="30492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pital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01040" y="990720"/>
            <a:ext cx="46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sets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abil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257800" y="251460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b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334120" y="38862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qu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86000" y="28954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e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38080" y="4952880"/>
            <a:ext cx="66294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IS A COMPANY  ?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( From a  financial point of view  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600200" y="1447920"/>
            <a:ext cx="2209680" cy="3047760"/>
          </a:xfrm>
          <a:prstGeom prst="rect">
            <a:avLst/>
          </a:prstGeom>
          <a:solidFill>
            <a:srgbClr val="c0c0c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52880" y="1447920"/>
            <a:ext cx="2210040" cy="3047760"/>
          </a:xfrm>
          <a:prstGeom prst="rect">
            <a:avLst/>
          </a:prstGeom>
          <a:solidFill>
            <a:srgbClr val="c0c0c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952880" y="3657600"/>
            <a:ext cx="22100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71800" y="30492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pital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201040" y="990720"/>
            <a:ext cx="46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sets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abil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257800" y="251460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b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34120" y="38862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qu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286000" y="28954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e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838080" y="4952880"/>
            <a:ext cx="66294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swer: A machine that generates cash flows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More Interesting Question : How Much Would You Pay For A Given Machin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914400" y="990720"/>
            <a:ext cx="731520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roadly Speaking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e will consider 3 approac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AC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lows To Equ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PV [Adjusted Present Value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914400" y="990720"/>
            <a:ext cx="396252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WACC 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vered Asset Value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4800600" y="1752480"/>
                <a:ext cx="2743200" cy="121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f>
                          <m:num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TCF</m:t>
                            </m:r>
                            <m:sSub>
                              <m:e>
                                <m:r>
                                  <m:t xml:space="preserve">)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WACC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T</m:t>
                                </m:r>
                              </m:sup>
                            </m:sSup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3" name=""/>
          <p:cNvSpPr/>
          <p:nvPr/>
        </p:nvSpPr>
        <p:spPr>
          <a:xfrm>
            <a:off x="609480" y="3657600"/>
            <a:ext cx="44960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CF = after-tax cash flow to both debt and levered equ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CC = weighted average cost of capi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914400" y="990720"/>
            <a:ext cx="396252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Flow to Equity 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vered Equity Value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4521240" y="1752480"/>
                <a:ext cx="2082600" cy="121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f>
                          <m:num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CF</m:t>
                            </m:r>
                            <m:sSub>
                              <m:e>
                                <m:r>
                                  <m:t xml:space="preserve">)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T</m:t>
                                </m:r>
                              </m:sup>
                            </m:sSup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6" name=""/>
          <p:cNvSpPr/>
          <p:nvPr/>
        </p:nvSpPr>
        <p:spPr>
          <a:xfrm>
            <a:off x="609480" y="3657600"/>
            <a:ext cx="4496040" cy="15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CF = after-tax and after-interest cash flow to levered equ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required return on levered equ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914400" y="990720"/>
            <a:ext cx="396252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PV 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V 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2133720" y="1828800"/>
                <a:ext cx="2117520" cy="121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f>
                          <m:num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UCF</m:t>
                            </m:r>
                            <m:sSub>
                              <m:e>
                                <m:r>
                                  <m:t xml:space="preserve">)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U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T</m:t>
                                </m:r>
                              </m:sup>
                            </m:sSup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9" name=""/>
          <p:cNvSpPr/>
          <p:nvPr/>
        </p:nvSpPr>
        <p:spPr>
          <a:xfrm>
            <a:off x="609480" y="3657600"/>
            <a:ext cx="4496040" cy="15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CF   = after-tax cash flow to unlevered equ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required return on unlevered equ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495680" y="220968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 PV of financing eff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838080" y="609480"/>
            <a:ext cx="4724640" cy="26002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4724280" y="4572000"/>
            <a:ext cx="3886200" cy="13557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5638680" y="388620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sump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533520" y="609480"/>
            <a:ext cx="761976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PV Appro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sume first that this is an all equity (no debt) fi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 the benefits of the financing strategy l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1T18:35:00Z</dcterms:created>
  <dc:creator>VCHARLIN</dc:creator>
  <dc:description/>
  <dc:language>en-US</dc:language>
  <cp:lastModifiedBy> </cp:lastModifiedBy>
  <dcterms:modified xsi:type="dcterms:W3CDTF">2010-10-27T00:39:57Z</dcterms:modified>
  <cp:revision>67</cp:revision>
  <dc:subject/>
  <dc:title>Slide 1</dc:title>
</cp:coreProperties>
</file>