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AC3-95CE-4C77-9DE4-2B25B424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DDC-A409-4BE1-BFEA-4A76CAF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400-2BFC-4F39-9C02-5CCF7340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7D8-52FB-4781-9704-47954397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C21-57C0-47C4-9D27-BB706257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AD9-6B84-4E76-8FD7-7C095295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F37-8E6E-4FFD-875E-3729284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8BE-D7C7-46C5-8F16-CC8560B0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512-EAD1-468A-A798-073E0332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FB1-D030-4D98-ACEA-8090CD8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A50-2003-4859-ADA1-4FB2910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BD6-8AC9-4AB3-8996-B4BA893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F06-8EB3-4FF5-B782-AF36BCCB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 of Companies With Le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881440" cy="390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9132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11430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erpetual cash flows   PV of Perp = (CF)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vered equity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057040" y="22093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733920"/>
            <a:ext cx="434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of Tax Shield =  T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Debt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  T x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52320" y="3428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NPV (with no debt)   +  PV of financing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1015  +  21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43000" y="4343400"/>
            <a:ext cx="14479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E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AKA Residual C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levere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estimate required return on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 CFs to equity + value o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57200"/>
            <a:ext cx="2895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eft after paying the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1 x. 08 = 5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04960" y="8380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209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equity gets after paying taxes (0.3 x 87.32 =  26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2057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– T) (D/E)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504960" y="2666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levered equity  61.12/ .12 =  51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05320" y="320040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bt (721) +   Lev Equity (510.25) =   123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4114440"/>
            <a:ext cx="14475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CC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both, debt and equity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CFs using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24480" y="380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2819520" y="685800"/>
            <a:ext cx="350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OR Cost) of levered equity (from previou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19160" y="15998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3429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(1- T)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/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160" y="22096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25146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91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e CFs to Firm/ WACC  =  101.5/ 0.08 = 123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90720" y="3885840"/>
            <a:ext cx="12952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9528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PANY 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 From a  financial point of view 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9528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A machine that generates cash flow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Interesting Question : How Much Would You Pay For A Given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Speak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sider 3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s To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V [Adjusted Present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C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Asset Valu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1752480"/>
                <a:ext cx="2743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AC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65760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F = after-tax cash flow to both debt and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weighted average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to Equit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Equity Valu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1752480"/>
                <a:ext cx="2082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F = after-tax and after-interest cash flow to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V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V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1828800"/>
                <a:ext cx="2117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F   = after-tax cash flow to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V of financing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72464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8620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609480"/>
            <a:ext cx="76197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V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first that this is an all equity (no debt)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enefits of the financing strategy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 </cp:lastModifiedBy>
  <dcterms:modified xsi:type="dcterms:W3CDTF">2010-10-27T00:39:57Z</dcterms:modified>
  <cp:revision>67</cp:revision>
  <dc:subject/>
  <dc:title>Slide 1</dc:title>
</cp:coreProperties>
</file>