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438-48FB-4F37-A841-1BF2B23D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C51-CE19-403D-9364-9F19C1BB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B53-2321-4C48-AFF0-02374E85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CA5-B133-4EEA-B9A7-4975CDC2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B73B-B33B-4FF1-B208-311BC2D2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C41-3530-4176-A351-4332AE45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23E-AE70-4C42-9EE1-1813A46F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955-3E1D-4D08-9566-96F65CD1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9C5-9847-4C88-8067-97ADB49B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B3B-7BCE-4CAB-B095-42FE38B7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BCF-4928-4E3F-AF81-15443F1C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032-8058-4AD5-AB64-748A1899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A30D-3F72-45ED-8E73-924729F93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236232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ation of Companies With Leve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881440" cy="3909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791320" y="914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276360" y="1143000"/>
            <a:ext cx="2361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1828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perpetual cash flows   PV of Perp = (CF)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352680" y="2057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vered equity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057040" y="2209320"/>
            <a:ext cx="2590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3733920"/>
            <a:ext cx="4343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of Tax Shield =  T 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Debt /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=   T x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352320" y="342864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38680"/>
            <a:ext cx="586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THE FI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NPV (with no debt)   +  PV of financing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1015  +  216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143000" y="4343400"/>
            <a:ext cx="144792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609480"/>
            <a:ext cx="76197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TE Approa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(AKA Residual C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CFs to levered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, estimate required return on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  CFs to equity + value of 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2971800" cy="3657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10080" y="457200"/>
            <a:ext cx="289584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left after paying the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721 x. 08 = 57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504960" y="83808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2209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 equity gets after paying taxes (0.3 x 87.32 =  26.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3504960" y="205704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3429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27672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turn on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1 – T) (D/E)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3504960" y="26665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4648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levered equity  61.12/ .12 =  510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505320" y="320040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7913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THE FI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ebt (721) +   Lev Equity (510.25) =   123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447920" y="4114440"/>
            <a:ext cx="1447560" cy="1676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609480"/>
            <a:ext cx="76197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CC Approa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CFs to both, debt and equity, 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W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 CFs using W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324480" y="380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667240" cy="3528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2819520" y="685800"/>
            <a:ext cx="3504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1295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(OR Cost) of levered equity (from previous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819160" y="159984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3352680"/>
            <a:ext cx="34290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CC = (1- T)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/V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/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819160" y="2209680"/>
            <a:ext cx="2361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191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ax C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895480" y="251460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79132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THE FI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Free CFs to Firm/ WACC  =  101.5/ 0.08 = 1231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90720" y="3885840"/>
            <a:ext cx="12952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1447920"/>
            <a:ext cx="220968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1447920"/>
            <a:ext cx="221004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365760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1040" y="990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s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2514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95288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A COMPANY  ?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( From a  financial point of view  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0200" y="1447920"/>
            <a:ext cx="220968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447920"/>
            <a:ext cx="221004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65760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1040" y="990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s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2514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952880"/>
            <a:ext cx="6629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: A machine that generates cash flow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ore Interesting Question : How Much Would You Pay For A Given Mach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990720"/>
            <a:ext cx="7315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adly Speak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ill consider 3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s To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V [Adjusted Present Valu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9907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CC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ed Asset Valu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800600" y="1752480"/>
                <a:ext cx="27432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AC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09480" y="3657600"/>
            <a:ext cx="4496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F = after-tax cash flow to both debt and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CC = weighted average cost of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9907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to Equit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ed Equity Valu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21240" y="1752480"/>
                <a:ext cx="20826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09480" y="3657600"/>
            <a:ext cx="44960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F = after-tax and after-interest cash flow to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quired return on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9907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V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V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33720" y="1828800"/>
                <a:ext cx="21175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609480" y="3657600"/>
            <a:ext cx="44960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F   = after-tax cash flow to un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quired return on un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22096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PV of financing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4724640" cy="2600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724280" y="4572000"/>
            <a:ext cx="3886200" cy="1355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638680" y="3886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609480"/>
            <a:ext cx="76197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V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first that this is an all equity (no debt) 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he benefits of the financing strategy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35:00Z</dcterms:created>
  <dc:creator>VCHARLIN</dc:creator>
  <dc:description/>
  <dc:language>en-US</dc:language>
  <cp:lastModifiedBy> </cp:lastModifiedBy>
  <dcterms:modified xsi:type="dcterms:W3CDTF">2010-10-27T00:39:57Z</dcterms:modified>
  <cp:revision>67</cp:revision>
  <dc:subject/>
  <dc:title>Slide 1</dc:title>
</cp:coreProperties>
</file>