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3E50-FC8F-4DDC-BEF7-6284ECAE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93D8-09D1-470D-9383-CE511470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8E3-9ACA-47ED-BC1B-F930440F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E22-7042-48F8-941F-7061544A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B533-E5E0-4F4B-929A-61026D7B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0C35-6504-4517-898E-6B1B315D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A64-13E8-4132-9B86-E9B8EAA4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DB4-FAA7-4961-A36F-C9AE2ADA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9C8-F66F-46D8-A7E2-BAF68674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C5D-0E38-43EA-BF6A-D0C90B0C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551-ACAB-469D-935D-7C05B808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87D-90EC-48AB-89B4-A14DC692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5765-FF48-4EF2-822A-95205DAC4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925560"/>
            <a:ext cx="52560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1219320"/>
            <a:ext cx="6095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us modify the capit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issue DEBT  (int= 10%)  for   US$  4 million to buy back 50% of the 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pital structure will be a mix of Debt an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67006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86080" y="3328920"/>
            <a:ext cx="771840" cy="200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52480" y="380880"/>
            <a:ext cx="62550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76520" y="441972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62320" y="12193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4495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371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362320" y="1600200"/>
            <a:ext cx="45720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371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362320" y="1294920"/>
            <a:ext cx="365760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838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3352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39625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3124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8:35:00Z</dcterms:created>
  <dc:creator>VCHARLIN</dc:creator>
  <dc:description/>
  <dc:language>en-US</dc:language>
  <cp:lastModifiedBy>VCHARLIN</cp:lastModifiedBy>
  <dcterms:modified xsi:type="dcterms:W3CDTF">2010-10-21T20:34:03Z</dcterms:modified>
  <cp:revision>6</cp:revision>
  <dc:subject/>
  <dc:title>Slide 1</dc:title>
</cp:coreProperties>
</file>