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9687-5B5F-401F-94D5-5F0B0EB0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842-8258-4A09-A38F-17D09D26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79F-2A15-481F-9978-781D8554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BA0-22B0-4026-802B-AC51CA40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7D2-6508-429D-870C-07956FF6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59E-03CB-4C59-9E18-2F3EE0D3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F1E-3495-4C4A-AE41-433304F8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63F-8E7A-48F3-8194-C8D2F566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A2C-C3C0-44B3-BB8E-95FDA906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5EA-B6CF-4CE6-8277-35BC4855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968-EA60-47B9-B1D7-1C7299E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132-3B30-4D25-86DB-1D794376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3752-F03A-42A4-AD9B-257B5B447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25560"/>
            <a:ext cx="52560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371600" y="1219320"/>
            <a:ext cx="6095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modify the capit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issue DEBT  (int= 10%)  for   US$  4 million to buy back 50% of the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pital structure will be a mix of Debt and 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7006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86080" y="3328920"/>
            <a:ext cx="771840" cy="200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380880"/>
            <a:ext cx="6255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76520" y="44197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362320" y="1219320"/>
            <a:ext cx="0" cy="4419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4495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1371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62320" y="1600200"/>
            <a:ext cx="45720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362320" y="1294920"/>
            <a:ext cx="36576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83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623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3962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124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35:00Z</dcterms:created>
  <dc:creator>VCHARLIN</dc:creator>
  <dc:description/>
  <dc:language>en-US</dc:language>
  <cp:lastModifiedBy>VCHARLIN</cp:lastModifiedBy>
  <dcterms:modified xsi:type="dcterms:W3CDTF">2010-10-21T20:34:03Z</dcterms:modified>
  <cp:revision>6</cp:revision>
  <dc:subject/>
  <dc:title>Slide 1</dc:title>
</cp:coreProperties>
</file>