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DB7-DA3B-4CCE-A746-C6E32033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609-C25D-4FA5-927F-D2D2B8D2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2CE-0C8A-4827-8B7B-8EED2D61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CE3-BC44-41FA-9201-67B25EF7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DB5-FB1C-4905-B0DC-A60FC41B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667-8723-458F-9158-04E28CFB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503-2C57-48CF-B158-4459A96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3BE-FCE2-44A2-9CFF-ACB99874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16D-9986-4BAD-83A4-7DEC12E7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9CE-A3E4-42CD-B2DE-44E103E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F2D-5CEF-4C99-983A-0D52828D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ECA-79FE-41E7-9B7A-B60C4B0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338B-CAE3-4B20-A26C-304999C9D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25560"/>
            <a:ext cx="5256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12193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modify the capit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ssue DEBT  (int= 10%)  for   US$  4 million to buy back 50% of the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structure will be a mix of Debt an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7006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86080" y="3328920"/>
            <a:ext cx="771840" cy="20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380880"/>
            <a:ext cx="6255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44197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2193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4495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62320" y="1600200"/>
            <a:ext cx="45720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62320" y="1294920"/>
            <a:ext cx="36576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962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124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VCHARLIN</cp:lastModifiedBy>
  <dcterms:modified xsi:type="dcterms:W3CDTF">2010-10-21T20:34:03Z</dcterms:modified>
  <cp:revision>6</cp:revision>
  <dc:subject/>
  <dc:title>Slide 1</dc:title>
</cp:coreProperties>
</file>