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23D1-223C-41B7-95E3-C7292139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474-E75C-494F-AB3C-C21ECFA8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D1A-C26D-4B44-A768-150DFE55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812-2231-4B76-88A9-621B79A4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ACD-40C1-47DC-92D3-91884F5F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20D-FA6F-4651-B72F-D93C4219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B82-565F-42CF-A9D6-B21E6244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BCE-7F7F-40FE-B014-F6DE93BB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6FE-6167-4F19-A567-B578209D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03A3-DD4A-41A9-A127-AB5C6BC8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134-C11D-4C20-BF10-CC242F3F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374-A9C2-46FA-B981-3F4EA8EE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074D-1B60-4111-94A2-676943621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925560"/>
            <a:ext cx="5256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1219320"/>
            <a:ext cx="6095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modify the capit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issue DEBT  (int= 10%)  for   US$  4 million to buy back 50% of the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pital structure will be a mix of Debt an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7006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86080" y="3328920"/>
            <a:ext cx="771840" cy="200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380880"/>
            <a:ext cx="6255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76520" y="44197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2193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4495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371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362320" y="1600200"/>
            <a:ext cx="45720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371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62320" y="1294920"/>
            <a:ext cx="365760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838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352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3962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3124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35:00Z</dcterms:created>
  <dc:creator>VCHARLIN</dc:creator>
  <dc:description/>
  <dc:language>en-US</dc:language>
  <cp:lastModifiedBy>VCHARLIN</cp:lastModifiedBy>
  <dcterms:modified xsi:type="dcterms:W3CDTF">2010-10-21T20:34:03Z</dcterms:modified>
  <cp:revision>6</cp:revision>
  <dc:subject/>
  <dc:title>Slide 1</dc:title>
</cp:coreProperties>
</file>