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2D22-BA7A-4780-9A4C-A846D52A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FB24-1957-4DD7-A4EA-248C3164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A236-36E9-47FD-BB72-D7F210BE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135B-77CA-45A3-B5F9-5A1EB972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F9C2-7AA3-4154-A80C-E1975022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914A-99B4-43A3-B6AD-6569E4D9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5B67-E079-4F5F-BB9B-B585850F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5A16-1095-483F-8D6C-FB450E29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DD70-63BD-4379-9145-8319BD94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6ADE-E6C8-42C6-A187-986A7C02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621E-242A-4F5D-A718-B44BD43F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73AE-B719-43BF-83E3-96186F74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8F58-533F-4669-B681-FD7EAAACF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925560"/>
            <a:ext cx="52560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371600" y="1219320"/>
            <a:ext cx="60958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us modify the capital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issue DEBT  (int= 10%)  for   US$  4 million to buy back 50% of the sh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pital structure will be a mix of Debt and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67006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186080" y="3328920"/>
            <a:ext cx="771840" cy="200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52480" y="380880"/>
            <a:ext cx="62550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76520" y="4419720"/>
            <a:ext cx="5790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362320" y="1219320"/>
            <a:ext cx="0" cy="441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4495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1371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362320" y="1600200"/>
            <a:ext cx="457200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371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362320" y="1294920"/>
            <a:ext cx="365760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838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1480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62320" y="3352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396252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3124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8:35:00Z</dcterms:created>
  <dc:creator>VCHARLIN</dc:creator>
  <dc:description/>
  <dc:language>en-US</dc:language>
  <cp:lastModifiedBy>VCHARLIN</cp:lastModifiedBy>
  <dcterms:modified xsi:type="dcterms:W3CDTF">2010-10-21T20:34:03Z</dcterms:modified>
  <cp:revision>6</cp:revision>
  <dc:subject/>
  <dc:title>Slide 1</dc:title>
</cp:coreProperties>
</file>