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893-5C01-4C4F-AA16-79E154B0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94D-2745-4A29-9206-79342120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3E5-E1A4-4330-B67E-72ACEE70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599-AF37-495B-B6AF-E6D08A5F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666-D7C7-4576-9638-F0797F3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E0A-F44C-4CBB-AFED-6866E17A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78B-E51B-4759-9F03-3AD3B13F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38C-BB57-4751-A2E9-15B89C9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9B4-44CD-447D-A023-EC44FFC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39F-B5C5-433F-ACB4-516B4A4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08F-38F1-432A-8B02-448141F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FBC-8E71-419B-B8E8-C1FA0FE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62E5-D74A-4D29-9F5D-048BCAA6A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25560"/>
            <a:ext cx="5256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12193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modify the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ssue DEBT  (int= 10%)  for   US$  4 million to buy back 50% of the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structure will be a mix of Debt an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7006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86080" y="3328920"/>
            <a:ext cx="77184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380880"/>
            <a:ext cx="6255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44197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2193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62320" y="160020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62320" y="1294920"/>
            <a:ext cx="3657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VCHARLIN</cp:lastModifiedBy>
  <dcterms:modified xsi:type="dcterms:W3CDTF">2010-10-21T20:34:03Z</dcterms:modified>
  <cp:revision>6</cp:revision>
  <dc:subject/>
  <dc:title>Slide 1</dc:title>
</cp:coreProperties>
</file>